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051-9281-4811-B9EF-7E697A54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A73-D49D-4AB6-A016-5554833D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CE1-AC0E-44CD-AEF8-24627CEE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223-B735-4D62-B9DF-CC09AEF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225-F921-4DA4-BAA1-116690B9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CD9-46E3-4998-9988-B5AA02E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A00E-EF1D-4AAF-8AF5-9A0F1A7F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AE73-DECB-4FCA-AB17-D2BF9BF3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5DEB-65AD-4E9A-974F-BC5DD15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44B5-FF9B-4B52-AAEF-70FFB73F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01F-3A83-4853-93BD-96B3F31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2AE-934F-40AB-9F91-484E4AD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C543-946F-44BF-A6AD-236F812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62D-1035-4328-9FFA-46AC648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350E-721C-4699-A566-74C6D0CA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C5A-27A4-4647-8A64-8A7AF3FE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0D4-846E-45F0-9712-F5E586FA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01A8-FBAF-450F-B07A-6CB775CE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765E-B8AA-42C8-9084-E38083F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F0D0-5128-4206-A737-8E3566F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D0E4-423E-4555-AAC9-45410242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E349-DE05-434F-8E46-DC12F58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A39-D583-4FB5-97D2-6664F1D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6462-C611-4BED-96DA-B70B400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9FD8-C00B-4B9C-95DB-DD594DC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6882-F6C2-48F1-A63B-1541989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F07E-A0FF-4658-A60C-87C33E55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95AC-7DB0-44ED-ABA5-06455BA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D64E-201D-47D1-BD11-7646FCED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001C-4498-4B67-A78B-D1A386E4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A059-7BB2-4A4A-9996-4B26B71E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C995-B100-4803-AB7E-EA92CF0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BB31-F46E-4E4C-A034-56D40F5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887-60F2-4849-9D90-3D2B74A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A5CE-97D9-460E-B521-3AE4808F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26A18-CE02-48B5-B2B7-DDB5E6F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4547-8A2B-470D-A49B-631558F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9192-DF07-4957-A113-3DD7B48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49D2-4A36-4477-8E8B-BACCA29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FE8F-B62E-445C-A027-BADB9294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E6D1-5EBB-4D33-A9D2-B4CF7792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06A2-7D71-46A5-8532-22B166D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3F54-8A69-401D-AECF-7821AA8C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BDD1-3AAE-4CE7-985A-05495E40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370-D899-4675-9F38-631F08A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7F48-6BDF-43F7-82DE-CADF8B7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C2DA-7AED-4A43-8088-0828F4D4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B0BF-DA2E-480F-95C9-31346D02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D6CE-9C24-4D67-84CE-18170118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AA11-C13C-4232-B637-BCF6FA3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A06B-8B25-43BE-B8D1-8689D93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CEB2-9A8B-422A-8384-E6234E9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757E-0F28-4060-8329-28D44A9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D5C1-6D3D-487D-92BF-2B6ACE0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C2F01-BC12-4D4A-A05B-01603ADC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A50-5D29-4D74-BB2D-9576AB3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C005-6AA5-4771-8BAC-1D990C6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BD66-A6DC-40D5-9629-2015AF38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7010-757B-4F63-AC61-2CFCAB6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2710-3FF9-40D7-A28A-B4D8DBB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DF36-76D8-4B3C-82ED-1F16018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E143-4334-4801-BEBB-F619178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B6F2-08FC-4D68-BC06-AB58186E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CD1D-E4E4-4A83-900D-D78D0B2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2FDC-982C-41E1-B176-243582E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0AF5-290F-46E3-8DA4-153F0B0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46B-29BB-409F-A0D0-10692D8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B5E5F-C96B-4ADE-B89E-7E4F382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8FBF-FA33-4F58-A2E8-C1308DD8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5D1C-3773-49F2-827F-B99210B7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001B-0223-4871-897D-BCCD536D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23B0-DFE3-4118-B4E0-9CC5D5E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4B15-79FD-4079-B03A-CBA02D66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A2B97-8733-4FA2-861E-E64C0CB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D1B2-2BB0-4553-98EF-BDAA247D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E0B3-24F7-4B02-8EB3-D88E3B7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D4AA-4307-495B-84A7-F4FC014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05E-060D-4868-A152-EC1CCFA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2EBD-042A-46DC-B64E-4B12B25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E4BF-B836-4AC6-B03C-DF89E8E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7979-7823-47A5-8CBC-3D140A34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6C59-0681-48CE-AD47-53799062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60DB-80A5-47FE-A9C5-8DDFEB42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C77A3-44F0-4087-BD6E-6CFC94B9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5A0D9-7774-4D1B-8E67-61FC5173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86357-CDA8-4A41-B3E4-8A16CC6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D0426-1880-41DA-9344-2F459AFE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EA887-FEDD-4BEC-AB83-61DDF4A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2A8-02F2-4C31-9143-411505E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3A33F-E24C-46A5-AC53-30637AF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C1401-7FCF-4AB2-9F37-3C5C39B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2BE1A-DE78-45ED-BE83-3790313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0F1D76-1F04-477C-85D1-02413A0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29FEC-3FAD-4A24-ADC0-015CB8C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E69D9-D9CB-4FC1-BDF2-44E1050A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9D976E-6591-4619-8AAA-9D324B73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B5C-ACC9-4319-84AB-02BAE467CD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DC0-C705-423F-9695-5F7B5ED12D7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B66-0326-4B80-B427-0E483D17B6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86D-2947-4D3F-BFB5-E3F47E7A1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2E8-BF19-4CBB-B12F-DE9F8DD9AD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46B0-232B-4976-8281-1BE206804A6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BD3-C81D-436A-962E-F7725BA9AF6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3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C0C5-CB1B-48E6-BCCC-91FC78CAB7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4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hyperlink" Target="file:///&#1055;&#1088;&#1077;&#1079;&#1077;&#1085;&#1090;&#1072;&#1094;&#1080;&#1103;2.ppt#12. &#1057;&#1083;&#1072;&#1081;&#1076; 12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&#1055;&#1088;&#1077;&#1079;&#1077;&#1085;&#1090;&#1072;&#1094;&#1080;&#1103;2.ppt#13. &#1057;&#1083;&#1072;&#1081;&#1076; 13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055;&#1088;&#1077;&#1079;&#1077;&#1085;&#1090;&#1072;&#1094;&#1080;&#1103;2.ppt#13. &#1057;&#1083;&#1072;&#1081;&#1076; 13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0" y="0"/>
            <a:ext cx="943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WordArt 13"/>
          <p:cNvSpPr txBox="1"/>
          <p:nvPr/>
        </p:nvSpPr>
        <p:spPr>
          <a:xfrm>
            <a:off x="0" y="2924280"/>
            <a:ext cx="536400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826920" y="0"/>
            <a:ext cx="73454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 по сказк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.Перро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 в сапогах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8" name="Picture 15" descr="C:\Users\Ирина\Desktop\1293911186_v-sapogax[1].jpg"/>
          <p:cNvPicPr/>
          <p:nvPr/>
        </p:nvPicPr>
        <p:blipFill>
          <a:blip r:embed="rId7"/>
          <a:stretch/>
        </p:blipFill>
        <p:spPr>
          <a:xfrm>
            <a:off x="3429000" y="2852640"/>
            <a:ext cx="5715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390600" y="420840"/>
            <a:ext cx="8528040" cy="1347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ригласил хозяина к королю во дворец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Отправил хозяина купаться, а королю сказал, что одежду хозяина украли воры.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9d77a"/>
                </a:solidFill>
                <a:uFillTx/>
                <a:latin typeface="Century Gothic"/>
              </a:rPr>
              <a:t>Случайно повстречал короля на пргулк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0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11" descr="C:\Users\Ирина\Desktop\1292187006_f_10_pussinboots_river[1].jpg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Людоед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орол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аркиза Карабаса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C:\Users\Ирина\Desktop\kot-v-sapogah-kartinke-k-skazke[1].png"/>
          <p:cNvPicPr/>
          <p:nvPr/>
        </p:nvPicPr>
        <p:blipFill>
          <a:blip r:embed="rId1"/>
          <a:stretch/>
        </p:blipFill>
        <p:spPr>
          <a:xfrm>
            <a:off x="971640" y="907920"/>
            <a:ext cx="691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390600" y="420840"/>
            <a:ext cx="8582040" cy="13474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2d050"/>
                </a:solidFill>
                <a:uFillTx/>
                <a:latin typeface="Century Gothic"/>
              </a:rPr>
              <a:t>Мышь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entury Gothic"/>
              </a:rPr>
              <a:t>Ле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2d050"/>
                </a:solidFill>
                <a:uFillTx/>
                <a:latin typeface="Century Gothic"/>
              </a:rPr>
              <a:t>Воробе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9" descr="C:\Users\Ирина\Desktop\0_lion[1].jpg"/>
          <p:cNvPicPr/>
          <p:nvPr/>
        </p:nvPicPr>
        <p:blipFill>
          <a:blip r:embed="rId1"/>
          <a:stretch/>
        </p:blipFill>
        <p:spPr>
          <a:xfrm>
            <a:off x="1332000" y="692280"/>
            <a:ext cx="66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н был сильнее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н был умнее и хитрее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н был вежливее Людоед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2" descr="C:\Users\Ирина\Desktop\kot.v.sapogah.avi.image6[1].jpg"/>
          <p:cNvPicPr/>
          <p:nvPr/>
        </p:nvPicPr>
        <p:blipFill>
          <a:blip r:embed="rId1"/>
          <a:stretch/>
        </p:blipFill>
        <p:spPr>
          <a:xfrm>
            <a:off x="684360" y="404640"/>
            <a:ext cx="783108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7"/>
          <p:cNvSpPr txBox="1"/>
          <p:nvPr/>
        </p:nvSpPr>
        <p:spPr>
          <a:xfrm>
            <a:off x="324000" y="1052640"/>
            <a:ext cx="504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611280" y="3284640"/>
            <a:ext cx="3673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игру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749160" y="68904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9d77a"/>
                </a:solidFill>
                <a:uFillTx/>
                <a:latin typeface="Century Gothic"/>
              </a:rPr>
              <a:t>Выбросить кот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9d77a"/>
                </a:solidFill>
                <a:uFillTx/>
                <a:latin typeface="Century Gothic"/>
              </a:rPr>
              <a:t>Съесть кот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9d77a"/>
                </a:solidFill>
                <a:uFillTx/>
                <a:latin typeface="Century Gothic"/>
              </a:rPr>
              <a:t>Продать кота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100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2" descr="C:\Users\Ирина\Desktop\3302-11499994-Pict0011[1].jpg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682560" y="420840"/>
            <a:ext cx="7785000" cy="13474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Моло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Сосиск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Шляпу и сапог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930731294a3cd7303c93e99c1ab4_grande"/>
          <p:cNvPicPr/>
          <p:nvPr/>
        </p:nvPicPr>
        <p:blipFill>
          <a:blip r:embed="rId1"/>
          <a:stretch/>
        </p:blipFill>
        <p:spPr>
          <a:xfrm>
            <a:off x="1042920" y="620640"/>
            <a:ext cx="691380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868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Маркиз де Карабас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Маркиз де Барбо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9d77a"/>
                </a:solidFill>
                <a:uFillTx/>
                <a:latin typeface="Century Gothic"/>
              </a:rPr>
              <a:t>Маркиз де Карамбо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11" descr="C:\Users\Ирина\Desktop\kot49[1].jpg"/>
          <p:cNvPicPr/>
          <p:nvPr/>
        </p:nvPicPr>
        <p:blipFill>
          <a:blip r:embed="rId1"/>
          <a:stretch/>
        </p:blipFill>
        <p:spPr>
          <a:xfrm>
            <a:off x="826920" y="765000"/>
            <a:ext cx="7778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676440" y="285840"/>
            <a:ext cx="7785000" cy="1927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68436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dc765"/>
                </a:solidFill>
                <a:uFillTx/>
                <a:latin typeface="Century Gothic"/>
                <a:hlinkClick r:id="rId3"/>
              </a:rPr>
              <a:t>3 месяц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dc765"/>
                </a:solidFill>
                <a:uFillTx/>
                <a:latin typeface="Century Gothic"/>
                <a:hlinkClick r:id="rId5"/>
              </a:rPr>
              <a:t>6 месяцев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dc765"/>
                </a:solidFill>
                <a:uFillTx/>
                <a:latin typeface="Century Gothic"/>
                <a:hlinkClick r:id="rId7"/>
              </a:rPr>
              <a:t>1 год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8">
            <a:hlinkClick r:id="rId1" action="ppaction://hlinksldjump"/>
          </p:cNvPr>
          <p:cNvSpPr/>
          <p:nvPr/>
        </p:nvSpPr>
        <p:spPr>
          <a:xfrm>
            <a:off x="745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55640" y="692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9" descr="C:\Users\Ирина\Desktop\000006[1].jpg"/>
          <p:cNvPicPr/>
          <p:nvPr/>
        </p:nvPicPr>
        <p:blipFill>
          <a:blip r:embed="rId2"/>
          <a:stretch/>
        </p:blipFill>
        <p:spPr>
          <a:xfrm>
            <a:off x="900000" y="692280"/>
            <a:ext cx="7488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55:24Z</dcterms:created>
  <dc:creator>Admin</dc:creator>
  <dc:description/>
  <cp:keywords/>
  <dc:language>en-US</dc:language>
  <cp:lastModifiedBy>Ирина</cp:lastModifiedBy>
  <dcterms:modified xsi:type="dcterms:W3CDTF">2014-05-20T17:49:4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49</vt:lpwstr>
  </property>
</Properties>
</file>