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wmf" ContentType="image/x-wmf"/>
  <Override PartName="/ppt/media/image23.jpeg" ContentType="image/jpeg"/>
  <Override PartName="/ppt/media/image21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4.jpeg" ContentType="image/jpeg"/>
  <Override PartName="/ppt/media/image34.gif" ContentType="image/gif"/>
  <Override PartName="/ppt/media/image11.png" ContentType="image/png"/>
  <Override PartName="/ppt/media/image12.jpeg" ContentType="image/jpeg"/>
  <Override PartName="/ppt/media/image13.jpeg" ContentType="image/jpeg"/>
  <Override PartName="/ppt/media/image30.png" ContentType="image/png"/>
  <Override PartName="/ppt/media/image28.png" ContentType="image/png"/>
  <Override PartName="/ppt/media/image29.jpeg" ContentType="image/jpeg"/>
  <Override PartName="/ppt/media/image8.png" ContentType="image/png"/>
  <Override PartName="/ppt/media/image38.png" ContentType="image/png"/>
  <Override PartName="/ppt/media/image39.jpeg" ContentType="image/jpeg"/>
  <Override PartName="/ppt/media/image37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3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1327-61AF-4D05-B964-341599AC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683C-FFCC-4FA0-9C83-25956110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EAAA-A970-4814-8C2B-3106CE1A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97C-3F48-4BEF-9BAF-6D3769AC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F6C6-17F4-42A7-B38F-E678A052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3B21-E7A1-4EE6-92EB-AEFBCE0F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EEE0-1EA4-4061-9BBD-CE3F8010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71B9-260A-4231-98A3-57891EAC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C48B-67BA-4180-9541-7F606FD2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C462-A8C0-4B85-A289-D49AA251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8FBA-63E3-4F05-B4C4-65E97F3D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8341-D84E-4AD5-9B38-B473A08F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64FB-227B-4A96-8936-0E3227B5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50CA-61C9-49E8-9E12-374F441D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925D-79E8-4B98-800E-AAC058D5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8E59-B332-44E2-9A75-BDE5471B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E1C7-E438-4E5A-9FB7-5035CBED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3C56B-5EFE-49B3-A7F9-AE24E19F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3A240-EB54-4E0A-BF0E-6DF03F4F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A790F-8B29-41B9-BDD2-79F8A97E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23EF1B-82EB-4987-9B2E-C48484D4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9EE023-2DB5-4230-80A0-93F331FA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B19E-3AAB-43C5-984A-C2E01182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B6FD9-227A-47F4-98E8-4B0D390B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11F8A6-8B50-4D10-BCBE-664E9D88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8ADA2-333B-4547-9C80-6FE974F4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FB6DA9-FDF6-452E-9C92-13ACA7B1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8D36D3-C216-403B-8DB6-431878F9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189D7D-AA19-46EC-9A3F-01212BCC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211EC0-186E-42D8-9C56-10AED385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25A84-474E-4787-ACD9-D0E0302D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DBC8A-463B-4D7A-BBBB-9CD45576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27F0A-680F-4D25-B114-E97050F2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94DB-29CB-470E-A71E-C9F6C01E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6D203-E648-4142-A479-98F73D3E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2B7E2-AD05-4548-B04A-6722DBAC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A5949-463A-496D-A05C-3CF4D196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17FD1-FCB8-4BF9-AF60-2D3CB0D8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2976B-791C-4288-B8C5-4E875DF2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E1C6A-CAF9-4F32-9DF9-768D9FB4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74909-5625-4526-B0F5-A5346126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4BBA3-0618-4BDA-8046-629E2CA6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0844A-9F37-482D-A5EA-4A40C49E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FB5E0B-AAE2-40E3-B9F8-FEA991B9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49BF-F37E-4BFB-88E3-F8BFF668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C99AF1-6E2B-4CF6-8D92-F1B0F83B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80F85B-3EA8-4D03-8888-2D876B68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8BAF61-EC0B-4E15-BAFE-2D3F5380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8C3185-BAB5-42A8-B58F-37464EBC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ABE855-CB46-46A1-82C2-24DDECAE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08A4C4-0395-4B0A-8377-788282C8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7F0889-0B70-4BC6-8290-F7292426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7F193E-2A0A-4AB4-BC1C-41714611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0F068F-51CF-49B9-B63C-9F055059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B62EEC-0EB1-4C35-BAC0-F8334EAF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A454-B28C-489F-A254-BAE09AA1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C1BCD3-12C5-4437-8856-307AE117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DD9B0B-8BC3-4DB0-8F90-8D640F9E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99EE5C-C4F6-4FD1-B159-A6B69894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48E509-319F-47FF-B2C5-2049F57C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F6517D-C48F-4C1A-B70D-82A61AF9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23C09C-BF7D-4D60-95E0-F016CEDD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14E044-34C4-419D-9404-DE3710B7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3E5701-DF55-45B2-9885-E1CA0367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BD5755-67EA-4B0F-B238-7A3F6F4A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BF967A-BB5E-48B1-829C-E169042A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56E4-E49A-46E4-8B7D-90A6F4C4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9A0AAF-5A78-498E-AA1F-BE6F2E84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B0531A-E254-4943-9A1A-FFCBF5C5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89B910-4878-4000-A98F-573E1D25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DDD83A-B23E-4D30-B60D-77E4F786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B2414E-FBE4-47DA-B0D4-C67F04A6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6BE05D-E741-4140-971B-A8E9F359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0B5E4B-4816-48DB-A6D5-39C1A6D8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B54439-9412-43E2-9778-7FF5A5B6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589FE9-A832-4AA4-BD29-475D57D2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E10A30-52D5-40BD-BEDF-0FF31813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5307-1F68-4738-A911-386CCDB7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A82F38-DB39-4750-B88D-4E204F13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A9968E-2F8A-4A7D-9C78-20A63D37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561B52-8CB8-4FD2-AA57-66531AAF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BA3E30-FFEE-4046-A016-CCABD4C63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571428-1A37-44DE-B824-7D5299D6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6AB0-0B8D-44FD-A9C3-84BED086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E7C4-9A79-43CF-B742-6586A113943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DCB6-9418-497A-B2C8-A4F9BA899E3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9BCB-0E0B-4095-81CE-CC5C7CE5177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A966-9B28-4ED2-9561-2F459D0E584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FEBC-33C0-4A73-806F-D9336DE265A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D809-525D-4BAB-9EBD-83C1EB9B190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D6A0-2C33-4CD3-82EB-666CA5635AA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laycast.ru/?module=comments&amp;playcastId=1152843&amp;page=1" TargetMode="External"/><Relationship Id="rId2" Type="http://schemas.openxmlformats.org/officeDocument/2006/relationships/hyperlink" Target="http://foto.rambler.ru/users/awersa1/album/?sort=vote" TargetMode="External"/><Relationship Id="rId3" Type="http://schemas.openxmlformats.org/officeDocument/2006/relationships/hyperlink" Target="http://www.playcast.ru/?module=comments&amp;playcastId=1152843&amp;page=1" TargetMode="External"/><Relationship Id="rId4" Type="http://schemas.openxmlformats.org/officeDocument/2006/relationships/hyperlink" Target="http://www.playcast.ru/?module=comments&amp;playcastId=1152843&amp;page=1" TargetMode="External"/><Relationship Id="rId5" Type="http://schemas.openxmlformats.org/officeDocument/2006/relationships/hyperlink" Target="http://www.playcast.ru/?module=comments&amp;playcastId=1152843&amp;page=1" TargetMode="External"/><Relationship Id="rId6" Type="http://schemas.openxmlformats.org/officeDocument/2006/relationships/hyperlink" Target="http://www.playcast.ru/?module=comments&amp;playcastId=1152843&amp;page=1" TargetMode="External"/><Relationship Id="rId7" Type="http://schemas.openxmlformats.org/officeDocument/2006/relationships/hyperlink" Target="http://www.playcast.ru/?module=comments&amp;playcastId=1152843&amp;page=1" TargetMode="External"/><Relationship Id="rId8" Type="http://schemas.openxmlformats.org/officeDocument/2006/relationships/hyperlink" Target="http://www.playcast.ru/?module=comments&amp;playcastId=1152843&amp;page=1" TargetMode="External"/><Relationship Id="rId9" Type="http://schemas.openxmlformats.org/officeDocument/2006/relationships/hyperlink" Target="http://www.playcast.ru/?module=comments&amp;playcastId=1152843&amp;page=1" TargetMode="External"/><Relationship Id="rId10" Type="http://schemas.openxmlformats.org/officeDocument/2006/relationships/hyperlink" Target="http://www.playcast.ru/?module=comments&amp;playcastId=1152843&amp;page=1" TargetMode="External"/><Relationship Id="rId11" Type="http://schemas.openxmlformats.org/officeDocument/2006/relationships/hyperlink" Target="http://www.playcast.ru/?module=comments&amp;playcastId=1152843&amp;page=1" TargetMode="External"/><Relationship Id="rId12" Type="http://schemas.openxmlformats.org/officeDocument/2006/relationships/hyperlink" Target="http://www.playcast.ru/?module=comments&amp;playcastId=1152843&amp;page=1" TargetMode="External"/><Relationship Id="rId13" Type="http://schemas.openxmlformats.org/officeDocument/2006/relationships/hyperlink" Target="http://www.playcast.ru/?module=comments&amp;playcastId=1152843&amp;page=1" TargetMode="External"/><Relationship Id="rId14" Type="http://schemas.openxmlformats.org/officeDocument/2006/relationships/hyperlink" Target="http://www.playcast.ru/?module=comments&amp;playcastId=1152843&amp;page=1" TargetMode="External"/><Relationship Id="rId15" Type="http://schemas.openxmlformats.org/officeDocument/2006/relationships/hyperlink" Target="http://www.playcast.ru/?module=comments&amp;playcastId=1152843&amp;page=1" TargetMode="External"/><Relationship Id="rId16" Type="http://schemas.openxmlformats.org/officeDocument/2006/relationships/hyperlink" Target="http://www.playcast.ru/?module=comments&amp;playcastId=1152843&amp;page=1" TargetMode="External"/><Relationship Id="rId17" Type="http://schemas.openxmlformats.org/officeDocument/2006/relationships/hyperlink" Target="http://www.playcast.ru/?module=comments&amp;playcastId=1152843&amp;page=1" TargetMode="External"/><Relationship Id="rId18" Type="http://schemas.openxmlformats.org/officeDocument/2006/relationships/hyperlink" Target="http://www.playcast.ru/?module=comments&amp;playcastId=1152843&amp;page=1" TargetMode="External"/><Relationship Id="rId19" Type="http://schemas.openxmlformats.org/officeDocument/2006/relationships/hyperlink" Target="http://www.playcast.ru/?module=comments&amp;playcastId=1152843&amp;page=1" TargetMode="External"/><Relationship Id="rId20" Type="http://schemas.openxmlformats.org/officeDocument/2006/relationships/hyperlink" Target="http://www.playcast.ru/?module=comments&amp;playcastId=1152843&amp;page=1" TargetMode="External"/><Relationship Id="rId21" Type="http://schemas.openxmlformats.org/officeDocument/2006/relationships/hyperlink" Target="http://www.playcast.ru/?module=comments&amp;playcastId=1152843&amp;page=1" TargetMode="External"/><Relationship Id="rId22" Type="http://schemas.openxmlformats.org/officeDocument/2006/relationships/hyperlink" Target="http://www.playcast.ru/?module=comments&amp;playcastId=1152843&amp;page=1" TargetMode="External"/><Relationship Id="rId23" Type="http://schemas.openxmlformats.org/officeDocument/2006/relationships/hyperlink" Target="http://www.playcast.ru/?module=comments&amp;playcastId=1152843&amp;page=1" TargetMode="External"/><Relationship Id="rId24" Type="http://schemas.openxmlformats.org/officeDocument/2006/relationships/hyperlink" Target="http://www.playcast.ru/?module=comments&amp;playcastId=1152843&amp;page=1" TargetMode="External"/><Relationship Id="rId25" Type="http://schemas.openxmlformats.org/officeDocument/2006/relationships/hyperlink" Target="http://www.playcast.ru/?module=comments&amp;playcastId=1152843&amp;page=1" TargetMode="External"/><Relationship Id="rId26" Type="http://schemas.openxmlformats.org/officeDocument/2006/relationships/hyperlink" Target="http://www.playcast.ru/?module=comments&amp;playcastId=1152843&amp;page=1" TargetMode="External"/><Relationship Id="rId27" Type="http://schemas.openxmlformats.org/officeDocument/2006/relationships/hyperlink" Target="http://www.playcast.ru/?module=comments&amp;playcastId=1152843&amp;page=1" TargetMode="External"/><Relationship Id="rId28" Type="http://schemas.openxmlformats.org/officeDocument/2006/relationships/hyperlink" Target="http://www.playcast.ru/?module=comments&amp;playcastId=1152843&amp;page=1" TargetMode="External"/><Relationship Id="rId29" Type="http://schemas.openxmlformats.org/officeDocument/2006/relationships/hyperlink" Target="http://www.playcast.ru/?module=comments&amp;playcastId=1152843&amp;page=1" TargetMode="External"/><Relationship Id="rId30" Type="http://schemas.openxmlformats.org/officeDocument/2006/relationships/hyperlink" Target="http://www.playcast.ru/?module=comments&amp;playcastId=1152843&amp;page=1" TargetMode="External"/><Relationship Id="rId31" Type="http://schemas.openxmlformats.org/officeDocument/2006/relationships/hyperlink" Target="http://www.playcast.ru/?module=comments&amp;playcastId=1152843&amp;page=1" TargetMode="External"/><Relationship Id="rId32" Type="http://schemas.openxmlformats.org/officeDocument/2006/relationships/hyperlink" Target="http://www.playcast.ru/?module=comments&amp;playcastId=1152843&amp;page=1" TargetMode="External"/><Relationship Id="rId33" Type="http://schemas.openxmlformats.org/officeDocument/2006/relationships/hyperlink" Target="http://www.playcast.ru/?module=comments&amp;playcastId=1152843&amp;page=1" TargetMode="External"/><Relationship Id="rId34" Type="http://schemas.openxmlformats.org/officeDocument/2006/relationships/hyperlink" Target="http://www.playcast.ru/?module=comments&amp;playcastId=1152843&amp;page=1" TargetMode="External"/><Relationship Id="rId35" Type="http://schemas.openxmlformats.org/officeDocument/2006/relationships/hyperlink" Target="http://www.free-lancers.net/users/somnambula/comments/17142/" TargetMode="External"/><Relationship Id="rId36" Type="http://schemas.openxmlformats.org/officeDocument/2006/relationships/hyperlink" Target="http://www.7continent.com.ua/ru/products/details/pritchi_ot_norbekova_dlja_detej_i_vzroslyh/index.html" TargetMode="External"/><Relationship Id="rId37" Type="http://schemas.openxmlformats.org/officeDocument/2006/relationships/hyperlink" Target="http://www.playcast.ru/?module=comments&amp;playcastId=1214366&amp;page=1" TargetMode="External"/><Relationship Id="rId38" Type="http://schemas.openxmlformats.org/officeDocument/2006/relationships/hyperlink" Target="http://www.playcast.ru/?module=comments&amp;playcastId=1214366&amp;page=1" TargetMode="External"/><Relationship Id="rId39" Type="http://schemas.openxmlformats.org/officeDocument/2006/relationships/hyperlink" Target="http://www.playcast.ru/?module=comments&amp;playcastId=1214366&amp;page=1" TargetMode="External"/><Relationship Id="rId40" Type="http://schemas.openxmlformats.org/officeDocument/2006/relationships/hyperlink" Target="http://www.playcast.ru/?module=comments&amp;playcastId=1214366&amp;page=1" TargetMode="External"/><Relationship Id="rId41" Type="http://schemas.openxmlformats.org/officeDocument/2006/relationships/hyperlink" Target="http://www.playcast.ru/?module=comments&amp;playcastId=1214366&amp;page=1" TargetMode="External"/><Relationship Id="rId42" Type="http://schemas.openxmlformats.org/officeDocument/2006/relationships/hyperlink" Target="http://www.playcast.ru/?module=comments&amp;playcastId=1214366&amp;page=1" TargetMode="External"/><Relationship Id="rId43" Type="http://schemas.openxmlformats.org/officeDocument/2006/relationships/hyperlink" Target="http://www.playcast.ru/?module=comments&amp;playcastId=1214366&amp;page=1" TargetMode="External"/><Relationship Id="rId44" Type="http://schemas.openxmlformats.org/officeDocument/2006/relationships/hyperlink" Target="http://www.playcast.ru/?module=comments&amp;playcastId=1214366&amp;page=1" TargetMode="External"/><Relationship Id="rId45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2"/>
          <p:cNvSpPr/>
          <p:nvPr/>
        </p:nvSpPr>
        <p:spPr>
          <a:xfrm>
            <a:off x="0" y="1357200"/>
            <a:ext cx="9144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                        </a:t>
            </a: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Урок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                     </a:t>
            </a:r>
            <a:r>
              <a:rPr b="1" lang="ru-RU" sz="4000" spc="-1" strike="noStrike">
                <a:solidFill>
                  <a:srgbClr val="c00000"/>
                </a:solidFill>
                <a:latin typeface="Century Schoolbook"/>
              </a:rPr>
              <a:t>«Свобо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entury Schoolbook"/>
              </a:rPr>
              <a:t>   </a:t>
            </a:r>
            <a:r>
              <a:rPr b="1" lang="ru-RU" sz="4000" spc="-1" strike="noStrike">
                <a:solidFill>
                  <a:srgbClr val="c00000"/>
                </a:solidFill>
                <a:latin typeface="Century Schoolbook"/>
              </a:rPr>
              <a:t>и моральный выбор челове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214200" y="357120"/>
            <a:ext cx="850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 Schoolbook"/>
              </a:rPr>
              <a:t>Основы светской эт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4"/>
          <p:cNvSpPr/>
          <p:nvPr/>
        </p:nvSpPr>
        <p:spPr>
          <a:xfrm>
            <a:off x="285840" y="3857760"/>
            <a:ext cx="8572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Авторы: </a:t>
            </a: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учитель начальных классов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Бычкова Лидия Владимировна,                               учитель русского языка и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Кожевникова Алёна Алексеевн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МОУ Гербаевская ОО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Прямоугольник 15" descr=""/>
          <p:cNvPicPr/>
          <p:nvPr/>
        </p:nvPicPr>
        <p:blipFill>
          <a:blip r:embed="rId1"/>
          <a:stretch/>
        </p:blipFill>
        <p:spPr>
          <a:xfrm>
            <a:off x="281160" y="-6480"/>
            <a:ext cx="8869320" cy="1371600"/>
          </a:xfrm>
          <a:prstGeom prst="rect">
            <a:avLst/>
          </a:prstGeom>
          <a:ln w="0">
            <a:noFill/>
          </a:ln>
        </p:spPr>
      </p:pic>
      <p:pic>
        <p:nvPicPr>
          <p:cNvPr id="383" name="igor_talkov_-_chistye_prudy.mp3" descr=""/>
          <p:cNvPicPr/>
          <p:nvPr/>
        </p:nvPicPr>
        <p:blipFill>
          <a:blip r:embed="rId2"/>
          <a:stretch/>
        </p:blipFill>
        <p:spPr>
          <a:xfrm>
            <a:off x="214200" y="5214960"/>
            <a:ext cx="428760" cy="29520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14" descr="5905a63a.jpg"/>
          <p:cNvPicPr/>
          <p:nvPr/>
        </p:nvPicPr>
        <p:blipFill>
          <a:blip r:embed="rId3"/>
          <a:stretch/>
        </p:blipFill>
        <p:spPr>
          <a:xfrm>
            <a:off x="214200" y="1500120"/>
            <a:ext cx="4286520" cy="481824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16" descr="i.jpeg"/>
          <p:cNvPicPr/>
          <p:nvPr/>
        </p:nvPicPr>
        <p:blipFill>
          <a:blip r:embed="rId4"/>
          <a:stretch/>
        </p:blipFill>
        <p:spPr>
          <a:xfrm>
            <a:off x="4357800" y="1500120"/>
            <a:ext cx="4786200" cy="491328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18" descr="713344.jpg"/>
          <p:cNvPicPr/>
          <p:nvPr/>
        </p:nvPicPr>
        <p:blipFill>
          <a:blip r:embed="rId5"/>
          <a:stretch/>
        </p:blipFill>
        <p:spPr>
          <a:xfrm>
            <a:off x="0" y="1571760"/>
            <a:ext cx="5143680" cy="4857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"/>
          <p:cNvPicPr/>
          <p:nvPr/>
        </p:nvPicPr>
        <p:blipFill>
          <a:blip r:embed="rId6"/>
          <a:stretch/>
        </p:blipFill>
        <p:spPr>
          <a:xfrm>
            <a:off x="5214960" y="1000080"/>
            <a:ext cx="3929040" cy="561996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20" descr="want.jpg"/>
          <p:cNvPicPr/>
          <p:nvPr/>
        </p:nvPicPr>
        <p:blipFill>
          <a:blip r:embed="rId7"/>
          <a:stretch/>
        </p:blipFill>
        <p:spPr>
          <a:xfrm>
            <a:off x="214200" y="642960"/>
            <a:ext cx="5357880" cy="37544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8"/>
          <a:stretch/>
        </p:blipFill>
        <p:spPr>
          <a:xfrm>
            <a:off x="4000680" y="2909880"/>
            <a:ext cx="5376600" cy="39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2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2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2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115920" y="268200"/>
            <a:ext cx="9064440" cy="195120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5" descr="1610421.jpg"/>
          <p:cNvPicPr/>
          <p:nvPr/>
        </p:nvPicPr>
        <p:blipFill>
          <a:blip r:embed="rId2"/>
          <a:stretch/>
        </p:blipFill>
        <p:spPr>
          <a:xfrm>
            <a:off x="928800" y="1428840"/>
            <a:ext cx="7265880" cy="49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entury Schoolbook"/>
              </a:rPr>
              <a:t>ВОСТОЧНАЯ ПРИТЧА</a:t>
            </a:r>
            <a:br>
              <a:rPr sz="2000"/>
            </a:br>
            <a:r>
              <a:rPr b="0" i="1" lang="ru-RU" sz="2400" spc="-1" strike="noStrike">
                <a:solidFill>
                  <a:srgbClr val="002060"/>
                </a:solidFill>
                <a:latin typeface="Century Schoolbook"/>
              </a:rPr>
              <a:t>ДАВНЫМ-ДАВНО В СТАРИННОМ ГОРОДЕ ЖИЛ МАСТЕР, ОКРУЖЁННЫЙ УЧЕНИКАМИ. САМЫЙ СПОСОБНЫЙ ИЗ НИХ ОДНАЖДЫ ЗАДУМАЛСЯ: «А ЕСТЬ ЛИ ВОПРОС, НА КОТОРЫЙ НАШ МАСТЕР НЕ СМОГ БЫ ДАТЬ ОТВЕТА?» ОН ПОШЁЛ НА ЦВЕТУЩИЙ ЛУГ, ПОЙМАЛ САМУЮ КРАСИВУЮ БАБОЧКУ И СПРЯТАЛ ЕЁ МЕЖДУ ЛАДОНЯМИ. БАБОЧКА ЦЕПЛЯЛАСЬ ЛАПКАМИ ЗА ЕГО РУКИ, И УЧЕНИКУ БЫЛО ЩЕКОТНО. УЛЫБАЯСЬ, ОН ПОДОШЁЛ К МАСТЕРУ И СПРОСИЛ:</a:t>
            </a:r>
            <a:br>
              <a:rPr sz="2400"/>
            </a:br>
            <a:r>
              <a:rPr b="0" i="1" lang="ru-RU" sz="2400" spc="-1" strike="noStrike">
                <a:solidFill>
                  <a:srgbClr val="002060"/>
                </a:solidFill>
                <a:latin typeface="Century Schoolbook"/>
              </a:rPr>
              <a:t>— СКАЖИТЕ, КАКАЯ БАБОЧКА У МЕНЯ В РУКАХ: ЖИВАЯ ИЛИ МЁРТВАЯ?</a:t>
            </a:r>
            <a:br>
              <a:rPr sz="2400"/>
            </a:br>
            <a:r>
              <a:rPr b="0" i="1" lang="ru-RU" sz="2400" spc="-1" strike="noStrike">
                <a:solidFill>
                  <a:srgbClr val="002060"/>
                </a:solidFill>
                <a:latin typeface="Century Schoolbook"/>
              </a:rPr>
              <a:t>ОН КРЕПКО ДЕРЖАЛ БАБОЧКУ В СОМКНУТЫХ ЛАДОНЯХ И БЫЛ ГОТОВ В ЛЮБОЕ МГНОВЕНИЕ СЖАТЬ ИХ РАДИ СВОЕЙ ИСТИНЫ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800" spc="-1" strike="noStrike">
                <a:solidFill>
                  <a:srgbClr val="ff0000"/>
                </a:solidFill>
                <a:latin typeface="Century Schoolbook"/>
              </a:rPr>
              <a:t>ЧТО ОТВЕТИЛ МАСТЕР СВОЕМУ УЧЕНИКУ?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3" name="Picture 4" descr="J0189242"/>
          <p:cNvPicPr/>
          <p:nvPr/>
        </p:nvPicPr>
        <p:blipFill>
          <a:blip r:embed="rId1"/>
          <a:stretch/>
        </p:blipFill>
        <p:spPr>
          <a:xfrm>
            <a:off x="3500280" y="5072040"/>
            <a:ext cx="614520" cy="6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9720" y="571320"/>
            <a:ext cx="6829560" cy="12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entury Schoolbook"/>
              </a:rPr>
              <a:t>НЕ ГЛЯДЯ НА РУКИ УЧЕНИКА, МАСТЕР ОТВЕТИЛ:</a:t>
            </a:r>
            <a:br>
              <a:rPr sz="2700"/>
            </a:br>
            <a:r>
              <a:rPr b="1" lang="ru-RU" sz="2700" spc="-1" strike="noStrike">
                <a:solidFill>
                  <a:srgbClr val="002060"/>
                </a:solidFill>
                <a:latin typeface="Century Schoolbook"/>
              </a:rPr>
              <a:t>— ВСЁ В ТВОИХ РУКАХ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5" name="Рисунок 3" descr="tumblr_kqq5lgIMvY1qa5armo1_400.jpg"/>
          <p:cNvPicPr/>
          <p:nvPr/>
        </p:nvPicPr>
        <p:blipFill>
          <a:blip r:embed="rId1"/>
          <a:stretch/>
        </p:blipFill>
        <p:spPr>
          <a:xfrm>
            <a:off x="2357280" y="1643040"/>
            <a:ext cx="4429440" cy="450072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5" descr="3968B9BDB993.jpg"/>
          <p:cNvPicPr/>
          <p:nvPr/>
        </p:nvPicPr>
        <p:blipFill>
          <a:blip r:embed="rId2"/>
          <a:stretch/>
        </p:blipFill>
        <p:spPr>
          <a:xfrm>
            <a:off x="214200" y="5000760"/>
            <a:ext cx="2000520" cy="142848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6" descr="tale10.jpg"/>
          <p:cNvPicPr/>
          <p:nvPr/>
        </p:nvPicPr>
        <p:blipFill>
          <a:blip r:embed="rId3"/>
          <a:stretch/>
        </p:blipFill>
        <p:spPr>
          <a:xfrm>
            <a:off x="6961320" y="1571760"/>
            <a:ext cx="1896840" cy="157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7632720" cy="1554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Какие 2 пути выбора стояли перед учеником? Оцените и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Какой путь выбрали бы вы, ребят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Что такое, по –вашему мнению, моральный выбор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Стрелка вниз 5"/>
          <p:cNvSpPr/>
          <p:nvPr/>
        </p:nvSpPr>
        <p:spPr>
          <a:xfrm rot="16200000">
            <a:off x="6689520" y="4239720"/>
            <a:ext cx="785880" cy="330696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Стрелка вправо 6"/>
          <p:cNvSpPr/>
          <p:nvPr/>
        </p:nvSpPr>
        <p:spPr>
          <a:xfrm rot="10800000">
            <a:off x="571680" y="5500800"/>
            <a:ext cx="3357360" cy="71424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8"/>
          <p:cNvSpPr/>
          <p:nvPr/>
        </p:nvSpPr>
        <p:spPr>
          <a:xfrm>
            <a:off x="4303800" y="4786200"/>
            <a:ext cx="71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entury Schoolbook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WordArt 16"/>
          <p:cNvSpPr txBox="1"/>
          <p:nvPr/>
        </p:nvSpPr>
        <p:spPr>
          <a:xfrm>
            <a:off x="611280" y="2162160"/>
            <a:ext cx="2087640" cy="1147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бр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4" name="WordArt 17"/>
          <p:cNvSpPr txBox="1"/>
          <p:nvPr/>
        </p:nvSpPr>
        <p:spPr>
          <a:xfrm>
            <a:off x="6983280" y="2179800"/>
            <a:ext cx="2160720" cy="111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39d"/>
                    </a:gs>
                    <a:gs pos="50000">
                      <a:srgbClr val="000000"/>
                    </a:gs>
                    <a:gs pos="100000">
                      <a:srgbClr val="fff39d"/>
                    </a:gs>
                  </a:gsLst>
                  <a:lin ang="5400000"/>
                </a:gradFill>
                <a:latin typeface="Arial Black"/>
              </a:rPr>
              <a:t>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39d"/>
                  </a:gs>
                  <a:gs pos="50000">
                    <a:srgbClr val="000000"/>
                  </a:gs>
                  <a:gs pos="100000">
                    <a:srgbClr val="fff39d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05" name="Picture 18" descr="j0285148"/>
          <p:cNvPicPr/>
          <p:nvPr/>
        </p:nvPicPr>
        <p:blipFill>
          <a:blip r:embed="rId3"/>
          <a:stretch/>
        </p:blipFill>
        <p:spPr>
          <a:xfrm>
            <a:off x="3564000" y="907920"/>
            <a:ext cx="2401920" cy="3657600"/>
          </a:xfrm>
          <a:prstGeom prst="rect">
            <a:avLst/>
          </a:prstGeom>
          <a:ln w="0">
            <a:noFill/>
          </a:ln>
        </p:spPr>
      </p:pic>
      <p:sp>
        <p:nvSpPr>
          <p:cNvPr id="406" name="WordArt 20"/>
          <p:cNvSpPr txBox="1"/>
          <p:nvPr/>
        </p:nvSpPr>
        <p:spPr>
          <a:xfrm>
            <a:off x="4356000" y="692280"/>
            <a:ext cx="858960" cy="1203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407" name="Group 27"/>
          <p:cNvGrpSpPr/>
          <p:nvPr/>
        </p:nvGrpSpPr>
        <p:grpSpPr>
          <a:xfrm>
            <a:off x="2195640" y="3862440"/>
            <a:ext cx="5905440" cy="2806560"/>
            <a:chOff x="2195640" y="3862440"/>
            <a:chExt cx="5905440" cy="2806560"/>
          </a:xfrm>
        </p:grpSpPr>
        <p:grpSp>
          <p:nvGrpSpPr>
            <p:cNvPr id="408" name="Group 25"/>
            <p:cNvGrpSpPr/>
            <p:nvPr/>
          </p:nvGrpSpPr>
          <p:grpSpPr>
            <a:xfrm>
              <a:off x="2195640" y="4906800"/>
              <a:ext cx="5905440" cy="1762200"/>
              <a:chOff x="2195640" y="4906800"/>
              <a:chExt cx="5905440" cy="1762200"/>
            </a:xfrm>
          </p:grpSpPr>
          <p:sp>
            <p:nvSpPr>
              <p:cNvPr id="409" name="WordArt 21"/>
              <p:cNvSpPr txBox="1"/>
              <p:nvPr/>
            </p:nvSpPr>
            <p:spPr>
              <a:xfrm>
                <a:off x="3995640" y="5040360"/>
                <a:ext cx="4105440" cy="1628640"/>
              </a:xfrm>
              <a:prstGeom prst="rect">
                <a:avLst/>
              </a:prstGeom>
            </p:spPr>
            <p:txBody>
              <a:bodyPr wrap="none" lIns="90000" rIns="90000" tIns="46800" bIns="46800" anchor="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2600">
                      <a:solidFill>
                        <a:srgbClr val="eaeaea"/>
                      </a:solidFill>
                      <a:miter/>
                    </a:ln>
                    <a:gradFill rotWithShape="0">
                      <a:gsLst>
                        <a:gs pos="0">
                          <a:srgbClr val="a603ab"/>
                        </a:gs>
                        <a:gs pos="100000">
                          <a:srgbClr val="a603ab"/>
                        </a:gs>
                      </a:gsLst>
                      <a:lin ang="0"/>
                    </a:gradFill>
                    <a:effectLst>
                      <a:outerShdw dist="153753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Arial"/>
                  </a:rPr>
                  <a:t>Моральный </a:t>
                </a:r>
                <a:endPara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2600">
                      <a:solidFill>
                        <a:srgbClr val="eaeaea"/>
                      </a:solidFill>
                      <a:miter/>
                    </a:ln>
                    <a:gradFill rotWithShape="0">
                      <a:gsLst>
                        <a:gs pos="0">
                          <a:srgbClr val="a603ab"/>
                        </a:gs>
                        <a:gs pos="100000">
                          <a:srgbClr val="a603ab"/>
                        </a:gs>
                      </a:gsLst>
                      <a:lin ang="0"/>
                    </a:gradFill>
                    <a:effectLst>
                      <a:outerShdw dist="153753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Arial"/>
                  </a:rPr>
                  <a:t>выбор</a:t>
                </a:r>
                <a:endPara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</p:txBody>
          </p:sp>
          <p:pic>
            <p:nvPicPr>
              <p:cNvPr id="410" name="Picture 24" descr="j0238208"/>
              <p:cNvPicPr/>
              <p:nvPr/>
            </p:nvPicPr>
            <p:blipFill>
              <a:blip r:embed="rId4"/>
              <a:stretch/>
            </p:blipFill>
            <p:spPr>
              <a:xfrm>
                <a:off x="2195640" y="4906800"/>
                <a:ext cx="1488960" cy="1762200"/>
              </a:xfrm>
              <a:prstGeom prst="rect">
                <a:avLst/>
              </a:prstGeom>
              <a:ln w="76320">
                <a:solidFill>
                  <a:srgbClr val="99ccff"/>
                </a:solidFill>
                <a:miter/>
              </a:ln>
            </p:spPr>
          </p:pic>
        </p:grpSp>
        <p:sp>
          <p:nvSpPr>
            <p:cNvPr id="411" name="AutoShape 26"/>
            <p:cNvSpPr/>
            <p:nvPr/>
          </p:nvSpPr>
          <p:spPr>
            <a:xfrm rot="5400000">
              <a:off x="4284360" y="4221000"/>
              <a:ext cx="1150920" cy="433440"/>
            </a:xfrm>
            <a:custGeom>
              <a:avLst/>
              <a:gdLst>
                <a:gd name="textAreaLeft" fmla="*/ 179280 w 1150920"/>
                <a:gd name="textAreaRight" fmla="*/ 1006560 w 1150920"/>
                <a:gd name="textAreaTop" fmla="*/ 108000 h 433440"/>
                <a:gd name="textAreaBottom" fmla="*/ 32544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WordArt 17"/>
          <p:cNvSpPr txBox="1"/>
          <p:nvPr/>
        </p:nvSpPr>
        <p:spPr>
          <a:xfrm>
            <a:off x="6286680" y="2214720"/>
            <a:ext cx="2160360" cy="111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39d"/>
                    </a:gs>
                    <a:gs pos="50000">
                      <a:srgbClr val="000000"/>
                    </a:gs>
                    <a:gs pos="100000">
                      <a:srgbClr val="fff39d"/>
                    </a:gs>
                  </a:gsLst>
                  <a:lin ang="5400000"/>
                </a:gradFill>
                <a:latin typeface="Arial Black"/>
              </a:rPr>
              <a:t>З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39d"/>
                  </a:gs>
                  <a:gs pos="50000">
                    <a:srgbClr val="000000"/>
                  </a:gs>
                  <a:gs pos="100000">
                    <a:srgbClr val="fff39d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81160" y="-6480"/>
            <a:ext cx="7478640" cy="15494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-360" y="1143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Человек всегда может сделать выбор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Выбор, направленный во благо другому – это и есть </a:t>
            </a:r>
            <a:r>
              <a:rPr b="1" i="1" lang="ru-RU" sz="3600" spc="-1" strike="noStrike">
                <a:solidFill>
                  <a:srgbClr val="002060"/>
                </a:solidFill>
                <a:latin typeface="Century Schoolbook"/>
              </a:rPr>
              <a:t>«моральный выбор</a:t>
            </a: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»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5" name="Рисунок 3" descr="Signpost_big.jpg20.jpg"/>
          <p:cNvPicPr/>
          <p:nvPr/>
        </p:nvPicPr>
        <p:blipFill>
          <a:blip r:embed="rId2"/>
          <a:stretch/>
        </p:blipFill>
        <p:spPr>
          <a:xfrm>
            <a:off x="6357960" y="3714840"/>
            <a:ext cx="251604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extBox 3" descr=""/>
          <p:cNvPicPr/>
          <p:nvPr/>
        </p:nvPicPr>
        <p:blipFill>
          <a:blip r:embed="rId1"/>
          <a:stretch/>
        </p:blipFill>
        <p:spPr>
          <a:xfrm>
            <a:off x="938160" y="262080"/>
            <a:ext cx="6645240" cy="1218960"/>
          </a:xfrm>
          <a:prstGeom prst="rect">
            <a:avLst/>
          </a:prstGeom>
          <a:ln w="0">
            <a:noFill/>
          </a:ln>
        </p:spPr>
      </p:pic>
      <p:sp>
        <p:nvSpPr>
          <p:cNvPr id="417" name="TextBox 4"/>
          <p:cNvSpPr/>
          <p:nvPr/>
        </p:nvSpPr>
        <p:spPr>
          <a:xfrm>
            <a:off x="285840" y="2428920"/>
            <a:ext cx="78580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Чтение статьи  на странице 22-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Найти ответы на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Что такое моральный выб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-От чего зависит выбор между нравственным и безнравственным поведен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-Как должен поступать добродетельный челов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entury Schoolbook"/>
              </a:rPr>
              <a:t>-Что такое моральный конфлик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Рисунок 5" descr="шггг.gif"/>
          <p:cNvPicPr/>
          <p:nvPr/>
        </p:nvPicPr>
        <p:blipFill>
          <a:blip r:embed="rId2"/>
          <a:stretch/>
        </p:blipFill>
        <p:spPr>
          <a:xfrm>
            <a:off x="3357720" y="1000080"/>
            <a:ext cx="15811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-6480" y="-139680"/>
            <a:ext cx="8955360" cy="700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Прямоугольник 2"/>
          <p:cNvSpPr/>
          <p:nvPr/>
        </p:nvSpPr>
        <p:spPr>
          <a:xfrm>
            <a:off x="357120" y="0"/>
            <a:ext cx="8501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С. Михалков «Находка»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"/>
          <p:cNvSpPr/>
          <p:nvPr/>
        </p:nvSpPr>
        <p:spPr>
          <a:xfrm>
            <a:off x="357120" y="1650960"/>
            <a:ext cx="35006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Я выбежал на улиц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о мостовой поше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Свернул налево за у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И кошелек наш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Четыре отде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В тяжелом кошель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И в каждом отдел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ятак на пята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И вдруг по той же улиц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о той же мосто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Идет навстречу девоч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С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оникшей голов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4"/>
          <p:cNvSpPr/>
          <p:nvPr/>
        </p:nvSpPr>
        <p:spPr>
          <a:xfrm>
            <a:off x="4227840" y="1785960"/>
            <a:ext cx="47282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И грустно смотрит под но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ак будто по пу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Ей нужно что-то важ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На улице найти.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Не знает эта девоч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Что у меня в ру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Ее богатство мед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В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тяжелом кошельке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1" descr=""/>
          <p:cNvPicPr/>
          <p:nvPr/>
        </p:nvPicPr>
        <p:blipFill>
          <a:blip r:embed="rId1"/>
          <a:stretch/>
        </p:blipFill>
        <p:spPr>
          <a:xfrm>
            <a:off x="12600" y="219240"/>
            <a:ext cx="8740800" cy="459720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3" descr="Солнышко с цветком.png"/>
          <p:cNvPicPr/>
          <p:nvPr/>
        </p:nvPicPr>
        <p:blipFill>
          <a:blip r:embed="rId2"/>
          <a:stretch/>
        </p:blipFill>
        <p:spPr>
          <a:xfrm>
            <a:off x="6357960" y="4143240"/>
            <a:ext cx="27860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3857760" y="587520"/>
            <a:ext cx="507204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Я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нож беру уверен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ладу в карман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роходит мимо девоч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Не знает нич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И грустно смотрит под ног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Как будто по пу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Ей нужно что-то важ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На улице най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Не знает эта девоч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Что у меня в ру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Ее богатство мед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В тяжелом кошель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4" descr="J0189242"/>
          <p:cNvPicPr/>
          <p:nvPr/>
        </p:nvPicPr>
        <p:blipFill>
          <a:blip r:embed="rId1"/>
          <a:stretch/>
        </p:blipFill>
        <p:spPr>
          <a:xfrm>
            <a:off x="6429240" y="3786120"/>
            <a:ext cx="757440" cy="5000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4"/>
          <p:cNvSpPr/>
          <p:nvPr/>
        </p:nvSpPr>
        <p:spPr>
          <a:xfrm>
            <a:off x="225720" y="714240"/>
            <a:ext cx="328824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Но тут беда случае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И я стою дрож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Не нахожу в кармане 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Любимого нож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Четыре острых лез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Работы непрост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Да маленькие ножниц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Да штопор зави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И вдруг я вижу, дев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Идет по мостов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Мой ножик держит дев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И спрашивает: «Твой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5"/>
          <p:cNvSpPr/>
          <p:nvPr/>
        </p:nvSpPr>
        <p:spPr>
          <a:xfrm>
            <a:off x="1017720" y="5357880"/>
            <a:ext cx="720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Как поступит мальчик?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оугольник 1"/>
          <p:cNvSpPr/>
          <p:nvPr/>
        </p:nvSpPr>
        <p:spPr>
          <a:xfrm>
            <a:off x="214200" y="428760"/>
            <a:ext cx="578664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Я бросился за девоч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И я догнал е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И я спросил у девоч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Твое? Скажи, тв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Мое, - сказала девочка, -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Я шла, разинув 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Отдай! Я так и думал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Что кто-нибудь найд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4" descr="552266908"/>
          <p:cNvPicPr/>
          <p:nvPr/>
        </p:nvPicPr>
        <p:blipFill>
          <a:blip r:embed="rId1"/>
          <a:stretch/>
        </p:blipFill>
        <p:spPr>
          <a:xfrm>
            <a:off x="5286240" y="2071800"/>
            <a:ext cx="3357720" cy="276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142884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Century Schoolbook"/>
              </a:rPr>
              <a:t>1.В КАКОЙ СКАЗКЕ И КТО НАРУШИЛ ПРАВО НА СВОБОДУ, ДЕРЖАЛ КУКОЛ В РАБСТВЕ?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002060"/>
                </a:solidFill>
                <a:latin typeface="Century Schoolbook"/>
              </a:rPr>
              <a:t>2.В КАКОЙ СКАЗКЕ «ХЛЕБОБУЛОЧНЫЙ» ГЕРОЙ НЕСКОЛЬКО РАЗ ПОДВЕРГАЛСЯ ПОПЫТКАМ ПОСЯГАТЕЛЬСТВА НА ЕГО ЖИЗНЬ, УГРОЗАМ БЫТЬ СЪЕДЕННЫМ? 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002060"/>
                </a:solidFill>
                <a:latin typeface="Century Schoolbook"/>
              </a:rPr>
              <a:t>3.ГЕРОИНЯ КАКОЙ СКАЗКИ ВОСПОЛЬЗОВАЛАСЬ ПРАВОМ СВОБОДНОГО ПЕРЕДВИЖЕНИЯ И ВЫБОРА МЕСТОЖИТЕЛЬСТВА?</a:t>
            </a:r>
            <a:br>
              <a:rPr sz="2500"/>
            </a:b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0" name="TextBox 2" descr=""/>
          <p:cNvPicPr/>
          <p:nvPr/>
        </p:nvPicPr>
        <p:blipFill>
          <a:blip r:embed="rId1"/>
          <a:stretch/>
        </p:blipFill>
        <p:spPr>
          <a:xfrm>
            <a:off x="628560" y="-109440"/>
            <a:ext cx="768672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189000" y="195120"/>
            <a:ext cx="8613720" cy="1243080"/>
          </a:xfrm>
          <a:prstGeom prst="rect">
            <a:avLst/>
          </a:prstGeom>
          <a:ln w="0">
            <a:noFill/>
          </a:ln>
        </p:spPr>
      </p:pic>
      <p:sp>
        <p:nvSpPr>
          <p:cNvPr id="432" name="TextBox 3"/>
          <p:cNvSpPr/>
          <p:nvPr/>
        </p:nvSpPr>
        <p:spPr>
          <a:xfrm>
            <a:off x="1214280" y="1785960"/>
            <a:ext cx="2858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своб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"/>
          <p:cNvSpPr/>
          <p:nvPr/>
        </p:nvSpPr>
        <p:spPr>
          <a:xfrm>
            <a:off x="4786200" y="1928880"/>
            <a:ext cx="285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мор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Минус 9"/>
          <p:cNvSpPr/>
          <p:nvPr/>
        </p:nvSpPr>
        <p:spPr>
          <a:xfrm>
            <a:off x="1643040" y="2214720"/>
            <a:ext cx="500040" cy="71280"/>
          </a:xfrm>
          <a:custGeom>
            <a:avLst/>
            <a:gdLst>
              <a:gd name="textAreaLeft" fmla="*/ 66240 w 500040"/>
              <a:gd name="textAreaRight" fmla="*/ 433800 w 500040"/>
              <a:gd name="textAreaTop" fmla="*/ 27360 h 71280"/>
              <a:gd name="textAreaBottom" fmla="*/ 43920 h 71280"/>
            </a:gdLst>
            <a:ahLst/>
            <a:rect l="textAreaLeft" t="textAreaTop" r="textAreaRight" b="textAreaBottom"/>
            <a:pathLst>
              <a:path w="500062" h="71437">
                <a:moveTo>
                  <a:pt x="66283" y="27318"/>
                </a:moveTo>
                <a:lnTo>
                  <a:pt x="433779" y="27318"/>
                </a:lnTo>
                <a:lnTo>
                  <a:pt x="433779" y="44119"/>
                </a:lnTo>
                <a:lnTo>
                  <a:pt x="66283" y="4411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Минус 10"/>
          <p:cNvSpPr/>
          <p:nvPr/>
        </p:nvSpPr>
        <p:spPr>
          <a:xfrm>
            <a:off x="1571760" y="3357720"/>
            <a:ext cx="500040" cy="71280"/>
          </a:xfrm>
          <a:custGeom>
            <a:avLst/>
            <a:gdLst>
              <a:gd name="textAreaLeft" fmla="*/ 66240 w 500040"/>
              <a:gd name="textAreaRight" fmla="*/ 433800 w 500040"/>
              <a:gd name="textAreaTop" fmla="*/ 27360 h 71280"/>
              <a:gd name="textAreaBottom" fmla="*/ 43920 h 71280"/>
            </a:gdLst>
            <a:ahLst/>
            <a:rect l="textAreaLeft" t="textAreaTop" r="textAreaRight" b="textAreaBottom"/>
            <a:pathLst>
              <a:path w="500063" h="71437">
                <a:moveTo>
                  <a:pt x="66283" y="27318"/>
                </a:moveTo>
                <a:lnTo>
                  <a:pt x="433780" y="27318"/>
                </a:lnTo>
                <a:lnTo>
                  <a:pt x="433780" y="44119"/>
                </a:lnTo>
                <a:lnTo>
                  <a:pt x="66283" y="4411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инус 11"/>
          <p:cNvSpPr/>
          <p:nvPr/>
        </p:nvSpPr>
        <p:spPr>
          <a:xfrm>
            <a:off x="1571760" y="2786040"/>
            <a:ext cx="500040" cy="71640"/>
          </a:xfrm>
          <a:custGeom>
            <a:avLst/>
            <a:gdLst>
              <a:gd name="textAreaLeft" fmla="*/ 66240 w 500040"/>
              <a:gd name="textAreaRight" fmla="*/ 433800 w 500040"/>
              <a:gd name="textAreaTop" fmla="*/ 27360 h 71640"/>
              <a:gd name="textAreaBottom" fmla="*/ 44280 h 71640"/>
            </a:gdLst>
            <a:ahLst/>
            <a:rect l="textAreaLeft" t="textAreaTop" r="textAreaRight" b="textAreaBottom"/>
            <a:pathLst>
              <a:path w="500063" h="71437">
                <a:moveTo>
                  <a:pt x="66283" y="27318"/>
                </a:moveTo>
                <a:lnTo>
                  <a:pt x="433780" y="27318"/>
                </a:lnTo>
                <a:lnTo>
                  <a:pt x="433780" y="44119"/>
                </a:lnTo>
                <a:lnTo>
                  <a:pt x="66283" y="4411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880" bIns="-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Минус 12"/>
          <p:cNvSpPr/>
          <p:nvPr/>
        </p:nvSpPr>
        <p:spPr>
          <a:xfrm>
            <a:off x="5214960" y="2857680"/>
            <a:ext cx="500040" cy="71280"/>
          </a:xfrm>
          <a:custGeom>
            <a:avLst/>
            <a:gdLst>
              <a:gd name="textAreaLeft" fmla="*/ 66240 w 500040"/>
              <a:gd name="textAreaRight" fmla="*/ 433800 w 500040"/>
              <a:gd name="textAreaTop" fmla="*/ 27360 h 71280"/>
              <a:gd name="textAreaBottom" fmla="*/ 43920 h 71280"/>
            </a:gdLst>
            <a:ahLst/>
            <a:rect l="textAreaLeft" t="textAreaTop" r="textAreaRight" b="textAreaBottom"/>
            <a:pathLst>
              <a:path w="500062" h="71438">
                <a:moveTo>
                  <a:pt x="66283" y="27318"/>
                </a:moveTo>
                <a:lnTo>
                  <a:pt x="433779" y="27318"/>
                </a:lnTo>
                <a:lnTo>
                  <a:pt x="433779" y="44120"/>
                </a:lnTo>
                <a:lnTo>
                  <a:pt x="66283" y="4412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Минус 13"/>
          <p:cNvSpPr/>
          <p:nvPr/>
        </p:nvSpPr>
        <p:spPr>
          <a:xfrm>
            <a:off x="5357880" y="2286000"/>
            <a:ext cx="500040" cy="71280"/>
          </a:xfrm>
          <a:custGeom>
            <a:avLst/>
            <a:gdLst>
              <a:gd name="textAreaLeft" fmla="*/ 66240 w 500040"/>
              <a:gd name="textAreaRight" fmla="*/ 433800 w 500040"/>
              <a:gd name="textAreaTop" fmla="*/ 27360 h 71280"/>
              <a:gd name="textAreaBottom" fmla="*/ 43920 h 71280"/>
            </a:gdLst>
            <a:ahLst/>
            <a:rect l="textAreaLeft" t="textAreaTop" r="textAreaRight" b="textAreaBottom"/>
            <a:pathLst>
              <a:path w="500062" h="71438">
                <a:moveTo>
                  <a:pt x="66283" y="27318"/>
                </a:moveTo>
                <a:lnTo>
                  <a:pt x="433779" y="27318"/>
                </a:lnTo>
                <a:lnTo>
                  <a:pt x="433779" y="44120"/>
                </a:lnTo>
                <a:lnTo>
                  <a:pt x="66283" y="4412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инус 14"/>
          <p:cNvSpPr/>
          <p:nvPr/>
        </p:nvSpPr>
        <p:spPr>
          <a:xfrm>
            <a:off x="1643040" y="5786280"/>
            <a:ext cx="500040" cy="71640"/>
          </a:xfrm>
          <a:custGeom>
            <a:avLst/>
            <a:gdLst>
              <a:gd name="textAreaLeft" fmla="*/ 66240 w 500040"/>
              <a:gd name="textAreaRight" fmla="*/ 433800 w 500040"/>
              <a:gd name="textAreaTop" fmla="*/ 27360 h 71640"/>
              <a:gd name="textAreaBottom" fmla="*/ 44280 h 71640"/>
            </a:gdLst>
            <a:ahLst/>
            <a:rect l="textAreaLeft" t="textAreaTop" r="textAreaRight" b="textAreaBottom"/>
            <a:pathLst>
              <a:path w="500062" h="71437">
                <a:moveTo>
                  <a:pt x="66283" y="27318"/>
                </a:moveTo>
                <a:lnTo>
                  <a:pt x="433779" y="27318"/>
                </a:lnTo>
                <a:lnTo>
                  <a:pt x="433779" y="44119"/>
                </a:lnTo>
                <a:lnTo>
                  <a:pt x="66283" y="4411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880" bIns="-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Минус 15"/>
          <p:cNvSpPr/>
          <p:nvPr/>
        </p:nvSpPr>
        <p:spPr>
          <a:xfrm>
            <a:off x="1643040" y="5214960"/>
            <a:ext cx="500040" cy="71280"/>
          </a:xfrm>
          <a:custGeom>
            <a:avLst/>
            <a:gdLst>
              <a:gd name="textAreaLeft" fmla="*/ 66240 w 500040"/>
              <a:gd name="textAreaRight" fmla="*/ 433800 w 500040"/>
              <a:gd name="textAreaTop" fmla="*/ 27360 h 71280"/>
              <a:gd name="textAreaBottom" fmla="*/ 43920 h 71280"/>
            </a:gdLst>
            <a:ahLst/>
            <a:rect l="textAreaLeft" t="textAreaTop" r="textAreaRight" b="textAreaBottom"/>
            <a:pathLst>
              <a:path w="500062" h="71437">
                <a:moveTo>
                  <a:pt x="66283" y="27318"/>
                </a:moveTo>
                <a:lnTo>
                  <a:pt x="433779" y="27318"/>
                </a:lnTo>
                <a:lnTo>
                  <a:pt x="433779" y="44119"/>
                </a:lnTo>
                <a:lnTo>
                  <a:pt x="66283" y="4411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Минус 16"/>
          <p:cNvSpPr/>
          <p:nvPr/>
        </p:nvSpPr>
        <p:spPr>
          <a:xfrm>
            <a:off x="1571760" y="4572000"/>
            <a:ext cx="500040" cy="71280"/>
          </a:xfrm>
          <a:custGeom>
            <a:avLst/>
            <a:gdLst>
              <a:gd name="textAreaLeft" fmla="*/ 66240 w 500040"/>
              <a:gd name="textAreaRight" fmla="*/ 433800 w 500040"/>
              <a:gd name="textAreaTop" fmla="*/ 27360 h 71280"/>
              <a:gd name="textAreaBottom" fmla="*/ 43920 h 71280"/>
            </a:gdLst>
            <a:ahLst/>
            <a:rect l="textAreaLeft" t="textAreaTop" r="textAreaRight" b="textAreaBottom"/>
            <a:pathLst>
              <a:path w="500063" h="71438">
                <a:moveTo>
                  <a:pt x="66283" y="27318"/>
                </a:moveTo>
                <a:lnTo>
                  <a:pt x="433780" y="27318"/>
                </a:lnTo>
                <a:lnTo>
                  <a:pt x="433780" y="44120"/>
                </a:lnTo>
                <a:lnTo>
                  <a:pt x="66283" y="4412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инус 17"/>
          <p:cNvSpPr/>
          <p:nvPr/>
        </p:nvSpPr>
        <p:spPr>
          <a:xfrm>
            <a:off x="1643040" y="3857760"/>
            <a:ext cx="500040" cy="71280"/>
          </a:xfrm>
          <a:custGeom>
            <a:avLst/>
            <a:gdLst>
              <a:gd name="textAreaLeft" fmla="*/ 66240 w 500040"/>
              <a:gd name="textAreaRight" fmla="*/ 433800 w 500040"/>
              <a:gd name="textAreaTop" fmla="*/ 27360 h 71280"/>
              <a:gd name="textAreaBottom" fmla="*/ 43920 h 71280"/>
            </a:gdLst>
            <a:ahLst/>
            <a:rect l="textAreaLeft" t="textAreaTop" r="textAreaRight" b="textAreaBottom"/>
            <a:pathLst>
              <a:path w="500062" h="71438">
                <a:moveTo>
                  <a:pt x="66283" y="27318"/>
                </a:moveTo>
                <a:lnTo>
                  <a:pt x="433779" y="27318"/>
                </a:lnTo>
                <a:lnTo>
                  <a:pt x="433779" y="44120"/>
                </a:lnTo>
                <a:lnTo>
                  <a:pt x="66283" y="4412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инус 20"/>
          <p:cNvSpPr/>
          <p:nvPr/>
        </p:nvSpPr>
        <p:spPr>
          <a:xfrm>
            <a:off x="5214960" y="4714920"/>
            <a:ext cx="500040" cy="71280"/>
          </a:xfrm>
          <a:custGeom>
            <a:avLst/>
            <a:gdLst>
              <a:gd name="textAreaLeft" fmla="*/ 66240 w 500040"/>
              <a:gd name="textAreaRight" fmla="*/ 433800 w 500040"/>
              <a:gd name="textAreaTop" fmla="*/ 27360 h 71280"/>
              <a:gd name="textAreaBottom" fmla="*/ 43920 h 71280"/>
            </a:gdLst>
            <a:ahLst/>
            <a:rect l="textAreaLeft" t="textAreaTop" r="textAreaRight" b="textAreaBottom"/>
            <a:pathLst>
              <a:path w="500062" h="71438">
                <a:moveTo>
                  <a:pt x="66283" y="27318"/>
                </a:moveTo>
                <a:lnTo>
                  <a:pt x="433779" y="27318"/>
                </a:lnTo>
                <a:lnTo>
                  <a:pt x="433779" y="44120"/>
                </a:lnTo>
                <a:lnTo>
                  <a:pt x="66283" y="4412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Минус 21"/>
          <p:cNvSpPr/>
          <p:nvPr/>
        </p:nvSpPr>
        <p:spPr>
          <a:xfrm>
            <a:off x="5214960" y="4143240"/>
            <a:ext cx="500040" cy="71640"/>
          </a:xfrm>
          <a:custGeom>
            <a:avLst/>
            <a:gdLst>
              <a:gd name="textAreaLeft" fmla="*/ 66240 w 500040"/>
              <a:gd name="textAreaRight" fmla="*/ 433800 w 500040"/>
              <a:gd name="textAreaTop" fmla="*/ 27360 h 71640"/>
              <a:gd name="textAreaBottom" fmla="*/ 44280 h 71640"/>
            </a:gdLst>
            <a:ahLst/>
            <a:rect l="textAreaLeft" t="textAreaTop" r="textAreaRight" b="textAreaBottom"/>
            <a:pathLst>
              <a:path w="500062" h="71438">
                <a:moveTo>
                  <a:pt x="66283" y="27318"/>
                </a:moveTo>
                <a:lnTo>
                  <a:pt x="433779" y="27318"/>
                </a:lnTo>
                <a:lnTo>
                  <a:pt x="433779" y="44120"/>
                </a:lnTo>
                <a:lnTo>
                  <a:pt x="66283" y="4412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880" bIns="-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инус 22"/>
          <p:cNvSpPr/>
          <p:nvPr/>
        </p:nvSpPr>
        <p:spPr>
          <a:xfrm>
            <a:off x="5286240" y="3500280"/>
            <a:ext cx="500040" cy="71640"/>
          </a:xfrm>
          <a:custGeom>
            <a:avLst/>
            <a:gdLst>
              <a:gd name="textAreaLeft" fmla="*/ 66240 w 500040"/>
              <a:gd name="textAreaRight" fmla="*/ 433800 w 500040"/>
              <a:gd name="textAreaTop" fmla="*/ 27360 h 71640"/>
              <a:gd name="textAreaBottom" fmla="*/ 44280 h 71640"/>
            </a:gdLst>
            <a:ahLst/>
            <a:rect l="textAreaLeft" t="textAreaTop" r="textAreaRight" b="textAreaBottom"/>
            <a:pathLst>
              <a:path w="500063" h="71437">
                <a:moveTo>
                  <a:pt x="66283" y="27318"/>
                </a:moveTo>
                <a:lnTo>
                  <a:pt x="433780" y="27318"/>
                </a:lnTo>
                <a:lnTo>
                  <a:pt x="433780" y="44119"/>
                </a:lnTo>
                <a:lnTo>
                  <a:pt x="66283" y="4411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880" bIns="-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8"/>
          <p:cNvSpPr/>
          <p:nvPr/>
        </p:nvSpPr>
        <p:spPr>
          <a:xfrm>
            <a:off x="428760" y="100008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Подобрать родственные слова, близкие по значению к каждой букв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Прямоугольник 3"/>
          <p:cNvSpPr/>
          <p:nvPr/>
        </p:nvSpPr>
        <p:spPr>
          <a:xfrm>
            <a:off x="642960" y="1428840"/>
            <a:ext cx="7643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-Что такое своб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-Как связана свобода с моральным выбор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-Всегда  ли  у  человека  есть  выбо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-Какими  качествами  должен  обладать  человек, чтобы  сделать  моральный  выбо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TextBox 4" descr=""/>
          <p:cNvPicPr/>
          <p:nvPr/>
        </p:nvPicPr>
        <p:blipFill>
          <a:blip r:embed="rId1"/>
          <a:stretch/>
        </p:blipFill>
        <p:spPr>
          <a:xfrm>
            <a:off x="1663560" y="304920"/>
            <a:ext cx="7188480" cy="14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2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7480080" cy="1274760"/>
          </a:xfrm>
          <a:prstGeom prst="rect">
            <a:avLst/>
          </a:prstGeom>
          <a:ln w="0">
            <a:noFill/>
          </a:ln>
        </p:spPr>
      </p:pic>
      <p:sp>
        <p:nvSpPr>
          <p:cNvPr id="450" name="TextBox 4"/>
          <p:cNvSpPr/>
          <p:nvPr/>
        </p:nvSpPr>
        <p:spPr>
          <a:xfrm>
            <a:off x="214200" y="857160"/>
            <a:ext cx="86439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Перечитайте « Сказку о мёртвой царевне и о семи богатырях». А. С. Пушк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В каких ситуациях морального выбора оказалась Чернов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Как она поступи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Приходилось ли вам оказываться в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морального выбор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Рисунок 3" descr="03.07.2010 23;54;09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286240" y="2214720"/>
            <a:ext cx="214344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5f6d"/>
                </a:solidFill>
                <a:latin typeface="Century Schoolbook"/>
              </a:rPr>
              <a:t>ССЫЛКИ</a:t>
            </a:r>
            <a:br>
              <a:rPr sz="2200"/>
            </a:b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3" name="Rectangle 1"/>
          <p:cNvSpPr/>
          <p:nvPr/>
        </p:nvSpPr>
        <p:spPr>
          <a:xfrm>
            <a:off x="214200" y="839160"/>
            <a:ext cx="77868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1"/>
              </a:rPr>
              <a:t>Иллюстрации:</a:t>
            </a:r>
            <a:r>
              <a:rPr b="0" lang="de-AT" sz="2000" spc="-1" strike="noStrike" u="sng">
                <a:solidFill>
                  <a:srgbClr val="d2611c"/>
                </a:solidFill>
                <a:uFillTx/>
                <a:latin typeface="Century Schoolbook"/>
                <a:ea typeface="Calibri"/>
                <a:hlinkClick r:id="rId2"/>
              </a:rPr>
              <a:t>http://foto.rambler.ru/users/awersa1/album/?sort=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4"/>
              </a:rPr>
              <a:t>://</a:t>
            </a:r>
            <a:r>
              <a:rPr b="0" lang="de-DE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5"/>
              </a:rPr>
              <a:t>www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6"/>
              </a:rPr>
              <a:t>.</a:t>
            </a:r>
            <a:r>
              <a:rPr b="0" lang="de-DE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7"/>
              </a:rPr>
              <a:t>playcast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8"/>
              </a:rPr>
              <a:t>.</a:t>
            </a:r>
            <a:r>
              <a:rPr b="0" lang="de-DE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9"/>
              </a:rPr>
              <a:t>ru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10"/>
              </a:rPr>
              <a:t>/?</a:t>
            </a:r>
            <a:r>
              <a:rPr b="0" lang="de-DE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11"/>
              </a:rPr>
              <a:t>module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12"/>
              </a:rPr>
              <a:t>=</a:t>
            </a:r>
            <a:r>
              <a:rPr b="0" lang="de-DE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13"/>
              </a:rPr>
              <a:t>comments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14"/>
              </a:rPr>
              <a:t>&amp;</a:t>
            </a:r>
            <a:r>
              <a:rPr b="0" lang="de-DE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15"/>
              </a:rPr>
              <a:t>playcastId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16"/>
              </a:rPr>
              <a:t>=1152843&amp;</a:t>
            </a:r>
            <a:r>
              <a:rPr b="0" lang="de-DE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17"/>
              </a:rPr>
              <a:t>page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18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428760" y="27867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19"/>
              </a:rPr>
              <a:t>http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20"/>
              </a:rPr>
              <a:t>://</a:t>
            </a:r>
            <a:r>
              <a:rPr b="0" lang="de-DE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21"/>
              </a:rPr>
              <a:t>www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22"/>
              </a:rPr>
              <a:t>.</a:t>
            </a:r>
            <a:r>
              <a:rPr b="0" lang="de-DE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23"/>
              </a:rPr>
              <a:t>playcast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24"/>
              </a:rPr>
              <a:t>.</a:t>
            </a:r>
            <a:r>
              <a:rPr b="0" lang="de-DE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25"/>
              </a:rPr>
              <a:t>ru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26"/>
              </a:rPr>
              <a:t>/?</a:t>
            </a:r>
            <a:r>
              <a:rPr b="0" lang="de-DE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27"/>
              </a:rPr>
              <a:t>module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28"/>
              </a:rPr>
              <a:t>=</a:t>
            </a:r>
            <a:r>
              <a:rPr b="0" lang="de-DE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29"/>
              </a:rPr>
              <a:t>comments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30"/>
              </a:rPr>
              <a:t>&amp;</a:t>
            </a:r>
            <a:r>
              <a:rPr b="0" lang="de-DE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31"/>
              </a:rPr>
              <a:t>playcastId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32"/>
              </a:rPr>
              <a:t>=1152843&amp;</a:t>
            </a:r>
            <a:r>
              <a:rPr b="0" lang="de-DE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33"/>
              </a:rPr>
              <a:t>page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34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214200" y="2286720"/>
            <a:ext cx="82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35"/>
              </a:rPr>
              <a:t>http://www.free-lancers.net/users/somnambula/comments/1714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214200" y="314496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36"/>
              </a:rPr>
              <a:t>http://www.7continent.com.ua/ru/products/details/pritchi_ot_norbekova_dlja_detej_i_vzroslyh/index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303840" y="3858480"/>
            <a:ext cx="722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37"/>
              </a:rPr>
              <a:t>http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38"/>
              </a:rPr>
              <a:t>://</a:t>
            </a:r>
            <a:r>
              <a:rPr b="0" lang="de-DE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39"/>
              </a:rPr>
              <a:t>www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40"/>
              </a:rPr>
              <a:t>.</a:t>
            </a:r>
            <a:r>
              <a:rPr b="0" lang="de-DE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41"/>
              </a:rPr>
              <a:t>playcast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42"/>
              </a:rPr>
              <a:t>.</a:t>
            </a:r>
            <a:r>
              <a:rPr b="0" lang="de-DE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43"/>
              </a:rPr>
              <a:t>ru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44"/>
              </a:rPr>
              <a:t>/?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Calibri"/>
              </a:rPr>
              <a:t>module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Calibri"/>
              </a:rPr>
              <a:t>comments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&amp;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Calibri"/>
              </a:rPr>
              <a:t>playcastI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=1214366&amp;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Calibri"/>
              </a:rPr>
              <a:t>page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11400" y="357840"/>
            <a:ext cx="35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a3d01"/>
                </a:solidFill>
                <a:latin typeface="Calibri"/>
                <a:ea typeface="Calibri"/>
              </a:rPr>
              <a:t>Притча:        </a:t>
            </a:r>
            <a:r>
              <a:rPr b="0" lang="de-DE" sz="1800" spc="-1" strike="noStrike">
                <a:solidFill>
                  <a:srgbClr val="9a3d01"/>
                </a:solidFill>
                <a:latin typeface="Calibri"/>
                <a:ea typeface="Calibri"/>
              </a:rPr>
              <a:t>http</a:t>
            </a:r>
            <a:r>
              <a:rPr b="0" lang="ru-RU" sz="1800" spc="-1" strike="noStrike">
                <a:solidFill>
                  <a:srgbClr val="9a3d01"/>
                </a:solidFill>
                <a:latin typeface="Calibri"/>
                <a:ea typeface="Calibri"/>
              </a:rPr>
              <a:t>://</a:t>
            </a:r>
            <a:r>
              <a:rPr b="0" lang="de-DE" sz="1800" spc="-1" strike="noStrike">
                <a:solidFill>
                  <a:srgbClr val="9a3d01"/>
                </a:solidFill>
                <a:latin typeface="Calibri"/>
                <a:ea typeface="Calibri"/>
              </a:rPr>
              <a:t>pritchi</a:t>
            </a:r>
            <a:r>
              <a:rPr b="0" lang="ru-RU" sz="1800" spc="-1" strike="noStrike">
                <a:solidFill>
                  <a:srgbClr val="9a3d01"/>
                </a:solidFill>
                <a:latin typeface="Calibri"/>
                <a:ea typeface="Calibri"/>
              </a:rPr>
              <a:t>.</a:t>
            </a:r>
            <a:r>
              <a:rPr b="0" lang="de-DE" sz="1800" spc="-1" strike="noStrike">
                <a:solidFill>
                  <a:srgbClr val="9a3d01"/>
                </a:solidFill>
                <a:latin typeface="Calibri"/>
                <a:ea typeface="Calibri"/>
              </a:rPr>
              <a:t>ru</a:t>
            </a:r>
            <a:r>
              <a:rPr b="0" lang="ru-RU" sz="1800" spc="-1" strike="noStrike">
                <a:solidFill>
                  <a:srgbClr val="9a3d01"/>
                </a:solidFill>
                <a:latin typeface="Calibri"/>
                <a:ea typeface="Calibri"/>
              </a:rPr>
              <a:t>/</a:t>
            </a:r>
            <a:r>
              <a:rPr b="0" lang="de-DE" sz="1800" spc="-1" strike="noStrike">
                <a:solidFill>
                  <a:srgbClr val="9a3d01"/>
                </a:solidFill>
                <a:latin typeface="Calibri"/>
                <a:ea typeface="Calibri"/>
              </a:rPr>
              <a:t>id</a:t>
            </a:r>
            <a:r>
              <a:rPr b="0" lang="ru-RU" sz="1800" spc="-1" strike="noStrike">
                <a:solidFill>
                  <a:srgbClr val="9a3d01"/>
                </a:solidFill>
                <a:latin typeface="Calibri"/>
                <a:ea typeface="Calibri"/>
              </a:rPr>
              <a:t>_2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8"/>
          <p:cNvSpPr/>
          <p:nvPr/>
        </p:nvSpPr>
        <p:spPr>
          <a:xfrm>
            <a:off x="233640" y="4214880"/>
            <a:ext cx="37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9a3d01"/>
                </a:solidFill>
                <a:latin typeface="Century Schoolbook"/>
              </a:rPr>
              <a:t>http://dictionary-economics.ru/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9"/>
          <p:cNvSpPr/>
          <p:nvPr/>
        </p:nvSpPr>
        <p:spPr>
          <a:xfrm>
            <a:off x="285840" y="4500720"/>
            <a:ext cx="70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9a3d01"/>
                </a:solidFill>
                <a:latin typeface="Century Schoolbook"/>
              </a:rPr>
              <a:t>http</a:t>
            </a:r>
            <a:r>
              <a:rPr b="0" lang="ru-RU" sz="1800" spc="-1" strike="noStrike">
                <a:solidFill>
                  <a:srgbClr val="9a3d01"/>
                </a:solidFill>
                <a:latin typeface="Century Schoolbook"/>
              </a:rPr>
              <a:t>://</a:t>
            </a:r>
            <a:r>
              <a:rPr b="0" lang="de-DE" sz="1800" spc="-1" strike="noStrike">
                <a:solidFill>
                  <a:srgbClr val="9a3d01"/>
                </a:solidFill>
                <a:latin typeface="Century Schoolbook"/>
              </a:rPr>
              <a:t>www</a:t>
            </a:r>
            <a:r>
              <a:rPr b="0" lang="ru-RU" sz="1800" spc="-1" strike="noStrike">
                <a:solidFill>
                  <a:srgbClr val="9a3d01"/>
                </a:solidFill>
                <a:latin typeface="Century Schoolbook"/>
              </a:rPr>
              <a:t>.</a:t>
            </a:r>
            <a:r>
              <a:rPr b="0" lang="de-DE" sz="1800" spc="-1" strike="noStrike">
                <a:solidFill>
                  <a:srgbClr val="9a3d01"/>
                </a:solidFill>
                <a:latin typeface="Century Schoolbook"/>
              </a:rPr>
              <a:t>pravkamchatka</a:t>
            </a:r>
            <a:r>
              <a:rPr b="0" lang="ru-RU" sz="1800" spc="-1" strike="noStrike">
                <a:solidFill>
                  <a:srgbClr val="9a3d01"/>
                </a:solidFill>
                <a:latin typeface="Century Schoolbook"/>
              </a:rPr>
              <a:t>.</a:t>
            </a:r>
            <a:r>
              <a:rPr b="0" lang="de-DE" sz="1800" spc="-1" strike="noStrike">
                <a:solidFill>
                  <a:srgbClr val="9a3d01"/>
                </a:solidFill>
                <a:latin typeface="Century Schoolbook"/>
              </a:rPr>
              <a:t>ru</a:t>
            </a:r>
            <a:r>
              <a:rPr b="0" lang="ru-RU" sz="1800" spc="-1" strike="noStrike">
                <a:solidFill>
                  <a:srgbClr val="9a3d01"/>
                </a:solidFill>
                <a:latin typeface="Century Schoolbook"/>
              </a:rPr>
              <a:t>/</a:t>
            </a:r>
            <a:r>
              <a:rPr b="0" lang="de-DE" sz="1800" spc="-1" strike="noStrike">
                <a:solidFill>
                  <a:srgbClr val="9a3d01"/>
                </a:solidFill>
                <a:latin typeface="Century Schoolbook"/>
              </a:rPr>
              <a:t>news</a:t>
            </a:r>
            <a:r>
              <a:rPr b="0" lang="ru-RU" sz="1800" spc="-1" strike="noStrike">
                <a:solidFill>
                  <a:srgbClr val="9a3d01"/>
                </a:solidFill>
                <a:latin typeface="Century Schoolbook"/>
              </a:rPr>
              <a:t>/1463/------</a:t>
            </a:r>
            <a:r>
              <a:rPr b="0" lang="de-DE" sz="1800" spc="-1" strike="noStrike">
                <a:solidFill>
                  <a:srgbClr val="9a3d01"/>
                </a:solidFill>
                <a:latin typeface="Century Schoolbook"/>
              </a:rPr>
              <a:t>http://www.artsides.ru/?ItemID=5482&amp;ItemName=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295560" y="5072760"/>
            <a:ext cx="38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9a3d01"/>
                </a:solidFill>
                <a:latin typeface="Calibri"/>
                <a:ea typeface="Calibri"/>
              </a:rPr>
              <a:t>http</a:t>
            </a:r>
            <a:r>
              <a:rPr b="0" lang="ru-RU" sz="1800" spc="-1" strike="noStrike">
                <a:solidFill>
                  <a:srgbClr val="9a3d01"/>
                </a:solidFill>
                <a:latin typeface="Calibri"/>
                <a:ea typeface="Calibri"/>
              </a:rPr>
              <a:t>://</a:t>
            </a:r>
            <a:r>
              <a:rPr b="0" lang="de-DE" sz="1800" spc="-1" strike="noStrike">
                <a:solidFill>
                  <a:srgbClr val="9a3d01"/>
                </a:solidFill>
                <a:latin typeface="Calibri"/>
                <a:ea typeface="Calibri"/>
              </a:rPr>
              <a:t>mrra</a:t>
            </a:r>
            <a:r>
              <a:rPr b="0" lang="ru-RU" sz="1800" spc="-1" strike="noStrike">
                <a:solidFill>
                  <a:srgbClr val="9a3d01"/>
                </a:solidFill>
                <a:latin typeface="Calibri"/>
                <a:ea typeface="Calibri"/>
              </a:rPr>
              <a:t>.</a:t>
            </a:r>
            <a:r>
              <a:rPr b="0" lang="de-DE" sz="1800" spc="-1" strike="noStrike">
                <a:solidFill>
                  <a:srgbClr val="9a3d01"/>
                </a:solidFill>
                <a:latin typeface="Calibri"/>
                <a:ea typeface="Calibri"/>
              </a:rPr>
              <a:t>diary</a:t>
            </a:r>
            <a:r>
              <a:rPr b="0" lang="ru-RU" sz="1800" spc="-1" strike="noStrike">
                <a:solidFill>
                  <a:srgbClr val="9a3d01"/>
                </a:solidFill>
                <a:latin typeface="Calibri"/>
                <a:ea typeface="Calibri"/>
              </a:rPr>
              <a:t>.</a:t>
            </a:r>
            <a:r>
              <a:rPr b="0" lang="de-DE" sz="1800" spc="-1" strike="noStrike">
                <a:solidFill>
                  <a:srgbClr val="9a3d01"/>
                </a:solidFill>
                <a:latin typeface="Calibri"/>
                <a:ea typeface="Calibri"/>
              </a:rPr>
              <a:t>ru</a:t>
            </a:r>
            <a:r>
              <a:rPr b="0" lang="ru-RU" sz="1800" spc="-1" strike="noStrike">
                <a:solidFill>
                  <a:srgbClr val="9a3d01"/>
                </a:solidFill>
                <a:latin typeface="Calibri"/>
                <a:ea typeface="Calibri"/>
              </a:rPr>
              <a:t>/?</a:t>
            </a:r>
            <a:r>
              <a:rPr b="0" lang="de-DE" sz="1800" spc="-1" strike="noStrike">
                <a:solidFill>
                  <a:srgbClr val="9a3d01"/>
                </a:solidFill>
                <a:latin typeface="Calibri"/>
                <a:ea typeface="Calibri"/>
              </a:rPr>
              <a:t>quote</a:t>
            </a:r>
            <a:r>
              <a:rPr b="0" lang="ru-RU" sz="1800" spc="-1" strike="noStrike">
                <a:solidFill>
                  <a:srgbClr val="9a3d01"/>
                </a:solidFill>
                <a:latin typeface="Calibri"/>
                <a:ea typeface="Calibri"/>
              </a:rPr>
              <a:t>&amp;</a:t>
            </a:r>
            <a:r>
              <a:rPr b="0" lang="de-DE" sz="1800" spc="-1" strike="noStrike">
                <a:solidFill>
                  <a:srgbClr val="9a3d01"/>
                </a:solidFill>
                <a:latin typeface="Calibri"/>
                <a:ea typeface="Calibri"/>
              </a:rPr>
              <a:t>from</a:t>
            </a:r>
            <a:r>
              <a:rPr b="0" lang="ru-RU" sz="1800" spc="-1" strike="noStrike">
                <a:solidFill>
                  <a:srgbClr val="9a3d01"/>
                </a:solidFill>
                <a:latin typeface="Calibri"/>
                <a:ea typeface="Calibri"/>
              </a:rPr>
              <a:t>=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11"/>
          <p:cNvSpPr/>
          <p:nvPr/>
        </p:nvSpPr>
        <p:spPr>
          <a:xfrm>
            <a:off x="273960" y="5357880"/>
            <a:ext cx="38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9a3d01"/>
                </a:solidFill>
                <a:latin typeface="Century Schoolbook"/>
              </a:rPr>
              <a:t>http</a:t>
            </a:r>
            <a:r>
              <a:rPr b="0" lang="ru-RU" sz="1800" spc="-1" strike="noStrike">
                <a:solidFill>
                  <a:srgbClr val="9a3d01"/>
                </a:solidFill>
                <a:latin typeface="Century Schoolbook"/>
              </a:rPr>
              <a:t>://</a:t>
            </a:r>
            <a:r>
              <a:rPr b="0" lang="de-DE" sz="1800" spc="-1" strike="noStrike">
                <a:solidFill>
                  <a:srgbClr val="9a3d01"/>
                </a:solidFill>
                <a:latin typeface="Century Schoolbook"/>
              </a:rPr>
              <a:t>warm</a:t>
            </a:r>
            <a:r>
              <a:rPr b="0" lang="ru-RU" sz="1800" spc="-1" strike="noStrike">
                <a:solidFill>
                  <a:srgbClr val="9a3d01"/>
                </a:solidFill>
                <a:latin typeface="Century Schoolbook"/>
              </a:rPr>
              <a:t>-</a:t>
            </a:r>
            <a:r>
              <a:rPr b="0" lang="de-DE" sz="1800" spc="-1" strike="noStrike">
                <a:solidFill>
                  <a:srgbClr val="9a3d01"/>
                </a:solidFill>
                <a:latin typeface="Century Schoolbook"/>
              </a:rPr>
              <a:t>velvet</a:t>
            </a:r>
            <a:r>
              <a:rPr b="0" lang="ru-RU" sz="1800" spc="-1" strike="noStrike">
                <a:solidFill>
                  <a:srgbClr val="9a3d01"/>
                </a:solidFill>
                <a:latin typeface="Century Schoolbook"/>
              </a:rPr>
              <a:t>.</a:t>
            </a:r>
            <a:r>
              <a:rPr b="0" lang="de-DE" sz="1800" spc="-1" strike="noStrike">
                <a:solidFill>
                  <a:srgbClr val="9a3d01"/>
                </a:solidFill>
                <a:latin typeface="Century Schoolbook"/>
              </a:rPr>
              <a:t>livejournal</a:t>
            </a:r>
            <a:r>
              <a:rPr b="0" lang="ru-RU" sz="1800" spc="-1" strike="noStrike">
                <a:solidFill>
                  <a:srgbClr val="9a3d01"/>
                </a:solidFill>
                <a:latin typeface="Century Schoolbook"/>
              </a:rPr>
              <a:t>.</a:t>
            </a:r>
            <a:r>
              <a:rPr b="0" lang="de-DE" sz="1800" spc="-1" strike="noStrike">
                <a:solidFill>
                  <a:srgbClr val="9a3d01"/>
                </a:solidFill>
                <a:latin typeface="Century Schoolbook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12"/>
          <p:cNvSpPr/>
          <p:nvPr/>
        </p:nvSpPr>
        <p:spPr>
          <a:xfrm>
            <a:off x="285840" y="5715000"/>
            <a:ext cx="45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a3d01"/>
                </a:solidFill>
                <a:latin typeface="Century Schoolbook"/>
              </a:rPr>
              <a:t>http://vodoleyforum.mybb.ru/viewtopic.php?id=120&amp;p=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13"/>
          <p:cNvSpPr/>
          <p:nvPr/>
        </p:nvSpPr>
        <p:spPr>
          <a:xfrm>
            <a:off x="4756680" y="592920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…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/46199?page=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14"/>
          <p:cNvSpPr/>
          <p:nvPr/>
        </p:nvSpPr>
        <p:spPr>
          <a:xfrm>
            <a:off x="4394880" y="5286240"/>
            <a:ext cx="39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entury Schoolbook"/>
              </a:rPr>
              <a:t>http://petripavel.tomsk.ru/opk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0" y="18878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ubrus.org/newspaper-spas-article/?id=3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Прямоугольник 2"/>
          <p:cNvSpPr/>
          <p:nvPr/>
        </p:nvSpPr>
        <p:spPr>
          <a:xfrm>
            <a:off x="642960" y="571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ttp://ru.wikipedia.org/wiki/%C2%E8%F2%FF%E7%FC_%ED%E0_%F0%E0%F1%EF%F3%F2%FC%E5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- картина Вит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extBox 2" descr=""/>
          <p:cNvPicPr/>
          <p:nvPr/>
        </p:nvPicPr>
        <p:blipFill>
          <a:blip r:embed="rId1"/>
          <a:stretch/>
        </p:blipFill>
        <p:spPr>
          <a:xfrm>
            <a:off x="115920" y="-6480"/>
            <a:ext cx="8674200" cy="299880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3" descr="20537_49716.jpg"/>
          <p:cNvPicPr/>
          <p:nvPr/>
        </p:nvPicPr>
        <p:blipFill>
          <a:blip r:embed="rId2"/>
          <a:stretch/>
        </p:blipFill>
        <p:spPr>
          <a:xfrm>
            <a:off x="2357280" y="3143160"/>
            <a:ext cx="46371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extBox 4" descr=""/>
          <p:cNvPicPr/>
          <p:nvPr/>
        </p:nvPicPr>
        <p:blipFill>
          <a:blip r:embed="rId1"/>
          <a:stretch/>
        </p:blipFill>
        <p:spPr>
          <a:xfrm>
            <a:off x="781200" y="5425920"/>
            <a:ext cx="6941880" cy="86544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6" descr="350px-19-v_2h_Vasnetsov.jpg"/>
          <p:cNvPicPr/>
          <p:nvPr/>
        </p:nvPicPr>
        <p:blipFill>
          <a:blip r:embed="rId2"/>
          <a:stretch/>
        </p:blipFill>
        <p:spPr>
          <a:xfrm>
            <a:off x="1000080" y="214200"/>
            <a:ext cx="714384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entury Schoolbook"/>
              </a:rPr>
              <a:t>     </a:t>
            </a:r>
            <a:r>
              <a:rPr b="1" lang="ru-RU" sz="3000" spc="-1" strike="noStrike">
                <a:solidFill>
                  <a:srgbClr val="002060"/>
                </a:solidFill>
                <a:latin typeface="Century Schoolbook"/>
              </a:rPr>
              <a:t>КАКИЕ СЛОВА ВЫ ПРЕДСТАВЛЯЕТЕ, КОГДА  СЛЫШИТЕ СЛОВО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13800" spc="-1" strike="noStrike">
                <a:solidFill>
                  <a:srgbClr val="ff0000"/>
                </a:solidFill>
                <a:latin typeface="Century Schoolbook"/>
              </a:rPr>
              <a:t>СВОБОДА?</a:t>
            </a:r>
            <a:br>
              <a:rPr sz="6600"/>
            </a:br>
            <a:r>
              <a:rPr b="0" lang="ru-RU" sz="6600" spc="-1" strike="noStrike">
                <a:solidFill>
                  <a:srgbClr val="ff0000"/>
                </a:solidFill>
                <a:latin typeface="Century Schoolbook"/>
              </a:rPr>
              <a:t>  </a:t>
            </a:r>
            <a:r>
              <a:rPr b="1" lang="ru-RU" sz="3000" spc="-1" strike="noStrike">
                <a:solidFill>
                  <a:srgbClr val="002060"/>
                </a:solidFill>
                <a:latin typeface="Century Schoolbook"/>
              </a:rPr>
              <a:t>НАПИШИТЕ ИХ.</a:t>
            </a:r>
            <a:r>
              <a:rPr b="1" i="1" lang="ru-RU" sz="6600" spc="-1" strike="noStrike">
                <a:solidFill>
                  <a:srgbClr val="002060"/>
                </a:solidFill>
                <a:latin typeface="Century Schoolbook"/>
              </a:rPr>
              <a:t> 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1" name="TextBox 2" descr=""/>
          <p:cNvPicPr/>
          <p:nvPr/>
        </p:nvPicPr>
        <p:blipFill>
          <a:blip r:embed="rId1"/>
          <a:stretch/>
        </p:blipFill>
        <p:spPr>
          <a:xfrm>
            <a:off x="500040" y="212760"/>
            <a:ext cx="7869240" cy="96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Солнце 12"/>
          <p:cNvSpPr/>
          <p:nvPr/>
        </p:nvSpPr>
        <p:spPr>
          <a:xfrm>
            <a:off x="1571760" y="1000080"/>
            <a:ext cx="5286240" cy="4643640"/>
          </a:xfrm>
          <a:prstGeom prst="sun">
            <a:avLst>
              <a:gd name="adj" fmla="val 25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1"/>
          <p:cNvSpPr/>
          <p:nvPr/>
        </p:nvSpPr>
        <p:spPr>
          <a:xfrm>
            <a:off x="1767960" y="928800"/>
            <a:ext cx="13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6143760" y="10000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ува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4"/>
          <p:cNvSpPr/>
          <p:nvPr/>
        </p:nvSpPr>
        <p:spPr>
          <a:xfrm>
            <a:off x="6929280" y="2928960"/>
            <a:ext cx="221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канику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5"/>
          <p:cNvSpPr/>
          <p:nvPr/>
        </p:nvSpPr>
        <p:spPr>
          <a:xfrm>
            <a:off x="6096600" y="5000760"/>
            <a:ext cx="14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пт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6"/>
          <p:cNvSpPr/>
          <p:nvPr/>
        </p:nvSpPr>
        <p:spPr>
          <a:xfrm>
            <a:off x="4011120" y="5857920"/>
            <a:ext cx="106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не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7"/>
          <p:cNvSpPr/>
          <p:nvPr/>
        </p:nvSpPr>
        <p:spPr>
          <a:xfrm>
            <a:off x="949320" y="542916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прос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8"/>
          <p:cNvSpPr/>
          <p:nvPr/>
        </p:nvSpPr>
        <p:spPr>
          <a:xfrm>
            <a:off x="118440" y="328608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ве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20"/>
          <p:cNvSpPr/>
          <p:nvPr/>
        </p:nvSpPr>
        <p:spPr>
          <a:xfrm>
            <a:off x="2714760" y="292896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entury Schoolbook"/>
              </a:rPr>
              <a:t>свобо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9"/>
          <p:cNvSpPr/>
          <p:nvPr/>
        </p:nvSpPr>
        <p:spPr>
          <a:xfrm>
            <a:off x="4143960" y="64296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361080" y="200016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счаст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1714680"/>
            <a:ext cx="91440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НАЙТИ ЗНАЧЕНИЕ   СЛОВА </a:t>
            </a: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«СВОБОДА» </a:t>
            </a: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ПО СЛОВАРЮ ОЖЕГОВА, </a:t>
            </a: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БОЛЬШОМУ ЭНЦИКЛОПЕДИЧЕСКОМУ СЛОВАРЮ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Picture 3" descr="C:\Documents and Settings\ксош№1.WINXPOLP\Рабочий стол\12.jpg"/>
          <p:cNvPicPr/>
          <p:nvPr/>
        </p:nvPicPr>
        <p:blipFill>
          <a:blip r:embed="rId1"/>
          <a:stretch/>
        </p:blipFill>
        <p:spPr>
          <a:xfrm>
            <a:off x="3857760" y="4071960"/>
            <a:ext cx="1785960" cy="2500200"/>
          </a:xfrm>
          <a:prstGeom prst="rect">
            <a:avLst/>
          </a:prstGeom>
          <a:ln w="0">
            <a:noFill/>
          </a:ln>
        </p:spPr>
      </p:pic>
      <p:pic>
        <p:nvPicPr>
          <p:cNvPr id="375" name="TextBox 3" descr=""/>
          <p:cNvPicPr/>
          <p:nvPr/>
        </p:nvPicPr>
        <p:blipFill>
          <a:blip r:embed="rId2"/>
          <a:stretch/>
        </p:blipFill>
        <p:spPr>
          <a:xfrm>
            <a:off x="165240" y="19080"/>
            <a:ext cx="8156520" cy="21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Содержимое 5"/>
          <p:cNvSpPr/>
          <p:nvPr/>
        </p:nvSpPr>
        <p:spPr>
          <a:xfrm>
            <a:off x="0" y="0"/>
            <a:ext cx="868680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entury Schoolbook"/>
              </a:rPr>
              <a:t>Свобода</a:t>
            </a: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 - это отсутствие ограничений и стеснений в чём-либо, возможность делать всё, что не наносит вреда другом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entury Schoolbook"/>
              </a:rPr>
              <a:t>Свобода</a:t>
            </a: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 -  это возможность проявления своей воли на основе осознания законов природы и обще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entury Schoolbook"/>
              </a:rPr>
              <a:t>Свобода</a:t>
            </a: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 – состояние того, кто не находится в заключении, в невол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"/>
          <p:cNvSpPr/>
          <p:nvPr/>
        </p:nvSpPr>
        <p:spPr>
          <a:xfrm>
            <a:off x="4823280" y="435780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олковый словарь Ожег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4"/>
          <p:cNvSpPr/>
          <p:nvPr/>
        </p:nvSpPr>
        <p:spPr>
          <a:xfrm>
            <a:off x="0" y="5143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Свобода -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Century Schoolbook"/>
              </a:rPr>
              <a:t>способность человека действовать в соответствии со своими интересами и целями, осуществлять выбор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5"/>
          <p:cNvSpPr/>
          <p:nvPr/>
        </p:nvSpPr>
        <p:spPr>
          <a:xfrm>
            <a:off x="3735000" y="6488280"/>
            <a:ext cx="45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Большой Энциклопедический сло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9680" y="57132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ОБСУЖДЕНИЕ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71320" y="10000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Century Schoolbook"/>
              </a:rPr>
              <a:t>Что значит быть свободным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Century Schoolbook"/>
              </a:rPr>
              <a:t>Для чего нужна свобода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Century Schoolbook"/>
              </a:rPr>
              <a:t>Всегда ли хорошо, когда у тебя есть свобода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5:33:57Z</dcterms:created>
  <dc:creator>ксош№1</dc:creator>
  <dc:description/>
  <dc:language>en-US</dc:language>
  <cp:lastModifiedBy>Admin</cp:lastModifiedBy>
  <dcterms:modified xsi:type="dcterms:W3CDTF">2012-02-24T13:50:52Z</dcterms:modified>
  <cp:revision>132</cp:revision>
  <dc:subject/>
  <dc:title>Свобода и ответственность.</dc:title>
</cp:coreProperties>
</file>