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34.jpeg" ContentType="image/jpeg"/>
  <Override PartName="/ppt/media/image15.gif" ContentType="image/gif"/>
  <Override PartName="/ppt/media/image28.jpeg" ContentType="image/jpeg"/>
  <Override PartName="/ppt/media/image8.png" ContentType="image/png"/>
  <Override PartName="/ppt/media/image24.jpeg" ContentType="image/jpeg"/>
  <Override PartName="/ppt/media/image30.jpeg" ContentType="image/jpeg"/>
  <Override PartName="/ppt/media/image13.gif" ContentType="image/gif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31.jpeg" ContentType="image/jpeg"/>
  <Override PartName="/ppt/media/image14.gif" ContentType="image/gif"/>
  <Override PartName="/ppt/media/image16.gif" ContentType="image/gif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1A15-D2D2-44BF-8F25-5F90CF631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6213-78F6-4336-8818-AE7593DFE9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25EE-92FD-435E-9DBB-B8B668FC2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422-E466-48E6-952E-176E02E3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C1C-B195-4491-908D-D2D43F68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C19-C483-4E3E-96A7-8532E39E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3F1-7DA5-4F1C-BF04-1622A415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673-811D-427E-A57A-81D3BDDA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D87-4083-4C87-8E6D-DADD3A13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80C-2659-44BD-94CF-C1ECF068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E31-94AB-4A4E-8B47-76C90E53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1DF-ED04-4EB9-8F8E-8C0812BE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33D-505F-4BA7-A80F-146D5A04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DDC-2E83-4E13-A8A4-C1E49004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4F7-9768-4CB4-A542-DE086D2B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E687-2F52-4CB6-8CC2-B1CBCC9939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jpeg"/><Relationship Id="rId7" Type="http://schemas.openxmlformats.org/officeDocument/2006/relationships/hyperlink" Target="http://media.bestofmicro.com/M/O/248352/original/car_tire_mouse.jpg" TargetMode="External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067280" y="1844640"/>
            <a:ext cx="1295280" cy="28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4067280" y="692280"/>
            <a:ext cx="1295280" cy="115092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4356000" y="2708280"/>
            <a:ext cx="719280" cy="7207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 rot="10800000">
            <a:off x="3419640" y="4653000"/>
            <a:ext cx="2590560" cy="792000"/>
          </a:xfrm>
          <a:custGeom>
            <a:avLst/>
            <a:gdLst>
              <a:gd name="textAreaLeft" fmla="*/ 539280 w 2590560"/>
              <a:gd name="textAreaRight" fmla="*/ 2051280 w 2590560"/>
              <a:gd name="textAreaTop" fmla="*/ 164880 h 792000"/>
              <a:gd name="textAreaBottom" fmla="*/ 627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6" y="21600"/>
                </a:lnTo>
                <a:lnTo>
                  <a:pt x="16204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9999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4427640" y="1268280"/>
            <a:ext cx="57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442764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4572000" y="3789360"/>
            <a:ext cx="2728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4500720" y="285264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900000" y="692280"/>
            <a:ext cx="22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doni MT Black"/>
              </a:rPr>
              <a:t>5 </a:t>
            </a:r>
            <a:r>
              <a:rPr b="1" lang="el-GR" sz="5400" spc="-1" strike="noStrike">
                <a:solidFill>
                  <a:srgbClr val="000000"/>
                </a:solidFill>
                <a:latin typeface="Bodoni MT Black"/>
                <a:ea typeface="Arial"/>
              </a:rPr>
              <a:t>·</a:t>
            </a:r>
            <a:r>
              <a:rPr b="1" lang="ru-RU" sz="5400" spc="-1" strike="noStrike">
                <a:solidFill>
                  <a:srgbClr val="000000"/>
                </a:solidFill>
                <a:latin typeface="Bodoni MT Black"/>
                <a:ea typeface="Arial"/>
              </a:rPr>
              <a:t>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476360" y="220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900000" y="4581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doni MT Black"/>
              </a:rPr>
              <a:t>6 </a:t>
            </a:r>
            <a:r>
              <a:rPr b="1" lang="el-GR" sz="5400" spc="-1" strike="noStrike">
                <a:solidFill>
                  <a:srgbClr val="000000"/>
                </a:solidFill>
                <a:latin typeface="Bodoni MT Black"/>
              </a:rPr>
              <a:t>·</a:t>
            </a:r>
            <a:r>
              <a:rPr b="1" lang="ru-RU" sz="5400" spc="-1" strike="noStrike">
                <a:solidFill>
                  <a:srgbClr val="000000"/>
                </a:solidFill>
                <a:latin typeface="Bodoni MT Black"/>
              </a:rPr>
              <a:t>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439280" y="3284640"/>
            <a:ext cx="4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9"/>
          <p:cNvSpPr/>
          <p:nvPr/>
        </p:nvSpPr>
        <p:spPr>
          <a:xfrm flipH="1">
            <a:off x="1461600" y="3105000"/>
            <a:ext cx="1814760" cy="18799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2303280" y="836280"/>
            <a:ext cx="973080" cy="22035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3211560" y="3040200"/>
            <a:ext cx="128520" cy="12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470400" y="2716200"/>
            <a:ext cx="4316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619200" y="642960"/>
            <a:ext cx="5119560" cy="4989600"/>
          </a:xfrm>
          <a:prstGeom prst="ellipse">
            <a:avLst/>
          </a:prstGeom>
          <a:noFill/>
          <a:ln w="7632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7093080" y="314172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397160" y="189000"/>
            <a:ext cx="5745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2239920" y="706320"/>
            <a:ext cx="1414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803920" y="333360"/>
            <a:ext cx="30891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т. О –называется </a:t>
            </a:r>
            <a:r>
              <a:rPr b="1" lang="ru-RU" sz="2200" spc="-1" strike="noStrike">
                <a:solidFill>
                  <a:srgbClr val="7030a0"/>
                </a:solidFill>
                <a:latin typeface="Century Schoolbook"/>
              </a:rPr>
              <a:t>центром окруж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814320" y="4984920"/>
            <a:ext cx="5032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9"/>
          <p:cNvSpPr/>
          <p:nvPr/>
        </p:nvSpPr>
        <p:spPr>
          <a:xfrm>
            <a:off x="1397160" y="4919760"/>
            <a:ext cx="129960" cy="12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6062760" y="1484280"/>
            <a:ext cx="28512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Отметим на окружности две точки А и 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5997600" y="3494160"/>
            <a:ext cx="278604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Отрезки ОА и ОМ – называются </a:t>
            </a:r>
            <a:r>
              <a:rPr b="1" lang="ru-RU" sz="2200" spc="-1" strike="noStrike">
                <a:solidFill>
                  <a:srgbClr val="7030a0"/>
                </a:solidFill>
                <a:latin typeface="Century Schoolbook"/>
              </a:rPr>
              <a:t>радиусами окружности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230040" y="5502240"/>
            <a:ext cx="8007480" cy="1088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entury Schoolbook"/>
              </a:rPr>
              <a:t>Определ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Отрезок, соединяющий  центр окружности с точкой, лежащей на окружности, называется </a:t>
            </a:r>
            <a:r>
              <a:rPr b="1" lang="ru-RU" sz="2200" spc="-1" strike="noStrike">
                <a:solidFill>
                  <a:srgbClr val="7030a0"/>
                </a:solidFill>
                <a:latin typeface="Century Schoolbook"/>
              </a:rPr>
              <a:t>радиусом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6256440" y="2585880"/>
            <a:ext cx="28875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оединим точки О и М, О и 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1646-4BBD-4AFD-BD25-A73D5B1E16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4427640" y="1916280"/>
            <a:ext cx="3095640" cy="30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940360" y="3357720"/>
            <a:ext cx="122400" cy="1220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6012000" y="3429000"/>
            <a:ext cx="15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 flipV="1">
            <a:off x="5997600" y="1989000"/>
            <a:ext cx="446040" cy="144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917960" y="3429000"/>
            <a:ext cx="1094040" cy="110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6012000" y="3429000"/>
            <a:ext cx="72072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4788000" y="2492280"/>
            <a:ext cx="122400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1"/>
          <p:cNvSpPr/>
          <p:nvPr/>
        </p:nvSpPr>
        <p:spPr>
          <a:xfrm>
            <a:off x="6659640" y="4724280"/>
            <a:ext cx="122040" cy="12240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7451640" y="3357720"/>
            <a:ext cx="122400" cy="1220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6372360" y="1916280"/>
            <a:ext cx="122040" cy="1220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4716360" y="2421000"/>
            <a:ext cx="122400" cy="1220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4859280" y="4508640"/>
            <a:ext cx="122400" cy="1220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226920" y="285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7733880" y="31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6433560" y="126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69433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4441680" y="46530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421092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4500720" y="3429000"/>
            <a:ext cx="151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4"/>
          <p:cNvSpPr/>
          <p:nvPr/>
        </p:nvSpPr>
        <p:spPr>
          <a:xfrm>
            <a:off x="4427640" y="3357720"/>
            <a:ext cx="135000" cy="1346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0"/>
          <p:cNvSpPr/>
          <p:nvPr/>
        </p:nvSpPr>
        <p:spPr>
          <a:xfrm>
            <a:off x="3995640" y="3141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V="1">
            <a:off x="6012000" y="2492280"/>
            <a:ext cx="1152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7093080" y="2421000"/>
            <a:ext cx="122040" cy="12204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8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4000320" cy="3827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2"/>
          <p:cNvSpPr/>
          <p:nvPr/>
        </p:nvSpPr>
        <p:spPr>
          <a:xfrm>
            <a:off x="2124000" y="1125360"/>
            <a:ext cx="4753080" cy="453564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4500720" y="3357720"/>
            <a:ext cx="7128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4284720" y="2708280"/>
            <a:ext cx="21600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cxnSp>
        <p:nvCxnSpPr>
          <p:cNvPr id="161" name="AutoShape 14"/>
          <p:cNvCxnSpPr>
            <a:stCxn id="158" idx="1"/>
            <a:endCxn id="158" idx="5"/>
          </p:cNvCxnSpPr>
          <p:nvPr/>
        </p:nvCxnSpPr>
        <p:spPr>
          <a:xfrm>
            <a:off x="2819160" y="1760040"/>
            <a:ext cx="3362760" cy="32662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62" name="AutoShape 15"/>
          <p:cNvCxnSpPr>
            <a:stCxn id="158" idx="0"/>
            <a:endCxn id="158" idx="4"/>
          </p:cNvCxnSpPr>
          <p:nvPr/>
        </p:nvCxnSpPr>
        <p:spPr>
          <a:xfrm>
            <a:off x="4500360" y="1096560"/>
            <a:ext cx="1080" cy="459324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63" name="AutoShape 16"/>
          <p:cNvCxnSpPr>
            <a:stCxn id="158" idx="2"/>
            <a:endCxn id="158" idx="6"/>
          </p:cNvCxnSpPr>
          <p:nvPr/>
        </p:nvCxnSpPr>
        <p:spPr>
          <a:xfrm>
            <a:off x="2095200" y="3393720"/>
            <a:ext cx="48106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64" name="WordArt 17"/>
          <p:cNvSpPr txBox="1"/>
          <p:nvPr/>
        </p:nvSpPr>
        <p:spPr>
          <a:xfrm>
            <a:off x="3708360" y="3789360"/>
            <a:ext cx="1819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иаме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18"/>
          <p:cNvSpPr txBox="1"/>
          <p:nvPr/>
        </p:nvSpPr>
        <p:spPr>
          <a:xfrm>
            <a:off x="7380360" y="2060640"/>
            <a:ext cx="100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00005c"/>
                  </a:outerShdw>
                </a:effectLst>
                <a:latin typeface="Arial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00005c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WordArt 19"/>
          <p:cNvSpPr txBox="1"/>
          <p:nvPr/>
        </p:nvSpPr>
        <p:spPr>
          <a:xfrm>
            <a:off x="7667640" y="378936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арена"/>
          <p:cNvPicPr/>
          <p:nvPr/>
        </p:nvPicPr>
        <p:blipFill>
          <a:blip r:embed="rId1"/>
          <a:stretch/>
        </p:blipFill>
        <p:spPr>
          <a:xfrm>
            <a:off x="1547640" y="3357720"/>
            <a:ext cx="2880000" cy="21603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68" name="Picture 5" descr="арена6"/>
          <p:cNvPicPr/>
          <p:nvPr/>
        </p:nvPicPr>
        <p:blipFill>
          <a:blip r:embed="rId2"/>
          <a:stretch/>
        </p:blipFill>
        <p:spPr>
          <a:xfrm>
            <a:off x="5003640" y="3500280"/>
            <a:ext cx="3168720" cy="18828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69" name="Picture 7" descr="цирк 2"/>
          <p:cNvPicPr/>
          <p:nvPr/>
        </p:nvPicPr>
        <p:blipFill>
          <a:blip r:embed="rId3"/>
          <a:stretch/>
        </p:blipFill>
        <p:spPr>
          <a:xfrm>
            <a:off x="3276720" y="836640"/>
            <a:ext cx="3024000" cy="2270160"/>
          </a:xfrm>
          <a:prstGeom prst="rect">
            <a:avLst/>
          </a:prstGeom>
          <a:ln w="2844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8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525240" y="1628640"/>
            <a:ext cx="816048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Bookman Old Style"/>
              </a:rPr>
              <a:t>У круга есть одна подруг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Bookman Old Style"/>
              </a:rPr>
              <a:t>Знакома всем её наружнос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Bookman Old Style"/>
              </a:rPr>
              <a:t>Она идёт по краю кр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Bookman Old Style"/>
              </a:rPr>
              <a:t>И называется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5"/>
          <p:cNvSpPr txBox="1"/>
          <p:nvPr/>
        </p:nvSpPr>
        <p:spPr>
          <a:xfrm>
            <a:off x="4356000" y="371628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Bookman Old Style"/>
              </a:rPr>
              <a:t>окружность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349640" y="1700280"/>
            <a:ext cx="694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От окружности до цен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Мы начертим длинный 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Знает каждый третьекласс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Это точно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3995640" y="3284640"/>
            <a:ext cx="230364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0066"/>
                </a:solidFill>
                <a:latin typeface="Bookman Old Style"/>
              </a:rPr>
              <a:t>радиус!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ff0066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4427640" y="3860640"/>
            <a:ext cx="2952720" cy="6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0066"/>
                </a:solidFill>
                <a:latin typeface="Bookman Old Style"/>
              </a:rPr>
              <a:t>Диаметр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ff0066"/>
              </a:solidFill>
              <a:latin typeface="Bookman Old Style"/>
              <a:ea typeface="Bookman Old Style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332720" y="1700280"/>
            <a:ext cx="620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Отрезок, который про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через центр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и соединяет две то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fig7"/>
          <p:cNvPicPr/>
          <p:nvPr/>
        </p:nvPicPr>
        <p:blipFill>
          <a:blip r:embed="rId1"/>
          <a:stretch/>
        </p:blipFill>
        <p:spPr>
          <a:xfrm>
            <a:off x="1928880" y="214200"/>
            <a:ext cx="5403960" cy="6337440"/>
          </a:xfrm>
          <a:prstGeom prst="rect">
            <a:avLst/>
          </a:prstGeom>
          <a:ln w="0">
            <a:noFill/>
          </a:ln>
        </p:spPr>
      </p:pic>
      <p:sp>
        <p:nvSpPr>
          <p:cNvPr id="177" name="Овал 2"/>
          <p:cNvSpPr/>
          <p:nvPr/>
        </p:nvSpPr>
        <p:spPr>
          <a:xfrm>
            <a:off x="3286080" y="214200"/>
            <a:ext cx="914400" cy="9144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3"/>
          <p:cNvSpPr/>
          <p:nvPr/>
        </p:nvSpPr>
        <p:spPr>
          <a:xfrm>
            <a:off x="2071800" y="1500120"/>
            <a:ext cx="714240" cy="700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4"/>
          <p:cNvSpPr/>
          <p:nvPr/>
        </p:nvSpPr>
        <p:spPr>
          <a:xfrm>
            <a:off x="2857680" y="2714760"/>
            <a:ext cx="914400" cy="9144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5"/>
          <p:cNvSpPr/>
          <p:nvPr/>
        </p:nvSpPr>
        <p:spPr>
          <a:xfrm>
            <a:off x="1714680" y="4000680"/>
            <a:ext cx="914400" cy="91440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6"/>
          <p:cNvSpPr/>
          <p:nvPr/>
        </p:nvSpPr>
        <p:spPr>
          <a:xfrm>
            <a:off x="3643200" y="1428840"/>
            <a:ext cx="714600" cy="6998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fig7"/>
          <p:cNvPicPr/>
          <p:nvPr/>
        </p:nvPicPr>
        <p:blipFill>
          <a:blip r:embed="rId1"/>
          <a:stretch/>
        </p:blipFill>
        <p:spPr>
          <a:xfrm>
            <a:off x="1214280" y="285840"/>
            <a:ext cx="6143760" cy="6000840"/>
          </a:xfrm>
          <a:prstGeom prst="rect">
            <a:avLst/>
          </a:prstGeom>
          <a:ln w="0">
            <a:noFill/>
          </a:ln>
        </p:spPr>
      </p:pic>
      <p:sp>
        <p:nvSpPr>
          <p:cNvPr id="184" name="Овал 4"/>
          <p:cNvSpPr/>
          <p:nvPr/>
        </p:nvSpPr>
        <p:spPr>
          <a:xfrm>
            <a:off x="2714760" y="28584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5"/>
          <p:cNvSpPr/>
          <p:nvPr/>
        </p:nvSpPr>
        <p:spPr>
          <a:xfrm>
            <a:off x="1785960" y="642960"/>
            <a:ext cx="914400" cy="914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6"/>
          <p:cNvSpPr/>
          <p:nvPr/>
        </p:nvSpPr>
        <p:spPr>
          <a:xfrm>
            <a:off x="1285920" y="135720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7"/>
          <p:cNvSpPr/>
          <p:nvPr/>
        </p:nvSpPr>
        <p:spPr>
          <a:xfrm>
            <a:off x="2214720" y="164304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8"/>
          <p:cNvSpPr/>
          <p:nvPr/>
        </p:nvSpPr>
        <p:spPr>
          <a:xfrm>
            <a:off x="1438200" y="150984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9"/>
          <p:cNvSpPr/>
          <p:nvPr/>
        </p:nvSpPr>
        <p:spPr>
          <a:xfrm rot="1776000">
            <a:off x="1701360" y="568440"/>
            <a:ext cx="1120680" cy="1006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0"/>
          <p:cNvSpPr/>
          <p:nvPr/>
        </p:nvSpPr>
        <p:spPr>
          <a:xfrm rot="1776000">
            <a:off x="1390320" y="2068560"/>
            <a:ext cx="1119240" cy="1006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11"/>
          <p:cNvSpPr/>
          <p:nvPr/>
        </p:nvSpPr>
        <p:spPr>
          <a:xfrm rot="1776000">
            <a:off x="2104560" y="2639880"/>
            <a:ext cx="1119240" cy="1006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12"/>
          <p:cNvSpPr/>
          <p:nvPr/>
        </p:nvSpPr>
        <p:spPr>
          <a:xfrm rot="1776000">
            <a:off x="1390320" y="2997360"/>
            <a:ext cx="1119240" cy="1006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13"/>
          <p:cNvSpPr/>
          <p:nvPr/>
        </p:nvSpPr>
        <p:spPr>
          <a:xfrm rot="1776000">
            <a:off x="1961640" y="3425760"/>
            <a:ext cx="1119240" cy="1006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4"/>
          <p:cNvSpPr/>
          <p:nvPr/>
        </p:nvSpPr>
        <p:spPr>
          <a:xfrm rot="1776000">
            <a:off x="1103400" y="3868560"/>
            <a:ext cx="1790640" cy="1121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3"/>
          <p:cNvSpPr/>
          <p:nvPr/>
        </p:nvSpPr>
        <p:spPr>
          <a:xfrm>
            <a:off x="4140360" y="4869000"/>
            <a:ext cx="71280" cy="1425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"/>
          <p:cNvSpPr/>
          <p:nvPr/>
        </p:nvSpPr>
        <p:spPr>
          <a:xfrm>
            <a:off x="684360" y="1052640"/>
            <a:ext cx="2004840" cy="194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5"/>
          <p:cNvCxnSpPr>
            <a:stCxn id="198" idx="6"/>
            <a:endCxn id="196" idx="6"/>
          </p:cNvCxnSpPr>
          <p:nvPr/>
        </p:nvCxnSpPr>
        <p:spPr>
          <a:xfrm>
            <a:off x="1690200" y="1987200"/>
            <a:ext cx="1027800" cy="37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9" name="WordArt 8"/>
          <p:cNvSpPr txBox="1"/>
          <p:nvPr/>
        </p:nvSpPr>
        <p:spPr>
          <a:xfrm>
            <a:off x="5508720" y="5877000"/>
            <a:ext cx="15904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Bookman Old Style"/>
              </a:rPr>
              <a:t>R=3с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2700360" y="3500280"/>
            <a:ext cx="3006720" cy="2808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2"/>
          <p:cNvCxnSpPr>
            <a:endCxn id="200" idx="6"/>
          </p:cNvCxnSpPr>
          <p:nvPr/>
        </p:nvCxnSpPr>
        <p:spPr>
          <a:xfrm flipV="1">
            <a:off x="4235040" y="4905000"/>
            <a:ext cx="1500840" cy="208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202" name="Oval 14"/>
          <p:cNvSpPr/>
          <p:nvPr/>
        </p:nvSpPr>
        <p:spPr>
          <a:xfrm>
            <a:off x="5867280" y="765000"/>
            <a:ext cx="2360880" cy="23050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5"/>
          <p:cNvCxnSpPr>
            <a:endCxn id="202" idx="6"/>
          </p:cNvCxnSpPr>
          <p:nvPr/>
        </p:nvCxnSpPr>
        <p:spPr>
          <a:xfrm flipV="1">
            <a:off x="7078680" y="1917360"/>
            <a:ext cx="1178640" cy="180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8" name="AutoShape 16"/>
          <p:cNvSpPr/>
          <p:nvPr/>
        </p:nvSpPr>
        <p:spPr>
          <a:xfrm>
            <a:off x="1619280" y="1916280"/>
            <a:ext cx="71280" cy="1425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7020000" y="1844640"/>
            <a:ext cx="7128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18"/>
          <p:cNvSpPr txBox="1"/>
          <p:nvPr/>
        </p:nvSpPr>
        <p:spPr>
          <a:xfrm>
            <a:off x="7020000" y="3284640"/>
            <a:ext cx="15904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Bookman Old Style"/>
              </a:rPr>
              <a:t>R=2с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06" name="WordArt 19"/>
          <p:cNvSpPr txBox="1"/>
          <p:nvPr/>
        </p:nvSpPr>
        <p:spPr>
          <a:xfrm>
            <a:off x="611280" y="3213000"/>
            <a:ext cx="15904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Bookman Old Style"/>
              </a:rPr>
              <a:t>R=1с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07" name="WordArt 20"/>
          <p:cNvSpPr txBox="1"/>
          <p:nvPr/>
        </p:nvSpPr>
        <p:spPr>
          <a:xfrm>
            <a:off x="468360" y="549360"/>
            <a:ext cx="31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208" name="WordArt 21"/>
          <p:cNvSpPr txBox="1"/>
          <p:nvPr/>
        </p:nvSpPr>
        <p:spPr>
          <a:xfrm>
            <a:off x="5435640" y="692280"/>
            <a:ext cx="31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209" name="WordArt 22"/>
          <p:cNvSpPr txBox="1"/>
          <p:nvPr/>
        </p:nvSpPr>
        <p:spPr>
          <a:xfrm>
            <a:off x="4067280" y="2708280"/>
            <a:ext cx="31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beeline-plakat_circul1.jpg"/>
          <p:cNvPicPr/>
          <p:nvPr/>
        </p:nvPicPr>
        <p:blipFill>
          <a:blip r:embed="rId1"/>
          <a:stretch/>
        </p:blipFill>
        <p:spPr>
          <a:xfrm>
            <a:off x="6580080" y="123840"/>
            <a:ext cx="2403720" cy="3240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360360" y="254160"/>
            <a:ext cx="589608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2946a"/>
                </a:solidFill>
                <a:latin typeface="Century Schoolbook"/>
              </a:rPr>
              <a:t>Мой циркач, циркач лихой</a:t>
            </a:r>
            <a:br>
              <a:rPr sz="2500"/>
            </a:br>
            <a:r>
              <a:rPr b="1" lang="ru-RU" sz="2500" spc="-1" strike="noStrike">
                <a:solidFill>
                  <a:srgbClr val="32946a"/>
                </a:solidFill>
                <a:latin typeface="Century Schoolbook"/>
              </a:rPr>
              <a:t>Чертит круг одной ногой,</a:t>
            </a:r>
            <a:br>
              <a:rPr sz="2500"/>
            </a:br>
            <a:r>
              <a:rPr b="1" lang="ru-RU" sz="2500" spc="-1" strike="noStrike">
                <a:solidFill>
                  <a:srgbClr val="32946a"/>
                </a:solidFill>
                <a:latin typeface="Century Schoolbook"/>
              </a:rPr>
              <a:t>А другой проткнул бумагу,</a:t>
            </a:r>
            <a:br>
              <a:rPr sz="2500"/>
            </a:br>
            <a:r>
              <a:rPr b="1" lang="ru-RU" sz="2500" spc="-1" strike="noStrike">
                <a:solidFill>
                  <a:srgbClr val="32946a"/>
                </a:solidFill>
                <a:latin typeface="Century Schoolbook"/>
              </a:rPr>
              <a:t>Уцепился и ни шаг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4488480" y="1808280"/>
            <a:ext cx="18352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(Циркуль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425520" y="2846520"/>
            <a:ext cx="7062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CC88-7CB9-4AAA-B615-3E230A9210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571680" y="2857680"/>
            <a:ext cx="3929040" cy="3535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930600" y="134136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Сегодня на уроке я понял (а)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643680" y="2708280"/>
            <a:ext cx="82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Самым интересным для меня был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528200" y="4243320"/>
            <a:ext cx="42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man Old Style"/>
              </a:rPr>
              <a:t>Мне бы хоте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160"/>
                            </p:stCondLst>
                            <p:childTnLst>
                              <p:par>
                                <p:cTn id="6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28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14920" cy="3681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737240" y="0"/>
            <a:ext cx="4406760" cy="350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69" name="TextBox 6"/>
          <p:cNvSpPr/>
          <p:nvPr/>
        </p:nvSpPr>
        <p:spPr>
          <a:xfrm>
            <a:off x="785880" y="2858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ТАЛ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0" y="3143160"/>
            <a:ext cx="4403880" cy="371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4429080" y="3143160"/>
            <a:ext cx="4714920" cy="372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1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3"/>
          <a:stretch/>
        </p:blipFill>
        <p:spPr>
          <a:xfrm>
            <a:off x="4500720" y="3571920"/>
            <a:ext cx="4643280" cy="32148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"/>
          <p:cNvPicPr/>
          <p:nvPr/>
        </p:nvPicPr>
        <p:blipFill>
          <a:blip r:embed="rId4"/>
          <a:stretch/>
        </p:blipFill>
        <p:spPr>
          <a:xfrm>
            <a:off x="142920" y="3714840"/>
            <a:ext cx="4000320" cy="2657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1143000" y="1429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о стек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1502640" y="63579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медиц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725720" y="307188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ля распилки брё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4572000" y="3786120"/>
            <a:ext cx="19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шаг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Циркуль – это чертежный инструмент. С ним нужно работать осторожно. На одном конце у него — игла, на другом — карандаш. Пользоваться им надо осторожно, чтобы не уколоться и не поломать грифель карандаша. Нельзя подносить циркуль иглой к лицу и нельзя передавать циркуль соседу “иглой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Циркуль – это чертежный инструмент. С ним нужно работать осторожно. На одном конце у него — игла, на другом — карандаш. Пользоваться им надо осторожно, чтобы не уколоться и не поломать грифель карандаша. Нельзя подносить циркуль иглой к лицу и нельзя передавать циркуль соседу “иглой вперед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2"/>
          <p:cNvSpPr/>
          <p:nvPr/>
        </p:nvSpPr>
        <p:spPr>
          <a:xfrm>
            <a:off x="2124000" y="1125360"/>
            <a:ext cx="4753080" cy="453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4500720" y="3357720"/>
            <a:ext cx="7128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4284720" y="2708280"/>
            <a:ext cx="21600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4"/>
          <p:cNvSpPr/>
          <p:nvPr/>
        </p:nvSpPr>
        <p:spPr>
          <a:xfrm>
            <a:off x="2124000" y="1125360"/>
            <a:ext cx="4753080" cy="453564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4500720" y="3357720"/>
            <a:ext cx="7128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4284720" y="2708280"/>
            <a:ext cx="21600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2124000" y="1125360"/>
            <a:ext cx="4753080" cy="453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5"/>
          <p:cNvSpPr txBox="1"/>
          <p:nvPr/>
        </p:nvSpPr>
        <p:spPr>
          <a:xfrm>
            <a:off x="4788000" y="2924280"/>
            <a:ext cx="129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WordArt 16"/>
          <p:cNvSpPr txBox="1"/>
          <p:nvPr/>
        </p:nvSpPr>
        <p:spPr>
          <a:xfrm>
            <a:off x="6948360" y="1484280"/>
            <a:ext cx="7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17"/>
          <p:cNvSpPr txBox="1"/>
          <p:nvPr/>
        </p:nvSpPr>
        <p:spPr>
          <a:xfrm>
            <a:off x="7308720" y="2924280"/>
            <a:ext cx="360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/>
          <p:cNvSpPr/>
          <p:nvPr/>
        </p:nvSpPr>
        <p:spPr>
          <a:xfrm>
            <a:off x="360360" y="189000"/>
            <a:ext cx="8553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акие знакомые вам предметы имеют форму круга, а какие форму окруж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D:\картинки\ANIMATED\J0205397.GIF"/>
          <p:cNvPicPr/>
          <p:nvPr/>
        </p:nvPicPr>
        <p:blipFill>
          <a:blip r:embed="rId1"/>
          <a:stretch/>
        </p:blipFill>
        <p:spPr>
          <a:xfrm>
            <a:off x="1851120" y="5178600"/>
            <a:ext cx="1163520" cy="1161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:\картинки\ANIMATED\J0189212.GIF"/>
          <p:cNvPicPr/>
          <p:nvPr/>
        </p:nvPicPr>
        <p:blipFill>
          <a:blip r:embed="rId2"/>
          <a:stretch/>
        </p:blipFill>
        <p:spPr>
          <a:xfrm>
            <a:off x="5867280" y="5243400"/>
            <a:ext cx="1714680" cy="124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D:\картинки\ANIMATED\J0189226.GIF"/>
          <p:cNvPicPr/>
          <p:nvPr/>
        </p:nvPicPr>
        <p:blipFill>
          <a:blip r:embed="rId3"/>
          <a:stretch/>
        </p:blipFill>
        <p:spPr>
          <a:xfrm>
            <a:off x="4830840" y="4530600"/>
            <a:ext cx="1166760" cy="870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D:\картинки\ANIMATED\J0213491.GIF"/>
          <p:cNvPicPr/>
          <p:nvPr/>
        </p:nvPicPr>
        <p:blipFill>
          <a:blip r:embed="rId4"/>
          <a:stretch/>
        </p:blipFill>
        <p:spPr>
          <a:xfrm>
            <a:off x="6256440" y="226224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D:\картинки\ANIMATED\J0213494.GIF"/>
          <p:cNvPicPr/>
          <p:nvPr/>
        </p:nvPicPr>
        <p:blipFill>
          <a:blip r:embed="rId5"/>
          <a:stretch/>
        </p:blipFill>
        <p:spPr>
          <a:xfrm>
            <a:off x="6516720" y="3753000"/>
            <a:ext cx="901800" cy="118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182676"/>
          <p:cNvPicPr/>
          <p:nvPr/>
        </p:nvPicPr>
        <p:blipFill>
          <a:blip r:embed="rId6"/>
          <a:stretch/>
        </p:blipFill>
        <p:spPr>
          <a:xfrm>
            <a:off x="4572000" y="2003400"/>
            <a:ext cx="1166760" cy="1036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Картинка 30 из 9105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679400"/>
            <a:ext cx="1944720" cy="152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http://im5-tub-ru.yandex.net/i?id=100984085-50-72"/>
          <p:cNvPicPr/>
          <p:nvPr/>
        </p:nvPicPr>
        <p:blipFill>
          <a:blip r:embed="rId9"/>
          <a:stretch/>
        </p:blipFill>
        <p:spPr>
          <a:xfrm>
            <a:off x="295200" y="3298680"/>
            <a:ext cx="1295640" cy="96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http://im2-tub-ru.yandex.net/i?id=7614270-46-72"/>
          <p:cNvPicPr/>
          <p:nvPr/>
        </p:nvPicPr>
        <p:blipFill>
          <a:blip r:embed="rId10"/>
          <a:stretch/>
        </p:blipFill>
        <p:spPr>
          <a:xfrm>
            <a:off x="2368440" y="1808280"/>
            <a:ext cx="1552680" cy="123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http://im8-tub-ru.yandex.net/i?id=141721443-19-72"/>
          <p:cNvPicPr/>
          <p:nvPr/>
        </p:nvPicPr>
        <p:blipFill>
          <a:blip r:embed="rId11"/>
          <a:stretch/>
        </p:blipFill>
        <p:spPr>
          <a:xfrm>
            <a:off x="2109960" y="3170160"/>
            <a:ext cx="1166760" cy="129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http://im2-tub-ru.yandex.net/i?id=401669781-63-72"/>
          <p:cNvPicPr/>
          <p:nvPr/>
        </p:nvPicPr>
        <p:blipFill>
          <a:blip r:embed="rId12"/>
          <a:stretch/>
        </p:blipFill>
        <p:spPr>
          <a:xfrm>
            <a:off x="3600360" y="3105000"/>
            <a:ext cx="1295640" cy="993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http://im3-tub-ru.yandex.net/i?id=377709825-46-72"/>
          <p:cNvPicPr/>
          <p:nvPr/>
        </p:nvPicPr>
        <p:blipFill>
          <a:blip r:embed="rId13"/>
          <a:stretch/>
        </p:blipFill>
        <p:spPr>
          <a:xfrm>
            <a:off x="5091120" y="310500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http://im0-tub-ru.yandex.net/i?id=230731542-43-72"/>
          <p:cNvPicPr/>
          <p:nvPr/>
        </p:nvPicPr>
        <p:blipFill>
          <a:blip r:embed="rId14"/>
          <a:stretch/>
        </p:blipFill>
        <p:spPr>
          <a:xfrm>
            <a:off x="7616880" y="2327400"/>
            <a:ext cx="129708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5" descr="http://im0-tub-ru.yandex.net/i?id=353271922-34-72"/>
          <p:cNvPicPr/>
          <p:nvPr/>
        </p:nvPicPr>
        <p:blipFill>
          <a:blip r:embed="rId15"/>
          <a:stretch/>
        </p:blipFill>
        <p:spPr>
          <a:xfrm>
            <a:off x="3535200" y="4141800"/>
            <a:ext cx="906480" cy="1001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http://im8-tub-ru.yandex.net/i?id=370317205-33-72"/>
          <p:cNvPicPr/>
          <p:nvPr/>
        </p:nvPicPr>
        <p:blipFill>
          <a:blip r:embed="rId16"/>
          <a:stretch/>
        </p:blipFill>
        <p:spPr>
          <a:xfrm>
            <a:off x="7616880" y="4141800"/>
            <a:ext cx="1297080" cy="107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9" descr="http://im6-tub-ru.yandex.net/i?id=396312040-63-72"/>
          <p:cNvPicPr/>
          <p:nvPr/>
        </p:nvPicPr>
        <p:blipFill>
          <a:blip r:embed="rId17"/>
          <a:stretch/>
        </p:blipFill>
        <p:spPr>
          <a:xfrm>
            <a:off x="3535200" y="5373720"/>
            <a:ext cx="1295640" cy="966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http://im0-tub-ru.yandex.net/i?id=202254890-43-72"/>
          <p:cNvPicPr/>
          <p:nvPr/>
        </p:nvPicPr>
        <p:blipFill>
          <a:blip r:embed="rId18"/>
          <a:stretch/>
        </p:blipFill>
        <p:spPr>
          <a:xfrm>
            <a:off x="230040" y="5049720"/>
            <a:ext cx="1297080" cy="129564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DD76-6885-444B-AC61-A08C896030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48:52Z</dcterms:created>
  <dc:creator>23</dc:creator>
  <dc:description/>
  <dc:language>en-US</dc:language>
  <cp:lastModifiedBy>RWT</cp:lastModifiedBy>
  <dcterms:modified xsi:type="dcterms:W3CDTF">2014-04-28T18:00:31Z</dcterms:modified>
  <cp:revision>26</cp:revision>
  <dc:subject/>
  <dc:title>Слайд 1</dc:title>
</cp:coreProperties>
</file>