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6C0-FD3F-48F3-ADE0-87252533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9D8-3B60-4DD5-9E05-43699CFA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55AA-D208-4F24-8DDB-94A4E1F0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5BD-1C33-4BD9-855B-EA8B5A38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E3F8-B62B-440D-88AD-BEF3D727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6A4D-E5EB-4A4B-A589-D44417D9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4FD-A78A-48B5-BA0D-D36A290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BCF6-8A94-4C39-8D11-558228AE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8CF3-F25F-432F-96CC-15E61745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36D0-61D6-4188-9C7A-BBCB8FF0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D2F6-FF9D-4404-94A3-C33C47D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C29-99F5-4D76-985D-693F998B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9328-687A-458D-826D-7C2D543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457C-9D27-46B5-94D4-218562F4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EA6A-369E-433E-AE55-E555A79C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F9DE-AE04-4C73-8225-7B5FDE46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B50D-D291-4C17-BC64-5CB7AB42F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3604-7636-4315-9DF6-69712584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45AEE-45EB-48BD-9CCA-052DC3FA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CB9A-316D-4D5A-89EE-7312A9C2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36B1-FF69-4A58-ABCD-B698084F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9B68D-FD45-4A1A-A45A-063119AA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969-B4B3-46D1-AAC9-2A6D20E9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4F77-6045-4A18-8393-3F3ED246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8D9B-5F2C-4A0F-8CD5-638E3D2C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2044-314D-4731-BD0B-113B065E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38F0F-442F-41D4-BAB2-2F8B872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6A5C0-01CF-494B-9012-3EC86F6F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295CA-ED23-41D8-8071-B6840ADE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832C-6702-4C8A-9C8C-AA09C96F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A4CC4-08EB-4553-A38D-C6C49235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A6A1-548A-4551-A8E5-9DC4FFBD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1F34-1241-4FE9-BA80-D33201B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F667-051F-41C6-9014-0CAAA569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D694D-F9A7-4E4A-9586-DB21AB87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F389-E597-4CBC-98AF-CD0E34DD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FF1F-C495-479B-8990-60128EF4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2D293-CDC4-430C-A123-4E61E92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5EC3-5ADD-41D9-9586-EC4DB7CC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482FB-BC25-48C5-9FDD-28094884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48967-58AF-425A-AB09-B7D80F8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C7205-9DF0-4971-B9D5-B2519CD9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9208-8ADD-45CF-8462-D65D80D8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8006-3201-44D3-8537-2902A1B5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737-2B1E-4477-A43D-7325FC4B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8C33B-8BE7-4A6C-A792-39CAA178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E3BB-79E0-47D6-AFBA-4773DF1F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9D33-CF18-48DC-B9DE-A679100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C2118-C4C8-4935-961D-B5F6DAB4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FB3A7-405F-4D5A-9CC2-B5CF4C3C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E50B-1BB3-47F7-8E83-1E2C98F7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3ED0-1B34-4DD1-A27B-6131637C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66643-4D15-45A3-AC97-0E89EAB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A3238-8742-42EB-8A22-6E5DDA01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4383-7391-442B-B013-F7BEC7ED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73C5-4879-414F-9163-B8298657B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DA073-2A17-4DEF-8735-233B8122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C3281F-3F23-4648-ADD2-502194B7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35F4E8-EBF1-4323-A172-7881E8F5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E67594-8B1F-443E-BAF7-65648A9C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7B07E-EDC7-4DCE-A169-8A7A69F9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ED9A2A-1BB2-4714-A127-01B0D829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6E486-4E6A-4245-A9FF-2D9AE9C2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9036C-D9EA-4F71-9A44-B8DE8132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4CE59-E781-4B73-A4C0-3D4457B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266107-C56E-419F-B3D9-101F257C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DEF-0089-4529-9DF0-664CB7B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32ED6E-5898-45E0-B6C7-B80E6D4A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B5160-E37C-4BDA-B301-11C816FF5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5FAC9-8277-4741-9AA8-6B60D25F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F21AD-AE80-493B-A188-1D0A3A5D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F274-A8CA-4CB5-873A-3B935C8F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786C9-ED89-4C49-9F7D-3B5B661F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23DC-1F36-41BE-8763-D650F51C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160AE-CE27-44C9-8658-1E3AAEB0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05141-D898-4550-93A3-178AFC3C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EAF69-2212-47F4-A13B-9A4F0D58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0D0-EFBF-4EA1-AC20-80DE8DB4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629DF-77B6-420F-8541-A452F7F8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1D8C-E1C9-4B68-85D9-50434605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0E15-E314-4EC5-A87E-668C0AFA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A7681-6B4F-4214-A79E-935213EC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5D512-A2DD-45DD-988B-BB2DB461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545-FCF6-4640-978B-16EB513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8687-47F2-436A-9908-E54E77A411E0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9bbb59">
              <a:alpha val="70000"/>
            </a:srgbClr>
          </a:solidFill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25406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C639-5F05-4CFB-88DD-08DAFB58A228}" type="slidenum">
              <a:rPr b="0" lang="ru-RU" sz="2800" spc="-1" strike="noStrike">
                <a:solidFill>
                  <a:srgbClr val="25406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7D20-3B04-46AC-81DF-2C63299B8D89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1489-CFE4-47AA-A0C0-91DB63D603B6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3A8-48E5-4A90-A8F7-9DF87EB4EC9A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350E-911D-4729-80BD-F6F55E37049F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bbb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4bac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f497d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7609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37609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9E3-F0B1-470E-AE2F-B180378A1928}" type="slidenum"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13.png"/><Relationship Id="rId9" Type="http://schemas.openxmlformats.org/officeDocument/2006/relationships/image" Target="../media/image24.png"/><Relationship Id="rId10" Type="http://schemas.openxmlformats.org/officeDocument/2006/relationships/image" Target="../media/image9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13.png"/><Relationship Id="rId8" Type="http://schemas.openxmlformats.org/officeDocument/2006/relationships/image" Target="../media/image24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8.png"/><Relationship Id="rId12" Type="http://schemas.openxmlformats.org/officeDocument/2006/relationships/image" Target="../media/image26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1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54061"/>
                </a:solidFill>
                <a:latin typeface="Georgia"/>
              </a:rPr>
              <a:t>СКОЛЬКО?</a:t>
            </a:r>
            <a:endParaRPr b="0" lang="en-US" sz="4000" spc="-1" strike="noStrike">
              <a:solidFill>
                <a:srgbClr val="37609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4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Book Antiqua"/>
              </a:rPr>
              <a:t>ДАВАЙ ВСПОМНИМ МУЛЬТФИЛЬМ О КОЗЛЁНКЕ, КОТОРЫЙ УМЕЛ СЧИТАТЬ.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Book Antiqua"/>
              </a:rPr>
              <a:t>ТЫ ПОМНИШЬ, КАК ОН ЭТО ДЕЛАЛ: «Я — ЭТО РАЗ (МЫ БУДЕМ ГОВО­РИТЬ «ОДИН»), КОРОВА — ЭТО ДВА, БЫК — ЭТО ТРИ, КОНЬ — ЭТО ЧЕ­ТЫРЕ, СВИНЬЯ — ЭТО ПЯТЬ, ГУСЬ — ЭТО ШЕСТЬ».</a:t>
            </a:r>
            <a:endParaRPr b="0" lang="en-US" sz="18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-1281240" y="4051440"/>
            <a:ext cx="1295640" cy="15714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-1498680" y="270360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"/>
          <p:cNvPicPr/>
          <p:nvPr/>
        </p:nvPicPr>
        <p:blipFill>
          <a:blip r:embed="rId3"/>
          <a:stretch/>
        </p:blipFill>
        <p:spPr>
          <a:xfrm>
            <a:off x="-2286000" y="-496800"/>
            <a:ext cx="2286000" cy="1562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9" descr=""/>
          <p:cNvPicPr/>
          <p:nvPr/>
        </p:nvPicPr>
        <p:blipFill>
          <a:blip r:embed="rId4"/>
          <a:stretch/>
        </p:blipFill>
        <p:spPr>
          <a:xfrm>
            <a:off x="-1731960" y="3932280"/>
            <a:ext cx="1728720" cy="2430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0" descr=""/>
          <p:cNvPicPr/>
          <p:nvPr/>
        </p:nvPicPr>
        <p:blipFill>
          <a:blip r:embed="rId5"/>
          <a:stretch/>
        </p:blipFill>
        <p:spPr>
          <a:xfrm>
            <a:off x="-1946160" y="1136520"/>
            <a:ext cx="1942920" cy="13906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"/>
          <p:cNvPicPr/>
          <p:nvPr/>
        </p:nvPicPr>
        <p:blipFill>
          <a:blip r:embed="rId6"/>
          <a:stretch/>
        </p:blipFill>
        <p:spPr>
          <a:xfrm>
            <a:off x="-4525920" y="1409760"/>
            <a:ext cx="2257560" cy="1876320"/>
          </a:xfrm>
          <a:prstGeom prst="rect">
            <a:avLst/>
          </a:prstGeom>
          <a:ln w="0">
            <a:noFill/>
          </a:ln>
        </p:spPr>
      </p:pic>
      <p:pic>
        <p:nvPicPr>
          <p:cNvPr id="340" name="TextBox 16" descr=""/>
          <p:cNvPicPr/>
          <p:nvPr/>
        </p:nvPicPr>
        <p:blipFill>
          <a:blip r:embed="rId7"/>
          <a:stretch/>
        </p:blipFill>
        <p:spPr>
          <a:xfrm>
            <a:off x="4773600" y="241452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41" name="1.wma" descr=""/>
          <p:cNvPicPr/>
          <p:nvPr/>
        </p:nvPicPr>
        <p:blipFill>
          <a:blip r:embed="rId8"/>
          <a:stretch/>
        </p:blipFill>
        <p:spPr>
          <a:xfrm>
            <a:off x="4140360" y="4532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26735E-006 L 0.62621 -0.21878 E">
                                      <p:cBhvr>
                                        <p:cTn id="6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6068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Book Antiqua"/>
              </a:rPr>
              <a:t>КОРОВА — ЭТО ДВА</a:t>
            </a:r>
            <a:endParaRPr b="0" lang="en-US" sz="20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43" name="Picture 10" descr=""/>
          <p:cNvPicPr/>
          <p:nvPr/>
        </p:nvPicPr>
        <p:blipFill>
          <a:blip r:embed="rId1"/>
          <a:stretch/>
        </p:blipFill>
        <p:spPr>
          <a:xfrm>
            <a:off x="-1938240" y="3392640"/>
            <a:ext cx="1942920" cy="1390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9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1726920" cy="2430360"/>
          </a:xfrm>
          <a:prstGeom prst="rect">
            <a:avLst/>
          </a:prstGeom>
          <a:ln w="0">
            <a:noFill/>
          </a:ln>
        </p:spPr>
      </p:pic>
      <p:pic>
        <p:nvPicPr>
          <p:cNvPr id="345" name="TextBox 5" descr=""/>
          <p:cNvPicPr/>
          <p:nvPr/>
        </p:nvPicPr>
        <p:blipFill>
          <a:blip r:embed="rId3"/>
          <a:stretch/>
        </p:blipFill>
        <p:spPr>
          <a:xfrm>
            <a:off x="5626080" y="285264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6" descr=""/>
          <p:cNvPicPr/>
          <p:nvPr/>
        </p:nvPicPr>
        <p:blipFill>
          <a:blip r:embed="rId4"/>
          <a:stretch/>
        </p:blipFill>
        <p:spPr>
          <a:xfrm>
            <a:off x="1743120" y="285264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47" name="2.wma" descr=""/>
          <p:cNvPicPr/>
          <p:nvPr/>
        </p:nvPicPr>
        <p:blipFill>
          <a:blip r:embed="rId5"/>
          <a:stretch/>
        </p:blipFill>
        <p:spPr>
          <a:xfrm>
            <a:off x="3780000" y="33606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41351E-006 L 0.68455 -0.01202 E">
                                      <p:cBhvr>
                                        <p:cTn id="35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6188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Book Antiqua"/>
              </a:rPr>
              <a:t>БЫК — ЭТО ТРИ</a:t>
            </a:r>
            <a:br>
              <a:rPr sz="2000"/>
            </a:br>
            <a:endParaRPr b="0" lang="en-US" sz="20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49" name="3.wma" descr=""/>
          <p:cNvPicPr/>
          <p:nvPr/>
        </p:nvPicPr>
        <p:blipFill>
          <a:blip r:embed="rId1"/>
          <a:stretch/>
        </p:blipFill>
        <p:spPr>
          <a:xfrm>
            <a:off x="4400640" y="2933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2"/>
          <a:stretch/>
        </p:blipFill>
        <p:spPr>
          <a:xfrm>
            <a:off x="-2700360" y="3801960"/>
            <a:ext cx="2286000" cy="1562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"/>
          <p:cNvPicPr/>
          <p:nvPr/>
        </p:nvPicPr>
        <p:blipFill>
          <a:blip r:embed="rId3"/>
          <a:stretch/>
        </p:blipFill>
        <p:spPr>
          <a:xfrm>
            <a:off x="3203640" y="3576600"/>
            <a:ext cx="1942920" cy="13892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"/>
          <p:cNvPicPr/>
          <p:nvPr/>
        </p:nvPicPr>
        <p:blipFill>
          <a:blip r:embed="rId4"/>
          <a:stretch/>
        </p:blipFill>
        <p:spPr>
          <a:xfrm>
            <a:off x="395280" y="2933640"/>
            <a:ext cx="1728720" cy="2430360"/>
          </a:xfrm>
          <a:prstGeom prst="rect">
            <a:avLst/>
          </a:prstGeom>
          <a:ln w="0">
            <a:noFill/>
          </a:ln>
        </p:spPr>
      </p:pic>
      <p:pic>
        <p:nvPicPr>
          <p:cNvPr id="353" name="TextBox 11" descr=""/>
          <p:cNvPicPr/>
          <p:nvPr/>
        </p:nvPicPr>
        <p:blipFill>
          <a:blip r:embed="rId5"/>
          <a:stretch/>
        </p:blipFill>
        <p:spPr>
          <a:xfrm>
            <a:off x="4363920" y="315756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54" name="TextBox 12" descr=""/>
          <p:cNvPicPr/>
          <p:nvPr/>
        </p:nvPicPr>
        <p:blipFill>
          <a:blip r:embed="rId6"/>
          <a:stretch/>
        </p:blipFill>
        <p:spPr>
          <a:xfrm>
            <a:off x="1450800" y="315108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55" name="TextBox 13" descr=""/>
          <p:cNvPicPr/>
          <p:nvPr/>
        </p:nvPicPr>
        <p:blipFill>
          <a:blip r:embed="rId7"/>
          <a:stretch/>
        </p:blipFill>
        <p:spPr>
          <a:xfrm>
            <a:off x="7643880" y="3157560"/>
            <a:ext cx="21765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7484E-006 L 0.97743 -0.04232 E">
                                      <p:cBhvr>
                                        <p:cTn id="64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4330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Book Antiqua"/>
              </a:rPr>
              <a:t>КОНЬ — ЭТО ЧЕ­ТЫРЕ</a:t>
            </a:r>
            <a:endParaRPr b="0" lang="en-US" sz="20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57" name="4.wma" descr=""/>
          <p:cNvPicPr/>
          <p:nvPr/>
        </p:nvPicPr>
        <p:blipFill>
          <a:blip r:embed="rId1"/>
          <a:stretch/>
        </p:blipFill>
        <p:spPr>
          <a:xfrm>
            <a:off x="4267080" y="363384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"/>
          <p:cNvPicPr/>
          <p:nvPr/>
        </p:nvPicPr>
        <p:blipFill>
          <a:blip r:embed="rId2"/>
          <a:stretch/>
        </p:blipFill>
        <p:spPr>
          <a:xfrm>
            <a:off x="5867280" y="1657440"/>
            <a:ext cx="2286000" cy="1562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3"/>
          <a:stretch/>
        </p:blipFill>
        <p:spPr>
          <a:xfrm>
            <a:off x="2987640" y="1722600"/>
            <a:ext cx="1943280" cy="1390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9" descr=""/>
          <p:cNvPicPr/>
          <p:nvPr/>
        </p:nvPicPr>
        <p:blipFill>
          <a:blip r:embed="rId4"/>
          <a:stretch/>
        </p:blipFill>
        <p:spPr>
          <a:xfrm>
            <a:off x="179280" y="1081080"/>
            <a:ext cx="1728720" cy="2428920"/>
          </a:xfrm>
          <a:prstGeom prst="rect">
            <a:avLst/>
          </a:prstGeom>
          <a:ln w="0">
            <a:noFill/>
          </a:ln>
        </p:spPr>
      </p:pic>
      <p:pic>
        <p:nvPicPr>
          <p:cNvPr id="361" name="TextBox 12" descr=""/>
          <p:cNvPicPr/>
          <p:nvPr/>
        </p:nvPicPr>
        <p:blipFill>
          <a:blip r:embed="rId5"/>
          <a:stretch/>
        </p:blipFill>
        <p:spPr>
          <a:xfrm>
            <a:off x="4145040" y="130500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62" name="TextBox 13" descr=""/>
          <p:cNvPicPr/>
          <p:nvPr/>
        </p:nvPicPr>
        <p:blipFill>
          <a:blip r:embed="rId6"/>
          <a:stretch/>
        </p:blipFill>
        <p:spPr>
          <a:xfrm>
            <a:off x="1238400" y="1298520"/>
            <a:ext cx="2174760" cy="2664000"/>
          </a:xfrm>
          <a:prstGeom prst="rect">
            <a:avLst/>
          </a:prstGeom>
          <a:ln w="0">
            <a:noFill/>
          </a:ln>
        </p:spPr>
      </p:pic>
      <p:pic>
        <p:nvPicPr>
          <p:cNvPr id="363" name="TextBox 14" descr=""/>
          <p:cNvPicPr/>
          <p:nvPr/>
        </p:nvPicPr>
        <p:blipFill>
          <a:blip r:embed="rId7"/>
          <a:stretch/>
        </p:blipFill>
        <p:spPr>
          <a:xfrm>
            <a:off x="7424640" y="130500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"/>
          <p:cNvPicPr/>
          <p:nvPr/>
        </p:nvPicPr>
        <p:blipFill>
          <a:blip r:embed="rId8"/>
          <a:stretch/>
        </p:blipFill>
        <p:spPr>
          <a:xfrm>
            <a:off x="-2257560" y="4086360"/>
            <a:ext cx="2257560" cy="1876320"/>
          </a:xfrm>
          <a:prstGeom prst="rect">
            <a:avLst/>
          </a:prstGeom>
          <a:ln w="0">
            <a:noFill/>
          </a:ln>
        </p:spPr>
      </p:pic>
      <p:pic>
        <p:nvPicPr>
          <p:cNvPr id="365" name="TextBox 17" descr=""/>
          <p:cNvPicPr/>
          <p:nvPr/>
        </p:nvPicPr>
        <p:blipFill>
          <a:blip r:embed="rId9"/>
          <a:stretch/>
        </p:blipFill>
        <p:spPr>
          <a:xfrm>
            <a:off x="1712880" y="3724200"/>
            <a:ext cx="2176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0162 L 0.30834 0.00902 E">
                                      <p:cBhvr>
                                        <p:cTn id="93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6095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Book Antiqua"/>
              </a:rPr>
              <a:t>СВИНЬЯ — ЭТО ПЯТЬ</a:t>
            </a:r>
            <a:endParaRPr b="0" lang="en-US" sz="20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67" name="5.wma" descr=""/>
          <p:cNvPicPr/>
          <p:nvPr/>
        </p:nvPicPr>
        <p:blipFill>
          <a:blip r:embed="rId1"/>
          <a:stretch/>
        </p:blipFill>
        <p:spPr>
          <a:xfrm>
            <a:off x="4210200" y="34988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"/>
          <p:cNvPicPr/>
          <p:nvPr/>
        </p:nvPicPr>
        <p:blipFill>
          <a:blip r:embed="rId2"/>
          <a:stretch/>
        </p:blipFill>
        <p:spPr>
          <a:xfrm>
            <a:off x="5867280" y="1657440"/>
            <a:ext cx="2286000" cy="15620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"/>
          <p:cNvPicPr/>
          <p:nvPr/>
        </p:nvPicPr>
        <p:blipFill>
          <a:blip r:embed="rId3"/>
          <a:stretch/>
        </p:blipFill>
        <p:spPr>
          <a:xfrm>
            <a:off x="2987640" y="1722600"/>
            <a:ext cx="1943280" cy="13903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9" descr=""/>
          <p:cNvPicPr/>
          <p:nvPr/>
        </p:nvPicPr>
        <p:blipFill>
          <a:blip r:embed="rId4"/>
          <a:stretch/>
        </p:blipFill>
        <p:spPr>
          <a:xfrm>
            <a:off x="179280" y="1081080"/>
            <a:ext cx="1728720" cy="2428920"/>
          </a:xfrm>
          <a:prstGeom prst="rect">
            <a:avLst/>
          </a:prstGeom>
          <a:ln w="0">
            <a:noFill/>
          </a:ln>
        </p:spPr>
      </p:pic>
      <p:pic>
        <p:nvPicPr>
          <p:cNvPr id="371" name="TextBox 10" descr=""/>
          <p:cNvPicPr/>
          <p:nvPr/>
        </p:nvPicPr>
        <p:blipFill>
          <a:blip r:embed="rId5"/>
          <a:stretch/>
        </p:blipFill>
        <p:spPr>
          <a:xfrm>
            <a:off x="4145040" y="130500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72" name="TextBox 11" descr=""/>
          <p:cNvPicPr/>
          <p:nvPr/>
        </p:nvPicPr>
        <p:blipFill>
          <a:blip r:embed="rId6"/>
          <a:stretch/>
        </p:blipFill>
        <p:spPr>
          <a:xfrm>
            <a:off x="1238400" y="1298520"/>
            <a:ext cx="2174760" cy="2664000"/>
          </a:xfrm>
          <a:prstGeom prst="rect">
            <a:avLst/>
          </a:prstGeom>
          <a:ln w="0">
            <a:noFill/>
          </a:ln>
        </p:spPr>
      </p:pic>
      <p:pic>
        <p:nvPicPr>
          <p:cNvPr id="373" name="TextBox 12" descr=""/>
          <p:cNvPicPr/>
          <p:nvPr/>
        </p:nvPicPr>
        <p:blipFill>
          <a:blip r:embed="rId7"/>
          <a:stretch/>
        </p:blipFill>
        <p:spPr>
          <a:xfrm>
            <a:off x="7424640" y="130500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"/>
          <p:cNvPicPr/>
          <p:nvPr/>
        </p:nvPicPr>
        <p:blipFill>
          <a:blip r:embed="rId8"/>
          <a:stretch/>
        </p:blipFill>
        <p:spPr>
          <a:xfrm>
            <a:off x="179280" y="3933720"/>
            <a:ext cx="2257560" cy="1876680"/>
          </a:xfrm>
          <a:prstGeom prst="rect">
            <a:avLst/>
          </a:prstGeom>
          <a:ln w="0">
            <a:noFill/>
          </a:ln>
        </p:spPr>
      </p:pic>
      <p:pic>
        <p:nvPicPr>
          <p:cNvPr id="375" name="TextBox 14" descr=""/>
          <p:cNvPicPr/>
          <p:nvPr/>
        </p:nvPicPr>
        <p:blipFill>
          <a:blip r:embed="rId9"/>
          <a:stretch/>
        </p:blipFill>
        <p:spPr>
          <a:xfrm>
            <a:off x="1712880" y="372420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10"/>
          <a:stretch/>
        </p:blipFill>
        <p:spPr>
          <a:xfrm>
            <a:off x="-1495440" y="428292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377" name="TextBox 16" descr=""/>
          <p:cNvPicPr/>
          <p:nvPr/>
        </p:nvPicPr>
        <p:blipFill>
          <a:blip r:embed="rId11"/>
          <a:stretch/>
        </p:blipFill>
        <p:spPr>
          <a:xfrm>
            <a:off x="4145040" y="3736800"/>
            <a:ext cx="21765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3.05273E-006 L 0.55122 0.01064 E">
                                      <p:cBhvr>
                                        <p:cTn id="12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5433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Book Antiqua"/>
              </a:rPr>
              <a:t>ГУСЬ — ЭТО ШЕСТЬ</a:t>
            </a:r>
            <a:endParaRPr b="0" lang="en-US" sz="20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79" name="Picture 8" descr=""/>
          <p:cNvPicPr/>
          <p:nvPr/>
        </p:nvPicPr>
        <p:blipFill>
          <a:blip r:embed="rId1"/>
          <a:stretch/>
        </p:blipFill>
        <p:spPr>
          <a:xfrm>
            <a:off x="5867280" y="1657440"/>
            <a:ext cx="2286000" cy="1562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2"/>
          <a:stretch/>
        </p:blipFill>
        <p:spPr>
          <a:xfrm>
            <a:off x="2987640" y="1722600"/>
            <a:ext cx="1943280" cy="13903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"/>
          <p:cNvPicPr/>
          <p:nvPr/>
        </p:nvPicPr>
        <p:blipFill>
          <a:blip r:embed="rId3"/>
          <a:stretch/>
        </p:blipFill>
        <p:spPr>
          <a:xfrm>
            <a:off x="179280" y="1081080"/>
            <a:ext cx="1728720" cy="2428920"/>
          </a:xfrm>
          <a:prstGeom prst="rect">
            <a:avLst/>
          </a:prstGeom>
          <a:ln w="0">
            <a:noFill/>
          </a:ln>
        </p:spPr>
      </p:pic>
      <p:pic>
        <p:nvPicPr>
          <p:cNvPr id="382" name="TextBox 9" descr=""/>
          <p:cNvPicPr/>
          <p:nvPr/>
        </p:nvPicPr>
        <p:blipFill>
          <a:blip r:embed="rId4"/>
          <a:stretch/>
        </p:blipFill>
        <p:spPr>
          <a:xfrm>
            <a:off x="4145040" y="130500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83" name="TextBox 10" descr=""/>
          <p:cNvPicPr/>
          <p:nvPr/>
        </p:nvPicPr>
        <p:blipFill>
          <a:blip r:embed="rId5"/>
          <a:stretch/>
        </p:blipFill>
        <p:spPr>
          <a:xfrm>
            <a:off x="1238400" y="1298520"/>
            <a:ext cx="2174760" cy="2664000"/>
          </a:xfrm>
          <a:prstGeom prst="rect">
            <a:avLst/>
          </a:prstGeom>
          <a:ln w="0">
            <a:noFill/>
          </a:ln>
        </p:spPr>
      </p:pic>
      <p:pic>
        <p:nvPicPr>
          <p:cNvPr id="384" name="TextBox 11" descr=""/>
          <p:cNvPicPr/>
          <p:nvPr/>
        </p:nvPicPr>
        <p:blipFill>
          <a:blip r:embed="rId6"/>
          <a:stretch/>
        </p:blipFill>
        <p:spPr>
          <a:xfrm>
            <a:off x="7424640" y="1305000"/>
            <a:ext cx="2176560" cy="2663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1" descr=""/>
          <p:cNvPicPr/>
          <p:nvPr/>
        </p:nvPicPr>
        <p:blipFill>
          <a:blip r:embed="rId7"/>
          <a:stretch/>
        </p:blipFill>
        <p:spPr>
          <a:xfrm>
            <a:off x="179280" y="3933720"/>
            <a:ext cx="2257560" cy="1876680"/>
          </a:xfrm>
          <a:prstGeom prst="rect">
            <a:avLst/>
          </a:prstGeom>
          <a:ln w="0">
            <a:noFill/>
          </a:ln>
        </p:spPr>
      </p:pic>
      <p:pic>
        <p:nvPicPr>
          <p:cNvPr id="386" name="TextBox 13" descr=""/>
          <p:cNvPicPr/>
          <p:nvPr/>
        </p:nvPicPr>
        <p:blipFill>
          <a:blip r:embed="rId8"/>
          <a:stretch/>
        </p:blipFill>
        <p:spPr>
          <a:xfrm>
            <a:off x="1712880" y="372420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"/>
          <p:cNvPicPr/>
          <p:nvPr/>
        </p:nvPicPr>
        <p:blipFill>
          <a:blip r:embed="rId9"/>
          <a:stretch/>
        </p:blipFill>
        <p:spPr>
          <a:xfrm>
            <a:off x="3192480" y="4272120"/>
            <a:ext cx="1495440" cy="1199880"/>
          </a:xfrm>
          <a:prstGeom prst="rect">
            <a:avLst/>
          </a:prstGeom>
          <a:ln w="0">
            <a:noFill/>
          </a:ln>
        </p:spPr>
      </p:pic>
      <p:pic>
        <p:nvPicPr>
          <p:cNvPr id="388" name="TextBox 15" descr=""/>
          <p:cNvPicPr/>
          <p:nvPr/>
        </p:nvPicPr>
        <p:blipFill>
          <a:blip r:embed="rId10"/>
          <a:stretch/>
        </p:blipFill>
        <p:spPr>
          <a:xfrm>
            <a:off x="4145040" y="373680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6" descr=""/>
          <p:cNvPicPr/>
          <p:nvPr/>
        </p:nvPicPr>
        <p:blipFill>
          <a:blip r:embed="rId11"/>
          <a:stretch/>
        </p:blipFill>
        <p:spPr>
          <a:xfrm>
            <a:off x="-1620720" y="4130640"/>
            <a:ext cx="1295280" cy="1571760"/>
          </a:xfrm>
          <a:prstGeom prst="rect">
            <a:avLst/>
          </a:prstGeom>
          <a:ln w="0">
            <a:noFill/>
          </a:ln>
        </p:spPr>
      </p:pic>
      <p:pic>
        <p:nvPicPr>
          <p:cNvPr id="390" name="TextBox 18" descr=""/>
          <p:cNvPicPr/>
          <p:nvPr/>
        </p:nvPicPr>
        <p:blipFill>
          <a:blip r:embed="rId12"/>
          <a:stretch/>
        </p:blipFill>
        <p:spPr>
          <a:xfrm>
            <a:off x="6649920" y="3786120"/>
            <a:ext cx="2176560" cy="2664000"/>
          </a:xfrm>
          <a:prstGeom prst="rect">
            <a:avLst/>
          </a:prstGeom>
          <a:ln w="0">
            <a:noFill/>
          </a:ln>
        </p:spPr>
      </p:pic>
      <p:pic>
        <p:nvPicPr>
          <p:cNvPr id="391" name="6.wma" descr=""/>
          <p:cNvPicPr/>
          <p:nvPr/>
        </p:nvPicPr>
        <p:blipFill>
          <a:blip r:embed="rId13"/>
          <a:stretch/>
        </p:blipFill>
        <p:spPr>
          <a:xfrm>
            <a:off x="4267080" y="36338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0371 L 0.87413 0.00371 E">
                                      <p:cBhvr>
                                        <p:cTn id="151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5990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280" y="517680"/>
            <a:ext cx="82616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Book Antiqua"/>
              </a:rPr>
              <a:t>СЛОВА «ОДИН», «ДВА», «ТРИ», «ЧЕТЫРЕ», «ПЯТЬ», «ШЕСТЬ» ОБОЗНАЧАЮТ ЧИСЛА. ПОСЛЕДНЕЕ СЛОВО, КОТОРОЕ НАЗВАЛ КОЗЛЁНОК, — ШЕСТЬ. ЭТО ЗНАЧИТ, ЧТО ВСЕГО ЖИВОТНЫХ БЫЛО ШЕСТЬ</a:t>
            </a:r>
            <a:endParaRPr b="0" lang="en-US" sz="1800" spc="-1" strike="noStrike">
              <a:solidFill>
                <a:srgbClr val="376092"/>
              </a:solidFill>
              <a:latin typeface="Book Antiqua"/>
            </a:endParaRPr>
          </a:p>
        </p:txBody>
      </p:sp>
      <p:pic>
        <p:nvPicPr>
          <p:cNvPr id="393" name="7.wma" descr=""/>
          <p:cNvPicPr/>
          <p:nvPr/>
        </p:nvPicPr>
        <p:blipFill>
          <a:blip r:embed="rId1"/>
          <a:stretch/>
        </p:blipFill>
        <p:spPr>
          <a:xfrm>
            <a:off x="4083120" y="1754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"/>
          <p:cNvPicPr/>
          <p:nvPr/>
        </p:nvPicPr>
        <p:blipFill>
          <a:blip r:embed="rId2"/>
          <a:stretch/>
        </p:blipFill>
        <p:spPr>
          <a:xfrm>
            <a:off x="5435640" y="2319480"/>
            <a:ext cx="2286000" cy="1562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"/>
          <p:cNvPicPr/>
          <p:nvPr/>
        </p:nvPicPr>
        <p:blipFill>
          <a:blip r:embed="rId3"/>
          <a:stretch/>
        </p:blipFill>
        <p:spPr>
          <a:xfrm>
            <a:off x="3416400" y="2490840"/>
            <a:ext cx="1942920" cy="1390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4"/>
          <a:stretch/>
        </p:blipFill>
        <p:spPr>
          <a:xfrm>
            <a:off x="1525680" y="1557360"/>
            <a:ext cx="1728720" cy="24289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"/>
          <p:cNvPicPr/>
          <p:nvPr/>
        </p:nvPicPr>
        <p:blipFill>
          <a:blip r:embed="rId5"/>
          <a:stretch/>
        </p:blipFill>
        <p:spPr>
          <a:xfrm>
            <a:off x="1174680" y="4087800"/>
            <a:ext cx="2257560" cy="18763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7" descr=""/>
          <p:cNvPicPr/>
          <p:nvPr/>
        </p:nvPicPr>
        <p:blipFill>
          <a:blip r:embed="rId6"/>
          <a:stretch/>
        </p:blipFill>
        <p:spPr>
          <a:xfrm>
            <a:off x="3639960" y="4087800"/>
            <a:ext cx="1495440" cy="1200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"/>
          <p:cNvPicPr/>
          <p:nvPr/>
        </p:nvPicPr>
        <p:blipFill>
          <a:blip r:embed="rId7"/>
          <a:stretch/>
        </p:blipFill>
        <p:spPr>
          <a:xfrm>
            <a:off x="5359320" y="4087800"/>
            <a:ext cx="1295640" cy="1571760"/>
          </a:xfrm>
          <a:prstGeom prst="rect">
            <a:avLst/>
          </a:prstGeom>
          <a:ln w="0">
            <a:noFill/>
          </a:ln>
        </p:spPr>
      </p:pic>
      <p:pic>
        <p:nvPicPr>
          <p:cNvPr id="400" name="TextBox 18" descr=""/>
          <p:cNvPicPr/>
          <p:nvPr/>
        </p:nvPicPr>
        <p:blipFill>
          <a:blip r:embed="rId8"/>
          <a:stretch/>
        </p:blipFill>
        <p:spPr>
          <a:xfrm>
            <a:off x="5992920" y="3627360"/>
            <a:ext cx="21762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08 -0.0081 0.00989 -0.01758 0.01562 -0.0259 C 0.02604 -0.04117 0.03299 -0.05042 0.04149 -0.06915 C 0.04896 -0.0858 0.05434 -0.10592 0.06354 -0.12119 C 0.06996 -0.13182 0.07795 -0.14223 0.08316 -0.15403 C 0.08507 -0.15842 0.08611 -0.16374 0.08837 -0.1679 C 0.09045 -0.17183 0.09479 -0.17993 0.09479 -0.17993 C 0.09635 -0.19103 0.09774 -0.20143 0.09861 -0.21277 C 0.09792 -0.23312 0.09913 -0.25463 0.09219 -0.27336 C 0.0908 -0.28307 0.08733 -0.29094 0.08316 -0.29926 C 0.08264 -0.30157 0.08281 -0.30435 0.08177 -0.3062 C 0.07934 -0.31082 0.07569 -0.31429 0.07274 -0.31822 C 0.06701 -0.32586 0.06094 -0.33927 0.0533 -0.34251 C 0.04635 -0.35176 0.03385 -0.36587 0.02465 -0.37188 C 0.01944 -0.37928 0.01285 -0.38229 0.00642 -0.38761 C -0.00695 -0.39871 -0.01997 -0.40518 -0.03507 -0.41166 C -0.0434 -0.41513 -0.05139 -0.42045 -0.05972 -0.42391 C -0.08715 -0.43548 -0.11597 -0.43617 -0.1441 -0.43779 C -0.14636 -0.43825 -0.14844 -0.43872 -0.1507 -0.43941 C -0.15451 -0.44057 -0.16233 -0.44288 -0.16233 -0.44288 C -0.18386 -0.45722 -0.21667 -0.45097 -0.23646 -0.45143 C -0.25156 -0.45583 -0.24514 -0.45467 -0.26111 -0.45675 C -0.27014 -0.45791 -0.28854 -0.46022 -0.28854 -0.46022 C -0.33038 -0.45953 -0.37222 -0.45953 -0.41424 -0.45837 C -0.425 -0.45814 -0.43455 -0.45005 -0.44549 -0.44982 C -0.48229 -0.44866 -0.5191 -0.44866 -0.5559 -0.44797 C -0.56597 -0.44172 -0.5875 -0.42785 -0.59479 -0.41859 C -0.60052 -0.41143 -0.60642 -0.40379 -0.61302 -0.39801 C -0.62118 -0.38136 -0.60747 -0.40819 -0.62205 -0.38575 C -0.62326 -0.3839 -0.62344 -0.3809 -0.62465 -0.37882 C -0.62813 -0.3728 -0.63229 -0.3698 -0.63646 -0.36494 C -0.64149 -0.35893 -0.64392 -0.35315 -0.64931 -0.34783 C -0.65313 -0.3402 -0.65833 -0.33441 -0.66233 -0.32701 C -0.66823 -0.31591 -0.66111 -0.32331 -0.66892 -0.31661 C -0.67309 -0.30527 -0.67535 -0.29255 -0.68056 -0.28192 C -0.68333 -0.27012 -0.68559 -0.25971 -0.68698 -0.24746 C -0.68611 -0.22109 -0.68507 -0.19982 -0.68056 -0.17484 C -0.67882 -0.15495 -0.67899 -0.12905 -0.67396 -0.11078 C -0.66945 -0.06545 -0.65347 -0.03492 -0.63507 0.00162 C -0.62986 0.01179 -0.62604 0.02706 -0.61684 0.03122 C -0.59549 0.05967 -0.56511 0.06984 -0.53646 0.07794 C -0.48507 0.09274 -0.55521 0.07285 -0.50642 0.08996 C -0.49983 0.09227 -0.47865 0.09551 -0.47274 0.0969 C -0.45295 0.10199 -0.43438 0.10661 -0.41424 0.10893 C -0.29913 0.10846 -0.18403 0.10846 -0.06892 0.10731 C -0.05886 0.10731 -0.04722 0.10083 -0.03767 0.09852 C -0.03559 0.09806 -0.03125 0.0969 -0.03125 0.0969 L -0.01684 0.07794 L -0.00781 0.03816 E">
                                      <p:cBhvr>
                                        <p:cTn id="180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22860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4T17:29:57Z</dcterms:created>
  <dc:creator>Nick</dc:creator>
  <dc:description/>
  <dc:language>en-US</dc:language>
  <cp:lastModifiedBy>Nick</cp:lastModifiedBy>
  <dcterms:modified xsi:type="dcterms:W3CDTF">2013-08-14T19:49:48Z</dcterms:modified>
  <cp:revision>10</cp:revision>
  <dc:subject/>
  <dc:title>ВЫШЕ ИЛИ НИЖЕ</dc:title>
</cp:coreProperties>
</file>