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186-267C-4603-B791-DAC87AA0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2C8-43E7-439C-8ADD-1EA06C4D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360-0E5D-4EBA-B295-3A878AB5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1FB-39DC-4B84-862C-EBFBEBA2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937-542B-45F0-8863-60DFEE6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E60-C1B4-4271-958B-EE3EC689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16C-10C1-48E4-97BD-105061B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ECE-C05E-47DB-AF86-5BF83C9D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A94-7320-41FE-9509-C8493AB5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BBF-B925-49A4-BD3E-A7E52DD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58B-F1F8-49B3-942F-10ADAC3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508-A328-4CE3-8077-BD42AEC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yrillicHov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yrillicHov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yrillicHov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55D6-0479-4912-B6AD-FA8A87AEB8B8}" type="slidenum">
              <a:rPr b="0" lang="ru-RU" sz="1200" spc="-1" strike="noStrike">
                <a:solidFill>
                  <a:srgbClr val="898989"/>
                </a:solidFill>
                <a:latin typeface="CyrillicHov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yrillicHov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59626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Родительское собрание</a:t>
            </a:r>
            <a:br>
              <a:rPr sz="4000"/>
            </a:br>
            <a:br>
              <a:rPr sz="2000"/>
            </a:b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«Компьютер и ребёнок</a:t>
            </a:r>
            <a:br>
              <a:rPr sz="4400"/>
            </a:b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 – плюсы и минусы этого общ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520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"/>
          <p:cNvPicPr/>
          <p:nvPr/>
        </p:nvPicPr>
        <p:blipFill>
          <a:blip r:embed="rId1"/>
          <a:stretch/>
        </p:blipFill>
        <p:spPr>
          <a:xfrm>
            <a:off x="3500280" y="17146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йй"/>
          <p:cNvPicPr/>
          <p:nvPr/>
        </p:nvPicPr>
        <p:blipFill>
          <a:blip r:embed="rId2"/>
          <a:stretch/>
        </p:blipFill>
        <p:spPr>
          <a:xfrm>
            <a:off x="179280" y="1700280"/>
            <a:ext cx="3059280" cy="240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не"/>
          <p:cNvPicPr/>
          <p:nvPr/>
        </p:nvPicPr>
        <p:blipFill>
          <a:blip r:embed="rId3"/>
          <a:stretch/>
        </p:blipFill>
        <p:spPr>
          <a:xfrm>
            <a:off x="5300640" y="1601640"/>
            <a:ext cx="2733840" cy="21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4"/>
          <a:stretch/>
        </p:blipFill>
        <p:spPr>
          <a:xfrm>
            <a:off x="1020600" y="3938760"/>
            <a:ext cx="291168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4786200" y="44290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6"/>
          <p:cNvSpPr/>
          <p:nvPr/>
        </p:nvSpPr>
        <p:spPr>
          <a:xfrm>
            <a:off x="755640" y="333360"/>
            <a:ext cx="7704000" cy="720720"/>
          </a:xfrm>
          <a:prstGeom prst="wedgeRoundRectCallout">
            <a:avLst>
              <a:gd name="adj1" fmla="val -16555"/>
              <a:gd name="adj2" fmla="val 5154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гры типа «Убей их всех!»</a:t>
            </a:r>
            <a:endParaRPr b="0" lang="en-US" sz="4000" spc="-1" strike="noStrike">
              <a:solidFill>
                <a:srgbClr val="1f497d"/>
              </a:solidFill>
              <a:latin typeface="CyrillicHov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Стратег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screen5"/>
          <p:cNvPicPr/>
          <p:nvPr/>
        </p:nvPicPr>
        <p:blipFill>
          <a:blip r:embed="rId1"/>
          <a:stretch/>
        </p:blipFill>
        <p:spPr>
          <a:xfrm>
            <a:off x="457200" y="2249640"/>
            <a:ext cx="4038480" cy="32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creen3"/>
          <p:cNvPicPr/>
          <p:nvPr/>
        </p:nvPicPr>
        <p:blipFill>
          <a:blip r:embed="rId2"/>
          <a:stretch/>
        </p:blipFill>
        <p:spPr>
          <a:xfrm>
            <a:off x="5303880" y="1600200"/>
            <a:ext cx="2727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Georgia"/>
              </a:rPr>
              <a:t>Игры - при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 rot="20476800">
            <a:off x="539640" y="1341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yrillicHover"/>
              </a:rPr>
              <a:t>Обучающие и развивающи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0" y="1916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0" y="4508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4"/>
          <a:stretch/>
        </p:blipFill>
        <p:spPr>
          <a:xfrm>
            <a:off x="2987640" y="40766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5"/>
          <a:stretch/>
        </p:blipFill>
        <p:spPr>
          <a:xfrm>
            <a:off x="6229440" y="1844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6"/>
          <a:stretch/>
        </p:blipFill>
        <p:spPr>
          <a:xfrm>
            <a:off x="6084720" y="436572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Факторы зависим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ьное влечение к П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ушение способности контроля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на физиологического состоя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ние увеличить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 от других альтернатив в пользу П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озможность прекратить за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работы – это условие успеха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размышлений – это источник силы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игры – это секрет молодости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чтения – это основа знаний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дружбы – это условие счастья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мечты – это путь к звёздам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любви – это истинная радость жизни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Находите время для веселья – это муза душ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«Постарайтесь шагать рядом с ребёнком по дороге жизни – и ему не нужно будет удирать в виртуальный мир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книга"/>
          <p:cNvPicPr/>
          <p:nvPr/>
        </p:nvPicPr>
        <p:blipFill>
          <a:blip r:embed="rId1"/>
          <a:stretch/>
        </p:blipFill>
        <p:spPr>
          <a:xfrm>
            <a:off x="5572080" y="1619280"/>
            <a:ext cx="29606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Компьютерной проблемы не существует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Есть проблемы отношений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о сверстниками и проблемы общения в семье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З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Н. Некрасов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Lucida Console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Lucida Console"/>
              </a:rPr>
              <a:t>Анкета для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3640" y="981000"/>
            <a:ext cx="8391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Есть ли у вас дома компьютер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        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16 челове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2. Кто больше общается с компьютер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Больше дети, чем родите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3. Сколько времени ты проводишь у компьюте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 7 чел - 30 минут – 1час, 6 – более ч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4. Считаете ли себя увлеченным  компьютерными игра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3 – нет, 10 - 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5.Долго ли вас надо поднимать из-за компьюте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8 – не особенно, 5 – долг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Lucida Console"/>
              </a:rPr>
              <a:t> </a:t>
            </a:r>
            <a:r>
              <a:rPr b="1" lang="ru-RU" sz="4000" spc="-1" strike="noStrike">
                <a:solidFill>
                  <a:srgbClr val="ff6600"/>
                </a:solidFill>
                <a:latin typeface="Lucida Console"/>
              </a:rPr>
              <a:t>Анкета для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62028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6. Наказывают ли вас компьютер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 2 – да,  11 – нет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7. Как используют компьютер ваши родител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 Мамы -  по работе, папы – играют; смотрят информаци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8. Как вы думаете, можно ли сегодня прожить без компьюте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 3 – нет, 10 – да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800" y="54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yrillicHov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yrillicHov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ьютер  -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активное сре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версальная игрушка, меняющая назначение при смене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ое педагогическое средство развития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вариативный дидактический матери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62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зывает положительный интерес к техни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ет творческие способ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стью захватывает сознание ребе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раняет страх перед технико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ует психологическую грамотность к овладению П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ет воображение, моделируя будуще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ет внимательность, сосредоточенн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ает овладеть в быстром темпе чтением, письмом и т. д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нирует память, внима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ет быстроту действий и реак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ет целеустремле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рицательное влияние на физическое развитие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ышает состояние нервозности и страха при стремлении во что бы то ни стало добиться победы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держание игр провоцирует проявление детской агрессии, жестокост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язывает ребенка действовать в темпе, задаваемом программой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особствует развитию гиподинами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нижает интеллектуальную активность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худшает зр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Компьютер способен стать эффективным средством развития ребенка, но при этом очень важно, что находится внутри вашего компьютера, т. е. в какие компьютерные игры играют ваши д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omic Sans MS"/>
              </a:rPr>
              <a:t>Виды компьютерных иг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nnm_muzon"/>
          <p:cNvPicPr/>
          <p:nvPr/>
        </p:nvPicPr>
        <p:blipFill>
          <a:blip r:embed="rId2"/>
          <a:stretch/>
        </p:blipFill>
        <p:spPr>
          <a:xfrm>
            <a:off x="785880" y="1535040"/>
            <a:ext cx="7715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11:40Z</dcterms:created>
  <dc:creator>Admin</dc:creator>
  <dc:description/>
  <dc:language>en-US</dc:language>
  <cp:lastModifiedBy>Дом</cp:lastModifiedBy>
  <dcterms:modified xsi:type="dcterms:W3CDTF">2012-08-20T11:48:59Z</dcterms:modified>
  <cp:revision>31</cp:revision>
  <dc:subject/>
  <dc:title>Родительское собрание «Компьютер и ребёнок – плюсы и минусы этого общения»</dc:title>
</cp:coreProperties>
</file>