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7B0-B293-4F02-9C72-6D7F4F59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5A8-83EF-49AE-BD18-50DE12B1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6E3-CA14-4112-ADCE-0310801B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325-3455-430C-98C6-8E2928DB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E84-E410-4C78-9A32-F4DA67DA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F21-3C00-4F15-B995-557411E2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608-4524-4D2B-803D-790246EE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A9F-5B04-43E5-9EB0-AD7E9A4E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515-7616-421D-B956-6CAB828B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437-7767-4D0E-B5A8-D48B4CC0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0D0-8B4A-4589-94CE-5B9305E1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DEF-0572-413F-AE0B-799A175E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4975-E22B-484C-BFC6-99F8E4ADAB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proshkolu.ru/club/oformitel/file2/694196" TargetMode="External"/><Relationship Id="rId3" Type="http://schemas.openxmlformats.org/officeDocument/2006/relationships/hyperlink" Target="http://vospitatel.com.ua/zaniatia/zagadki/zagadki-o-vesne.html" TargetMode="External"/><Relationship Id="rId4" Type="http://schemas.openxmlformats.org/officeDocument/2006/relationships/hyperlink" Target="http://www.rossichy.ru/ncalendar/5_may/" TargetMode="External"/><Relationship Id="rId5" Type="http://schemas.openxmlformats.org/officeDocument/2006/relationships/hyperlink" Target="http://primeta.yaxy.ru/5.html" TargetMode="External"/><Relationship Id="rId6" Type="http://schemas.openxmlformats.org/officeDocument/2006/relationships/hyperlink" Target="http://www.luchiksveta.ru/zagadki_dninedeli.htmlhttp:/www.olesya-emelyanova.ru/index-zagadki-kalendarj.html" TargetMode="External"/><Relationship Id="rId7" Type="http://schemas.openxmlformats.org/officeDocument/2006/relationships/hyperlink" Target="http://www.luchiksveta.ru/enziklop_kalendar/meshttp:/blogs.privet.ru/community/all_of_nature?year=2010&amp;month=5jaza.html" TargetMode="External"/><Relationship Id="rId8" Type="http://schemas.openxmlformats.org/officeDocument/2006/relationships/hyperlink" Target="http://www.gugunet.de/datein/zagadki_wesna.html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luchiksveta.ru/enziklop_2/maj_2.jpg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628748-c437f814d729a582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264312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Оформление уголка прир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траницы календа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Ма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443240" y="6929280"/>
            <a:ext cx="384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оставитель презен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ОУ Гербаев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ычкова Л.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DSC07088.JPG"/>
          <p:cNvPicPr/>
          <p:nvPr/>
        </p:nvPicPr>
        <p:blipFill>
          <a:blip r:embed="rId2"/>
          <a:stretch/>
        </p:blipFill>
        <p:spPr>
          <a:xfrm>
            <a:off x="1785960" y="5000760"/>
            <a:ext cx="2786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3" descr="628748-c437f814d729a582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428760" y="785880"/>
            <a:ext cx="642924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1 мая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Ольха зацвела -сей гречиху. Цветение фиалки и зацветание ивы-бредины указывают на начало сева редиса и моркови, лука, укропа и петрушки. Если начало 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ая 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теплое - в конце будут холода, и наобо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4 мая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Рано зацвела черемуха - будет теплое лето. Чем раньше она начинает цвести, тем жарче будет лето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5 мая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Теплый май весну снаряжает (начинает). Ночью заморозит, так сорок утренников еще на хлеб падет, сорок утренних морозов на все лето, пока хлеб в поле стоит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6 мая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.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Егорий Вешний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Праздник пастухов - выгоняют стадо в поле. На егорьевской неделе прилет ласточкам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7 мая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Евсеев день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. С этого дня бывает еще 12 морозов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8 мая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Марков день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 Прилет певчих птиц стаями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11 мая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Максимов день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 Теплый ветер приносит здоровье. На Максима больных начинают отпаивать березовым соком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13 мая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Теплый вечер на Иакова Апостола и звездная ночь - к урожаю. Ясный восход солнца - вёдреное лето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14 мая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. Еремей Запрягальник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 Самая ленивая соха - и та в поле. Непогода в этот день сулит суровую и холодную будущую зиму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15 мая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Борис и Глеб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сеют хлею. Соловьиный день - начинают петь соловьи. Запел соловей основательно - весна пошла на убыль, а лето - на прибыль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5" descr=""/>
          <p:cNvPicPr/>
          <p:nvPr/>
        </p:nvPicPr>
        <p:blipFill>
          <a:blip r:embed="rId2"/>
          <a:stretch/>
        </p:blipFill>
        <p:spPr>
          <a:xfrm>
            <a:off x="493560" y="281160"/>
            <a:ext cx="59436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3" descr="628748-c437f814d729a582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2"/>
          <p:cNvSpPr/>
          <p:nvPr/>
        </p:nvSpPr>
        <p:spPr>
          <a:xfrm>
            <a:off x="428760" y="1071720"/>
            <a:ext cx="600048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16 мая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Мавра Зеленые Щи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 В зеленые щи крапиву ищи. Трогаются в рост побеги ели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18 мая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Ирина Рассадница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Высаживают огурцы и капустную рассаду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19 мая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Иов Горошник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Иов Огуречник. Сажают огурцы, поливая их прудовой водой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22 мая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.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Никола Вешний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Травный день. На Евдокию курочка водички напьется, на Николу корова травки наестся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24 мая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Мокей Мокрый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Если мокро, то и все лето мокрое, и наоборот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25 мая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День Епифана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 Если на Епифана утро в красном кафтане, то и лето будет сухое, пожарное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26 мая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Лукерья Комарница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. Появляются комары, начинается сбор лекарственных трав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27 мая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Сидор Огуречник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 На Сидора отойдут все сиверы (холода). На Сидора сиверко (северный ветер), и все лето таково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28 мая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. Пахом Бокогрей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На Пахома тепло - все лето теплое. Поздний посев овса и пшеницы. Овес пускается в рост.</a:t>
            </a: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31 мая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Федот Овсяник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 Наступление тепла. Последний дуб лист развернет. Коли на Федота на дубу макушка с опушкой, будешь мерить овес каду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628748-c437f814d729a582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428760" y="264312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roshkolu.ru/club/oformitel/file2/6941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642960" y="314316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vospitatel.com.ua/zaniatia/zagadki/zagadki-o-vesn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571680" y="38577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rossichy.ru/ncalendar/5_ma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570960" y="500076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primeta.yaxy.ru/5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571680" y="3571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luchiksveta.ru/zagadki_dninedeli.htmlhttp://www.olesya-emelyanova.ru/index-zagadki-kalendarj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571680" y="421488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uchiksveta.ru/enziklop_kalendar/meshttp://blogs.privet.ru/community/all_of_nature?year=2010&amp;month=5jaz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500040" y="7072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gugunet.de/datein/zagadki_wesn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571680" y="1214280"/>
            <a:ext cx="52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ttp://children.children-s.ru/node/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500040" y="607212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ttp://www.kostyor.ru/student/?n=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441000" y="550080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ttp://prirodamatushka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3"/>
          <p:cNvSpPr/>
          <p:nvPr/>
        </p:nvSpPr>
        <p:spPr>
          <a:xfrm>
            <a:off x="500040" y="207180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ttp://festival.1september.ru/articles/502536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500040" y="657216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ttp://zanimatika.narod.ru/Nachalka1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628748-c437f814d729a582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2" descr=""/>
          <p:cNvPicPr/>
          <p:nvPr/>
        </p:nvPicPr>
        <p:blipFill>
          <a:blip r:embed="rId2"/>
          <a:stretch/>
        </p:blipFill>
        <p:spPr>
          <a:xfrm>
            <a:off x="633240" y="2352600"/>
            <a:ext cx="5091120" cy="10922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4" descr=""/>
          <p:cNvPicPr/>
          <p:nvPr/>
        </p:nvPicPr>
        <p:blipFill>
          <a:blip r:embed="rId3"/>
          <a:stretch/>
        </p:blipFill>
        <p:spPr>
          <a:xfrm>
            <a:off x="762120" y="3687840"/>
            <a:ext cx="46940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628748-c437f814d729a582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-6480" y="1390680"/>
            <a:ext cx="6083280" cy="2766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928800" y="3786120"/>
            <a:ext cx="4286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Зелёный, кра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Яркий м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 ребят пальти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ним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еревья в листики оден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Звени ручь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Целый де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уда я в ма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и пой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езде я солныш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й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628748-c437f814d729a582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7" descr=""/>
          <p:cNvPicPr/>
          <p:nvPr/>
        </p:nvPicPr>
        <p:blipFill>
          <a:blip r:embed="rId2"/>
          <a:stretch/>
        </p:blipFill>
        <p:spPr>
          <a:xfrm>
            <a:off x="493560" y="1206360"/>
            <a:ext cx="5011920" cy="8715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357120" y="2000160"/>
            <a:ext cx="6215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Май  – это последний месяц весны, состоящий из 31 дня. В календаре он занимает пятое место и располагается между апрелем и июнем.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       Название «май» происходит из Византии.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А назван он в честь римской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богини Май. Древние славяне же его называли «травень» или «травный».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     В старину на Руси май считался третьим месяцем в году. Когда год стали считать с сентября – девятым. Пятым же он стал только в 1700 году.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    В народном творчестве можно найти много поговорок про май: "Коли март сух да мокр май, так будет каша и коровай", "Сей и холь яровое в мае, так будет зимою добро", "Ай, ай, государь май, тепел да холоден", "Коли в Мае дождь, будет и рожь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628748-c437f814d729a582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420840" y="3279600"/>
            <a:ext cx="5730840" cy="25848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4" descr=""/>
          <p:cNvPicPr/>
          <p:nvPr/>
        </p:nvPicPr>
        <p:blipFill>
          <a:blip r:embed="rId3"/>
          <a:stretch/>
        </p:blipFill>
        <p:spPr>
          <a:xfrm>
            <a:off x="633240" y="2494080"/>
            <a:ext cx="4803840" cy="7254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5" descr=""/>
          <p:cNvPicPr/>
          <p:nvPr/>
        </p:nvPicPr>
        <p:blipFill>
          <a:blip r:embed="rId4"/>
          <a:stretch/>
        </p:blipFill>
        <p:spPr>
          <a:xfrm>
            <a:off x="420840" y="5992920"/>
            <a:ext cx="5157720" cy="11570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6" descr=""/>
          <p:cNvPicPr/>
          <p:nvPr/>
        </p:nvPicPr>
        <p:blipFill>
          <a:blip r:embed="rId5"/>
          <a:stretch/>
        </p:blipFill>
        <p:spPr>
          <a:xfrm>
            <a:off x="566640" y="7211880"/>
            <a:ext cx="5157720" cy="5796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7" descr=""/>
          <p:cNvPicPr/>
          <p:nvPr/>
        </p:nvPicPr>
        <p:blipFill>
          <a:blip r:embed="rId6"/>
          <a:stretch/>
        </p:blipFill>
        <p:spPr>
          <a:xfrm>
            <a:off x="493560" y="7778880"/>
            <a:ext cx="50850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628748-c437f814d729a582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357120" y="207180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еленеет даль полей,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апевает соловей.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 белый цвет оделся сад.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челы первые летят.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Гром грохочет. Подскажи,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Скорей месяц назови.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2928960" y="4504680"/>
            <a:ext cx="3500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33"/>
                </a:solidFill>
                <a:latin typeface="Arial"/>
              </a:rPr>
              <a:t>В лапотках бежит малыш,   </a:t>
            </a:r>
            <a:br>
              <a:rPr sz="23000"/>
            </a:br>
            <a:r>
              <a:rPr b="1" lang="ru-RU" sz="2000" spc="-1" strike="noStrike">
                <a:solidFill>
                  <a:srgbClr val="cc3333"/>
                </a:solidFill>
                <a:latin typeface="Arial"/>
              </a:rPr>
              <a:t>ты шаги его услышь. </a:t>
            </a:r>
            <a:br>
              <a:rPr sz="2000"/>
            </a:br>
            <a:r>
              <a:rPr b="1" lang="ru-RU" sz="2000" spc="-1" strike="noStrike">
                <a:solidFill>
                  <a:srgbClr val="cc3333"/>
                </a:solidFill>
                <a:latin typeface="Arial"/>
              </a:rPr>
              <a:t>Он бежит, и все цветет,</a:t>
            </a:r>
            <a:br>
              <a:rPr sz="2000"/>
            </a:br>
            <a:r>
              <a:rPr b="1" lang="ru-RU" sz="2000" spc="-1" strike="noStrike">
                <a:solidFill>
                  <a:srgbClr val="cc3333"/>
                </a:solidFill>
                <a:latin typeface="Arial"/>
              </a:rPr>
              <a:t>он смеется – все поет. </a:t>
            </a:r>
            <a:br>
              <a:rPr sz="2000"/>
            </a:br>
            <a:r>
              <a:rPr b="1" lang="ru-RU" sz="2000" spc="-1" strike="noStrike">
                <a:solidFill>
                  <a:srgbClr val="cc3333"/>
                </a:solidFill>
                <a:latin typeface="Arial"/>
              </a:rPr>
              <a:t>Спрятал счастье в лепестках </a:t>
            </a:r>
            <a:br>
              <a:rPr sz="2000"/>
            </a:br>
            <a:r>
              <a:rPr b="1" lang="ru-RU" sz="2000" spc="-1" strike="noStrike">
                <a:solidFill>
                  <a:srgbClr val="cc3333"/>
                </a:solidFill>
                <a:latin typeface="Arial"/>
              </a:rPr>
              <a:t>у сирени на кустах.. </a:t>
            </a:r>
            <a:br>
              <a:rPr sz="2000"/>
            </a:br>
            <a:r>
              <a:rPr b="1" lang="ru-RU" sz="2000" spc="-1" strike="noStrike">
                <a:solidFill>
                  <a:srgbClr val="cc3333"/>
                </a:solidFill>
                <a:latin typeface="Arial"/>
              </a:rPr>
              <a:t>«Ландыш мой, благоухай!» - </a:t>
            </a:r>
            <a:br>
              <a:rPr sz="2000"/>
            </a:br>
            <a:r>
              <a:rPr b="1" lang="ru-RU" sz="2000" spc="-1" strike="noStrike">
                <a:solidFill>
                  <a:srgbClr val="cc3333"/>
                </a:solidFill>
                <a:latin typeface="Arial"/>
              </a:rPr>
              <a:t>повелел веселый ........</a:t>
            </a:r>
            <a:r>
              <a:rPr b="1" lang="ru-RU" sz="1800" spc="-1" strike="noStrike">
                <a:solidFill>
                  <a:srgbClr val="cc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"/>
          <p:cNvSpPr/>
          <p:nvPr/>
        </p:nvSpPr>
        <p:spPr>
          <a:xfrm>
            <a:off x="2990880" y="-1235160"/>
            <a:ext cx="199080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3786120" y="1928880"/>
            <a:ext cx="2067120" cy="22143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6"/>
          <p:cNvSpPr/>
          <p:nvPr/>
        </p:nvSpPr>
        <p:spPr>
          <a:xfrm>
            <a:off x="357120" y="5214960"/>
            <a:ext cx="235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В белый цвет оделся сад,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Пчёлы первые летят.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Гром грохочет. Угадай,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Что за месяц эт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TextBox 8" descr=""/>
          <p:cNvPicPr/>
          <p:nvPr/>
        </p:nvPicPr>
        <p:blipFill>
          <a:blip r:embed="rId3"/>
          <a:stretch/>
        </p:blipFill>
        <p:spPr>
          <a:xfrm>
            <a:off x="1109520" y="476280"/>
            <a:ext cx="42609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628748-c437f814d729a582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428760" y="6500880"/>
            <a:ext cx="435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мае всё цветет и пахнет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Кто увидит, только ахнет -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Лепестки как снег кружатся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ямо под ноги ложатся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ы на одуванчик дунь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 наступит вдруг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500040" y="21430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ай, как птиц из тесной клетки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Листья выпустил на ветки: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прямляйте крылышки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бирайте силушку.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В. Фети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1357200" y="4071960"/>
            <a:ext cx="492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Круглый год. Ма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Самуил Маршак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пустился ландыш в м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самый праздник - в первы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ай цветами провож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пускается сир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628748-c437f814d729a582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" descr=""/>
          <p:cNvPicPr/>
          <p:nvPr/>
        </p:nvPicPr>
        <p:blipFill>
          <a:blip r:embed="rId2"/>
          <a:stretch/>
        </p:blipFill>
        <p:spPr>
          <a:xfrm>
            <a:off x="139680" y="457200"/>
            <a:ext cx="6724800" cy="85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3" descr="628748-c437f814d729a582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2571840" y="2428920"/>
            <a:ext cx="3714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Ландыши первые в мае цветы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, которые ласкают наш взгляд своей утонченностью и непороч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357120" y="2357280"/>
            <a:ext cx="2095560" cy="242892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4" descr=""/>
          <p:cNvPicPr/>
          <p:nvPr/>
        </p:nvPicPr>
        <p:blipFill>
          <a:blip r:embed="rId3"/>
          <a:stretch/>
        </p:blipFill>
        <p:spPr>
          <a:xfrm>
            <a:off x="268200" y="1700280"/>
            <a:ext cx="5924520" cy="6778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428760" y="4857840"/>
            <a:ext cx="5715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уществует такая легенда, что богиня охоты у римлян Диана попала в неведомый ей лес, жителями которого были фавны, они безумно влюбились в богиню и стали за ней гнаться. Но она ловко убежала от преследователей, и во время побега ее тело покрылось капельками душистого пота. Он жемчужинами падал с нее на землю, где тут же образовывались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цветы ландыши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5:26:17Z</dcterms:created>
  <dc:creator>Admin</dc:creator>
  <dc:description/>
  <dc:language>en-US</dc:language>
  <cp:lastModifiedBy>Admin</cp:lastModifiedBy>
  <dcterms:modified xsi:type="dcterms:W3CDTF">2011-05-10T05:08:07Z</dcterms:modified>
  <cp:revision>32</cp:revision>
  <dc:subject/>
  <dc:title>Слайд 1</dc:title>
</cp:coreProperties>
</file>