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D38F-DAF6-410B-922F-50A5836A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3B79-8C41-47EA-8CDE-14C83D94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300-CCC6-45E7-8B3C-CAD5FE3E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363F-3955-40C5-AF3A-7AF69089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CED6-1F02-46EE-9041-BC78FCAA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05D2-2BC8-4D35-9762-95538521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7EDD-69BF-4FB3-B122-2CF75860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48A7-9493-4D65-8245-7BE6A082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EB9E-7442-4249-9E5E-948D67DE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E39E-0D9A-4692-9C74-4A28D563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68F8-11F3-4F79-8390-2F457073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D46-7582-4ED8-8F9C-F9023492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26CF-8F3B-4B8F-B191-B9D7BF91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64EA-1039-416F-9DDC-CB4A1F89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FB8A-D85C-4986-B631-0FF491B9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0A75-6E41-41BD-9678-CB5889F1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5AAF-7FC7-407F-A9DF-17ED830D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CDA5-E95A-4109-8B64-8F93F1EA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A147-7D3B-4A1B-822A-FBA4C472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045-F107-4170-B546-DEB87532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BD02-17D7-4EE9-8557-A99410DE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FE92-0058-4C6D-BEB2-264C1BF5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DE0-887F-462C-87FD-3F65ECFB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D600-35D4-40D1-B3B2-1A0ADEE4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8162-A5C3-48CE-A5AA-8D2E37A6E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259D-2F2A-40FC-BA19-D5E194DA34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Развитие мелкой моторики у девочек дошкольного возраста в продуктивных видах деятельности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(народное творчество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25780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ДОУ №15 Воспитате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ердичевская В.В.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злова Н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4876560" cy="325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ружок «Бисероплетение», «Вязание крючком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и виды рукоделия, пришедшие к нам из глубины веков, успокаивают нервную систему, способствуют развитию мелких мышц рук, воспитывают усидчивость, вызывают желание создавать красоту своими рук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09680" y="3124080"/>
            <a:ext cx="4267440" cy="2955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Слушать ребёнка, фантазировать с ним, играть, тем самым погружаться в мир детства. Только понимая своего ребёнка, а не отталкивая, можно добиться больших результатов в его развитии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00400" y="3733920"/>
            <a:ext cx="2131920" cy="2514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838080" y="1905120"/>
            <a:ext cx="2646360" cy="3047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4"/>
          <a:srcRect l="3566" t="12352" r="12480" b="7411"/>
          <a:stretch/>
        </p:blipFill>
        <p:spPr>
          <a:xfrm>
            <a:off x="5257800" y="2743200"/>
            <a:ext cx="3390840" cy="234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звитие мелкой моторики и подготовка руки к письму должна начинаться до поступления детей в школу. Совместная работа, родителей и воспитателей способствует более эффективной подготовленности детей к школе. Ведь если развивать пальцы рук, развивать речь и мышление ребёнка, то проблем в обучении не будет.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464832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6:12:17Z</dcterms:created>
  <dc:creator>Александр</dc:creator>
  <dc:description/>
  <dc:language>en-US</dc:language>
  <cp:lastModifiedBy>Хозяин</cp:lastModifiedBy>
  <dcterms:modified xsi:type="dcterms:W3CDTF">2010-09-23T16:58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