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CE7-208F-46FC-A1AD-A001078E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A01-E081-4870-9FBD-F399E09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FF7-67A5-4C9A-9A3B-DEE7DE6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0CF-8819-432B-BD4D-E2EBC2D5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284-5A28-4411-BADF-009F6E0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A83-DCF7-4B04-AB79-FB3B95B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7EA-1086-4AF3-B4DC-9F3DB44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F65-955F-4112-86CA-E35427A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FF6-A1DF-4ABC-A761-13C028A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748-6F6D-4524-A575-BB0057F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61F-1D7B-4009-8AEF-0AD7933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916-D9C2-42EA-AC2D-F93AE08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9082-DBD2-4C8A-B8C1-FE50B0208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" Target="slide19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6.xml"/><Relationship Id="rId14" Type="http://schemas.openxmlformats.org/officeDocument/2006/relationships/slide" Target="slide15.xml"/><Relationship Id="rId15" Type="http://schemas.openxmlformats.org/officeDocument/2006/relationships/slide" Target="slide14.xml"/><Relationship Id="rId16" Type="http://schemas.openxmlformats.org/officeDocument/2006/relationships/slide" Target="slide13.xml"/><Relationship Id="rId17" Type="http://schemas.openxmlformats.org/officeDocument/2006/relationships/slide" Target="slide12.xml"/><Relationship Id="rId18" Type="http://schemas.openxmlformats.org/officeDocument/2006/relationships/slide" Target="slide11.xml"/><Relationship Id="rId19" Type="http://schemas.openxmlformats.org/officeDocument/2006/relationships/slide" Target="slide10.xml"/><Relationship Id="rId20" Type="http://schemas.openxmlformats.org/officeDocument/2006/relationships/slide" Target="slide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4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1714680" y="428760"/>
            <a:ext cx="6400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2 </a:t>
            </a:r>
            <a:r>
              <a:rPr b="1" lang="ru-RU" sz="4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_AntiqueTradyNr"/>
              </a:rPr>
              <a:t>Кулаева Ирин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_AvanteBs"/>
              </a:rPr>
              <a:t>учитель 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_AvanteBs"/>
              </a:rPr>
              <a:t>НОЧУ гимназия «Мастер класс» Истринский р-н, 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2143080" y="285840"/>
            <a:ext cx="48578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Окружающий мир, </a:t>
            </a:r>
            <a:r>
              <a:rPr b="1" lang="en-US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Condensed"/>
                <a:ea typeface="Times New Roman"/>
              </a:rPr>
              <a:t>1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Текст 8"/>
          <p:cNvSpPr/>
          <p:nvPr/>
        </p:nvSpPr>
        <p:spPr>
          <a:xfrm>
            <a:off x="642960" y="1214280"/>
            <a:ext cx="78580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428840" y="1214280"/>
            <a:ext cx="6215040" cy="4515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6" descr=""/>
          <p:cNvPicPr/>
          <p:nvPr/>
        </p:nvPicPr>
        <p:blipFill>
          <a:blip r:embed="rId4"/>
          <a:stretch/>
        </p:blipFill>
        <p:spPr>
          <a:xfrm>
            <a:off x="1066680" y="1090440"/>
            <a:ext cx="7083720" cy="4200840"/>
          </a:xfrm>
          <a:prstGeom prst="rect">
            <a:avLst/>
          </a:prstGeom>
          <a:ln w="0">
            <a:noFill/>
          </a:ln>
        </p:spPr>
      </p:pic>
      <p:pic>
        <p:nvPicPr>
          <p:cNvPr id="50" name="zvuki_prirody_-_penie_ptits_(zaycev.net).mp3" descr=""/>
          <p:cNvPicPr/>
          <p:nvPr/>
        </p:nvPicPr>
        <p:blipFill>
          <a:blip r:embed="rId5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468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071800" y="214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Monotype Corsiva"/>
                <a:ea typeface="Times New Roman"/>
              </a:rPr>
              <a:t>Знакомые  незнаком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43080" y="1643040"/>
            <a:ext cx="492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этих птиц в трели насчитывается до 40 колен.  Вот некоторые из них: пульканье, клыканье, дробь, раскат, пленканье, гусачок, оттол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8760" y="5904000"/>
            <a:ext cx="1571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143080" y="564372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5000400" cy="3857400"/>
          </a:xfrm>
          <a:prstGeom prst="rect">
            <a:avLst/>
          </a:prstGeom>
          <a:ln w="0">
            <a:noFill/>
          </a:ln>
        </p:spPr>
      </p:pic>
      <p:pic>
        <p:nvPicPr>
          <p:cNvPr id="154" name="03.Соловьиная перекличка.mp3" descr=""/>
          <p:cNvPicPr/>
          <p:nvPr/>
        </p:nvPicPr>
        <p:blipFill>
          <a:blip r:embed="rId3"/>
          <a:stretch/>
        </p:blipFill>
        <p:spPr>
          <a:xfrm>
            <a:off x="8501040" y="5143680"/>
            <a:ext cx="64296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4193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071800" y="214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2d050"/>
                </a:solidFill>
                <a:latin typeface="Monotype Corsiva"/>
                <a:ea typeface="Times New Roman"/>
              </a:rPr>
              <a:t>Знакомые  незнаком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000160" y="1357200"/>
            <a:ext cx="5143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аукционе в Италии были проданы три птицы за …     2,5 миллиона долларов. Деньги платили американские, а покупали птиц исконно русской Павловской породы,   которых на родине "днём с огнём не сыщешь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7120" y="5857920"/>
            <a:ext cx="1571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428920" y="571500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1857240" y="1071720"/>
            <a:ext cx="5373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28880" y="21420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92d050"/>
                </a:solidFill>
                <a:latin typeface="Monotype Corsiva"/>
                <a:ea typeface="Times New Roman"/>
              </a:rPr>
              <a:t>Знакомые  незнаком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214720" y="20001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ласточки перед  дождём летают низ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57120" y="5929200"/>
            <a:ext cx="1571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00160" y="5643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ловят насекомых, которых  холодный воздух прибивает к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C:\Users\Алена\Desktop\1214788.jpg"/>
          <p:cNvPicPr/>
          <p:nvPr/>
        </p:nvPicPr>
        <p:blipFill>
          <a:blip r:embed="rId2"/>
          <a:stretch/>
        </p:blipFill>
        <p:spPr>
          <a:xfrm>
            <a:off x="2500200" y="928800"/>
            <a:ext cx="4152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0"/>
          <p:cNvSpPr/>
          <p:nvPr/>
        </p:nvSpPr>
        <p:spPr>
          <a:xfrm>
            <a:off x="7956720" y="407664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7020000" y="407664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6084720" y="407664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5076720" y="407664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>
            <a:off x="4211640" y="407664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6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611280" y="407664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ntiqua"/>
                <a:ea typeface="Times New Roman"/>
              </a:rPr>
              <a:t>Красная 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7956720" y="342900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020000" y="342900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8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6084720" y="342900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9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5076720" y="342900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211640" y="342900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1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611280" y="342900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ntiqua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7956720" y="275112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2" action="ppaction://hlinksldjump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7020000" y="275112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6084720" y="275112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5076720" y="275112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5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4211640" y="275112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6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42960" y="278604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ntiqua"/>
              </a:rPr>
              <a:t>Гнё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956720" y="2075040"/>
            <a:ext cx="79200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7" action="ppaction://hlinksldjump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7020000" y="2075040"/>
            <a:ext cx="93672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084720" y="2075040"/>
            <a:ext cx="93528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5076720" y="2075040"/>
            <a:ext cx="100800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1640" y="2075040"/>
            <a:ext cx="865080" cy="6760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1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1280" y="2075040"/>
            <a:ext cx="3600360" cy="676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50"/>
                </a:solidFill>
                <a:latin typeface="Antiqua"/>
                <a:ea typeface="Times New Roman"/>
              </a:rPr>
              <a:t>Знакомые незнакомц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956720" y="1397160"/>
            <a:ext cx="792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7020000" y="1397160"/>
            <a:ext cx="93672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3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084720" y="1397160"/>
            <a:ext cx="9352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76720" y="1397160"/>
            <a:ext cx="100800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211640" y="1397160"/>
            <a:ext cx="865080" cy="67788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6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680" y="1428840"/>
            <a:ext cx="3600360" cy="67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ntiqua"/>
              </a:rPr>
              <a:t>Самые-са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>
            <a:off x="571680" y="1428840"/>
            <a:ext cx="8137440" cy="0"/>
          </a:xfrm>
          <a:prstGeom prst="line">
            <a:avLst/>
          </a:prstGeom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611280" y="207504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611280" y="275112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4"/>
          <p:cNvSpPr/>
          <p:nvPr/>
        </p:nvSpPr>
        <p:spPr>
          <a:xfrm>
            <a:off x="611280" y="342900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5"/>
          <p:cNvSpPr/>
          <p:nvPr/>
        </p:nvSpPr>
        <p:spPr>
          <a:xfrm>
            <a:off x="611280" y="410688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611280" y="4782960"/>
            <a:ext cx="8137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565200" y="1428840"/>
            <a:ext cx="46080" cy="3224160"/>
          </a:xfrm>
          <a:prstGeom prst="line">
            <a:avLst/>
          </a:prstGeom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4211640" y="1397160"/>
            <a:ext cx="74520" cy="338904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5076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1"/>
          <p:cNvSpPr/>
          <p:nvPr/>
        </p:nvSpPr>
        <p:spPr>
          <a:xfrm>
            <a:off x="6084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2"/>
          <p:cNvSpPr/>
          <p:nvPr/>
        </p:nvSpPr>
        <p:spPr>
          <a:xfrm>
            <a:off x="702000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3"/>
          <p:cNvSpPr/>
          <p:nvPr/>
        </p:nvSpPr>
        <p:spPr>
          <a:xfrm>
            <a:off x="7956720" y="1397160"/>
            <a:ext cx="0" cy="3400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4"/>
          <p:cNvSpPr/>
          <p:nvPr/>
        </p:nvSpPr>
        <p:spPr>
          <a:xfrm flipH="1">
            <a:off x="8715240" y="1428840"/>
            <a:ext cx="46080" cy="3286080"/>
          </a:xfrm>
          <a:prstGeom prst="line">
            <a:avLst/>
          </a:prstGeom>
          <a:ln cap="sq"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3"/>
          <p:cNvSpPr/>
          <p:nvPr/>
        </p:nvSpPr>
        <p:spPr>
          <a:xfrm>
            <a:off x="2843280" y="26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ylfaen"/>
              </a:rPr>
              <a:t>СВО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4"/>
          <p:cNvSpPr/>
          <p:nvPr/>
        </p:nvSpPr>
        <p:spPr>
          <a:xfrm>
            <a:off x="2000160" y="50007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КАТЕГОРИИ   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928880" y="1000080"/>
            <a:ext cx="5286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птица - самая маленькая в мире. Она весит около 1,6 грамма, а ее длина составляет 5,7 сантиметров. Она ест каждые 10 минут, ежедневно поедая нектара в два раза больше её собственного веса. Эта единственная в мире птица, способная летать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4200" y="5786280"/>
            <a:ext cx="1714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357280" y="56437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б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2" action="ppaction://hlinksldjump"/>
          </p:cNvPr>
          <p:cNvSpPr/>
          <p:nvPr/>
        </p:nvSpPr>
        <p:spPr>
          <a:xfrm>
            <a:off x="8286840" y="6021360"/>
            <a:ext cx="857160" cy="836640"/>
          </a:xfrm>
          <a:custGeom>
            <a:avLst/>
            <a:gdLst>
              <a:gd name="textAreaLeft" fmla="*/ 54000 w 857160"/>
              <a:gd name="textAreaRight" fmla="*/ 803160 w 8571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2130" h="21600">
                <a:moveTo>
                  <a:pt x="0" y="0"/>
                </a:moveTo>
                <a:lnTo>
                  <a:pt x="22130" y="0"/>
                </a:lnTo>
                <a:lnTo>
                  <a:pt x="22130" y="21600"/>
                </a:lnTo>
                <a:lnTo>
                  <a:pt x="0" y="21600"/>
                </a:lnTo>
                <a:close/>
              </a:path>
              <a:path fill="lightenLess" w="22130" h="21600">
                <a:moveTo>
                  <a:pt x="0" y="0"/>
                </a:moveTo>
                <a:lnTo>
                  <a:pt x="22130" y="0"/>
                </a:lnTo>
                <a:lnTo>
                  <a:pt x="20730" y="1400"/>
                </a:lnTo>
                <a:lnTo>
                  <a:pt x="1400" y="1400"/>
                </a:lnTo>
                <a:close/>
              </a:path>
              <a:path fill="darken" w="22130" h="21600">
                <a:moveTo>
                  <a:pt x="22130" y="0"/>
                </a:moveTo>
                <a:lnTo>
                  <a:pt x="22130" y="21600"/>
                </a:lnTo>
                <a:lnTo>
                  <a:pt x="20730" y="20200"/>
                </a:lnTo>
                <a:lnTo>
                  <a:pt x="20730" y="1400"/>
                </a:lnTo>
                <a:close/>
              </a:path>
              <a:path fill="darkenLess" w="22130" h="21600">
                <a:moveTo>
                  <a:pt x="22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30" y="20200"/>
                </a:lnTo>
                <a:close/>
              </a:path>
              <a:path fill="lighten" w="22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30" h="21600">
                <a:moveTo>
                  <a:pt x="11065" y="3837"/>
                </a:moveTo>
                <a:lnTo>
                  <a:pt x="13641" y="6448"/>
                </a:lnTo>
                <a:lnTo>
                  <a:pt x="13641" y="4707"/>
                </a:lnTo>
                <a:lnTo>
                  <a:pt x="15417" y="4707"/>
                </a:lnTo>
                <a:lnTo>
                  <a:pt x="15417" y="8224"/>
                </a:lnTo>
                <a:lnTo>
                  <a:pt x="18028" y="10800"/>
                </a:lnTo>
                <a:lnTo>
                  <a:pt x="16374" y="10800"/>
                </a:lnTo>
                <a:lnTo>
                  <a:pt x="16374" y="17989"/>
                </a:lnTo>
                <a:lnTo>
                  <a:pt x="5756" y="17989"/>
                </a:lnTo>
                <a:lnTo>
                  <a:pt x="5756" y="10800"/>
                </a:lnTo>
                <a:lnTo>
                  <a:pt x="4102" y="10800"/>
                </a:lnTo>
                <a:close/>
              </a:path>
              <a:path fill="darkenLess" w="22130" h="21600">
                <a:moveTo>
                  <a:pt x="13641" y="6448"/>
                </a:moveTo>
                <a:lnTo>
                  <a:pt x="13641" y="4707"/>
                </a:lnTo>
                <a:lnTo>
                  <a:pt x="15417" y="4707"/>
                </a:lnTo>
                <a:lnTo>
                  <a:pt x="15417" y="8224"/>
                </a:lnTo>
                <a:close/>
              </a:path>
              <a:path fill="darkenLess" w="22130" h="21600">
                <a:moveTo>
                  <a:pt x="10142" y="14299"/>
                </a:moveTo>
                <a:lnTo>
                  <a:pt x="11987" y="14299"/>
                </a:lnTo>
                <a:lnTo>
                  <a:pt x="11987" y="17989"/>
                </a:lnTo>
                <a:lnTo>
                  <a:pt x="16374" y="17989"/>
                </a:lnTo>
                <a:lnTo>
                  <a:pt x="16374" y="10800"/>
                </a:lnTo>
                <a:lnTo>
                  <a:pt x="5756" y="10800"/>
                </a:lnTo>
                <a:lnTo>
                  <a:pt x="5756" y="17989"/>
                </a:lnTo>
                <a:lnTo>
                  <a:pt x="10142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000160" y="214200"/>
            <a:ext cx="509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амые - са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3"/>
          <a:stretch/>
        </p:blipFill>
        <p:spPr>
          <a:xfrm>
            <a:off x="1643040" y="1143000"/>
            <a:ext cx="5796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2000160" y="1214280"/>
            <a:ext cx="507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птица является самым быстрым бегуном из нелетающих птиц,               она может разви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до 72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7120" y="5929200"/>
            <a:ext cx="1643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071800" y="557208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785960" y="21420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амые - са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9" descr=""/>
          <p:cNvPicPr/>
          <p:nvPr/>
        </p:nvPicPr>
        <p:blipFill>
          <a:blip r:embed="rId2"/>
          <a:stretch/>
        </p:blipFill>
        <p:spPr>
          <a:xfrm>
            <a:off x="2143080" y="1428840"/>
            <a:ext cx="48229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000160" y="1357200"/>
            <a:ext cx="5143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птица считается самым быстрым пловцом, при плаванье его скорость может достигать 36 км/ч. Она является самым глубоким ныряльщиком, 1990 году был зафиксирован случай погружения на глубину            в 483 ме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57120" y="5857920"/>
            <a:ext cx="1532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071800" y="5715000"/>
            <a:ext cx="507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уанский пингви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143080" y="214200"/>
            <a:ext cx="48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амые - са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2" descr=""/>
          <p:cNvPicPr/>
          <p:nvPr/>
        </p:nvPicPr>
        <p:blipFill>
          <a:blip r:embed="rId2"/>
          <a:stretch/>
        </p:blipFill>
        <p:spPr>
          <a:xfrm>
            <a:off x="2857680" y="85716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071800" y="135720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я, подтверждают, что эта птица способна развивать максимальную скорость       до 200 км/ч, когда она камнем бросается вниз с большой высоты, защищая свою территорию или охотясь на птиц в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57120" y="5857920"/>
            <a:ext cx="1571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43080" y="557208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пс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857240" y="21420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амые - са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2214720" y="1214280"/>
            <a:ext cx="47624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2071800" y="1214280"/>
            <a:ext cx="50720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ая большая птица из всех умеющих летать. У этой птицы размах крыльев может достигать 3 метров. Вес составляет 15 кг. Она может подниматься на большие высоты — до 10 километров. Она любит селиться в скалистых местах, где много камней. Там она строит гнезда, в которых впоследствии выводит птенц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8760" y="5857920"/>
            <a:ext cx="1571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214720" y="557208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д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71800" y="21420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амые - са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071800" y="285840"/>
            <a:ext cx="50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Знакомые  незнаком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000160" y="1357200"/>
            <a:ext cx="5143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единственная птица, удостоенная военной награды. Доставляя сообщение во время первой мировой войны, она потеряла глаз и ногу. Она получила медаль «За отвагу» и протез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57120" y="5857920"/>
            <a:ext cx="1554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356000" y="580536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5100480" cy="37861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2"/>
          <p:cNvSpPr/>
          <p:nvPr/>
        </p:nvSpPr>
        <p:spPr>
          <a:xfrm>
            <a:off x="1928880" y="57862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товый голубь Шер 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071800" y="214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2d050"/>
                </a:solidFill>
                <a:latin typeface="Monotype Corsiva"/>
                <a:ea typeface="Times New Roman"/>
              </a:rPr>
              <a:t>Знакомые  незнаком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00160" y="121428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птица может поворачивать голову на 270 градусов и делать почти полный кр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57120" y="5857920"/>
            <a:ext cx="1555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835200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2143080" y="564372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Алена\Desktop\56801109_1269267310_098.jpg"/>
          <p:cNvPicPr/>
          <p:nvPr/>
        </p:nvPicPr>
        <p:blipFill>
          <a:blip r:embed="rId2"/>
          <a:stretch/>
        </p:blipFill>
        <p:spPr>
          <a:xfrm>
            <a:off x="1928880" y="13572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3:54:26Z</dcterms:created>
  <dc:creator>Astvacaturov</dc:creator>
  <dc:description/>
  <dc:language>en-US</dc:language>
  <cp:lastModifiedBy>ирина</cp:lastModifiedBy>
  <dcterms:modified xsi:type="dcterms:W3CDTF">2012-07-31T17:59:42Z</dcterms:modified>
  <cp:revision>246</cp:revision>
  <dc:subject/>
  <dc:title>Слайд 1</dc:title>
</cp:coreProperties>
</file>