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CEC2-4B08-4341-8806-03324550D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5FC2-13EE-4BFC-89F6-1D43B3310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BC5C-6885-4E95-93CF-44351802C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6C3F-6586-4774-B1BA-772205CEC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0D6E8-60EF-499A-8E1F-3F3044075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06AEF-B8BB-4FC0-8FAC-CC66E5F85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E2E08-6C16-428A-98D7-EE8BDBBD7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BFB5E-6633-4423-8006-B00B99C6D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B5BFD-C779-49E4-8F2F-9BDC2DDDF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7ACCA-7B2F-408E-B7DB-2DE8044AE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B6662-295B-42E3-8DA3-C5C8766B1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445C-E633-491A-AE6E-5E3C8A407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47B7C-A7C7-4232-8F49-E2EA4A24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F8B41-11E6-407F-A85E-D352D0DB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FE629-7238-4606-8F14-9EB02D9A4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3BE1E-8958-4AEB-90BA-FB8025A61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BA923-3785-4829-B356-965EB5EA1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92C9C1-E2B4-452B-80FB-0984092A5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E7B0CA-A8C9-43EE-8F45-835629A30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332FB3-3DE1-4A4C-8865-6767FD1E7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8A63F9-71B1-4B16-84AF-8A5AA7002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0B57E1-5FF2-4030-8DEF-9C758CF14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41ED-255A-4F33-BB94-50429C4BB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1DE62B-F1F7-40C3-9F56-B5FE980E8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330D11-A6B6-4EDA-B9AF-05FEC444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A9A74A-3351-4162-B71E-98D2F29A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6E6725-4A4D-4C15-821F-9DCCFBDF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B817C9-6610-4F43-B34F-4FCFAB6D0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FC45CF-A537-4920-A37B-7EC0AEA50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B19F1C-7B39-4F2B-8234-E80AF1FD7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15880-E78A-459B-A19E-D19DD3170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4A89E-00BF-4E33-99E5-69EE2A439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818C0-3710-4F23-944A-E0B0D5F9F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DEAA-7364-4B95-8B64-34955E569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190D5-7DB3-45BE-BCD6-6F71D7A06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8B720-9724-469B-83A1-1397B419C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45B4C-856B-430F-9FAA-9FDF8DD65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02319-0326-450F-9DD5-B455E45F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67411-7B41-43FB-8668-7878E0D4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AD51F-16BB-496B-854E-70319B46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6F8CE-DA66-4692-B6BF-4DFA8810F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F7559-95FD-4CB5-8D75-2CDD6B8EC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B26F2-7853-41C8-904D-0AFE5D358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73E7DE-66DF-4399-9999-2E61DA112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B826-FC42-4F16-8C92-4386F9702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732EE6-4D80-4CE4-8EA6-006352EEA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73DAC8-28B9-4D97-9011-71F9D09FB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3C1AAD-79DF-4FD3-BAE8-7B5505A1C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39F99B-2F71-45F2-9752-21652C6A0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307CCE-B503-49E4-9461-1C5FA3CD0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5234E4-B912-4274-A166-4EBDE29E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15FB24-B0D0-4410-8225-CB18BDB6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2D4403-BC11-4BA3-AD07-C90524BE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4FF9D8-DDA3-4889-A93B-790788170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5DAB53-DACD-43A6-955C-5599D05C9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62A9-71B9-45A2-ADD7-E7CC8CC7E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797FEC-8CBD-451A-B5D3-61081C2C0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90C8B8-FF85-41A7-B46D-4FB6E4791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C86A53-4CA0-4A33-BA75-DA04DF745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ABC25E-2CE1-4BD9-AF95-1B60FC40D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154BBE-E197-4990-8887-E9FAA6834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0B1F24-A0B2-4A88-8567-0F16FEEC1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5AEE7E-373B-4926-980C-2CC196017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49C22B-D907-453E-BC03-CC64BF3F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3CBB69-D8C1-40FF-B07D-4F06DDCE7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1FC831-4047-4804-A584-EEE91003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203F-5F71-4188-A183-5E41071D8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931EA4-B382-41B7-BF55-2D60141C9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F02E90-3EC2-4137-9F5C-C33D8AB1D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78E441-2994-47C2-AF0E-114775110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A5714C-2ACD-4CC6-A47B-D1C067969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23F2F0-53E2-40BD-994E-AD13E5FE7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A629A3-2637-417D-ACFA-66C45B2BE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18F45D-55BF-4FC8-B4AF-4E3B3381B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463A09-A68A-4BFF-ABC3-0702F1CD9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F4B3C3-4755-4A7F-93D7-5EEEB5B2C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97DE3D-A6B4-4DB3-99B1-B1B47B93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C3F4-ED70-45FB-9865-A9ABFCAB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3AC817-4F23-45B4-988D-ABEE70624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4D21D0-E3D2-4B72-A293-40B7D8F52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5EFF4B-44C2-4B08-800E-0DCE2BDDD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EA450E-4914-4F6A-B830-E63D98217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DFAF2C-CD98-4F2D-B568-DE45B8C1B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71AD-97F0-4065-899E-A9EBF4184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89B1D-4BB1-4725-A58C-F764EE15B09A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abbd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cd5ea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cd5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7ebf5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abbd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7ebf5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abbd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abbd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75A09-BFF2-48EE-9FCB-53BE341A81B5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19857-EF94-4883-BFF0-582124098E71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abbd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cd5ea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cd5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7ebf5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abbd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7ebf5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abbd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abbd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bf5f9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BA7CF-C626-435C-9C17-CE6162224DFC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1F5E5-B689-4AED-A300-853089FD93EB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3A5DA-51AA-4741-ABDA-61DEF6A4230A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01F04-D2E0-4B80-833C-285C1EFDEA17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WordArt 6" descr=""/>
          <p:cNvPicPr/>
          <p:nvPr/>
        </p:nvPicPr>
        <p:blipFill>
          <a:blip r:embed="rId1"/>
          <a:stretch/>
        </p:blipFill>
        <p:spPr>
          <a:xfrm>
            <a:off x="560520" y="285840"/>
            <a:ext cx="8059680" cy="1298520"/>
          </a:xfrm>
          <a:prstGeom prst="rect">
            <a:avLst/>
          </a:prstGeom>
          <a:ln w="0">
            <a:noFill/>
          </a:ln>
        </p:spPr>
      </p:pic>
      <p:sp>
        <p:nvSpPr>
          <p:cNvPr id="376" name="TextBox 4"/>
          <p:cNvSpPr/>
          <p:nvPr/>
        </p:nvSpPr>
        <p:spPr>
          <a:xfrm>
            <a:off x="2209680" y="3352680"/>
            <a:ext cx="670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МБОУ «ООШ» с. Усть – Лыж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рипова Сагида Фарид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6"/>
          <p:cNvSpPr/>
          <p:nvPr/>
        </p:nvSpPr>
        <p:spPr>
          <a:xfrm>
            <a:off x="2819520" y="59436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15 г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533520" y="5331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бучении должна быть обеспеченна последовательность в продвижении ученика по уровням;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контроля и оценка знаний должны отражать принятый уровневый подход;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овольность в выборе уровня  усвоения и отчётности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0" y="6091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Для осуществления уровневой дифференциации можно избрать путь формирования мобильных групп учащихся.  В качестве показателя для распределения учащихся по группам можно избрать темп овладения материалом и способность самостоятельно применять усвоенные знания и умения.  Выделяют четыре уровня:  высокий;  средний;  низкий; неуспевающих учащихся, отстающих в умственном развитии от сверстников и имеющих значительные пробелы в знаниях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pull dir="lu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ОРГАНИЗАЦИЯ</a:t>
            </a:r>
            <a:r>
              <a:rPr b="0" lang="ru-RU" sz="2800" spc="-1" strike="noStrike">
                <a:solidFill>
                  <a:srgbClr val="e2d700"/>
                </a:solidFill>
                <a:latin typeface="Century Schoolbook"/>
              </a:rPr>
              <a:t> </a:t>
            </a:r>
            <a:r>
              <a:rPr b="1" i="1" lang="ru-RU" sz="2800" spc="-1" strike="noStrike">
                <a:solidFill>
                  <a:srgbClr val="04617b"/>
                </a:solidFill>
                <a:latin typeface="Century Schoolbook"/>
              </a:rPr>
              <a:t>ДИФФЕРЕНЦИРОВАННОГО</a:t>
            </a:r>
            <a:r>
              <a:rPr b="0" lang="ru-RU" sz="2800" spc="-1" strike="noStrike">
                <a:solidFill>
                  <a:srgbClr val="e2d700"/>
                </a:solidFill>
                <a:latin typeface="Century Schoolbook"/>
              </a:rPr>
              <a:t> </a:t>
            </a:r>
            <a:r>
              <a:rPr b="1" i="1" lang="ru-RU" sz="2800" spc="-1" strike="noStrike">
                <a:solidFill>
                  <a:srgbClr val="04617b"/>
                </a:solidFill>
                <a:latin typeface="Century Schoolbook"/>
              </a:rPr>
              <a:t>ПОДХОДА</a:t>
            </a:r>
            <a:r>
              <a:rPr b="0" lang="ru-RU" sz="2800" spc="-1" strike="noStrike">
                <a:solidFill>
                  <a:srgbClr val="e2d700"/>
                </a:solidFill>
                <a:latin typeface="Century Schoolbook"/>
              </a:rPr>
              <a:t> </a:t>
            </a:r>
            <a:r>
              <a:rPr b="1" i="1" lang="ru-RU" sz="2800" spc="-1" strike="noStrike">
                <a:solidFill>
                  <a:srgbClr val="04617b"/>
                </a:solidFill>
                <a:latin typeface="Century Schoolbook"/>
              </a:rPr>
              <a:t>НА</a:t>
            </a:r>
            <a:r>
              <a:rPr b="0" lang="ru-RU" sz="2800" spc="-1" strike="noStrike">
                <a:solidFill>
                  <a:srgbClr val="e2d700"/>
                </a:solidFill>
                <a:latin typeface="Century Schoolbook"/>
              </a:rPr>
              <a:t> </a:t>
            </a:r>
            <a:r>
              <a:rPr b="1" i="1" lang="ru-RU" sz="2800" spc="-1" strike="noStrike">
                <a:solidFill>
                  <a:srgbClr val="04617b"/>
                </a:solidFill>
                <a:latin typeface="Century Schoolbook"/>
              </a:rPr>
              <a:t>РАЗЛИЧНЫХ</a:t>
            </a:r>
            <a:r>
              <a:rPr b="0" lang="ru-RU" sz="2800" spc="-1" strike="noStrike">
                <a:solidFill>
                  <a:srgbClr val="e2d700"/>
                </a:solidFill>
                <a:latin typeface="Century Schoolbook"/>
              </a:rPr>
              <a:t> </a:t>
            </a:r>
            <a:r>
              <a:rPr b="1" i="1" lang="ru-RU" sz="2800" spc="-1" strike="noStrike">
                <a:solidFill>
                  <a:srgbClr val="04617b"/>
                </a:solidFill>
                <a:latin typeface="Century Schoolbook"/>
              </a:rPr>
              <a:t>ЭТАПАХ</a:t>
            </a:r>
            <a:r>
              <a:rPr b="0" lang="ru-RU" sz="2800" spc="-1" strike="noStrike">
                <a:solidFill>
                  <a:srgbClr val="e2d700"/>
                </a:solidFill>
                <a:latin typeface="Century Schoolbook"/>
              </a:rPr>
              <a:t> </a:t>
            </a:r>
            <a:r>
              <a:rPr b="1" i="1" lang="ru-RU" sz="2800" spc="-1" strike="noStrike">
                <a:solidFill>
                  <a:srgbClr val="04617b"/>
                </a:solidFill>
                <a:latin typeface="Century Schoolbook"/>
              </a:rPr>
              <a:t>УРОКА</a:t>
            </a:r>
            <a:r>
              <a:rPr b="0" lang="ru-RU" sz="2800" spc="-1" strike="noStrike">
                <a:solidFill>
                  <a:srgbClr val="e2d700"/>
                </a:solidFill>
                <a:latin typeface="Century Schoolbook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0" y="1600200"/>
            <a:ext cx="90676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ПЕРВЫЙ</a:t>
            </a:r>
            <a:r>
              <a:rPr b="1" i="1" lang="ru-RU" sz="2800" spc="-1" strike="noStrike">
                <a:solidFill>
                  <a:srgbClr val="04617b"/>
                </a:solidFill>
                <a:latin typeface="Century Schoolbook"/>
              </a:rPr>
              <a:t> ЭТАП.  </a:t>
            </a:r>
            <a:r>
              <a:rPr b="1" i="1" lang="ru-RU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Введение</a:t>
            </a:r>
            <a:r>
              <a:rPr b="1" i="1" lang="ru-RU" sz="2800" spc="-1" strike="noStrike">
                <a:solidFill>
                  <a:srgbClr val="04617b"/>
                </a:solidFill>
                <a:latin typeface="Century Schoolbook"/>
              </a:rPr>
              <a:t> нового материала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Два пути:  дифференцированный и проблемный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Проблемный подход на трёх уровнях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Ученик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о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ведут поиск.  Учитель указывает лишь результат и формулирует саму  проблему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Для другой группы. Учитель указывает на проблему, но не сообщает конечный  результат, ученики сами формулируют проблему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Учитель указывает на проблему и постепенно подводит учащихся к тому, что они самостоятельно усматривают её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pull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4617b"/>
                </a:solidFill>
                <a:latin typeface="Century Schoolbook"/>
              </a:rPr>
              <a:t>ВТОРОЙ ЭТАП.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228240" y="1523520"/>
            <a:ext cx="8534520" cy="36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А)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ая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 работа учащихся по изучению нового материала;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Б)  Самостоятельная работа учащихся по применению изученной теории к решению задач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РАЗДЕЛЕНИЕ ПО СТЕПЕНИ ПОМОЩИ СО СТОРОНЫ УЧИТЕЛЯ УЧЕНИКАМ.</a:t>
            </a:r>
            <a:endParaRPr b="0" lang="en-US" sz="36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579240" y="1761840"/>
            <a:ext cx="7994520" cy="43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группа. Задание  и литература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группа: а) задание, литература, план;  б) задание, литература, инструктаж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группа. Задание, литература, план, инструктаж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ь помощи со стороны учителя увеличивается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pull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ОСНОВНЫЕ ГРУППЫ ДИФФЕРЕНЦИРОВАННОЙ ПОМОЩИ СО СТОРОНЫ УЧИТЕЛЯ:</a:t>
            </a:r>
            <a:endParaRPr b="0" lang="en-US" sz="36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ание алгоритма решения;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едение аналогичной задачи решенной ранее;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ание хода выполнения подобного задания;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жение выполнить вспомогательное задание, наводящее на решение основной задачи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304560" y="76212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едение на поиск решения с помощью ассоциаций;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ание причинно-следственных связей, необходимых для выполнения задания;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ание ответа, результата заранее;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членение сложной задачи на ряд элементарных;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304560" y="5335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ка наводящих вопросов;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ание формул, теорем на основании которых выполняется задание;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преждение о типичных ошибках, неправильных подходах и т.д.;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ание ошибки в чертеже, в вычислениях, постановке алгоритма работы,  в установлении зависимости и т.д.;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533520" y="838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вспомогательных дифференцированных карт (блоков информации по темам) различной степени помощи;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опорных конспектов;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рабочих тетрадей с печатной основой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ТРЕТИЙ ЭТАП. РАБОТА С УЧЕБНИКОМ.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380520" y="1066320"/>
            <a:ext cx="84582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работе с учебником задания, предлагаемые учащимся, также могут быть дифференцированными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: одной группе предлагается прочитать теорему и выделить все шаги доказательства, другой – составить план доказательства, третьей  группе предлагаются задания с пропусками и т.п.  Можно при работе с текстом одной группе предложить составить вопросы к тексту, другой группе ответить на вопросы заранее приготовленные или составленные первой группой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фференциация в переводе с латинского означает разделение, расслоение целого на различные части, формы, ступени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9" name="WordArt 6" descr=""/>
          <p:cNvPicPr/>
          <p:nvPr/>
        </p:nvPicPr>
        <p:blipFill>
          <a:blip r:embed="rId1"/>
          <a:stretch/>
        </p:blipFill>
        <p:spPr>
          <a:xfrm>
            <a:off x="560520" y="285840"/>
            <a:ext cx="8059680" cy="12985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ЧЕТВЁРТЫЙ ЭТАП. ДИФФЕРЕНЦИРОВАННЫЙ ПОДХОД И КОНТРОЛЬ ПОДГОТОВКИ К УРОКУ.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-360" y="99036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стимулирования подготовки учащихся к каждому уроку математики  рекомендуется  на каждом уроке математики проводить фронтальный письменный опрос отдельно по трем компонентам содержания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ировки определений, теорем, правил и т.п. (по типу математических диктантов)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оказательствам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решению задач (выполнению упражнений)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тически проводимые опросы класса будут предупреждать накопление пробелов в знаниях, приучать школьников к повседневной работе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pull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4617b"/>
                </a:solidFill>
                <a:latin typeface="Century Schoolbook"/>
              </a:rPr>
              <a:t>ПЯТЫЙ ЭТАП.  ДОМАШНЕЕ ЗАДАНИЕ.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152280" y="1752480"/>
            <a:ext cx="824400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фференцированные домашние задания дают возможность более полно использовать возможности учащихся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ое задание для всего класса, второе непосредственно связано с первым, но содержит некоторую дополнительную трудность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pull dir="l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839080" cy="48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entury Schoolbook"/>
              </a:rPr>
              <a:t>Ориентация на обязательные результаты обучения постоянно поддерживают подготовку школьника на опорном уровне. Это позволяет ученику при возможности и возникновении интереса перейти на более высокий уровень на любом этапе обучения. Каждый ученик работает на посильном для себя уровне трудности, что позволяет ему лучше осознавать ближайшие цели и задачи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pull dir="lu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ТРИ УРОВНЯ ДОМАШНЕГО ЗАДАНИЯ.</a:t>
            </a:r>
            <a:endParaRPr b="0" lang="en-US" sz="36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0" y="990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 уровень – обязательный минимум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ое свойство – понятно и посильно любому ученику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4" name="Rectangle 3"/>
          <p:cNvSpPr/>
          <p:nvPr/>
        </p:nvSpPr>
        <p:spPr>
          <a:xfrm>
            <a:off x="0" y="2362320"/>
            <a:ext cx="9144000" cy="21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 уровень – тренировоч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учеников, которые желают хорошо знать предмет и без особой трудности усваивают программ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3"/>
          <p:cNvSpPr/>
          <p:nvPr/>
        </p:nvSpPr>
        <p:spPr>
          <a:xfrm>
            <a:off x="0" y="4267080"/>
            <a:ext cx="89154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 уровень – творческое 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ется в зависимости от темы урока, подготовленности класса. Выполняется на добровольных началах, стимулируется высокой оценкой и похвал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entury Schoolbook"/>
              </a:rPr>
              <a:t>ТВОРЧЕСКИЕ ЗАДАНИЯ.</a:t>
            </a:r>
            <a:endParaRPr b="0" lang="en-US" sz="4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380880" y="1371600"/>
            <a:ext cx="8305920" cy="40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Басни, сказки, фантастические рассказы по темам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45520" indent="-24552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Кроссворды, чайнворды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45520" indent="-24552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Тематические сборники интересных фактов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45520" indent="-24552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Учебные комиксы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45520" indent="-24552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Плакаты – опорные сигналы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45520" indent="-24552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Дидактические материалы и др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7030a0"/>
                </a:solidFill>
                <a:latin typeface="Century Schoolbook"/>
              </a:rPr>
              <a:t>ПОЛОЖИТЕЛЬНЫЕ АСПЕКТЫ УРОВНЕВОЙ ДИФФЕРЕНЦИАЦИИ.</a:t>
            </a:r>
            <a:endParaRPr b="0" lang="en-US" sz="4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-360" y="1523880"/>
            <a:ext cx="8839080" cy="40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d0d0d"/>
                </a:solidFill>
                <a:latin typeface="Century Schoolbook"/>
              </a:rPr>
              <a:t>Исключается уравниловка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d0d0d"/>
                </a:solidFill>
                <a:latin typeface="Century Schoolbook"/>
              </a:rPr>
              <a:t>Реализуется желание сильных учащихся глубже продвигаться в образовании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d0d0d"/>
                </a:solidFill>
                <a:latin typeface="Century Schoolbook"/>
              </a:rPr>
              <a:t>Повышается уровень я-концепции: сильные утверждаются в своих силах, слабые получают возможность испытать учебный успех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d0d0d"/>
                </a:solidFill>
                <a:latin typeface="Century Schoolbook"/>
              </a:rPr>
              <a:t>Повышается уровень мотивации учения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pull dir="lu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ДИФФЕРЕНЦИРОВАННОЕ</a:t>
            </a:r>
            <a:r>
              <a:rPr b="0" lang="ru-RU" sz="3600" spc="-1" strike="noStrike">
                <a:solidFill>
                  <a:srgbClr val="0000ff"/>
                </a:solidFill>
                <a:latin typeface="Century Schoolbook"/>
              </a:rPr>
              <a:t>   </a:t>
            </a:r>
            <a:r>
              <a:rPr b="0" lang="ru-RU" sz="44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ОБУЧЕНИЯ</a:t>
            </a:r>
            <a:r>
              <a:rPr b="0" lang="ru-RU" sz="3600" spc="-1" strike="noStrike">
                <a:solidFill>
                  <a:srgbClr val="04617b"/>
                </a:solidFill>
                <a:latin typeface="Century Schoolbook"/>
              </a:rPr>
              <a:t> </a:t>
            </a:r>
            <a:endParaRPr b="0" lang="en-US" sz="36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152280" y="15238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организации учебного процесса, при которой учитель работает с группой учащихся, составленной с учётом наличия у них каких-либо значимых для учебного процесса общих качеств (гомогенная группа)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ь общей дидактической системы, которая обеспечивает специализацию учебного процесса для различных групп обучаемых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pull dir="l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7732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ДИФФЕРЕНЦИРОВАННЫЙ</a:t>
            </a:r>
            <a:r>
              <a:rPr b="0" lang="ru-RU" sz="4400" spc="-1" strike="noStrike">
                <a:solidFill>
                  <a:srgbClr val="0000ff"/>
                </a:solidFill>
                <a:latin typeface="Century Schoolbook"/>
              </a:rPr>
              <a:t> </a:t>
            </a:r>
            <a:r>
              <a:rPr b="0" lang="ru-RU" sz="54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ПОДХОД В</a:t>
            </a:r>
            <a:r>
              <a:rPr b="0" lang="ru-RU" sz="4400" spc="-1" strike="noStrike">
                <a:solidFill>
                  <a:srgbClr val="0000ff"/>
                </a:solidFill>
                <a:latin typeface="Century Schoolbook"/>
              </a:rPr>
              <a:t> </a:t>
            </a:r>
            <a:r>
              <a:rPr b="0" lang="ru-RU" sz="54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ОБУЧЕНИИ</a:t>
            </a:r>
            <a:r>
              <a:rPr b="0" lang="ru-RU" sz="4400" spc="-1" strike="noStrike">
                <a:solidFill>
                  <a:srgbClr val="04617b"/>
                </a:solidFill>
                <a:latin typeface="Century Schoolbook"/>
              </a:rPr>
              <a:t>.</a:t>
            </a:r>
            <a:endParaRPr b="0" lang="en-US" sz="44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0" y="1980720"/>
            <a:ext cx="8739360" cy="37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разнообразных условий обучения для различных классов, групп, с целью учёта особенностей их контингента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 методических, психолого- педагогических и организационно-управленческих мероприятий, обеспечивающих обучение в гомогенных группах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pull dir="lu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2"/>
          <p:cNvSpPr/>
          <p:nvPr/>
        </p:nvSpPr>
        <p:spPr>
          <a:xfrm>
            <a:off x="533520" y="457200"/>
            <a:ext cx="80769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ЦЕЛЕВЫЕ ОРИЕНТАЦИИ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3"/>
          <p:cNvSpPr/>
          <p:nvPr/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каждого на уровне его возможностей и способност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пособление  (адаптация) обучения к особенностям различных групп учащих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4560" y="8377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ОСНОВНЫЕ</a:t>
            </a:r>
            <a:r>
              <a:rPr b="0" lang="ru-RU" sz="3900" spc="-1" strike="noStrike">
                <a:solidFill>
                  <a:srgbClr val="e2d700"/>
                </a:solidFill>
                <a:latin typeface="Century Schoolbook"/>
              </a:rPr>
              <a:t> </a:t>
            </a:r>
            <a:r>
              <a:rPr b="0" lang="ru-RU" sz="60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ВИДЫ</a:t>
            </a:r>
            <a:r>
              <a:rPr b="0" lang="ru-RU" sz="3900" spc="-1" strike="noStrike">
                <a:solidFill>
                  <a:srgbClr val="e2d700"/>
                </a:solidFill>
                <a:latin typeface="Century Schoolbook"/>
              </a:rPr>
              <a:t> </a:t>
            </a:r>
            <a:r>
              <a:rPr b="0" lang="ru-RU" sz="60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ДИФФЕРЕНЦИАЦИИ</a:t>
            </a:r>
            <a:r>
              <a:rPr b="0" lang="ru-RU" sz="3900" spc="-1" strike="noStrike">
                <a:solidFill>
                  <a:srgbClr val="e2d700"/>
                </a:solidFill>
                <a:latin typeface="Century Schoolbook"/>
              </a:rPr>
              <a:t>.</a:t>
            </a:r>
            <a:endParaRPr b="0" lang="en-US" sz="39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1828440" y="1868040"/>
            <a:ext cx="671364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невая.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ильная.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pull dir="lu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-360" y="12949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Уровневая дифференциация заключается в том, что обучаясь в одном классе, по одной программе и учебнику, школьники могут усваивать материал на разных уровнях.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pull dir="lu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УСЛОВИЯ</a:t>
            </a:r>
            <a:r>
              <a:rPr b="1" i="1" lang="ru-RU" sz="1600" spc="-1" strike="noStrike" u="sng">
                <a:solidFill>
                  <a:srgbClr val="04617b"/>
                </a:solidFill>
                <a:uFillTx/>
                <a:latin typeface="Century Schoolbook"/>
              </a:rPr>
              <a:t>, </a:t>
            </a:r>
            <a:r>
              <a:rPr b="1" lang="ru-RU" sz="40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НЕОБХОДИМЫЕ</a:t>
            </a:r>
            <a:r>
              <a:rPr b="1" i="1" lang="ru-RU" sz="1600" spc="-1" strike="noStrike" u="sng">
                <a:solidFill>
                  <a:srgbClr val="04617b"/>
                </a:solidFill>
                <a:uFillTx/>
                <a:latin typeface="Century Schoolbook"/>
              </a:rPr>
              <a:t> </a:t>
            </a:r>
            <a:r>
              <a:rPr b="1" lang="ru-RU" sz="40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ДЛЯ</a:t>
            </a:r>
            <a:r>
              <a:rPr b="1" i="1" lang="ru-RU" sz="1600" spc="-1" strike="noStrike" u="sng">
                <a:solidFill>
                  <a:srgbClr val="04617b"/>
                </a:solidFill>
                <a:uFillTx/>
                <a:latin typeface="Century Schoolbook"/>
              </a:rPr>
              <a:t> </a:t>
            </a:r>
            <a:r>
              <a:rPr b="1" lang="ru-RU" sz="40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УСПЕШНОЙ И</a:t>
            </a:r>
            <a:r>
              <a:rPr b="1" i="1" lang="ru-RU" sz="1600" spc="-1" strike="noStrike" u="sng">
                <a:solidFill>
                  <a:srgbClr val="04617b"/>
                </a:solidFill>
                <a:uFillTx/>
                <a:latin typeface="Century Schoolbook"/>
              </a:rPr>
              <a:t> </a:t>
            </a:r>
            <a:r>
              <a:rPr b="1" lang="ru-RU" sz="40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ЭФФЕКТИВНОЙ</a:t>
            </a:r>
            <a:r>
              <a:rPr b="1" i="1" lang="ru-RU" sz="1600" spc="-1" strike="noStrike" u="sng">
                <a:solidFill>
                  <a:srgbClr val="04617b"/>
                </a:solidFill>
                <a:uFillTx/>
                <a:latin typeface="Century Schoolbook"/>
              </a:rPr>
              <a:t> </a:t>
            </a:r>
            <a:r>
              <a:rPr b="1" lang="ru-RU" sz="40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УРОВНЕВОЙ</a:t>
            </a:r>
            <a:r>
              <a:rPr b="1" i="1" lang="ru-RU" sz="1600" spc="-1" strike="noStrike" u="sng">
                <a:solidFill>
                  <a:srgbClr val="04617b"/>
                </a:solidFill>
                <a:uFillTx/>
                <a:latin typeface="Century Schoolbook"/>
              </a:rPr>
              <a:t> </a:t>
            </a:r>
            <a:r>
              <a:rPr b="1" lang="ru-RU" sz="40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ДИФФЕРЕНЦИАЦИИ</a:t>
            </a:r>
            <a:r>
              <a:rPr b="1" i="1" lang="ru-RU" sz="1600" spc="-1" strike="noStrike" u="sng">
                <a:solidFill>
                  <a:srgbClr val="04617b"/>
                </a:solidFill>
                <a:uFillTx/>
                <a:latin typeface="Century Schoolbook"/>
              </a:rPr>
              <a:t>:</a:t>
            </a:r>
            <a:endParaRPr b="0" lang="en-US" sz="16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04560" y="2362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entury Schoolbook"/>
              </a:rPr>
              <a:t>Выделенные уровни усвоения материала, в первую очередь обязательные результаты, должны быть открытыми  для учащихся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pull dir="lu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380520" y="380520"/>
            <a:ext cx="815364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ы существовать определенные «ножницы» между уровнем требования и уровнем обучения.  Ученикам предоставляется одинаковый объём материала,  но предъявляется различный уровень усвоения материала (в том числе и обязательный минимальный);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pull dir="lu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ravelMate8573T</cp:lastModifiedBy>
  <dcterms:modified xsi:type="dcterms:W3CDTF">2015-04-02T13:57:56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