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20.jpeg" ContentType="image/jpeg"/>
  <Override PartName="/ppt/media/image19.png" ContentType="image/png"/>
  <Override PartName="/ppt/media/image21.png" ContentType="image/png"/>
  <Override PartName="/ppt/media/image17.wmf" ContentType="image/x-wmf"/>
  <Override PartName="/ppt/media/image16.jpeg" ContentType="image/jpeg"/>
  <Override PartName="/ppt/media/image14.gif" ContentType="image/gif"/>
  <Override PartName="/ppt/media/image31.jpeg" ContentType="image/jpeg"/>
  <Override PartName="/ppt/media/image27.jpeg" ContentType="image/jpeg"/>
  <Override PartName="/ppt/media/image12.gif" ContentType="image/gif"/>
  <Override PartName="/ppt/media/image9.jpeg" ContentType="image/jpeg"/>
  <Override PartName="/ppt/media/image11.jpeg" ContentType="image/jpeg"/>
  <Override PartName="/ppt/media/image30.jpeg" ContentType="image/jpeg"/>
  <Override PartName="/ppt/media/image37.wmf" ContentType="image/x-wmf"/>
  <Override PartName="/ppt/media/image33.png" ContentType="image/png"/>
  <Override PartName="/ppt/media/image34.jpeg" ContentType="image/jpeg"/>
  <Override PartName="/ppt/media/image38.wmf" ContentType="image/x-wmf"/>
  <Override PartName="/ppt/media/image28.jpeg" ContentType="image/jpeg"/>
  <Override PartName="/ppt/media/image1.wmf" ContentType="image/x-wmf"/>
  <Override PartName="/ppt/media/image7.jpeg" ContentType="image/jpeg"/>
  <Override PartName="/ppt/media/image3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.gif" ContentType="image/gif"/>
  <Override PartName="/ppt/media/image6.jpeg" ContentType="image/jpeg"/>
  <Override PartName="/ppt/media/image25.gif" ContentType="image/gif"/>
  <Override PartName="/ppt/media/image29.jpeg" ContentType="image/jpeg"/>
  <Override PartName="/ppt/media/image36.wmf" ContentType="image/x-wmf"/>
  <Override PartName="/ppt/media/image18.wmf" ContentType="image/x-wmf"/>
  <Override PartName="/ppt/media/image26.jpeg" ContentType="image/jpeg"/>
  <Override PartName="/ppt/media/image15.gif" ContentType="image/gif"/>
  <Override PartName="/ppt/media/image5.jpeg" ContentType="image/jpeg"/>
  <Override PartName="/ppt/media/image13.jpeg" ContentType="image/jpeg"/>
  <Override PartName="/ppt/media/image4.png" ContentType="image/png"/>
  <Override PartName="/ppt/media/image32.jpeg" ContentType="image/jpeg"/>
  <Override PartName="/ppt/media/image24.gif" ContentType="image/gif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4427-0E05-4B71-977F-A3A459CD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4CD-87C9-4A34-858A-9CFD4FDB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348-0010-48E0-A0E1-27E346AC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9AC-2E83-4DD1-A5E7-47015CA5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D5854-50E9-4BE6-A8EB-0F4AA790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75C76-D27F-4750-B8D1-526A04DF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8FA23-E63B-43DC-8FE9-C87F658B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493A6-1253-4029-893E-A1A8306F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306B5-654F-47F2-BEAA-148874D9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DCC9C-C4C7-41E8-930E-814937A7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2409B-CB1D-4E63-A10C-C51BC27A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F1D-B4A7-4E55-A62E-98B7446A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646BF-EC19-4BAB-A047-23E25CB6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D7FAA-93DD-4C12-BF91-8B3A880A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06BA5-E3F3-44DC-B2F6-A7763AD9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755BF-043F-4246-B442-BD2519CF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51235-6BE1-41B7-938F-62C3B120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4293-0A47-4A72-82BB-09F95D77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2288-6AFB-437C-ABA7-50BBEE13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CFE8-2511-44A9-8B78-C481E832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570-CDEE-4CB7-8182-D5C63E31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0309-BD82-4124-A4EF-F2420C33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E353-4D17-4767-9DF7-69524015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842-449B-44F4-932F-8C3C7BA9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c0504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7692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76923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504d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504d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9D0F-72BD-4B71-8E3F-E227F02DDA1A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7692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76923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504d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504d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E0C8-C7FB-46B7-ABB0-7E80E1F9217D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gif"/><Relationship Id="rId10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image" Target="../media/image39.jpeg"/><Relationship Id="rId6" Type="http://schemas.openxmlformats.org/officeDocument/2006/relationships/image" Target="../media/image39.jpeg"/><Relationship Id="rId7" Type="http://schemas.openxmlformats.org/officeDocument/2006/relationships/image" Target="../media/image39.jpeg"/><Relationship Id="rId8" Type="http://schemas.openxmlformats.org/officeDocument/2006/relationships/image" Target="../media/image39.jpe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olium.ru/forum/showthread.php?t=1630" TargetMode="External"/><Relationship Id="rId2" Type="http://schemas.openxmlformats.org/officeDocument/2006/relationships/hyperlink" Target="http://www.unicauca.edu.co/aida/images/openwysiwyg/articulos/clepsidra.jpg" TargetMode="External"/><Relationship Id="rId3" Type="http://schemas.openxmlformats.org/officeDocument/2006/relationships/hyperlink" Target="http://www.unicauca.edu.co/aida/images/openwysiwyg/articulos/clepsidra.jpg" TargetMode="External"/><Relationship Id="rId4" Type="http://schemas.openxmlformats.org/officeDocument/2006/relationships/hyperlink" Target="http://www.unicauca.edu.co/aida/images/openwysiwyg/articulos/clepsidra.jpg" TargetMode="External"/><Relationship Id="rId5" Type="http://schemas.openxmlformats.org/officeDocument/2006/relationships/hyperlink" Target="http://www.unicauca.edu.co/aida/images/openwysiwyg/articulos/clepsidra.jpg" TargetMode="External"/><Relationship Id="rId6" Type="http://schemas.openxmlformats.org/officeDocument/2006/relationships/hyperlink" Target="http://www.unicauca.edu.co/aida/images/openwysiwyg/articulos/clepsidra.jpg" TargetMode="External"/><Relationship Id="rId7" Type="http://schemas.openxmlformats.org/officeDocument/2006/relationships/hyperlink" Target="http://www.unicauca.edu.co/aida/images/openwysiwyg/articulos/clepsidra.jpg" TargetMode="External"/><Relationship Id="rId8" Type="http://schemas.openxmlformats.org/officeDocument/2006/relationships/hyperlink" Target="http://www.unicauca.edu.co/aida/images/openwysiwyg/articulos/clepsidra.jpg" TargetMode="External"/><Relationship Id="rId9" Type="http://schemas.openxmlformats.org/officeDocument/2006/relationships/hyperlink" Target="http://www.unicauca.edu.co/aida/images/openwysiwyg/articulos/clepsidra.jpg" TargetMode="External"/><Relationship Id="rId10" Type="http://schemas.openxmlformats.org/officeDocument/2006/relationships/hyperlink" Target="http://www.unicauca.edu.co/aida/images/openwysiwyg/articulos/clepsidra.jpg" TargetMode="External"/><Relationship Id="rId11" Type="http://schemas.openxmlformats.org/officeDocument/2006/relationships/hyperlink" Target="http://www.unicauca.edu.co/aida/images/openwysiwyg/articulos/clepsidra.jpg" TargetMode="External"/><Relationship Id="rId12" Type="http://schemas.openxmlformats.org/officeDocument/2006/relationships/hyperlink" Target="http://www.unicauca.edu.co/aida/images/openwysiwyg/articulos/clepsidra.jpg" TargetMode="External"/><Relationship Id="rId13" Type="http://schemas.openxmlformats.org/officeDocument/2006/relationships/hyperlink" Target="http://www.unicauca.edu.co/aida/images/openwysiwyg/articulos/clepsidra.jpg" TargetMode="External"/><Relationship Id="rId14" Type="http://schemas.openxmlformats.org/officeDocument/2006/relationships/hyperlink" Target="http://www.unicauca.edu.co/aida/images/openwysiwyg/articulos/clepsidra.jpg" TargetMode="External"/><Relationship Id="rId15" Type="http://schemas.openxmlformats.org/officeDocument/2006/relationships/hyperlink" Target="http://zymbo.ru/index.php?route=product/product&amp;product_id=167" TargetMode="External"/><Relationship Id="rId16" Type="http://schemas.openxmlformats.org/officeDocument/2006/relationships/hyperlink" Target="http://ru.picscdn.com/domain/ruplastik.ru/" TargetMode="External"/><Relationship Id="rId17" Type="http://schemas.openxmlformats.org/officeDocument/2006/relationships/hyperlink" Target="http://www.renema.ru/Info/orient/cvet_chas.shtml" TargetMode="External"/><Relationship Id="rId18" Type="http://schemas.openxmlformats.org/officeDocument/2006/relationships/hyperlink" Target="http://www.renema.ru/Info/orient/cvet_chas.shtml" TargetMode="External"/><Relationship Id="rId19" Type="http://schemas.openxmlformats.org/officeDocument/2006/relationships/hyperlink" Target="http://www.renema.ru/Info/orient/cvet_chas.shtml" TargetMode="External"/><Relationship Id="rId20" Type="http://schemas.openxmlformats.org/officeDocument/2006/relationships/hyperlink" Target="http://www.renema.ru/Info/orient/cvet_chas.shtml" TargetMode="External"/><Relationship Id="rId21" Type="http://schemas.openxmlformats.org/officeDocument/2006/relationships/hyperlink" Target="http://www.renema.ru/Info/orient/cvet_chas.shtml" TargetMode="External"/><Relationship Id="rId22" Type="http://schemas.openxmlformats.org/officeDocument/2006/relationships/hyperlink" Target="http://www.renema.ru/Info/orient/cvet_chas.shtml" TargetMode="External"/><Relationship Id="rId23" Type="http://schemas.openxmlformats.org/officeDocument/2006/relationships/hyperlink" Target="http://www.renema.ru/Info/orient/cvet_chas.shtml" TargetMode="External"/><Relationship Id="rId24" Type="http://schemas.openxmlformats.org/officeDocument/2006/relationships/hyperlink" Target="http://www.renema.ru/Info/orient/cvet_chas.shtml" TargetMode="External"/><Relationship Id="rId25" Type="http://schemas.openxmlformats.org/officeDocument/2006/relationships/hyperlink" Target="http://www.renema.ru/Info/orient/cvet_chas.shtml" TargetMode="External"/><Relationship Id="rId26" Type="http://schemas.openxmlformats.org/officeDocument/2006/relationships/hyperlink" Target="http://arvomedia.ru/images/museum/pietarsaari_tsikorij.jpg" TargetMode="External"/><Relationship Id="rId27" Type="http://schemas.openxmlformats.org/officeDocument/2006/relationships/hyperlink" Target="http://arvomedia.ru/images/museum/pietarsaari_tsikorij.jpg" TargetMode="External"/><Relationship Id="rId28" Type="http://schemas.openxmlformats.org/officeDocument/2006/relationships/hyperlink" Target="http://arvomedia.ru/images/museum/pietarsaari_tsikorij.jpg" TargetMode="External"/><Relationship Id="rId29" Type="http://schemas.openxmlformats.org/officeDocument/2006/relationships/hyperlink" Target="http://arvomedia.ru/images/museum/pietarsaari_tsikorij.jpg" TargetMode="External"/><Relationship Id="rId30" Type="http://schemas.openxmlformats.org/officeDocument/2006/relationships/hyperlink" Target="http://arvomedia.ru/images/museum/pietarsaari_tsikorij.jpg" TargetMode="External"/><Relationship Id="rId31" Type="http://schemas.openxmlformats.org/officeDocument/2006/relationships/hyperlink" Target="http://arvomedia.ru/images/museum/pietarsaari_tsikorij.jpg" TargetMode="External"/><Relationship Id="rId32" Type="http://schemas.openxmlformats.org/officeDocument/2006/relationships/hyperlink" Target="http://arvomedia.ru/images/museum/pietarsaari_tsikorij.jpg" TargetMode="External"/><Relationship Id="rId33" Type="http://schemas.openxmlformats.org/officeDocument/2006/relationships/hyperlink" Target="http://arvomedia.ru/images/museum/pietarsaari_tsikorij.jpg" TargetMode="External"/><Relationship Id="rId34" Type="http://schemas.openxmlformats.org/officeDocument/2006/relationships/hyperlink" Target="http://arvomedia.ru/images/museum/pietarsaari_tsikorij.jpg" TargetMode="External"/><Relationship Id="rId35" Type="http://schemas.openxmlformats.org/officeDocument/2006/relationships/hyperlink" Target="http://sadisam.com/pictures/7342.gif" TargetMode="External"/><Relationship Id="rId36" Type="http://schemas.openxmlformats.org/officeDocument/2006/relationships/hyperlink" Target="http://sadisam.com/pictures/7342.gif" TargetMode="External"/><Relationship Id="rId37" Type="http://schemas.openxmlformats.org/officeDocument/2006/relationships/hyperlink" Target="http://sadisam.com/pictures/7342.gif" TargetMode="External"/><Relationship Id="rId38" Type="http://schemas.openxmlformats.org/officeDocument/2006/relationships/hyperlink" Target="http://sadisam.com/pictures/7342.gif" TargetMode="External"/><Relationship Id="rId39" Type="http://schemas.openxmlformats.org/officeDocument/2006/relationships/hyperlink" Target="http://sadisam.com/pictures/7342.gif" TargetMode="External"/><Relationship Id="rId40" Type="http://schemas.openxmlformats.org/officeDocument/2006/relationships/hyperlink" Target="http://sadisam.com/pictures/7342.gif" TargetMode="External"/><Relationship Id="rId41" Type="http://schemas.openxmlformats.org/officeDocument/2006/relationships/hyperlink" Target="http://macroclub.ru/gallery/showphoto.php?photo=29335" TargetMode="External"/><Relationship Id="rId42" Type="http://schemas.openxmlformats.org/officeDocument/2006/relationships/hyperlink" Target="http://school76.yar.ru/menu/work/vremya/vremya/chasy/cs.htm" TargetMode="External"/><Relationship Id="rId43" Type="http://schemas.openxmlformats.org/officeDocument/2006/relationships/hyperlink" Target="http://school76.yar.ru/menu/work/vremya/vremya/chasy/cs.htm" TargetMode="External"/><Relationship Id="rId44" Type="http://schemas.openxmlformats.org/officeDocument/2006/relationships/hyperlink" Target="http://school76.yar.ru/menu/work/vremya/vremya/chasy/cs.htm" TargetMode="External"/><Relationship Id="rId45" Type="http://schemas.openxmlformats.org/officeDocument/2006/relationships/hyperlink" Target="http://school76.yar.ru/menu/work/vremya/vremya/chasy/cs.htm" TargetMode="External"/><Relationship Id="rId46" Type="http://schemas.openxmlformats.org/officeDocument/2006/relationships/hyperlink" Target="http://school76.yar.ru/menu/work/vremya/vremya/chasy/cs.htm" TargetMode="External"/><Relationship Id="rId47" Type="http://schemas.openxmlformats.org/officeDocument/2006/relationships/hyperlink" Target="http://school76.yar.ru/menu/work/vremya/vremya/chasy/cs.htm" TargetMode="External"/><Relationship Id="rId48" Type="http://schemas.openxmlformats.org/officeDocument/2006/relationships/hyperlink" Target="http://school76.yar.ru/menu/work/vremya/vremya/chasy/cs.htm" TargetMode="External"/><Relationship Id="rId49" Type="http://schemas.openxmlformats.org/officeDocument/2006/relationships/hyperlink" Target="http://school76.yar.ru/menu/work/vremya/vremya/chasy/cs.htm" TargetMode="External"/><Relationship Id="rId50" Type="http://schemas.openxmlformats.org/officeDocument/2006/relationships/hyperlink" Target="http://school76.yar.ru/menu/work/vremya/vremya/chasy/cs.htm" TargetMode="External"/><Relationship Id="rId51" Type="http://schemas.openxmlformats.org/officeDocument/2006/relationships/hyperlink" Target="http://school76.yar.ru/menu/work/vremya/vremya/chasy/cs.htm" TargetMode="External"/><Relationship Id="rId52" Type="http://schemas.openxmlformats.org/officeDocument/2006/relationships/hyperlink" Target="http://school76.yar.ru/menu/work/vremya/vremya/chasy/cs.htm" TargetMode="External"/><Relationship Id="rId53" Type="http://schemas.openxmlformats.org/officeDocument/2006/relationships/hyperlink" Target="http://school76.yar.ru/menu/work/vremya/vremya/chasy/cs.htm" TargetMode="External"/><Relationship Id="rId54" Type="http://schemas.openxmlformats.org/officeDocument/2006/relationships/hyperlink" Target="http://school76.yar.ru/menu/work/vremya/vremya/chasy/cs.htm" TargetMode="External"/><Relationship Id="rId55" Type="http://schemas.openxmlformats.org/officeDocument/2006/relationships/hyperlink" Target="http://victor.com.ua/UK/England/Oxford/Oxford-Carfax-Tower.html" TargetMode="External"/><Relationship Id="rId56" Type="http://schemas.openxmlformats.org/officeDocument/2006/relationships/hyperlink" Target="http://victor.com.ua/UK/England/Oxford/Oxford-Carfax-Tower.html" TargetMode="External"/><Relationship Id="rId57" Type="http://schemas.openxmlformats.org/officeDocument/2006/relationships/hyperlink" Target="http://victor.com.ua/UK/England/Oxford/Oxford-Carfax-Tower.html" TargetMode="External"/><Relationship Id="rId58" Type="http://schemas.openxmlformats.org/officeDocument/2006/relationships/hyperlink" Target="http://victor.com.ua/UK/England/Oxford/Oxford-Carfax-Tower.html" TargetMode="External"/><Relationship Id="rId59" Type="http://schemas.openxmlformats.org/officeDocument/2006/relationships/hyperlink" Target="http://victor.com.ua/UK/England/Oxford/Oxford-Carfax-Tower.html" TargetMode="External"/><Relationship Id="rId60" Type="http://schemas.openxmlformats.org/officeDocument/2006/relationships/hyperlink" Target="http://victor.com.ua/UK/England/Oxford/Oxford-Carfax-Tower.html" TargetMode="External"/><Relationship Id="rId61" Type="http://schemas.openxmlformats.org/officeDocument/2006/relationships/hyperlink" Target="http://victor.com.ua/UK/England/Oxford/Oxford-Carfax-Tower.html" TargetMode="External"/><Relationship Id="rId62" Type="http://schemas.openxmlformats.org/officeDocument/2006/relationships/hyperlink" Target="http://victor.com.ua/UK/England/Oxford/Oxford-Carfax-Tower.html" TargetMode="External"/><Relationship Id="rId63" Type="http://schemas.openxmlformats.org/officeDocument/2006/relationships/hyperlink" Target="http://victor.com.ua/UK/England/Oxford/Oxford-Carfax-Tower.html" TargetMode="External"/><Relationship Id="rId6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1430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Внеклассное заняти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 по математике</a:t>
            </a: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rebuchet MS"/>
              </a:rPr>
              <a:t>тема: </a:t>
            </a:r>
            <a:r>
              <a:rPr b="1" i="1" lang="ru-RU" sz="3600" spc="-1" strike="noStrike">
                <a:solidFill>
                  <a:srgbClr val="ffffff"/>
                </a:solidFill>
                <a:latin typeface="Trebuchet MS"/>
              </a:rPr>
              <a:t>«Время»</a:t>
            </a: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733920" y="4343040"/>
            <a:ext cx="4952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Макарова Лариса Михайло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высшей квалификационной категории 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МОУ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СОШ № 27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г. Балаково Саратовская об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7720" y="1523880"/>
            <a:ext cx="4800600" cy="23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По кругу весело бегут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Как по большой дорог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Они стоят. Они идут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А вот лежать не могу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"/>
          <p:cNvSpPr/>
          <p:nvPr/>
        </p:nvSpPr>
        <p:spPr>
          <a:xfrm>
            <a:off x="610920" y="685800"/>
            <a:ext cx="44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 каких часах эта загадка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"/>
          <p:cNvSpPr/>
          <p:nvPr/>
        </p:nvSpPr>
        <p:spPr>
          <a:xfrm>
            <a:off x="3584160" y="36576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ханические час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24480" y="1523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3336840" cy="4209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143000" y="5181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ческие часы впервые стал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авливать 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 на башнях церкве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j0208922"/>
          <p:cNvPicPr/>
          <p:nvPr/>
        </p:nvPicPr>
        <p:blipFill>
          <a:blip r:embed="rId1"/>
          <a:stretch/>
        </p:blipFill>
        <p:spPr>
          <a:xfrm>
            <a:off x="4952880" y="2743200"/>
            <a:ext cx="763560" cy="2209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j0208934"/>
          <p:cNvPicPr/>
          <p:nvPr/>
        </p:nvPicPr>
        <p:blipFill>
          <a:blip r:embed="rId2"/>
          <a:stretch/>
        </p:blipFill>
        <p:spPr>
          <a:xfrm>
            <a:off x="3809880" y="3886200"/>
            <a:ext cx="774720" cy="2362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"/>
          <p:cNvPicPr/>
          <p:nvPr/>
        </p:nvPicPr>
        <p:blipFill>
          <a:blip r:embed="rId3"/>
          <a:stretch/>
        </p:blipFill>
        <p:spPr>
          <a:xfrm>
            <a:off x="7848720" y="701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3"/>
          <p:cNvSpPr/>
          <p:nvPr/>
        </p:nvSpPr>
        <p:spPr>
          <a:xfrm>
            <a:off x="1905120" y="5335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Какие бывают часы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7" name="Рисунок 8" descr="3.jpg"/>
          <p:cNvPicPr/>
          <p:nvPr/>
        </p:nvPicPr>
        <p:blipFill>
          <a:blip r:embed="rId4"/>
          <a:stretch/>
        </p:blipFill>
        <p:spPr>
          <a:xfrm>
            <a:off x="0" y="1219320"/>
            <a:ext cx="2955960" cy="4572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:\Documents and Settings\Владелец\Мои документы\Мои рисунки\2.jpg"/>
          <p:cNvPicPr/>
          <p:nvPr/>
        </p:nvPicPr>
        <p:blipFill>
          <a:blip r:embed="rId5"/>
          <a:stretch/>
        </p:blipFill>
        <p:spPr>
          <a:xfrm>
            <a:off x="5943600" y="836640"/>
            <a:ext cx="3048120" cy="3811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2743200" y="1447920"/>
            <a:ext cx="1903320" cy="2361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5943600" y="5105520"/>
            <a:ext cx="1676520" cy="1081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2895480" y="5867280"/>
            <a:ext cx="723960" cy="696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5410080" y="1600200"/>
            <a:ext cx="657360" cy="73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6360" y="68580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ие знаменитые часы вы знает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3333960" cy="2500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486400" y="137160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Картинка 6 из 15538"/>
          <p:cNvPicPr/>
          <p:nvPr/>
        </p:nvPicPr>
        <p:blipFill>
          <a:blip r:embed="rId3"/>
          <a:stretch/>
        </p:blipFill>
        <p:spPr>
          <a:xfrm>
            <a:off x="3505320" y="3657600"/>
            <a:ext cx="1981080" cy="2971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4280" y="4038480"/>
            <a:ext cx="25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млёвские курант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"/>
          <p:cNvSpPr/>
          <p:nvPr/>
        </p:nvSpPr>
        <p:spPr>
          <a:xfrm>
            <a:off x="840240" y="617220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жские курант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"/>
          <p:cNvSpPr/>
          <p:nvPr/>
        </p:nvSpPr>
        <p:spPr>
          <a:xfrm>
            <a:off x="6708600" y="40384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г Бен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5" descr="OS06008"/>
          <p:cNvPicPr/>
          <p:nvPr/>
        </p:nvPicPr>
        <p:blipFill>
          <a:blip r:embed="rId1"/>
          <a:stretch/>
        </p:blipFill>
        <p:spPr>
          <a:xfrm>
            <a:off x="609480" y="3962520"/>
            <a:ext cx="1952640" cy="1981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7" descr="OS07043"/>
          <p:cNvPicPr/>
          <p:nvPr/>
        </p:nvPicPr>
        <p:blipFill>
          <a:blip r:embed="rId2"/>
          <a:srcRect l="0" t="0" r="29" b="0"/>
          <a:stretch/>
        </p:blipFill>
        <p:spPr>
          <a:xfrm>
            <a:off x="4648320" y="1219320"/>
            <a:ext cx="1846080" cy="2438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8" descr="889808-001"/>
          <p:cNvPicPr/>
          <p:nvPr/>
        </p:nvPicPr>
        <p:blipFill>
          <a:blip r:embed="rId3"/>
          <a:stretch/>
        </p:blipFill>
        <p:spPr>
          <a:xfrm>
            <a:off x="609480" y="1523880"/>
            <a:ext cx="1825920" cy="1905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9" descr="12"/>
          <p:cNvPicPr/>
          <p:nvPr/>
        </p:nvPicPr>
        <p:blipFill>
          <a:blip r:embed="rId4"/>
          <a:stretch/>
        </p:blipFill>
        <p:spPr>
          <a:xfrm>
            <a:off x="6629400" y="1676520"/>
            <a:ext cx="2209680" cy="1770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0" descr="ЧАСЫ"/>
          <p:cNvPicPr/>
          <p:nvPr/>
        </p:nvPicPr>
        <p:blipFill>
          <a:blip r:embed="rId5"/>
          <a:srcRect l="0" t="0" r="0" b="44"/>
          <a:stretch/>
        </p:blipFill>
        <p:spPr>
          <a:xfrm>
            <a:off x="2590920" y="1295280"/>
            <a:ext cx="1866960" cy="20559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1"/>
          <p:cNvSpPr/>
          <p:nvPr/>
        </p:nvSpPr>
        <p:spPr>
          <a:xfrm>
            <a:off x="838080" y="6858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Какое время показывают часы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6" name="Picture 32" descr="j0289557"/>
          <p:cNvPicPr/>
          <p:nvPr/>
        </p:nvPicPr>
        <p:blipFill>
          <a:blip r:embed="rId6"/>
          <a:srcRect l="0" t="0" r="142" b="-115"/>
          <a:stretch/>
        </p:blipFill>
        <p:spPr>
          <a:xfrm>
            <a:off x="2666880" y="3733920"/>
            <a:ext cx="1905120" cy="2361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3" descr="j0289836"/>
          <p:cNvPicPr/>
          <p:nvPr/>
        </p:nvPicPr>
        <p:blipFill>
          <a:blip r:embed="rId7"/>
          <a:srcRect l="5778" t="12793" r="6732" b="9686"/>
          <a:stretch/>
        </p:blipFill>
        <p:spPr>
          <a:xfrm>
            <a:off x="4724280" y="3809880"/>
            <a:ext cx="3657600" cy="217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457200" y="1213200"/>
            <a:ext cx="822960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Восстановите таблицу единиц времен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в. = ….г.                            1 г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= …. сут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 г. = ….мес.                        1 мес. = … сут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 сут. = …ч                          1 мин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= … 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 ч = …мин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9" name="Picture 8" descr="j0234131"/>
          <p:cNvPicPr/>
          <p:nvPr/>
        </p:nvPicPr>
        <p:blipFill>
          <a:blip r:embed="rId1"/>
          <a:stretch/>
        </p:blipFill>
        <p:spPr>
          <a:xfrm>
            <a:off x="6705720" y="4495680"/>
            <a:ext cx="1504800" cy="1600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j0250657"/>
          <p:cNvPicPr/>
          <p:nvPr/>
        </p:nvPicPr>
        <p:blipFill>
          <a:blip r:embed="rId2"/>
          <a:stretch/>
        </p:blipFill>
        <p:spPr>
          <a:xfrm>
            <a:off x="685800" y="4724280"/>
            <a:ext cx="140004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9"/>
          <p:cNvGrpSpPr/>
          <p:nvPr/>
        </p:nvGrpSpPr>
        <p:grpSpPr>
          <a:xfrm>
            <a:off x="4038480" y="4876920"/>
            <a:ext cx="1447920" cy="1218600"/>
            <a:chOff x="4038480" y="4876920"/>
            <a:chExt cx="1447920" cy="1218600"/>
          </a:xfrm>
        </p:grpSpPr>
        <p:sp>
          <p:nvSpPr>
            <p:cNvPr id="182" name="AutoShape 10"/>
            <p:cNvSpPr/>
            <p:nvPr/>
          </p:nvSpPr>
          <p:spPr>
            <a:xfrm>
              <a:off x="4038480" y="4937760"/>
              <a:ext cx="1447920" cy="1157760"/>
            </a:xfrm>
            <a:prstGeom prst="parallelogram">
              <a:avLst>
                <a:gd name="adj" fmla="val 31266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bcb800"/>
                </a:gs>
              </a:gsLst>
              <a:lin ang="18900000"/>
            </a:gradFill>
            <a:ln w="255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183" name="Picture 11" descr="j0312166"/>
            <p:cNvPicPr/>
            <p:nvPr/>
          </p:nvPicPr>
          <p:blipFill>
            <a:blip r:embed="rId3"/>
            <a:stretch/>
          </p:blipFill>
          <p:spPr>
            <a:xfrm>
              <a:off x="4260960" y="4876920"/>
              <a:ext cx="98496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4"/>
          <p:cNvSpPr/>
          <p:nvPr/>
        </p:nvSpPr>
        <p:spPr>
          <a:xfrm>
            <a:off x="2286000" y="1371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екунд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609480" y="3808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Расположите единицы измер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о возрастанию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6324480" y="1371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ча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4267080" y="1371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едел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3657600" y="2514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ут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762120" y="13716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есяц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1371600" y="19810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год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4800600" y="1981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ек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743200" y="1981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инут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685800" y="2514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тысячелет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Text Box 24"/>
          <p:cNvSpPr/>
          <p:nvPr/>
        </p:nvSpPr>
        <p:spPr>
          <a:xfrm>
            <a:off x="4343400" y="2743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год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Text Box 25"/>
          <p:cNvSpPr/>
          <p:nvPr/>
        </p:nvSpPr>
        <p:spPr>
          <a:xfrm>
            <a:off x="3657600" y="31240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мес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Text Box 26"/>
          <p:cNvSpPr/>
          <p:nvPr/>
        </p:nvSpPr>
        <p:spPr>
          <a:xfrm>
            <a:off x="2895480" y="3581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нед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Text Box 27"/>
          <p:cNvSpPr/>
          <p:nvPr/>
        </p:nvSpPr>
        <p:spPr>
          <a:xfrm>
            <a:off x="2286000" y="3886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сут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Text Box 28"/>
          <p:cNvSpPr/>
          <p:nvPr/>
        </p:nvSpPr>
        <p:spPr>
          <a:xfrm>
            <a:off x="1905120" y="44197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Text Box 29"/>
          <p:cNvSpPr/>
          <p:nvPr/>
        </p:nvSpPr>
        <p:spPr>
          <a:xfrm>
            <a:off x="91440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мин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685800" y="5257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01" name="Group 32"/>
          <p:cNvGrpSpPr/>
          <p:nvPr/>
        </p:nvGrpSpPr>
        <p:grpSpPr>
          <a:xfrm>
            <a:off x="685800" y="2438280"/>
            <a:ext cx="7848720" cy="3840120"/>
            <a:chOff x="685800" y="2438280"/>
            <a:chExt cx="7848720" cy="3840120"/>
          </a:xfrm>
        </p:grpSpPr>
        <p:sp>
          <p:nvSpPr>
            <p:cNvPr id="202" name="Rectangle 33"/>
            <p:cNvSpPr/>
            <p:nvPr/>
          </p:nvSpPr>
          <p:spPr>
            <a:xfrm>
              <a:off x="1994040" y="5022720"/>
              <a:ext cx="6540480" cy="411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8a5c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03" name="Rectangle 34"/>
            <p:cNvSpPr/>
            <p:nvPr/>
          </p:nvSpPr>
          <p:spPr>
            <a:xfrm>
              <a:off x="3918240" y="3776400"/>
              <a:ext cx="4616280" cy="411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a5c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04" name="Rectangle 35"/>
            <p:cNvSpPr/>
            <p:nvPr/>
          </p:nvSpPr>
          <p:spPr>
            <a:xfrm>
              <a:off x="3225960" y="4176720"/>
              <a:ext cx="5308560" cy="411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a5c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05" name="Rectangle 36"/>
            <p:cNvSpPr/>
            <p:nvPr/>
          </p:nvSpPr>
          <p:spPr>
            <a:xfrm>
              <a:off x="2610000" y="4576680"/>
              <a:ext cx="5924520" cy="4572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8a5c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06" name="Rectangle 37"/>
            <p:cNvSpPr/>
            <p:nvPr/>
          </p:nvSpPr>
          <p:spPr>
            <a:xfrm>
              <a:off x="685800" y="5867280"/>
              <a:ext cx="7848720" cy="411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8a5c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07" name="Rectangle 38"/>
            <p:cNvSpPr/>
            <p:nvPr/>
          </p:nvSpPr>
          <p:spPr>
            <a:xfrm>
              <a:off x="4610160" y="3330360"/>
              <a:ext cx="3924360" cy="457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5560">
              <a:solidFill>
                <a:srgbClr val="8a5c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08" name="Rectangle 39"/>
            <p:cNvSpPr/>
            <p:nvPr/>
          </p:nvSpPr>
          <p:spPr>
            <a:xfrm>
              <a:off x="5918400" y="2438280"/>
              <a:ext cx="2616120" cy="4572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25560">
              <a:solidFill>
                <a:srgbClr val="8a5c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09" name="Rectangle 40"/>
            <p:cNvSpPr/>
            <p:nvPr/>
          </p:nvSpPr>
          <p:spPr>
            <a:xfrm>
              <a:off x="5302440" y="2884320"/>
              <a:ext cx="3232080" cy="4572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25560">
              <a:solidFill>
                <a:srgbClr val="8a5c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10" name="Rectangle 41"/>
            <p:cNvSpPr/>
            <p:nvPr/>
          </p:nvSpPr>
          <p:spPr>
            <a:xfrm>
              <a:off x="1378080" y="5422680"/>
              <a:ext cx="7156440" cy="4572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25560">
              <a:solidFill>
                <a:srgbClr val="8a5c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p:transition>
    <p:dissolv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23333 0.58009 E">
                                      <p:cBhvr>
                                        <p:cTn id="194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1.48148E-006 L -0.2125 0.42454 E">
                                      <p:cBhvr>
                                        <p:cTn id="204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7 L -0.5 0.45787 E">
                                      <p:cBhvr>
                                        <p:cTn id="21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6 L -0.16667 0.23564 E">
                                      <p:cBhvr>
                                        <p:cTn id="2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7 L -0.17917 0.33565 E">
                                      <p:cBhvr>
                                        <p:cTn id="234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7037E-007 L 0.2875 0.28009 E">
                                      <p:cBhvr>
                                        <p:cTn id="24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0.33333 0.12454 E">
                                      <p:cBhvr>
                                        <p:cTn id="254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0.0375 0.05787 E">
                                      <p:cBhvr>
                                        <p:cTn id="264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6 L 0.575 -0.08658 E">
                                      <p:cBhvr>
                                        <p:cTn id="268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6"/>
          <p:cNvSpPr/>
          <p:nvPr/>
        </p:nvSpPr>
        <p:spPr>
          <a:xfrm>
            <a:off x="533520" y="1828800"/>
            <a:ext cx="57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Georgia"/>
              </a:rPr>
              <a:t>Век живи, век учись</a:t>
            </a:r>
            <a:r>
              <a:rPr b="1" lang="ru-RU" sz="3200" spc="-1" strike="noStrike">
                <a:solidFill>
                  <a:srgbClr val="376092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380880" y="1371600"/>
            <a:ext cx="69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100 лет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живи,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100 лет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учись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2081160" y="251388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бещанного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36 месяцев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ждут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457200" y="3580560"/>
            <a:ext cx="74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Делу время, а потехе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60 минут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2327400" y="2973240"/>
            <a:ext cx="61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Georgia"/>
              </a:rPr>
              <a:t>Обещанного три года ждут</a:t>
            </a:r>
            <a:r>
              <a:rPr b="1" lang="ru-RU" sz="3200" spc="-1" strike="noStrike">
                <a:solidFill>
                  <a:srgbClr val="376092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533520" y="3963240"/>
            <a:ext cx="681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Georgia"/>
              </a:rPr>
              <a:t>Делу время, а потехе час</a:t>
            </a:r>
            <a:r>
              <a:rPr b="1" lang="ru-RU" sz="3200" spc="-1" strike="noStrike">
                <a:solidFill>
                  <a:srgbClr val="376092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2200320" y="4647240"/>
            <a:ext cx="59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7 дней  12 месяцев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кормит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2408760" y="5078160"/>
            <a:ext cx="442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Georgia"/>
              </a:rPr>
              <a:t>Неделя год кормит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457200" y="5335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Расшифруйте пословицы и поговор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О чём вы услышали впервые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297180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"/>
              </a:rPr>
              <a:t>Что особенно вам запомнилось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6854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rebuchet MS"/>
              </a:rPr>
              <a:t>Используемые материалы</a:t>
            </a:r>
            <a:endParaRPr b="0" lang="en-US" sz="28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http://solium.ru/forum/showthread.php?t=1630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– гномон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6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4"/>
              </a:rPr>
              <a:t>www.unicauca.edu.co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5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6"/>
              </a:rPr>
              <a:t>aida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8"/>
              </a:rPr>
              <a:t>image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9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10"/>
              </a:rPr>
              <a:t>openwysiwyg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11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12"/>
              </a:rPr>
              <a:t>articulo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13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14"/>
              </a:rPr>
              <a:t>clepsidra.jpg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- клепсидра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6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15"/>
              </a:rPr>
              <a:t>http://zymbo.ru/index.php?route=product/product&amp;product_id=167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– современные водяные часы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6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16"/>
              </a:rPr>
              <a:t>http://ru.picscdn.com/domain/ruplastik.ru/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- песочные часы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6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17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18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19"/>
              </a:rPr>
              <a:t>www.renema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20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21"/>
              </a:rPr>
              <a:t>Info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22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23"/>
              </a:rPr>
              <a:t>orient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24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25"/>
              </a:rPr>
              <a:t>cvet_chas.shtml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- определение времени суток по часам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6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26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27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28"/>
              </a:rPr>
              <a:t>arvomedia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29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30"/>
              </a:rPr>
              <a:t>image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31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32"/>
              </a:rPr>
              <a:t>museu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33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34"/>
              </a:rPr>
              <a:t>pietarsaari_tsikorij.jpg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-  цикорий картинка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6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35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36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37"/>
              </a:rPr>
              <a:t>sadisam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38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39"/>
              </a:rPr>
              <a:t>picture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40"/>
              </a:rPr>
              <a:t>/7342.gif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- одуванчик картинка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6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41"/>
              </a:rPr>
              <a:t>http://macroclub.ru/gallery/showphoto.php?photo=29335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-  ноготки полевые картинка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6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4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43"/>
              </a:rPr>
              <a:t>://school76.yar.ru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44"/>
              </a:rPr>
              <a:t>men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45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46"/>
              </a:rPr>
              <a:t>work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4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48"/>
              </a:rPr>
              <a:t>vremya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49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50"/>
              </a:rPr>
              <a:t>vremya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51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52"/>
              </a:rPr>
              <a:t>chasy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53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54"/>
              </a:rPr>
              <a:t>cs.htm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- часы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6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55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56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57"/>
              </a:rPr>
              <a:t>victor.com.ua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58"/>
              </a:rPr>
              <a:t>/UK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59"/>
              </a:rPr>
              <a:t>England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60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61"/>
              </a:rPr>
              <a:t>Oxford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62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Georgia"/>
                <a:hlinkClick r:id="rId63"/>
              </a:rPr>
              <a:t>Oxford-Carfax-Tower.html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часы на башне церкви Святого Мартина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6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http://www.myastronomy.ru/PAGE/Lesson/StarCiferblat.html - звёздные часы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6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http://fileground.ru/images/soft/674898/old_big_ben_3d_2_640x480.jpg - часы Биг Бен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6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http://img0.liveinternet.ru/images/attach/c/0/51/617/51617720_1914.jpg - Кремлёвские куранты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6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http://germestur.ykt.ru/uploads/posts/1317306221_78ed4b756fcf.jpg - Пражские куранты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6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http://images.yandex.ru/yandsearch?text=механические%20часы&amp;stype=image  - разные виды часов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animashky.ru/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- часы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6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Литература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6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Математика в исторических событиях. 1-4 кл.: материалы к занятиям / авт.-сост. О. В. Воронина. –Волгоград: Учитель, 2009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6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1752480"/>
            <a:ext cx="48765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Оно не ждёт и не стоит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Оно всегда вперёд бежит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Все берегут его. Друзья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Arial"/>
              </a:rPr>
              <a:t>Его вернуть, увы, нельз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9" name="Picture 4" descr="PE07677_"/>
          <p:cNvPicPr/>
          <p:nvPr/>
        </p:nvPicPr>
        <p:blipFill>
          <a:blip r:embed="rId1"/>
          <a:stretch/>
        </p:blipFill>
        <p:spPr>
          <a:xfrm>
            <a:off x="762120" y="4191120"/>
            <a:ext cx="1712880" cy="1717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30400" y="762120"/>
            <a:ext cx="84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гадайте загадку и вы узнаете тему нашего занят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Прямоугольник 4"/>
          <p:cNvSpPr/>
          <p:nvPr/>
        </p:nvSpPr>
        <p:spPr>
          <a:xfrm flipH="1" flipV="1" rot="10800000">
            <a:off x="5867280" y="4447800"/>
            <a:ext cx="16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477120" y="2057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160" y="2133720"/>
            <a:ext cx="6019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389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Лучами обнимает,</a:t>
            </a:r>
            <a:endParaRPr b="0" lang="en-US" sz="2800" spc="-1" strike="noStrike">
              <a:solidFill>
                <a:srgbClr val="76923c"/>
              </a:solidFill>
              <a:latin typeface="Georgia"/>
            </a:endParaRPr>
          </a:p>
          <a:p>
            <a:pPr lvl="4" marL="1389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Всю землю согревает.</a:t>
            </a:r>
            <a:endParaRPr b="0" lang="en-US" sz="2800" spc="-1" strike="noStrike">
              <a:solidFill>
                <a:srgbClr val="76923c"/>
              </a:solidFill>
              <a:latin typeface="Georgia"/>
            </a:endParaRPr>
          </a:p>
        </p:txBody>
      </p:sp>
      <p:sp>
        <p:nvSpPr>
          <p:cNvPr id="114" name=""/>
          <p:cNvSpPr/>
          <p:nvPr/>
        </p:nvSpPr>
        <p:spPr>
          <a:xfrm>
            <a:off x="231480" y="762120"/>
            <a:ext cx="84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гадайте загадку и вспомните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то служило человеку в древности указателем времен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"/>
          <p:cNvSpPr/>
          <p:nvPr/>
        </p:nvSpPr>
        <p:spPr>
          <a:xfrm>
            <a:off x="5244120" y="354492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Солнц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9528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жение Солнца по небу позволило человеку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рять равные промежутки времен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934320" y="2133720"/>
            <a:ext cx="1181160" cy="112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Trebuchet MS"/>
              </a:rPr>
              <a:t>Солнечные часы</a:t>
            </a: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171960" cy="3314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62120" y="144792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ньше время определяли при помощ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номон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52320" y="2286000"/>
            <a:ext cx="579132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номон – это вертикальный шест, который ставят в середине круга. От шеста падает тень, которая перемещается по кругу. Так определяют время только днём, при ясной погоде, и часы такого вида называют солнечными. Раньше они были одним из главных способов измерения времен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олдень тень гномона всегда указывает на север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Trebuchet MS"/>
              </a:rPr>
              <a:t>Водяные</a:t>
            </a:r>
            <a:r>
              <a:rPr b="0" lang="ru-RU" sz="4000" spc="-1" strike="noStrike">
                <a:solidFill>
                  <a:srgbClr val="1f497d"/>
                </a:solidFill>
                <a:latin typeface="Trebuchet MS"/>
              </a:rPr>
              <a:t> часы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90560" y="114264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еряешь воду! – замечали древние, если кто-нибудь говорил не по делу. А мы бы сказали – «Теряешь время!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сь все давным-давно – с  изобретения водяных часов. Греки называли их «клепсидрой» - похитительницей вод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ая клепсидра представляла собой цилиндр – сосуд с отверстием внизу. Но вода из него вытекала неравномерно. Изобретатели клепсидры исправили этот недостаток – наконец, применили сосуд в форме конуса, основанием вверх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менитый философ Платон построил клепсидру, которая в определенный час созывала  учеников на занятия, издавая звон. Так появился первый школьный звонок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наше время сделаны наручные водяные часы. Для их работы достаточно несколько капель воды, пускаемой в специальное отверсти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2520720" cy="3429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Часы, работающие на воде.400x433 - 500x542down-house.ru"/>
          <p:cNvPicPr/>
          <p:nvPr/>
        </p:nvPicPr>
        <p:blipFill>
          <a:blip r:embed="rId2"/>
          <a:stretch/>
        </p:blipFill>
        <p:spPr>
          <a:xfrm>
            <a:off x="838080" y="4800600"/>
            <a:ext cx="1689120" cy="18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3886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Trebuchet MS"/>
              </a:rPr>
              <a:t>Песочные часы</a:t>
            </a: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аше время пользуются песочными часами, которые по принципу действия похожи на водяные. Они состоят из двух грушевидных ёмкостей, соединённых между собой узкими концами. Песок перетекает из верхней части сосуда в нижнюю за определённое врем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4572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Trebuchet MS"/>
              </a:rPr>
              <a:t>Цветочные часы</a:t>
            </a: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7760" y="990720"/>
            <a:ext cx="2895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Цветки раскрывают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4-5 часов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5-6 час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9-10 час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019920" y="990720"/>
            <a:ext cx="2743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Цветки закрывают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0 час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8-10 час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2 час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447920"/>
            <a:ext cx="30481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204120" indent="-142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04120" indent="-142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04120" indent="-142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04120" indent="-142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Цикорий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04120" indent="-142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04120" indent="-142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04120" indent="-142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04120" indent="-142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04120" indent="-142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дуванчик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04120" indent="-142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04120" indent="-142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04120" indent="-142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04120" indent="-142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04120" indent="-1429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Ноготки полевы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1942920" cy="1457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1909800" cy="1431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838080" y="5029200"/>
            <a:ext cx="1676520" cy="1347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516040" y="1295280"/>
            <a:ext cx="663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я, когда раскрываютс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закрываются некоторы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ы, можно определить врем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Arial"/>
              </a:rPr>
              <a:t>Часы-свеча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219320"/>
            <a:ext cx="5562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древнем Китае существовали, например, "часы", которые были сделаны из пропитанных маслом веревок, на которых были завязаны узлы. Такой шнурок поджигали и каждый раз, когда пламя достигало узла проходил определенный отрезок времени. Позднее стали использовать свечи с отметками, по которым можно было узнавать время, пока свеча горела. Всякий раз, когда верхний край свечи доходил до одной из отметок, проходи определенный период времени. Такие маркированные свечи продаются и по сей день. 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724120" cy="3352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924680" y="5029200"/>
            <a:ext cx="1000080" cy="1590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343040" y="2057400"/>
            <a:ext cx="380988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ремя можно определять по звёзда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2803680" cy="3429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Trebuchet MS"/>
              </a:rPr>
              <a:t>Звёздные часы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560160" cy="695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722600" y="3733920"/>
            <a:ext cx="376200" cy="466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2666880" y="3429000"/>
            <a:ext cx="495360" cy="614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арова Л. М.</dc:creator>
  <dc:description/>
  <dc:language>en-US</dc:language>
  <cp:lastModifiedBy>User</cp:lastModifiedBy>
  <dcterms:modified xsi:type="dcterms:W3CDTF">2011-11-14T06:44:35Z</dcterms:modified>
  <cp:revision>53</cp:revision>
  <dc:subject>Время</dc:subject>
  <dc:title>Внекламссное занятие по математике</dc:title>
</cp:coreProperties>
</file>