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4D30-D6DE-430B-BA22-2046632C9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4037-D921-46D6-8D6C-EFFD0ED7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7A0E-4FB6-4ED7-8C17-17FBBF33B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4C0C-5709-4F06-9C8B-92F12D5E5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84F8-EDC7-4873-9C3B-BE457EC5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B91C-E308-4C5D-BA67-AAE59BE8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F89D-8DBF-4D5E-9EC9-6A3DED76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964B-3AD1-4AF7-8BB3-8B2A3327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D34A-C99A-40F8-9090-E3DA74CD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DCDB-775F-4DCA-90FB-A5DEFB96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62D5-A88D-4B88-8BC9-77A6C70A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2A2C-790F-4911-BFA1-89353A59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655B-E4C4-4989-A1E9-88B95A78D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i002.radikal.ru/0801/4c/858b69e06bb0.jpg" TargetMode="External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81080" y="2743200"/>
            <a:ext cx="539136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Ганса Христиана Андерсена</a:t>
            </a:r>
            <a:endParaRPr b="0" i="1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124080" y="1447920"/>
            <a:ext cx="3124440" cy="90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Мир сказо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Творчест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051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огда в 1835 году увидели свет «Сказки», их автор и помыслить не мог, что именно сказки- столь не солидный, «несерьёзный» жанр- сделают его имя всемирно известным и любимы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495324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Вершиной творчества Андерсена стали сказки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Всего им написано более ста семидесяти сказок и историй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Они изданы на 80 языках народов мира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ом- музей Андерсе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1640" y="1599840"/>
            <a:ext cx="3809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ебольшой домик в городе Оденсе и пристроенный к нему музей ежегодно посещают полтораста тысяч челове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3809880" cy="2869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379440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7960" y="685800"/>
            <a:ext cx="3809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анс Христиан Андерсен был в жизни очень одиноким человеком. Он не обзавелся семьей, друзей у него тоже было немного. Зато очень много читателей. А день его рождения- 2 апреля-отмечается ежегодно как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еждународный день детской книг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28600" y="609480"/>
            <a:ext cx="4227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ffffff"/>
                </a:solidFill>
                <a:latin typeface="Times New Roman"/>
              </a:rPr>
              <a:t>Аукцион сказок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Узнай сказку по иллюстр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Узнай сказку по иллюстр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казка «Дюймовочка»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Times New Roman"/>
              </a:rPr>
              <a:t>Узнай сказку по иллюстр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Узнай сказку по иллюстр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40972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2612880" cy="4114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rcRect l="0" t="0" r="0" b="1813"/>
          <a:stretch/>
        </p:blipFill>
        <p:spPr>
          <a:xfrm>
            <a:off x="5638680" y="1752480"/>
            <a:ext cx="2725920" cy="4114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rcRect l="4116" t="0" r="9234" b="6462"/>
          <a:stretch/>
        </p:blipFill>
        <p:spPr>
          <a:xfrm>
            <a:off x="2895480" y="1752480"/>
            <a:ext cx="3200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еликий сказочни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495680" y="3124080"/>
            <a:ext cx="38102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нс Христиан Андерсен— датский писатель и поэт, автор всемирно известных сказок для детей и взрослы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5800" y="1600200"/>
            <a:ext cx="3043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казка «Дикие лебеди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Узнай сказку по иллюстр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Узнай сказку по иллюстр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rcRect l="9604" t="7806" r="9724" b="7436"/>
          <a:stretch/>
        </p:blipFill>
        <p:spPr>
          <a:xfrm>
            <a:off x="817560" y="2133720"/>
            <a:ext cx="3144960" cy="4267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rcRect l="0" t="15749" r="0" b="8150"/>
          <a:stretch/>
        </p:blipFill>
        <p:spPr>
          <a:xfrm>
            <a:off x="4495680" y="2133720"/>
            <a:ext cx="41925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Сказка «Огниво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Узнай сказку по иллюстр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Узнай сказку по иллюстр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казка «Русалочка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Узнай сказку по иллюстр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Узнай сказку по иллюстр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казка «Свинопас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ания. Город Оденс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91120" y="1752480"/>
            <a:ext cx="4952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нс Христиан Андерсен родился 2 апреля 1805 г. в Оденсе  Отец Андерсена  был бедным башмачником, мать была прачкой из бедной семьи, ей приходилось в детстве просить подая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19112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Узнай сказку по иллюстр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Узнай сказку по иллюстр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казка «Снежная королева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Узнай сказку по иллюстр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Узнай сказку по иллюстр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казка «Стойкий оловянный солдатик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Узнай сказку по иллюстр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Узнай сказку по иллюстр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512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казка «Гадкий утенок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Как зовут героя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Когда наш герой появился на свет в маленьком датском городке Оденсе, гадалка предсказала, что ему суждено прославить свою родин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ле-Лукойе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Интернет ресурсы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ллюстрации к сказкам взяты с сайтов интерне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Картинка 6 из 14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116000" y="1413000"/>
            <a:ext cx="6961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Интернет ресурсы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3068640"/>
            <a:ext cx="1348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ллюстрации к сказкам взяты с  сайтов интерне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Детство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19360" y="15998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детства будущий писатель проявлял склонность к мечтанию и сочинительств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Когда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ец Андерсена умер мальчик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было 11лет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 ему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шлось работать ради пропитания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3405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Детст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раннем детстве Ганс Христиан был замкнутым ребёнком с большими голубыми глазами, который сидел в углу и играл в свою любимую игру — кукольный театр. Это единственное своё занятие он сохранил и в ю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Ю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14440" y="152388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возрасте 14 лет Андерсен поехал в Копенгаген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. Позже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ыл принят в Королевский театр, где играл второстепенные роли.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Затем он получил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еш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ени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учиться в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имнази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за счёт казны. В 1827 году Андерсен завершил учёб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98320" y="990720"/>
            <a:ext cx="33354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Творчест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кончились школьные годы Андерсена, и он снова в столице: готовиться в университет и в сентябре 1828 становиться студентом. Занятия в университете Андерсен совмещает с творчеством. Он пишет то стихи, то проз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На пути к славе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дна из первых книг, понравившихся читателям, называлась «Прогулка на остров «Амогер», а на сцене Королевского театра был поставлен водевиль «Любовь на башне св. Николая, или что скажет партер?».                       Это были первые шаги Андерсена на пути к слав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9:48:19Z</dcterms:created>
  <dc:creator>Библиотека</dc:creator>
  <dc:description/>
  <dc:language>en-US</dc:language>
  <cp:lastModifiedBy>Я</cp:lastModifiedBy>
  <dcterms:modified xsi:type="dcterms:W3CDTF">2010-08-23T18:18:40Z</dcterms:modified>
  <cp:revision>11</cp:revision>
  <dc:subject/>
  <dc:title>Презентация PowerPoint</dc:title>
</cp:coreProperties>
</file>