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C4E-A0B9-4215-841A-8DA1B67B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89C-4D6B-4530-AF85-565AAAE8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4D2-E35B-4C6A-9A9B-5A5EFD27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F3D-00FD-48D7-9D41-8FCA8F85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72B-5EAE-4EF8-A285-D1DB1B06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537-AC04-432B-A101-FB950824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FAA-07E3-4872-B069-BC31BB39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7FE-4A7F-4AC7-9F57-E195A09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3B1-CAD6-4DDC-88C0-D7D7D759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CAA-03EB-40A8-ACC5-72CABEF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31F-28C5-4875-940D-0B8419E6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866-7FBA-45DD-A48E-CD381F76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E9B5-19E6-437C-B2F6-403130B07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685800"/>
            <a:ext cx="73915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Lesson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12408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57600" y="1143000"/>
            <a:ext cx="4876920" cy="4114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чая тетрадь с.7 упр. 1и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514600"/>
            <a:ext cx="22860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514600"/>
            <a:ext cx="1752480" cy="2209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362320"/>
            <a:ext cx="1904760" cy="228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362320"/>
            <a:ext cx="1295280" cy="213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286000"/>
            <a:ext cx="17524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438280"/>
            <a:ext cx="1676520" cy="2133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91320" y="28065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0-03T17:27:2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