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B9E-4E46-4B01-887F-B06CBEF7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D5A-BC13-4D68-B18C-9C9B7E3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6AB-3621-47D6-8C28-684A26A7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771-EE9A-4BEF-A367-8610D6F1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E62-B06A-4C30-A606-68BAC679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47E-F5A2-4C41-A5D0-2F4E9720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C15-4CDD-4E5D-A7F8-C7385824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CBD-DA94-4B9F-B69C-CD44D026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B39-0CF8-4F51-93B7-1836E800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2BA-6F3C-4584-B938-836827F6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99A-05DB-4ECA-AFAD-D12C5582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581-8EAA-45B8-B38E-4941D349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CCE0-FF19-4B96-BA66-44D55051D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Как известно  Конституция является  основным законом государств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происхождению это слово латинское. А что означает в переводе с латинского слово Конституция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Т. Карлейль -  английский философ. «Правительство – это машина: для голодных – собирающая налоги, для сытыхи –  --------- .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Н. А. Бердяев – русский филосо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Государство существует не для того, чтобы превратить земную жизнь в рай, а для того, чтобы помешать ей окончательно превратиться в  --------.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В. Гюго – французский писатель 19 в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Для меня не важно, на чьей стороне сила: важно то, на чьей  стороне ---------.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Л. Н. Толстой – русский писа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Если сила плохих  людей  в том, что они вместе, то хорошим людям, чтобы стать силой, над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- --- --- ---.»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Софокл – древнегреческий драматург 5 в. до н. э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ебеса никогда не помогают тем людям, которые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-- --- ---  ---.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Ныне действующая Конституция принята в1993 году. А какая она по счету в нашем государстве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Ст. 1 нашей Конституции определяет Р.Ф. как: демократическое федеративное правовое государство. Какой еще признак не упомяну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По Конституции Р.Ф. ,что является высшей ценностью в нашей стране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В нашей Конституции закреплен принцип разделения властей на: законодательную, исполнительную, судебную. Кто из мыслителей прошлого  обосновал этот принцип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 Платон, Б) Кан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) Монтескье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Ст. 65 Конституции Р.Ф. определяет субъекты Российской федерации. Сколько и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Назовите не менее тре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язанностей граждан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.Ф., закрепленных в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ституции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Заполните пробелы в схе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429000" y="990720"/>
          <a:ext cx="2514600" cy="3427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власти в Р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0" y="11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24080" y="1828800"/>
          <a:ext cx="1219320" cy="51768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676520" y="1828800"/>
          <a:ext cx="1143000" cy="5158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государ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95680" y="1828800"/>
          <a:ext cx="1371600" cy="5158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. вла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095880" y="182880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495680" y="274320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124080" y="2743200"/>
          <a:ext cx="1219320" cy="51588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обр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676520" y="2743200"/>
          <a:ext cx="1211040" cy="517680"/>
        </p:xfrm>
        <a:graphic>
          <a:graphicData uri="http://schemas.openxmlformats.org/drawingml/2006/table">
            <a:tbl>
              <a:tblPr/>
              <a:tblGrid>
                <a:gridCol w="121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95880" y="2743200"/>
          <a:ext cx="1371600" cy="5158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ные су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0" y="53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743200" y="3505320"/>
          <a:ext cx="1905120" cy="517320"/>
        </p:xfrm>
        <a:graphic>
          <a:graphicData uri="http://schemas.openxmlformats.org/drawingml/2006/table">
            <a:tbl>
              <a:tblPr/>
              <a:tblGrid>
                <a:gridCol w="106668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1219320" y="362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 словаре. В Даля приведено несколько определений одного и того же понятия.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городской житель горож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аждый человек из тех, кто составляет народ, землю, госуд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амостоятельный член общества, обладающий правами и ответственностью за свои поступки и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это понят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тирко Лида</cp:lastModifiedBy>
  <dcterms:modified xsi:type="dcterms:W3CDTF">2011-06-19T15:34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