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8355-DE64-4A4F-97FC-5AD9EEB8B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29F1-5EF4-47D1-84C9-E807F24C2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D2A3-3AAB-4747-866F-8E1F630B7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1ACB-74AD-4456-9573-3C6BD402C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B8007-F472-4DA3-B6E9-0976798B4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8851D-E5A3-4389-BB8B-BF8890918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50ADE-77DF-4045-8BCB-E855EB260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97484-EC53-434A-AF35-6FACB5E66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3ADF4-5B99-4303-8950-EF325D13C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B19F4-E5EB-4A5E-9C88-4B93B0019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7BD73-BEDE-458B-AAFC-6FBDC28F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6C92-63B0-4BA8-B97C-B45977F6C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A6BAC-E929-4C05-B6F2-94A0B4D6C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5524B-29DA-44E3-8C52-84F2533F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2AA32-C776-465B-B7B1-642AD8361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F251D-3C0C-44AD-A099-59963F5A5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77E23-A746-439D-BB6C-6ED90028F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FDDE-330E-4817-AED0-10A5B5535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D8B9-516C-4476-81EC-0AA4B3244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E2DB-154B-430A-8879-A55124195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ADC8-8EBF-4B59-B181-7DAF81BD5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19F4-018C-449E-A42E-B5F5A1A4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56A5-7D21-4A85-82E4-1713ECD1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8145-F4B4-44E3-A03F-1E6DD12E3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09BAA-3F2F-4964-A68C-8B85DB3CBCAF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C6F03-8C4B-4E74-8800-B3CFC0A1F58C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420840" y="-6480"/>
            <a:ext cx="8242200" cy="7876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"/>
          <p:cNvSpPr/>
          <p:nvPr/>
        </p:nvSpPr>
        <p:spPr>
          <a:xfrm>
            <a:off x="0" y="672840"/>
            <a:ext cx="9144000" cy="63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43466"/>
                </a:solidFill>
                <a:latin typeface="Arial"/>
                <a:ea typeface="Times New Roman"/>
              </a:rPr>
              <a:t>   </a:t>
            </a:r>
            <a:r>
              <a:rPr b="1" lang="ru-RU" sz="1400" spc="-1" strike="noStrike">
                <a:solidFill>
                  <a:srgbClr val="543466"/>
                </a:solidFill>
                <a:latin typeface="Arial"/>
                <a:ea typeface="Times New Roman"/>
              </a:rPr>
              <a:t>АНКЕТ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  <a:ea typeface="Times New Roman"/>
              </a:rPr>
              <a:t>1.Ф.И.О.  мам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  <a:ea typeface="Times New Roman"/>
              </a:rPr>
              <a:t>2.Число, месяц, год рожден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  <a:ea typeface="Times New Roman"/>
              </a:rPr>
              <a:t>3.Место рожден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  <a:ea typeface="Times New Roman"/>
              </a:rPr>
              <a:t>4. Фамилия до замужеств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  <a:ea typeface="Times New Roman"/>
              </a:rPr>
              <a:t>5.В каком году пошла в школу (буква класса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  <a:ea typeface="Times New Roman"/>
              </a:rPr>
              <a:t>6. И.О. первой учительниц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  <a:ea typeface="Times New Roman"/>
              </a:rPr>
              <a:t>7.В каком году закончила школу (буква класса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  <a:ea typeface="Times New Roman"/>
              </a:rPr>
              <a:t>8.Ф.И.О. классного руководител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  <a:ea typeface="Times New Roman"/>
              </a:rPr>
              <a:t>9.Любимые предметы в школ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  <a:ea typeface="Times New Roman"/>
              </a:rPr>
              <a:t>10.Где училась после школы, какую профессию получил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  <a:ea typeface="Times New Roman"/>
              </a:rPr>
              <a:t>11.Любимый певец ( певица), любимая песня, любимый жанр музык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  <a:ea typeface="Times New Roman"/>
              </a:rPr>
              <a:t>12.Любимый жанр литературы, любимый автор, любимое произведен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  <a:ea typeface="Times New Roman"/>
              </a:rPr>
              <a:t>13.Любимая передача на Т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  <a:ea typeface="Times New Roman"/>
              </a:rPr>
              <a:t>14.Хобб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  <a:ea typeface="Times New Roman"/>
              </a:rPr>
              <a:t>15.Любимое блюд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  <a:ea typeface="Times New Roman"/>
              </a:rPr>
              <a:t>16. Любимое лакомство в детств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  <a:ea typeface="Times New Roman"/>
              </a:rPr>
              <a:t>17. Любимые цвет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  <a:ea typeface="Times New Roman"/>
              </a:rPr>
              <a:t>18. Любимые дух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  <a:ea typeface="Times New Roman"/>
              </a:rPr>
              <a:t>19. Любимый цве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  <a:ea typeface="Times New Roman"/>
              </a:rPr>
              <a:t>20. Моя мама, какая она? (5-10 предложений о достоинствах, чертах характера, привычках и т.п.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1T18:56:28Z</dcterms:created>
  <dc:creator>Елена Григорьевна</dc:creator>
  <dc:description/>
  <dc:language>en-US</dc:language>
  <cp:lastModifiedBy>Елена Григорьевна</cp:lastModifiedBy>
  <dcterms:modified xsi:type="dcterms:W3CDTF">2010-12-01T19:05:06Z</dcterms:modified>
  <cp:revision>1</cp:revision>
  <dc:subject/>
  <dc:title>Хорошо ли я знаю свою маму?</dc:title>
</cp:coreProperties>
</file>