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3CAD-F6B4-4EF9-B999-BD67CF52A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026E-A612-40D4-96E8-16BC4F78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BB6B-5878-4F1C-91E0-65FE250B1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78C2-5DE5-4A28-AC54-3385708CC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EA63-16BD-4EEF-A789-6EC5B57C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D710-4BFD-4456-B578-FC99B958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9E9F-F341-4D8C-B767-594A3394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D9A1-2A62-48C7-840E-7B38A902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9930-B52B-44C4-AE6F-6960664F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9026-20D3-451A-8BA5-90F7155E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FF1E-9B8F-4086-B3FE-61F934F8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6D71-774F-4D80-850C-A0556122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E016-A622-4C2C-B05E-4F46D0FCF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расная книг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966 году была издана Международная Красная кни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ложка у неё – красная, а страницы-разноцвет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асная книга- это сигнал бедствия, программа по спасению редких животных, находящихся под угрозой исчезнов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7920000" cy="6446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3995640" y="5084640"/>
            <a:ext cx="4681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кол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33640" y="476280"/>
            <a:ext cx="5637240" cy="6048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5940360" y="5157720"/>
            <a:ext cx="22082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рп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908000" y="476280"/>
            <a:ext cx="5419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Правила поведения в лесу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ломать в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разорять птичьи гнёз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брать из леса диких животных и их детёныш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шуми в ле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рвать цве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ловить насеком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бросать пустые бутылки, бума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обрывай в лесу паути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поведни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ргузинский - основное место охр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бо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ронежский - разводят бобр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ловежская пуща - много оленей, зуб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ндалакшский – птичьи базары гнездовья гаги. Пух этой птицы высоко цен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льменский – заповедник кам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cccc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В Красную книгу России входят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млекопитающие (выхухоль, сурок-байгак и д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птицы (чёрный аист, беркут балобан и др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рыбы (подкаменщик обыкновенный и д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)насекомые (бабочка апполон, шмель обыкновенный, степной и д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)растения (орхидеи, ветреница,тимьян  и др.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11280" y="150840"/>
            <a:ext cx="8064360" cy="6208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5940360" y="4724280"/>
            <a:ext cx="2448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андыш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7145" b="0"/>
          <a:stretch/>
        </p:blipFill>
        <p:spPr>
          <a:xfrm>
            <a:off x="324000" y="189000"/>
            <a:ext cx="8424720" cy="6483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932360" y="5157720"/>
            <a:ext cx="2862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етрениц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09080" cy="6319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5435640" y="5084640"/>
            <a:ext cx="2709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ервоцве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ffff00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480360" cy="4753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371840" y="6010200"/>
            <a:ext cx="185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80000" y="573408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Arial"/>
              </a:rPr>
              <a:t>Пятнистый ол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8208720" cy="6122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788000" y="4221000"/>
            <a:ext cx="34909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абочка- апполон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340000" y="333360"/>
            <a:ext cx="4807080" cy="6278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5148360" y="5373720"/>
            <a:ext cx="345600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урганни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4T11:34:10Z</dcterms:created>
  <dc:creator>USER</dc:creator>
  <dc:description/>
  <dc:language>en-US</dc:language>
  <cp:lastModifiedBy>Наташа</cp:lastModifiedBy>
  <dcterms:modified xsi:type="dcterms:W3CDTF">2009-10-03T05:15:17Z</dcterms:modified>
  <cp:revision>21</cp:revision>
  <dc:subject/>
  <dc:title>Слайд 1</dc:title>
</cp:coreProperties>
</file>