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8480" y="933120"/>
            <a:ext cx="43419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08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1031760" y="4624200"/>
            <a:ext cx="46022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623C-0044-4D3F-B71D-8F1747F67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FEF-4592-4055-A507-C4248A36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C65-DB3C-4ED8-BE19-7F435A3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E34-80FC-4B61-BD8B-0ECC3107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47A-F7E6-4C56-808B-4DC40ACE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9B1F-B338-4704-AB19-38240B3C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A9B7-2D3B-44A8-90AD-3253671A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579-4347-4336-9D1C-A278FFD6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412A-59DC-41E8-A4D2-595EBCF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68B-7AA5-43A2-9E3F-B7A90AF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BAD1-1190-4F5C-B053-AC6A649E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259-7D2D-4798-9E1E-FE33EDB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991-010A-4C8E-8CD0-4F2C2B7E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2F1A-1C88-4E1D-9818-76F4886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724-3248-4A4D-A170-3A36C010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AB36-BA61-4174-826A-2D4952EE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8884-705B-46E2-A478-CB43FAE4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B8B7-A899-4679-834A-9816CA98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0782-DA29-4719-A3AA-A77C25D4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9806-3EC0-4484-B37D-EFF295D0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0D85-6187-4904-AEC7-0CE62DF4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3CAC-80A7-441F-80A3-89032076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5450-9695-44A3-955C-C82DB1B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CD34-41B5-4828-AE25-9D2F34C8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DFD8-B4F1-4CF0-9411-CEA185A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AAAA-5871-4E75-8736-85E4169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21A7-70AB-45BB-8A0B-BCA5B0A2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BB56-99FB-4564-BAC4-0597BE6E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6F52-912A-4E0D-BE96-2E5F9C1E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A26-7A38-45E0-8DD0-AF27BC1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F45-AFC3-49F7-A3EB-8705A08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C8E-2C50-4033-BE45-D9040DBC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8B3-42A7-4490-BB13-86F9741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035-5ABC-4675-A63C-B766D0E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AD0-025A-41C3-B00F-739A9ACB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7D2-0043-4361-885D-ADE41BE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9F4-31D4-469E-835D-4DB23FF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43FA-25A3-4F12-97E4-1278C97DA2C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859040"/>
            <a:ext cx="555480" cy="4998960"/>
          </a:xfrm>
          <a:custGeom>
            <a:avLst/>
            <a:gdLst>
              <a:gd name="textAreaLeft" fmla="*/ 360 w 555480"/>
              <a:gd name="textAreaRight" fmla="*/ 555120 w 555480"/>
              <a:gd name="textAreaTop" fmla="*/ 360 h 4998960"/>
              <a:gd name="textAreaBottom" fmla="*/ 4998600 h 4998960"/>
            </a:gdLst>
            <a:ahLst/>
            <a:rect l="textAreaLeft" t="textAreaTop" r="textAreaRight" b="textAreaBottom"/>
            <a:pathLst>
              <a:path w="21600" h="194274">
                <a:moveTo>
                  <a:pt x="61" y="0"/>
                </a:moveTo>
                <a:arcTo wR="61" hR="61" stAng="16200000" swAng="-5400000"/>
                <a:lnTo>
                  <a:pt x="0" y="194213"/>
                </a:lnTo>
                <a:arcTo wR="61" hR="61" stAng="10800000" swAng="-5400000"/>
                <a:lnTo>
                  <a:pt x="21539" y="194274"/>
                </a:lnTo>
                <a:arcTo wR="61" hR="61" stAng="5400000" swAng="-5400000"/>
                <a:lnTo>
                  <a:pt x="21600" y="61"/>
                </a:lnTo>
                <a:arcTo wR="61" hR="61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0880" y="0"/>
            <a:ext cx="8493120" cy="1739880"/>
          </a:xfrm>
          <a:prstGeom prst="roundRect">
            <a:avLst>
              <a:gd name="adj" fmla="val 8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512640"/>
            <a:ext cx="78012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1400" y="2165040"/>
            <a:ext cx="7801200" cy="1283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728720"/>
            <a:ext cx="9144000" cy="177840"/>
          </a:xfrm>
          <a:prstGeom prst="roundRect">
            <a:avLst>
              <a:gd name="adj" fmla="val 88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6800" y="0"/>
            <a:ext cx="165240" cy="68580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894569">
                <a:moveTo>
                  <a:pt x="207" y="0"/>
                </a:moveTo>
                <a:arcTo wR="207" hR="207" stAng="16200000" swAng="-5400000"/>
                <a:lnTo>
                  <a:pt x="0" y="894362"/>
                </a:lnTo>
                <a:arcTo wR="207" hR="207" stAng="10800000" swAng="-5400000"/>
                <a:lnTo>
                  <a:pt x="21393" y="894569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0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0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0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0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FC1D49-5C55-4540-AB5A-6510427B95A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398E78-B1F1-4D9C-B599-06B7A34270B9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464760"/>
            <a:ext cx="779796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0" y="2160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5">
                <a:moveTo>
                  <a:pt x="1223" y="713"/>
                </a:moveTo>
                <a:cubicBezTo>
                  <a:pt x="0" y="648"/>
                  <a:pt x="2612" y="673"/>
                  <a:pt x="2025" y="535"/>
                </a:cubicBezTo>
                <a:cubicBezTo>
                  <a:pt x="1438" y="397"/>
                  <a:pt x="3677" y="431"/>
                  <a:pt x="3947" y="341"/>
                </a:cubicBezTo>
                <a:cubicBezTo>
                  <a:pt x="4066" y="302"/>
                  <a:pt x="3996" y="213"/>
                  <a:pt x="3839" y="174"/>
                </a:cubicBezTo>
                <a:cubicBezTo>
                  <a:pt x="3830" y="172"/>
                  <a:pt x="2498" y="98"/>
                  <a:pt x="2759" y="49"/>
                </a:cubicBezTo>
                <a:cubicBezTo>
                  <a:pt x="3020" y="0"/>
                  <a:pt x="6565" y="367"/>
                  <a:pt x="6554" y="434"/>
                </a:cubicBezTo>
                <a:cubicBezTo>
                  <a:pt x="6543" y="501"/>
                  <a:pt x="4796" y="573"/>
                  <a:pt x="4796" y="573"/>
                </a:cubicBezTo>
                <a:lnTo>
                  <a:pt x="5655" y="663"/>
                </a:lnTo>
                <a:lnTo>
                  <a:pt x="7025" y="680"/>
                </a:lnTo>
                <a:lnTo>
                  <a:pt x="9264" y="792"/>
                </a:lnTo>
                <a:cubicBezTo>
                  <a:pt x="9264" y="792"/>
                  <a:pt x="10256" y="626"/>
                  <a:pt x="10044" y="648"/>
                </a:cubicBezTo>
                <a:cubicBezTo>
                  <a:pt x="9833" y="670"/>
                  <a:pt x="11017" y="659"/>
                  <a:pt x="11119" y="627"/>
                </a:cubicBezTo>
                <a:cubicBezTo>
                  <a:pt x="11222" y="595"/>
                  <a:pt x="11424" y="637"/>
                  <a:pt x="11434" y="638"/>
                </a:cubicBezTo>
                <a:cubicBezTo>
                  <a:pt x="11806" y="670"/>
                  <a:pt x="12046" y="705"/>
                  <a:pt x="12314" y="715"/>
                </a:cubicBezTo>
                <a:cubicBezTo>
                  <a:pt x="12583" y="725"/>
                  <a:pt x="13177" y="680"/>
                  <a:pt x="13520" y="698"/>
                </a:cubicBezTo>
                <a:cubicBezTo>
                  <a:pt x="13863" y="716"/>
                  <a:pt x="14381" y="638"/>
                  <a:pt x="14381" y="638"/>
                </a:cubicBezTo>
                <a:lnTo>
                  <a:pt x="14381" y="765"/>
                </a:lnTo>
                <a:cubicBezTo>
                  <a:pt x="14381" y="765"/>
                  <a:pt x="11207" y="964"/>
                  <a:pt x="11221" y="964"/>
                </a:cubicBezTo>
                <a:cubicBezTo>
                  <a:pt x="11235" y="964"/>
                  <a:pt x="7757" y="969"/>
                  <a:pt x="7770" y="969"/>
                </a:cubicBezTo>
                <a:cubicBezTo>
                  <a:pt x="7783" y="969"/>
                  <a:pt x="5431" y="910"/>
                  <a:pt x="5431" y="910"/>
                </a:cubicBezTo>
                <a:cubicBezTo>
                  <a:pt x="5431" y="910"/>
                  <a:pt x="4149" y="883"/>
                  <a:pt x="4228" y="873"/>
                </a:cubicBezTo>
                <a:cubicBezTo>
                  <a:pt x="4307" y="863"/>
                  <a:pt x="2989" y="1334"/>
                  <a:pt x="2810" y="1301"/>
                </a:cubicBezTo>
                <a:cubicBezTo>
                  <a:pt x="2631" y="1269"/>
                  <a:pt x="1893" y="1076"/>
                  <a:pt x="1867" y="1087"/>
                </a:cubicBezTo>
                <a:cubicBezTo>
                  <a:pt x="1840" y="1098"/>
                  <a:pt x="3058" y="810"/>
                  <a:pt x="2629" y="787"/>
                </a:cubicBezTo>
                <a:lnTo>
                  <a:pt x="1223" y="7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0600" y="6018120"/>
            <a:ext cx="5227560" cy="34632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49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1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4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1" y="551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7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1"/>
                </a:lnTo>
                <a:lnTo>
                  <a:pt x="11209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112680"/>
            <a:ext cx="77979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1040" y="1447920"/>
            <a:ext cx="77979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262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262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17520" y="569520"/>
            <a:ext cx="63514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130480" y="1906200"/>
            <a:ext cx="6338880" cy="137048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7960" cy="1186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7960" cy="1186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040" y="-163440"/>
            <a:ext cx="779940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9400" cy="118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124080" y="6119640"/>
            <a:ext cx="2895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40000" y="1800360"/>
            <a:ext cx="77724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imes New Roman"/>
              </a:rPr>
              <a:t>«Прогрессии. Арифметическая прогрессия.»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4720" y="5400720"/>
            <a:ext cx="3959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Выота выполнена учителем мате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400720" y="5659560"/>
            <a:ext cx="3959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ыполнила: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ежлукченко Людмил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У гимназия «Российск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51960" y="3471840"/>
            <a:ext cx="78073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3n + 1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4, 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7,  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9, 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12,... 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арифметическая прогрессия у котор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 и d=3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2320" y="360360"/>
            <a:ext cx="78073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1) 2,4,6,8,10,12,..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2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6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8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0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2,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арифметическая прогрессия у котор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2 и d=2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8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900000" y="539640"/>
            <a:ext cx="755964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Найдите первый член 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3, -1, -5, -9, …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0,7; 0,9; 1,1; 1,3;.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79640" y="3060720"/>
            <a:ext cx="665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е: 1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3 и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 =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-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)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0,7;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0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 =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0,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720720" y="360360"/>
            <a:ext cx="55800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Найдите а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а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1, d = 2, n = 1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4, -2, -8, -14, -20, …,  n =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20720" y="2160720"/>
            <a:ext cx="73785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1, d = 2, n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1+2(11-1);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)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1,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-2, n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 =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4+(n-1)(-6),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10 — 6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900000" y="539640"/>
            <a:ext cx="77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 Найдите n, если  а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0, d = 0,5, a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00000" y="2340000"/>
            <a:ext cx="6840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=0+0,5(n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=0,5n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0,5n=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n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60360" y="539640"/>
            <a:ext cx="828036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. Найдите S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если извест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)  a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= 4п + 3, п = 3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)  а</a:t>
            </a:r>
            <a:r>
              <a:rPr b="1" i="1" lang="ru-RU" sz="3200" spc="-1" strike="noStrike" baseline="-33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 -3, d = 1,5, п = 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833400" y="720720"/>
            <a:ext cx="762804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n+3, n=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*1+3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*30+3=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n(a</a:t>
            </a:r>
            <a:r>
              <a:rPr b="0" i="1" lang="ru-RU" sz="3200" spc="-1" strike="noStrike" u="sng" baseline="-33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+a</a:t>
            </a:r>
            <a:r>
              <a:rPr b="0" i="1" lang="ru-RU" sz="3200" spc="-1" strike="noStrike" u="sng" baseline="-33000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(7+1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5*130=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: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012680" y="1074600"/>
            <a:ext cx="78073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-3, d=1,5; п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a</a:t>
            </a:r>
            <a:r>
              <a:rPr b="0" i="1" lang="ru-RU" sz="3200" spc="-1" strike="noStrike" u="sng" baseline="-33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+d(n-1)*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(-3)+1,5(16-1)*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(-6+22,5)*8=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: 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79280" y="307800"/>
            <a:ext cx="8640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Задачи разных уровней: 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780912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372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e11a6"/>
                </a:solidFill>
                <a:latin typeface="Times New Roman"/>
              </a:rPr>
              <a:t>Задача 1 уровня — миним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e11a6"/>
                </a:solidFill>
                <a:latin typeface="Times New Roman"/>
              </a:rPr>
              <a:t>Задача 2 уровня — общ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e11a6"/>
                </a:solidFill>
                <a:latin typeface="Times New Roman"/>
              </a:rPr>
              <a:t>Задача 3 уровня — продвинут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71040" y="336600"/>
            <a:ext cx="780732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c1900"/>
                </a:solidFill>
                <a:latin typeface="Times New Roman"/>
              </a:rPr>
              <a:t>Задача 1 уровн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7446960" cy="8307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девятый член арифметиче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есси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: 3,7, …,... 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720720" y="1440000"/>
            <a:ext cx="78073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3,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7        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7-3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3+4(9-1)=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: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ff5050"/>
                </a:solidFill>
                <a:uFillTx/>
                <a:latin typeface="Times New Roman"/>
              </a:rPr>
              <a:t>Цель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95280"/>
                <a:tab algn="l" pos="50004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95280"/>
                <a:tab algn="l" pos="50004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1428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395280"/>
                <a:tab algn="l" pos="50004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руирование системы задач по теме: «Прогрессии. Арифметическая прогрессия»для использования на уроках (дифференцированный подход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71040" y="549000"/>
            <a:ext cx="78073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 2 уровн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51960" y="1628640"/>
            <a:ext cx="780732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19200" indent="-60984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кажите число неотрицательных членов арифметической прогрессии 13,10,7, 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1920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   Подготовку к экзамену начинают с 15 мин. В каждый следующий день её время увеличивают на 10 мин. Сколько дней следует готовиться к экзамену в указанном режиме, чтобы достичь максимальной продолжительности подготовки, не влияющей на здоровье подростка, 1час 45мину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539640" y="189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. d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0-13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d=7-3=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d=4-3=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just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d=1-3=-2&lt;0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последующие члены прогрессии являются отрицательными.  Значит, заданная прогрессия содержит 5 неотрицательных чл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97600" cy="11860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 условия задачи следует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1=15; aп=10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0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я форму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лена арифметической прогрессии найдем количество дней для подготовки к экзамену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а1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1)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05=15+10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1); 10п=100; п=10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0 д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51960" y="2160720"/>
            <a:ext cx="78073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5160"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сумму всех трехзначных чисел, которые делятся на 7 и не делятся на 1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671040" y="549000"/>
            <a:ext cx="78073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 3 уровн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52320" y="539640"/>
            <a:ext cx="7807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ответить на вопрос задачи, необходимо из суммы все трехзначных чисел, которые делятся на 7, вычисть сумму всех трехзначных чисел, которые делятся на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Первое и последнее трехзначные числа, которые делятся на 7 легко определить — это 105 и 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ервое и последнее трехзначные числа, которые делятся на 13 — это 182 и 9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720720" y="155520"/>
            <a:ext cx="8280360" cy="74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айдем сумму всех трехзначных чисел, которые делятся на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05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=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94=105+7n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7n=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=128 — количество чисел, которые делятся на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28(105+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703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539640" y="360360"/>
            <a:ext cx="780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) найдем сумму всех трехзначных чисел, которые делятся на 1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182, а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=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10=182+91n-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91n=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=9 — количество чисел, которые делятся на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(182+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20720" y="706320"/>
            <a:ext cx="78058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S=70336 - 4914 =654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654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2556000" y="11592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Самостоятельная работ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 те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42920" y="357120"/>
            <a:ext cx="2112480" cy="3734640"/>
            <a:chOff x="142920" y="357120"/>
            <a:chExt cx="2112480" cy="3734640"/>
          </a:xfrm>
        </p:grpSpPr>
        <p:grpSp>
          <p:nvGrpSpPr>
            <p:cNvPr id="839" name=""/>
            <p:cNvGrpSpPr/>
            <p:nvPr/>
          </p:nvGrpSpPr>
          <p:grpSpPr>
            <a:xfrm>
              <a:off x="142920" y="357120"/>
              <a:ext cx="2112480" cy="3356280"/>
              <a:chOff x="142920" y="357120"/>
              <a:chExt cx="2112480" cy="3356280"/>
            </a:xfrm>
          </p:grpSpPr>
          <p:sp>
            <p:nvSpPr>
              <p:cNvPr id="840" name=""/>
              <p:cNvSpPr/>
              <p:nvPr/>
            </p:nvSpPr>
            <p:spPr>
              <a:xfrm>
                <a:off x="625320" y="3321360"/>
                <a:ext cx="81000" cy="276480"/>
              </a:xfrm>
              <a:prstGeom prst="rect">
                <a:avLst/>
              </a:prstGeom>
              <a:noFill/>
              <a:ln w="9360">
                <a:solidFill>
                  <a:srgbClr val="e5e6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5320" y="2884680"/>
                <a:ext cx="51120" cy="276480"/>
              </a:xfrm>
              <a:prstGeom prst="rect">
                <a:avLst/>
              </a:prstGeom>
              <a:noFill/>
              <a:ln w="9360">
                <a:solidFill>
                  <a:srgbClr val="e5e6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42920" y="357120"/>
                <a:ext cx="2112480" cy="3356280"/>
                <a:chOff x="142920" y="357120"/>
                <a:chExt cx="2112480" cy="33562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4292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7764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12000" y="357120"/>
                  <a:ext cx="144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4708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081440" y="357120"/>
                  <a:ext cx="144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31508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549440" y="357120"/>
                  <a:ext cx="144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78452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019240" y="357120"/>
                  <a:ext cx="108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253960" y="357120"/>
                  <a:ext cx="1440" cy="3356280"/>
                </a:xfrm>
                <a:prstGeom prst="line">
                  <a:avLst/>
                </a:prstGeom>
                <a:ln w="9360">
                  <a:solidFill>
                    <a:srgbClr val="5766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3" name=""/>
                <p:cNvGrpSpPr/>
                <p:nvPr/>
              </p:nvGrpSpPr>
              <p:grpSpPr>
                <a:xfrm>
                  <a:off x="142920" y="357120"/>
                  <a:ext cx="2109600" cy="3355920"/>
                  <a:chOff x="142920" y="357120"/>
                  <a:chExt cx="2109600" cy="335592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42920" y="357120"/>
                    <a:ext cx="2109600" cy="144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42920" y="371196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42920" y="55368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42920" y="752040"/>
                    <a:ext cx="2109600" cy="144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42920" y="94860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42920" y="1146960"/>
                    <a:ext cx="2109600" cy="144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42920" y="134352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42920" y="154044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42920" y="173844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42920" y="193536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42920" y="213336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42920" y="233028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42920" y="2528280"/>
                    <a:ext cx="2109600" cy="144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42920" y="272520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42920" y="292176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42920" y="312012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42920" y="331668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142920" y="3515040"/>
                    <a:ext cx="2109600" cy="1080"/>
                  </a:xfrm>
                  <a:prstGeom prst="line">
                    <a:avLst/>
                  </a:prstGeom>
                  <a:ln w="9360">
                    <a:solidFill>
                      <a:srgbClr val="57667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2" name=""/>
              <p:cNvGrpSpPr/>
              <p:nvPr/>
            </p:nvGrpSpPr>
            <p:grpSpPr>
              <a:xfrm>
                <a:off x="446040" y="462600"/>
                <a:ext cx="1796040" cy="3148560"/>
                <a:chOff x="446040" y="462600"/>
                <a:chExt cx="1796040" cy="3148560"/>
              </a:xfrm>
            </p:grpSpPr>
            <p:cxnSp>
              <p:nvCxnSpPr>
                <p:cNvPr id="873" name=""/>
                <p:cNvCxnSpPr/>
                <p:nvPr/>
              </p:nvCxnSpPr>
              <p:spPr>
                <a:xfrm flipV="1">
                  <a:off x="842400" y="462600"/>
                  <a:ext cx="7920" cy="31489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4" name=""/>
                <p:cNvCxnSpPr/>
                <p:nvPr/>
              </p:nvCxnSpPr>
              <p:spPr>
                <a:xfrm flipV="1">
                  <a:off x="446040" y="3305880"/>
                  <a:ext cx="1796400" cy="1332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5" name=""/>
                <p:cNvCxnSpPr/>
                <p:nvPr/>
              </p:nvCxnSpPr>
              <p:spPr>
                <a:xfrm>
                  <a:off x="943920" y="3247920"/>
                  <a:ext cx="130320" cy="3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76" name=""/>
                <p:cNvCxnSpPr/>
                <p:nvPr/>
              </p:nvCxnSpPr>
              <p:spPr>
                <a:xfrm flipV="1">
                  <a:off x="815400" y="3106800"/>
                  <a:ext cx="62280" cy="6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877" name=""/>
              <p:cNvSpPr/>
              <p:nvPr/>
            </p:nvSpPr>
            <p:spPr>
              <a:xfrm>
                <a:off x="949320" y="3233880"/>
                <a:ext cx="52560" cy="276480"/>
              </a:xfrm>
              <a:prstGeom prst="rect">
                <a:avLst/>
              </a:prstGeom>
              <a:noFill/>
              <a:ln w="9360">
                <a:solidFill>
                  <a:srgbClr val="e5e6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785960" y="3284640"/>
                <a:ext cx="322200" cy="307080"/>
              </a:xfrm>
              <a:prstGeom prst="rect">
                <a:avLst/>
              </a:prstGeom>
              <a:noFill/>
              <a:ln w="9360">
                <a:solidFill>
                  <a:srgbClr val="e5e6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1880" y="444240"/>
                <a:ext cx="487440" cy="368280"/>
              </a:xfrm>
              <a:prstGeom prst="rect">
                <a:avLst/>
              </a:prstGeom>
              <a:noFill/>
              <a:ln w="9360">
                <a:solidFill>
                  <a:srgbClr val="e5e6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54080" y="3498840"/>
                <a:ext cx="77760" cy="8244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86120" y="1107720"/>
                <a:ext cx="77760" cy="8064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292400" y="2892600"/>
                <a:ext cx="77760" cy="8064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09840" y="2284920"/>
                <a:ext cx="77760" cy="8208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47800" y="1713960"/>
                <a:ext cx="77760" cy="8208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4f7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74920" y="3784680"/>
              <a:ext cx="68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ис.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2663640" y="128592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о арифметическую прогрессию (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вестно, что 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8, 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2. найди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ность арифметической прог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500200" y="2428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571920" y="2428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714920" y="24289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934240" y="24289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40000" y="2879640"/>
            <a:ext cx="69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лены арифметической прогрессии изображены (рис.1) точками на координатной плос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из данных чисел является членом этой прогре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060560" y="43117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600360" y="4311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191200" y="431172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382840" y="43196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158840" y="4911840"/>
            <a:ext cx="5929200" cy="620640"/>
            <a:chOff x="1158840" y="4911840"/>
            <a:chExt cx="5929200" cy="620640"/>
          </a:xfrm>
        </p:grpSpPr>
        <p:sp>
          <p:nvSpPr>
            <p:cNvPr id="897" name=""/>
            <p:cNvSpPr/>
            <p:nvPr/>
          </p:nvSpPr>
          <p:spPr>
            <a:xfrm>
              <a:off x="1225440" y="4911840"/>
              <a:ext cx="5614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В арифметической прогрессии а</a:t>
              </a:r>
              <a:r>
                <a:rPr b="0" lang="ru-RU" sz="1800" spc="-1" strike="noStrike" baseline="-33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-7,3 и  а</a:t>
              </a:r>
              <a:r>
                <a:rPr b="0" lang="ru-RU" sz="1800" spc="-1" strike="noStrike" baseline="-33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-6,4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58840" y="5164200"/>
              <a:ext cx="59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 каком месте (укажите номер) находится число 26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334880" y="5759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143440" y="57592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97600" y="5759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630680" y="57513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896040" y="539640"/>
            <a:ext cx="706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айдите сумму первых шестнадцати членов арифметическ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рогрессии, заданной формулой а</a:t>
            </a:r>
            <a:r>
              <a:rPr b="0" lang="ru-RU" sz="1800" spc="-1" strike="noStrike" baseline="-33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n+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0360" y="2268360"/>
            <a:ext cx="67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умма второго и пятого членов арифметическ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рогрессии равна 11. Третий её член на 6 больше первог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Найдите второй и четвёртый член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36640" y="1440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66760" y="1432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235320" y="1440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7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51400" y="1440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3333ff"/>
                </a:solidFill>
                <a:latin typeface="Arial"/>
              </a:rPr>
              <a:t>Задачи: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684360" y="2133720"/>
            <a:ext cx="75596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539280" y="542520"/>
            <a:ext cx="828036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86080" indent="-586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и систематизация теоретического материала по арифметической про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работка умений и навыков применения форму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члена прогрессии, формул су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ленов прогре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2.     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формированию познавательного интереса у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ширять научный и культурный кругозор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у учащихся  логического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вить навыки самостояте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541440"/>
            <a:ext cx="82296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истика тем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964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Тема «Прогрессии. Арифметическая прогрессия» изучается в курсе алгебры 9 класса.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394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а изучение данной темы по программе отводится 5  часов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198a8a"/>
                </a:solidFill>
                <a:uFillTx/>
                <a:latin typeface="Times New Roman"/>
              </a:rPr>
              <a:t>Изучение темы ведется по учебнику: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ордкович А.Г. Алгебра. 9класс.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198a8a"/>
                </a:solidFill>
                <a:uFillTx/>
                <a:latin typeface="Times New Roman"/>
              </a:rPr>
              <a:t>Уровень класса:</a:t>
            </a: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 общеобразовательный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57200" y="-179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80099"/>
                </a:solidFill>
                <a:latin typeface="Times New Roman"/>
              </a:rPr>
              <a:t>Математически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79280" y="695160"/>
            <a:ext cx="8459640" cy="5783040"/>
            <a:chOff x="179280" y="695160"/>
            <a:chExt cx="8459640" cy="5783040"/>
          </a:xfrm>
        </p:grpSpPr>
        <p:sp>
          <p:nvSpPr>
            <p:cNvPr id="775" name=""/>
            <p:cNvSpPr/>
            <p:nvPr/>
          </p:nvSpPr>
          <p:spPr>
            <a:xfrm>
              <a:off x="3418920" y="695160"/>
              <a:ext cx="2518560" cy="11570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следова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91640" y="2591640"/>
              <a:ext cx="2339280" cy="96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е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99640" y="3239280"/>
              <a:ext cx="2339280" cy="96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ческ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есс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60000" y="1800000"/>
              <a:ext cx="1800000" cy="539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ното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99640" y="1800000"/>
              <a:ext cx="1800000" cy="539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гранич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18920" y="4075560"/>
              <a:ext cx="1979280" cy="784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ч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есс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9280" y="4678920"/>
              <a:ext cx="1800000" cy="539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39280" y="1260000"/>
              <a:ext cx="12603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327760" y="1260000"/>
              <a:ext cx="11012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78920" y="1800000"/>
              <a:ext cx="108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58200" y="3060000"/>
              <a:ext cx="143964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3239280"/>
              <a:ext cx="2339280" cy="96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ифметическ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есс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147400" y="3060000"/>
              <a:ext cx="128232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979280" y="2327760"/>
              <a:ext cx="1080" cy="9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979280" y="1788480"/>
              <a:ext cx="4318560" cy="14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79280" y="5399280"/>
              <a:ext cx="2159640" cy="1078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n - ый член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риф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прогрес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99640" y="5434200"/>
              <a:ext cx="2518560" cy="683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арактеристичес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во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888480" y="4139280"/>
              <a:ext cx="38232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39280" y="4139280"/>
              <a:ext cx="178920" cy="12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42560" y="3994560"/>
              <a:ext cx="179964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60000" y="3778920"/>
              <a:ext cx="1800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99640" y="4499640"/>
              <a:ext cx="107928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78920" y="5218200"/>
              <a:ext cx="2160000" cy="89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мма перв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n членов ариф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е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71400" y="509760"/>
            <a:ext cx="7809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Математические утвер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60360" y="2160720"/>
            <a:ext cx="2879640" cy="18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 n-го ч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219640" y="2160720"/>
            <a:ext cx="2879640" cy="18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вых n 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00360" y="4500720"/>
            <a:ext cx="2879640" cy="18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фме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160720" y="3959280"/>
            <a:ext cx="14396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40000" y="306072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1600" y="53964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Алгоритм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41403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198a8a"/>
                </a:solidFill>
                <a:latin typeface="Times New Roman"/>
              </a:rPr>
              <a:t>Нахождения а</a:t>
            </a:r>
            <a:r>
              <a:rPr b="0" i="1" lang="ru-RU" sz="2000" spc="-1" strike="noStrike" baseline="-33000">
                <a:solidFill>
                  <a:srgbClr val="198a8a"/>
                </a:solidFill>
                <a:latin typeface="Times New Roman"/>
              </a:rPr>
              <a:t>п</a:t>
            </a:r>
            <a:r>
              <a:rPr b="0" i="1" lang="ru-RU" sz="2000" spc="-1" strike="noStrike">
                <a:solidFill>
                  <a:srgbClr val="198a8a"/>
                </a:solidFill>
                <a:latin typeface="Times New Roman"/>
              </a:rPr>
              <a:t> члена арифметической прогрессии: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8a8a"/>
                </a:solidFill>
                <a:latin typeface="Times New Roman"/>
              </a:rPr>
              <a:t>1.</a:t>
            </a:r>
            <a:r>
              <a:rPr b="0" i="1" lang="ru-RU" sz="2200" spc="-1" strike="noStrike">
                <a:solidFill>
                  <a:srgbClr val="198a8a"/>
                </a:solidFill>
                <a:latin typeface="Times New Roman"/>
              </a:rPr>
              <a:t>Составить математическую модель.</a:t>
            </a:r>
            <a:endParaRPr b="0" lang="en-US" sz="2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198a8a"/>
                </a:solidFill>
                <a:latin typeface="Times New Roman"/>
              </a:rPr>
              <a:t>(составление системы двух линейных уравнений с двумя переменными  a</a:t>
            </a:r>
            <a:r>
              <a:rPr b="0" i="1" lang="ru-RU" sz="1600" spc="-1" strike="noStrike" baseline="-33000">
                <a:solidFill>
                  <a:srgbClr val="198a8a"/>
                </a:solidFill>
                <a:latin typeface="Times New Roman"/>
              </a:rPr>
              <a:t>1 </a:t>
            </a:r>
            <a:r>
              <a:rPr b="0" i="1" lang="ru-RU" sz="1600" spc="-1" strike="noStrike">
                <a:solidFill>
                  <a:srgbClr val="198a8a"/>
                </a:solidFill>
                <a:latin typeface="Times New Roman"/>
              </a:rPr>
              <a:t> и d)</a:t>
            </a:r>
            <a:endParaRPr b="0" lang="en-US" sz="16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8a8a"/>
                </a:solidFill>
                <a:latin typeface="Times New Roman"/>
              </a:rPr>
              <a:t>2. Работа с составленной математической моделью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198a8a"/>
                </a:solidFill>
                <a:latin typeface="Times New Roman"/>
              </a:rPr>
              <a:t>(решение составленной системы)</a:t>
            </a:r>
            <a:endParaRPr b="0" lang="en-US" sz="18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8a8a"/>
                </a:solidFill>
                <a:latin typeface="Times New Roman"/>
              </a:rPr>
              <a:t>3. Ответ на вопрос задачи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00360" y="1530000"/>
            <a:ext cx="45003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шения текстовых задач: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оставить математическую модель.</a:t>
            </a:r>
            <a:endParaRPr b="0" lang="en-US" sz="2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оставление конечной арифметической прогрессии)</a:t>
            </a:r>
            <a:endParaRPr b="0" lang="en-US" sz="16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Работа с составленной математической моделью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рименение формулы суммы первых n членов арифметической прогрессии; нахождение n (может быть несколько)</a:t>
            </a:r>
            <a:endParaRPr b="0" lang="en-US" sz="18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Ответ на вопрос задачи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бор подходящего решения)</a:t>
            </a:r>
            <a:endParaRPr b="0" lang="en-US" sz="18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43560" y="1440000"/>
            <a:ext cx="1440" cy="50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280099"/>
                </a:solidFill>
                <a:latin typeface="Times New Roman"/>
              </a:rPr>
              <a:t>Ключевы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720720" y="251892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пределите, является ли приведенная ниже последовательность арифметической прогресси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2, 4, 6, 8, 10, 12, …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3200" spc="-1" strike="noStrike" baseline="-33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= 3n +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2:41:52Z</dcterms:created>
  <dc:creator>Сергей</dc:creator>
  <dc:description/>
  <dc:language>en-US</dc:language>
  <cp:lastModifiedBy>Сергей</cp:lastModifiedBy>
  <dcterms:modified xsi:type="dcterms:W3CDTF">2012-01-17T16:38:28Z</dcterms:modified>
  <cp:revision>4</cp:revision>
  <dc:subject/>
  <dc:title>Конструирование системы задач по теме  «Прогрессии. Арифметическая прогрессия.»</dc:title>
</cp:coreProperties>
</file>