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84A-9884-4332-A2EE-F71D3038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4FD-1CEB-4351-992A-D5A2FF1A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F2A-25B8-4826-8DDF-F9644A8F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0FA-9A45-47CE-98C8-73A2B1DE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63E-E731-4C36-91F8-76EAF953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116-A7EA-4654-B24C-E65A0D83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F6F-58AF-422B-95C4-E0368728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383-DD28-41B0-A6DC-B84158AC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148-626B-4F23-AEFB-41ED63A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E6A-F6BF-4A9F-9D2C-E8D73B0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C84-ADD2-44F4-AA19-7A2FD6AB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6D8-B7EC-45BE-83D4-B425DE4C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DA0F-38D6-4421-93E1-3F02712DD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hyperlink" Target="http://gutiere.ru/d/42599/d/image_550.jpg" TargetMode="Externa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orums.drom.ru/attachment.php?attachmentid=1643175&amp;stc=1&amp;d=1303084169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ru.wikipedia.org/wiki/&#1060;&#1072;&#1081;&#1083;:Pocket_watch_with_chain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charizma.kloop.kg/files/2009/07/porsche_002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radugavd.ru/d/63369/d/6_36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686800" cy="63244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010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«Отзвуки» средневековья в жизни петербуржцев и Петербурга.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660033"/>
                </a:solidFill>
                <a:latin typeface="Impact"/>
              </a:rPr>
              <a:t>параграф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http://feb-web.ru/feb/zhukovsky/pictures/bs3-240-.jpg"/>
          <p:cNvPicPr/>
          <p:nvPr/>
        </p:nvPicPr>
        <p:blipFill>
          <a:blip r:embed="rId1"/>
          <a:stretch/>
        </p:blipFill>
        <p:spPr>
          <a:xfrm>
            <a:off x="4343400" y="304920"/>
            <a:ext cx="4591080" cy="635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304920"/>
            <a:ext cx="6400800" cy="1984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Он на берег вышел; он встречен толпой;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        К царевым ногам он упал;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И кубок у ног положил золотой;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        И дочери царь приказал: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Дать юноше кубок с струей винограда;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И в сладость была для него та наград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55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553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670720"/>
            <a:ext cx="91440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Прочтите заголовки к ил. 115, 115а. Что в интерьерах этих петербургских дворцов напоминает о средневеков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590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371448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4124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52280" y="2666880"/>
            <a:ext cx="2438640" cy="4048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743200" y="2666880"/>
            <a:ext cx="3276720" cy="4038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4 из 2123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426708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Вспомните из курса истории основные признаки города в Средние век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819520"/>
            <a:ext cx="8305920" cy="35812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Здания в средневековом город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Городско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ту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Универс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http://www.hellopiter.ru/image/terter45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PICT2837 (700x525, 156Kb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http://www.palytra.com/upload/wysiwyg/images/Kazan%20cathedral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85800" y="2057400"/>
          <a:ext cx="7619760" cy="426672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200"/>
                <a:gridCol w="952560"/>
                <a:gridCol w="952560"/>
                <a:gridCol w="952200"/>
                <a:gridCol w="952560"/>
                <a:gridCol w="9525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763120" cy="132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Здесь зашифрованы 4 слова. Они тоже относятся к «отзвукам» средневекового наслед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ие «отзвуки» истории западно-европейского Средневековья сохраняются в жизни Петербурга и его ж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то из западно-европейской средневековой культуры вошло в русскую культу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Параграф 30, стр. 73 вопросы 1,3 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опросы 2, 4 писм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Из Средних веков к нам приш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06668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066680"/>
            <a:ext cx="2000160" cy="1486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259092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28600" y="457200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11 из 1798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2590920"/>
            <a:ext cx="77724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Что ещё напоминает нам о средневековой культу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Вопросы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О чём напоминают такие литературные жанры, как роман и балла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О чём рассказывают интерьеры некоторых петербургских дворц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Какие «отголоски» жизни средневековых городов можно встретить в Петербур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Какие ещё «отзвуки» средневекового наследия есть в нашем го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3880"/>
            <a:ext cx="4343400" cy="4953240"/>
          </a:xfrm>
          <a:prstGeom prst="foldedCorner">
            <a:avLst>
              <a:gd name="adj" fmla="val 12500"/>
            </a:avLst>
          </a:prstGeom>
          <a:solidFill>
            <a:srgbClr val="e5d9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Литературные жан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ома́н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— литературный жанр, как правило, прозаический, который предполагает развернутое повествование о жизни и развитии личности главного героя (героев) в кризисный, нестандартный период ег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7960" y="1599840"/>
            <a:ext cx="4267440" cy="4305600"/>
          </a:xfrm>
          <a:prstGeom prst="rect">
            <a:avLst/>
          </a:prstGeom>
          <a:solidFill>
            <a:srgbClr val="e5d9b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алла́д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— лирический  рассказ, изложенный в поэтической форме, исторического, мифического или героического характера. Сюжет баллады обычно заимствуется из фольклора. Баллады часто кладутся на му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Романти́зм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 — как жанр литературы характеризуется, изображением сильных (зачастую бунтарских) страстей и характеров, одухотворённой и целительной природы. В XVIII веке романтическим называли всё странное, фантастическое, живописное и существующее в книгах, а не в действитель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2895480" cy="403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5181840" cy="3581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4608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File:Briullov-kukolnik.jpg"/>
          <p:cNvPicPr/>
          <p:nvPr/>
        </p:nvPicPr>
        <p:blipFill>
          <a:blip r:embed="rId1"/>
          <a:stretch/>
        </p:blipFill>
        <p:spPr>
          <a:xfrm>
            <a:off x="3200400" y="3808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80024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Не́стор Васи́льевич Ку́кольник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(1809 – 1868 гг) — русский прозаик, поэт,переводчик и драматург первой половины 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ека, автор текстов популярных романсов. Родился и начал свою литературную деятельность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7335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5181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асилий Андреевич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1120" y="5943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Бюст В.А. Жуковскому. Адмиралтейский сад. Ск. В.П. Крей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6160" cy="662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00600" y="1733400"/>
            <a:ext cx="4343400" cy="302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т красавица од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 зеркалу садит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 тайной робостью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зеркало глядит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мно в зеркале;кругом Мертвое молчан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вечка трепетным ог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Чуть лиет сиянь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http://www.dvorec.ru/dll_image3/1364837434.jpg"/>
          <p:cNvPicPr/>
          <p:nvPr/>
        </p:nvPicPr>
        <p:blipFill>
          <a:blip r:embed="rId1"/>
          <a:stretch/>
        </p:blipFill>
        <p:spPr>
          <a:xfrm>
            <a:off x="152280" y="22860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3352680"/>
            <a:ext cx="5257800" cy="283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Перед своим зверинцем,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С баронами, с наследным принцем,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Король Франциск сидел;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С высокого балкона он глядел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На поприще, сраженья ожидая;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За королем, обворожая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Цветущей прелестию взгляд,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Придворных дам являлся пышный 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9-10T11:38:3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