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B3D-1E87-4E3A-B8CF-D27D91D6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410-002F-4E9A-B1B4-2E6DF826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657-F1CB-4896-BBD8-F14C0715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74F-08DA-49B3-B0BF-D47D9F60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E5D-A9C9-4DFA-8EAA-2E97E1DA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C23-23F0-4697-B322-9CDE87C2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87C-3CB8-42A4-A0B8-7844C65E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A10-05D7-480A-B640-5DE87612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9A3-3191-4699-8476-86AA1D8E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6E7-D860-472E-8A54-9D0212A1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4BF-203F-4930-9197-36DC6CF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8C3-8CB6-4D62-912A-149EA4DA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903D-CB7A-48F2-8B64-4718B0FDB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285920" y="36072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редняя общеобразовательная школа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.Ворк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2266920" y="1200240"/>
            <a:ext cx="5151600" cy="10126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853920" y="2219400"/>
            <a:ext cx="8082000" cy="17128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4357800" y="42904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озова Раиса Арк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2143080" y="383400"/>
            <a:ext cx="5429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письма на Большую зем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 город в снег до пояса закоп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если с крыш на город посмотре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улицы похожи на окоп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торых побывать усп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ер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в то, что умер город наш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верьт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 не согнут отчаянье и с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знаем от людей, сраженных смерть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означа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мер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ер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пра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зна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ятвы говорить не про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если в Ленинград ворвется вра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разорвем последнею из просты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шь на бинты, но не на белый фла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000160" y="1078560"/>
            <a:ext cx="5643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вр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ая длинная зима, как время медленно крад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 люди, ни дома не знают, кто из них просн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о утру, когда ветра метелью застилают неб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ять короче, чем вчера, людская очередь за хле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с голод убивает ст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он же убивает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искаревских пустырях все ш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РАТСКИЕ МОГИЛ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1214280" y="35712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сочек хлеба» из книги Воскобойникова «900 дней муже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blokada-leningrada-2.jpg"/>
          <p:cNvPicPr/>
          <p:nvPr/>
        </p:nvPicPr>
        <p:blipFill>
          <a:blip r:embed="rId1"/>
          <a:stretch/>
        </p:blipFill>
        <p:spPr>
          <a:xfrm>
            <a:off x="1214280" y="857160"/>
            <a:ext cx="4500720" cy="31734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leningrad_29.jpg"/>
          <p:cNvPicPr/>
          <p:nvPr/>
        </p:nvPicPr>
        <p:blipFill>
          <a:blip r:embed="rId2"/>
          <a:stretch/>
        </p:blipFill>
        <p:spPr>
          <a:xfrm>
            <a:off x="4500720" y="2409840"/>
            <a:ext cx="41162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Гость\Desktop\img4.jpg"/>
          <p:cNvPicPr/>
          <p:nvPr/>
        </p:nvPicPr>
        <p:blipFill>
          <a:blip r:embed="rId1"/>
          <a:stretch/>
        </p:blipFill>
        <p:spPr>
          <a:xfrm>
            <a:off x="1928880" y="928800"/>
            <a:ext cx="564336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1" descr=""/>
          <p:cNvPicPr/>
          <p:nvPr/>
        </p:nvPicPr>
        <p:blipFill>
          <a:blip r:embed="rId1"/>
          <a:stretch/>
        </p:blipFill>
        <p:spPr>
          <a:xfrm>
            <a:off x="1511280" y="2517840"/>
            <a:ext cx="6742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928880" y="1513800"/>
            <a:ext cx="58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Образовательные це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ить знания и умения учащихся по изученному материал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ствовать развитию навыков решения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285920" y="357120"/>
          <a:ext cx="7500960" cy="50720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50720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" name="Object 20"/>
              <p:cNvSpPr txBox="1"/>
              <p:nvPr/>
            </p:nvSpPr>
            <p:spPr>
              <a:xfrm>
                <a:off x="4572000" y="357120"/>
                <a:ext cx="500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9"/>
              <p:cNvSpPr txBox="1"/>
              <p:nvPr/>
            </p:nvSpPr>
            <p:spPr>
              <a:xfrm>
                <a:off x="5429160" y="357120"/>
                <a:ext cx="500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8"/>
              <p:cNvSpPr txBox="1"/>
              <p:nvPr/>
            </p:nvSpPr>
            <p:spPr>
              <a:xfrm>
                <a:off x="4286160" y="857160"/>
                <a:ext cx="5716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7"/>
              <p:cNvSpPr txBox="1"/>
              <p:nvPr/>
            </p:nvSpPr>
            <p:spPr>
              <a:xfrm>
                <a:off x="5572080" y="928800"/>
                <a:ext cx="7146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6"/>
              <p:cNvSpPr txBox="1"/>
              <p:nvPr/>
            </p:nvSpPr>
            <p:spPr>
              <a:xfrm>
                <a:off x="4000680" y="1428840"/>
                <a:ext cx="642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15"/>
              <p:cNvSpPr txBox="1"/>
              <p:nvPr/>
            </p:nvSpPr>
            <p:spPr>
              <a:xfrm>
                <a:off x="5786280" y="1428840"/>
                <a:ext cx="6429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4"/>
              <p:cNvSpPr txBox="1"/>
              <p:nvPr/>
            </p:nvSpPr>
            <p:spPr>
              <a:xfrm>
                <a:off x="3714840" y="2000160"/>
                <a:ext cx="6429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3"/>
              <p:cNvSpPr txBox="1"/>
              <p:nvPr/>
            </p:nvSpPr>
            <p:spPr>
              <a:xfrm>
                <a:off x="6000840" y="1928880"/>
                <a:ext cx="60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2"/>
              <p:cNvSpPr txBox="1"/>
              <p:nvPr/>
            </p:nvSpPr>
            <p:spPr>
              <a:xfrm>
                <a:off x="3429000" y="2571840"/>
                <a:ext cx="73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1"/>
              <p:cNvSpPr txBox="1"/>
              <p:nvPr/>
            </p:nvSpPr>
            <p:spPr>
              <a:xfrm>
                <a:off x="6072120" y="2500200"/>
                <a:ext cx="714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3286080" y="3071880"/>
                <a:ext cx="6429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9"/>
              <p:cNvSpPr txBox="1"/>
              <p:nvPr/>
            </p:nvSpPr>
            <p:spPr>
              <a:xfrm>
                <a:off x="6429240" y="3000240"/>
                <a:ext cx="565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2928960" y="3571920"/>
                <a:ext cx="5713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6858000" y="3429000"/>
                <a:ext cx="714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6"/>
              <p:cNvSpPr txBox="1"/>
              <p:nvPr/>
            </p:nvSpPr>
            <p:spPr>
              <a:xfrm>
                <a:off x="2428920" y="3857760"/>
                <a:ext cx="7858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7286760" y="3929040"/>
                <a:ext cx="6429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000160" y="4357800"/>
                <a:ext cx="571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7429680" y="4429080"/>
                <a:ext cx="7142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1428840" y="4786200"/>
                <a:ext cx="5713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"/>
              <p:cNvSpPr txBox="1"/>
              <p:nvPr/>
            </p:nvSpPr>
            <p:spPr>
              <a:xfrm>
                <a:off x="8143920" y="4857840"/>
                <a:ext cx="655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790360" y="857160"/>
            <a:ext cx="54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"/>
              <p:cNvSpPr txBox="1"/>
              <p:nvPr/>
            </p:nvSpPr>
            <p:spPr>
              <a:xfrm>
                <a:off x="3500280" y="857160"/>
                <a:ext cx="831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3500280" y="1500120"/>
                <a:ext cx="862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3500280" y="2214720"/>
                <a:ext cx="816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3571920" y="2786040"/>
                <a:ext cx="644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500280" y="3500280"/>
                <a:ext cx="857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3643200" y="4143240"/>
                <a:ext cx="500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и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3643200" y="4786200"/>
                <a:ext cx="5000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и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719000" y="1000080"/>
            <a:ext cx="545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"/>
              <p:cNvSpPr txBox="1"/>
              <p:nvPr/>
            </p:nvSpPr>
            <p:spPr>
              <a:xfrm>
                <a:off x="2286000" y="1000080"/>
                <a:ext cx="9288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2286000" y="1714680"/>
                <a:ext cx="1071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2357280" y="2357280"/>
                <a:ext cx="941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2286000" y="3000240"/>
                <a:ext cx="10461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1500120" y="3929040"/>
          <a:ext cx="7143840" cy="1428840"/>
        </p:xfrm>
        <a:graphic>
          <a:graphicData uri="http://schemas.openxmlformats.org/drawingml/2006/table">
            <a:tbl>
              <a:tblPr/>
              <a:tblGrid>
                <a:gridCol w="1020960"/>
                <a:gridCol w="1019160"/>
                <a:gridCol w="1020600"/>
                <a:gridCol w="1020960"/>
                <a:gridCol w="1020600"/>
                <a:gridCol w="1020600"/>
                <a:gridCol w="1020960"/>
              </a:tblGrid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2" name="Object 15"/>
              <p:cNvSpPr txBox="1"/>
              <p:nvPr/>
            </p:nvSpPr>
            <p:spPr>
              <a:xfrm>
                <a:off x="1714680" y="3857760"/>
                <a:ext cx="574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4"/>
              <p:cNvSpPr txBox="1"/>
              <p:nvPr/>
            </p:nvSpPr>
            <p:spPr>
              <a:xfrm>
                <a:off x="2714760" y="3857760"/>
                <a:ext cx="571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3"/>
              <p:cNvSpPr txBox="1"/>
              <p:nvPr/>
            </p:nvSpPr>
            <p:spPr>
              <a:xfrm>
                <a:off x="3786120" y="3857760"/>
                <a:ext cx="5716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2"/>
              <p:cNvSpPr txBox="1"/>
              <p:nvPr/>
            </p:nvSpPr>
            <p:spPr>
              <a:xfrm>
                <a:off x="4786200" y="3857760"/>
                <a:ext cx="4287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1"/>
              <p:cNvSpPr txBox="1"/>
              <p:nvPr/>
            </p:nvSpPr>
            <p:spPr>
              <a:xfrm>
                <a:off x="5857920" y="3857760"/>
                <a:ext cx="5000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6786720" y="3857760"/>
                <a:ext cx="7142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8001000" y="4000680"/>
                <a:ext cx="285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933200" y="1500120"/>
            <a:ext cx="54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"/>
              <p:cNvSpPr txBox="1"/>
              <p:nvPr/>
            </p:nvSpPr>
            <p:spPr>
              <a:xfrm>
                <a:off x="2428920" y="1643040"/>
                <a:ext cx="857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6072120" y="1428840"/>
                <a:ext cx="825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6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2428920" y="2500200"/>
                <a:ext cx="130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6072120" y="2357280"/>
                <a:ext cx="895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571840" y="3429000"/>
                <a:ext cx="928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6143760" y="3286080"/>
                <a:ext cx="714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2643120" y="4286160"/>
                <a:ext cx="642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6143760" y="4214880"/>
                <a:ext cx="714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untitled.png"/>
          <p:cNvPicPr/>
          <p:nvPr/>
        </p:nvPicPr>
        <p:blipFill>
          <a:blip r:embed="rId1"/>
          <a:stretch/>
        </p:blipFill>
        <p:spPr>
          <a:xfrm>
            <a:off x="4071960" y="20001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C:\Users\Дашка\Desktop\ClickHandler.jpg"/>
          <p:cNvPicPr/>
          <p:nvPr/>
        </p:nvPicPr>
        <p:blipFill>
          <a:blip r:embed="rId2"/>
          <a:stretch/>
        </p:blipFill>
        <p:spPr>
          <a:xfrm>
            <a:off x="1500120" y="92880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blokada.jpg"/>
          <p:cNvPicPr/>
          <p:nvPr/>
        </p:nvPicPr>
        <p:blipFill>
          <a:blip r:embed="rId1"/>
          <a:stretch/>
        </p:blipFill>
        <p:spPr>
          <a:xfrm>
            <a:off x="2500200" y="928800"/>
            <a:ext cx="46436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doroga1.jpg"/>
          <p:cNvPicPr/>
          <p:nvPr/>
        </p:nvPicPr>
        <p:blipFill>
          <a:blip r:embed="rId1"/>
          <a:stretch/>
        </p:blipFill>
        <p:spPr>
          <a:xfrm>
            <a:off x="1952640" y="928800"/>
            <a:ext cx="6219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10:20Z</dcterms:created>
  <dc:creator>Гость</dc:creator>
  <dc:description/>
  <dc:language>en-US</dc:language>
  <cp:lastModifiedBy>c400</cp:lastModifiedBy>
  <dcterms:modified xsi:type="dcterms:W3CDTF">2015-03-05T18:06:53Z</dcterms:modified>
  <cp:revision>13</cp:revision>
  <dc:subject/>
  <dc:title>Слайд 1</dc:title>
</cp:coreProperties>
</file>