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gif" ContentType="image/gif"/>
  <Override PartName="/ppt/media/image10.png" ContentType="image/png"/>
  <Override PartName="/ppt/media/image28.wmf" ContentType="image/x-wmf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24.gif" ContentType="image/gif"/>
  <Override PartName="/ppt/media/image27.wmf" ContentType="image/x-wmf"/>
  <Override PartName="/ppt/media/image2.jpeg" ContentType="image/jpeg"/>
  <Override PartName="/ppt/media/image25.jpeg" ContentType="image/jpeg"/>
  <Override PartName="/ppt/media/image22.gif" ContentType="image/gif"/>
  <Override PartName="/ppt/media/image15.gif" ContentType="image/gif"/>
  <Override PartName="/ppt/media/image19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3.png" ContentType="image/png"/>
  <Override PartName="/ppt/media/image17.jpeg" ContentType="image/jpeg"/>
  <Override PartName="/ppt/media/image23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816-294D-4A7F-AA11-ADB1B57E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D1C-4494-4532-A287-D50F0ED7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C1AAC-B5FC-4DD1-964F-D26672D7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948CA-10DE-4C4F-A79E-7C3BA064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07C7B-73A8-4347-AF3D-826802CF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9DC31-7CCB-4F0E-8901-758CCF24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686D7-30DF-4E80-8CE9-55823EA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5CD11-FED0-4ED6-B3FB-DD0BEB8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F19AD-D848-4CA8-95F5-58406EC9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4C927-0070-41FF-A777-DC0D831A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A969C-7967-483F-B12F-13E93D30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7C1F9-8ED8-4CBB-A185-2E0F674B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0F4-552D-467B-B221-CC314593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5FAEC-6224-490F-B88A-2C823D24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124BA-1EE7-4E9B-8EB2-5242B78C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E25C5-DC27-4BDC-B3F8-AE4BF7AA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E7D39-BCBB-4D60-A989-4E307F94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B4CBD-4B89-41F6-85CE-887CBD21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8ADB4-388C-4264-98CA-F03E8797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CB3AE-A305-47A7-B552-2D3CA1F1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A076D-1AF0-4A92-A1DD-E34F7178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581C3-FE6D-4BFD-9850-B61250E3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F5C7B-CE7E-49A1-93BB-BD3EB1C6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C5F-B8E6-438A-BF9D-6401CC68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1B4A8-F8F8-4967-B6D0-75FBB8F7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DF376-C618-4902-AB64-AAD8F640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CD372-B4D7-49A7-93E6-2410EFF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707FC-62F7-4935-9CBB-121182C1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356CC-F0B9-4872-8011-7534C6CF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69989-074C-4448-A439-97F5CCF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04C3C-82CF-4842-9161-D027740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2670C-839B-49ED-92D4-A9A54CEB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293C5-A6DA-45C4-B28A-B9F5E21B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33A79-DA93-4D88-BBBC-FA9E869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61D5-2761-4870-9D9D-87E4D21D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5024D-63B5-4A3E-B7BC-DC8B7278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9938B-776A-4275-9C5D-0E11C589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0545A-CEC8-4F84-9424-5EE430C5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6290B-8FDE-4948-8121-A35B080D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118A6-1E69-430A-9D31-AD38E1C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53C4C-8708-45D4-9B97-EE3F14EA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84A8B-22EB-466E-A7AE-273A1403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F87AE-F913-4DED-B80E-78164815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01232-42F2-42B6-98D0-65B07E6F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86891-6E69-4F3F-84E2-28FC755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1762-6C57-4D00-BDC9-8D2E805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8CEE4-1D77-4932-AD2A-4361844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018E7-A73E-456A-86CE-E0670BD2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10E1C-10AC-4593-A9F9-08DE4E2C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8F6FE-829E-4AAF-B5E7-B741A8FF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710CE-81F7-4DAD-95E2-1849DEB5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19BDC-6805-4DCF-84CD-4B055D08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8E233-331B-4F47-ABB6-BEBD646A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D1EE0-4E67-4600-A1DE-DCFA9A4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53557-7E37-4BC8-9A71-2F0FBBA3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1A08C-E821-4182-A295-0449F5E3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6486-DDFB-4C1B-968B-63510CB1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DA166-7782-4FDF-BE66-EC2FF750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D847B-E6B2-43CD-9889-35EAAAD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29778-FBA8-406C-8ED1-3EF9D10B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46053-E88C-4C61-BEB3-47030EF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90786-1AA9-40D2-9311-E82E6586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6048B-8E46-49B9-8986-E1355527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DBDEF-8151-4F13-B205-825E9ECF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4EAE3-F034-4390-B446-EEFB1DC4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05CA9-A35E-442F-B696-92C1DBFF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B8444-A1A6-4ADF-8AF5-9283C76D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786F-0583-4F71-8CAE-7324A348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E800A-55EE-4FE3-AD96-942C2D71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08080-BAB8-4A70-A56B-16547A1E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FD508-5483-4735-9EE0-C186634B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EF4DE-47BF-4A37-A5D0-451D0005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9BD0E-1BC2-476A-9AB4-15226B5C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F2102-9246-4B3D-A9AF-10FB9A1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FAB92-3CDA-4CD3-B150-F32D087B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081D5-6CED-4F0D-A3C9-039AC955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B8A8A-389B-4EF9-AD8C-C0D8F17D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8B7D6-D717-47A3-B14E-3B3AD1C6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FB3B-0DA7-4CA9-B482-1291FDD8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5CC47-53D7-4D1E-95FD-C6969E25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C0226-CC4D-422D-AF8E-92FAB0A6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5A51C-E5BE-4F06-9B45-6A772492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51F38-4201-4135-9B6E-A5AC506B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79F73-93AB-4DDB-B7AB-BD3DB9D6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A99CD-2917-48D6-8CCC-F4D25490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FE343-2D8C-45E8-96C1-825CDCB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C96B99-9B8A-47E1-AE20-38ED881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F4C4C-673C-4A9C-BEFA-C11985CF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C1A65-A5A9-4317-9534-7AB45580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AB5-00D2-45F0-BDD9-B14CFC4B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A8B39-CAC7-407A-B104-65239E6E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9F7F-2B86-4E16-978D-4FE9F9C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1BF-AB2F-49FD-837B-07E3C41D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78FD-E330-4C18-BBBF-F81071D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34E5-AF58-4CCB-9E37-8C28845C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27A3-5CC0-4FA6-92FA-9017111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5628-B712-4DF1-861E-614E8EA7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E494-AA8A-407C-8255-7CE07152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0D20-61CB-4918-BACE-F5A87F9F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87C4-5A2B-45CC-8CCD-22D398A5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3149-4BFC-4FCD-A957-32CD975E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EE86-7691-475D-A0F4-DC651A65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D0E0-6E40-456B-9BE2-A6527AE6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AD1-74A3-4957-87E6-9762B35F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33D2-E35E-4025-85D6-755D5F14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EF5A-EA7B-4F2E-AB85-301D338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5B463-AD91-4463-907A-C702CBD0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6A37-67E6-437A-BEE0-48E80FED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99C4-F669-48FF-8EC9-2429F989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A9AE-674F-4E04-BE44-358B25AB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FDA7-B8AE-41BB-AFFB-1C28ECD0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7A640-FAD0-40FA-99A5-25C3D1E4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4C5D-C4B5-4311-83D5-5A265CE1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0C0F-4DCC-4662-90FD-AD500619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FB7-7C47-4D61-95AF-14AE9E8C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DEAD7-C5DE-465C-8CD4-A93BC703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582B-B1E5-4948-819D-5914A352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E179-A4C9-4871-AAD5-378DA9A6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DDB9-DD4A-4C81-AD42-1ED6048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36F2-E2B9-49B0-BB72-0262026C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9015-5742-4ABC-92B8-45053E80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62A67-A93E-4011-BC78-986DFAA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8F399-CEFF-4E1B-B770-87540EBB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DB12-9CDF-434F-864B-2C8B1DB2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1C5B-D1E8-4FB6-93EF-200F88BE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700-D1A9-4723-95E4-8B1347F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0C972-9C1B-4BD8-915D-4973C24B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8E4C3-7C55-4B08-922B-C15AED05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74C35-4B49-42AC-8F9E-BCF01B28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7824D-FF54-4D97-B22B-09330DD2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9BAD-86ED-4D1C-B9AF-BB190BFE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746ED-5FA4-4BC9-B377-7F7BD5AF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9BEBD-769A-4C3A-BE99-2C0B264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B56B-6AF7-4CDC-B53B-31BDB414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889B-7B85-46FC-9686-7C109DFD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EF24-E864-44B9-8C70-39692D27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396-89DA-4414-8989-61624CAD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D4211-8934-4A27-9C2F-EBB0A30C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C776-08A0-4299-A114-24EBEED3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46EAB-76EE-4FAC-A576-2A85AC0A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692D-BD59-4250-B6BA-0CDA927F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B2F46-33A1-478E-BAC1-74FA6CFA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F5396-E1D6-45A1-B725-957945D5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3468C-2B32-46A5-85EF-CE16F221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78025-1DFE-484D-BE3A-0C27E37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104C-F261-4FAE-A787-5EEEFA3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5A693-5083-46B3-9507-B9A93DA0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8D0-E1A9-4DCF-888F-BA2650B5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60487-CFC4-4A41-9295-8AC139E5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E8087-6C17-4D8B-AB4A-A87833B6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7D78-4816-43D8-8843-9759BDB8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E27D2-BF75-4273-AC3D-DC993588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200F-175E-4521-A9C7-D4AFB78A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7F65A-2D1F-49E9-A9EE-872B4933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DB237-2CA2-44CA-B759-BC55827C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3E327-0E9A-490A-A9D5-6B62E97B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0936B-5091-4C3F-A1DD-61A628CF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2E2F9-E59F-4C32-A2EA-D00442E0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D78-B8F8-4559-9C37-FD1C6982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FA495-183B-4E65-A091-E8547CEA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123B-B7DE-42AA-8708-0F3E00C7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A95F8-101D-4203-9805-3B5977A7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4F3F7-EA9E-4A7C-A2CA-F7CC4E3C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A8944-48C8-49D1-B25A-1B1E5856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40A02-E4B7-4586-AB40-D8A6F86D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46D6E-2962-47A9-A1A5-AEF1CD31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0ED56-C488-4DBB-9D30-8E8824D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AB5B3-3701-4FE6-A0C6-BAE8B617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F4964-F5B8-4C6A-ACD5-02AD85DC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043-65DC-497A-81C9-4B5D7204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623D4-FF9C-45F1-828C-A37CD0D8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5F6AF-42BE-4BB4-823B-022B0B6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4113-37C2-48DE-B113-ADC7C00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51674-FB6D-473A-8DB0-AEA8984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98AD0-3E4F-4FA9-83A2-600CC7BF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BD7F0-09F2-472C-8913-655E95D8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8D1CE-37DC-4537-9C4E-3D09DEE1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29557-AD0A-45EE-9054-368E84CC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B2639-2D14-43DB-9971-C351A205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8F4F0-4FBE-4C39-B8E3-D1BD8F33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F0A8-0A5E-4F4A-BB0A-E3E2A9A0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B12D-18F9-4EC9-A989-194EEF8257F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B3A4-A546-4487-8297-55ADC44EEC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2F45-C1D9-41C5-9F7F-56DB6AEF70D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1059-1DCF-46C0-9184-EF7C0C75C32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F9FB-0826-417E-9679-7D5B1E0BB18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FA8A-056A-4EE2-9FCF-8FFA24E8D18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AD2D-BB47-44F4-A0EF-C1358F4C63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F61-2D56-44C0-A249-542A3ECD91A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7F1E-F774-4E8A-963D-DD24EF2133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0E9B-F932-45BB-9348-F29CE9EEB7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E85A-8904-4A06-B491-593133334D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40A-561A-47E1-B420-C3B11B47BE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673-A294-4F90-9468-9884A10593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5CAA-622F-45D3-BAFD-223FAF0CCC5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</a:t>
            </a:r>
            <a:r>
              <a:rPr b="1" lang="ru-RU" sz="4500" spc="-1" strike="noStrike">
                <a:solidFill>
                  <a:srgbClr val="ff8d3e"/>
                </a:solidFill>
                <a:latin typeface="Arial"/>
              </a:rPr>
              <a:t>а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</a:t>
            </a:r>
            <a:r>
              <a:rPr b="1" i="1" lang="ru-RU" sz="3500" spc="-1" strike="noStrike">
                <a:solidFill>
                  <a:srgbClr val="0070c0"/>
                </a:solidFill>
                <a:latin typeface="Arial"/>
              </a:rPr>
              <a:t>Оценка и отметка в современной школе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выки чт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5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ение чёткое, целыми словами, не менее 50 слов в мину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зительно, соблюдая знаки препин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ые ответы на вопросы по содерж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 – более 40 слов в минуту целыми слов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ает нужную интонацию и пау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о передаёт 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 читает по слога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40 слов в мину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ёт содержание с помощью вопросов учител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ыполняет требований, установленных для отметки «3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Родительское собрание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orbe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ценка. Отмет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оценки .Как к ней относиться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ак помочь ребёнку в выполнении домашнего зад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Разно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29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8" descr="Учитель"/>
          <p:cNvPicPr/>
          <p:nvPr/>
        </p:nvPicPr>
        <p:blipFill>
          <a:blip r:embed="rId2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7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48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55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63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77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82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2"/>
          <a:stretch/>
        </p:blipFill>
        <p:spPr>
          <a:xfrm>
            <a:off x="1214280" y="142920"/>
            <a:ext cx="7429680" cy="642924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93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d9326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Глобус"/>
          <p:cNvPicPr/>
          <p:nvPr/>
        </p:nvPicPr>
        <p:blipFill>
          <a:blip r:embed="rId3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09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1523880"/>
            <a:ext cx="73152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сеешь поступок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жнёшь привычку;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сеешь привычку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жнёшь характер;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сеешь характер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жнёшь судьб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16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</a:rPr>
              <a:t>Что сделаете вы, если увидите у ребёнка отметку «5»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Буду рад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хвалю, дам определённое количество дене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радуюсь вместе с ребёнко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хвалю, скажу, что горжусь и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</a:rPr>
              <a:t>Что сделаете вы , если увидите у ребёнка отметку «2»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тругаю, заставлю заниматься дополнительн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прошу: «Почему?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ругаю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Накажу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виню учител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занимаюсь дополнительно с ребёнко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могу разобраться, объясню, за чт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оанализируем вместе с ребёнком причин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Успокою, чтоб не расстраивалс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</a:rPr>
              <a:t>За что надо ставить «5»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тарание, желание учитьс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Готовность к уроку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Хорошее поведени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нимание урок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Безошибочный правильный полный отве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а знани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Аккуратность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rial"/>
              </a:rPr>
              <a:t>За что надо ставить «2»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евыполненное зада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езна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За много ошиб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еправильный отве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Если и не пытался что-то дела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92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Юлия</cp:lastModifiedBy>
  <dcterms:modified xsi:type="dcterms:W3CDTF">2012-10-12T19:25:52Z</dcterms:modified>
  <cp:revision>86</cp:revision>
  <dc:subject/>
  <dc:title>PowerPoint Template</dc:title>
</cp:coreProperties>
</file>