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F0B-0144-49DA-8E68-117B795D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327-6B3B-4F77-83EA-0F474422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B89-CF5D-4F31-9F8D-066923DA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ED0-6693-4FB4-85FC-46D71E7C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8A0-1F57-4722-962B-9E0A234B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1C7-B113-4FFE-BA37-333D266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739-BE2C-424F-9254-860D110A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967-6F3C-4BB4-99A2-61459C8B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E94-8AFD-47B6-8E03-88EFA208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24B-0450-46C8-9D93-0E77360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BE5-3533-45D6-9511-2D1B81A1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AF9-B9B5-4E6F-A6C3-4B97EC73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AF5C8A-0D55-4E01-817A-ECEC8623FF1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0080" y="2409840"/>
            <a:ext cx="526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Закрепление изученного по теме « Табличное умножение и дел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16440" y="5184720"/>
            <a:ext cx="27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ин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ижнего Нов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81120" y="985680"/>
            <a:ext cx="5981760" cy="95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математики в 3 класс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9320" y="4421160"/>
            <a:ext cx="52657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10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грамма «Школа России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5280"/>
                            </p:stCondLst>
                            <p:childTnLst>
                              <p:par>
                                <p:cTn id="2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440" y="299880"/>
            <a:ext cx="5715000" cy="193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закономерность, по которой составлена вторая строка таблицы. Продолжите ее сост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14400" y="3048120"/>
          <a:ext cx="7381800" cy="2361960"/>
        </p:xfrm>
        <a:graphic>
          <a:graphicData uri="http://schemas.openxmlformats.org/drawingml/2006/table">
            <a:tbl>
              <a:tblPr/>
              <a:tblGrid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</a:tblGrid>
              <a:tr h="12189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11430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4572000" y="42670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4800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4267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4303800"/>
            <a:ext cx="47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4267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4800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594360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5867280"/>
            <a:ext cx="32004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2271600" cy="17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341280"/>
            <a:ext cx="670536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им по счету действием является сложение в каждом выражении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3048120"/>
            <a:ext cx="40384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90-52+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50-9 – 3 *3 *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70-(36+13):7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(100-12-48):5+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38+26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0+64:8 *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172200" y="3124080"/>
            <a:ext cx="4038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SimSun"/>
              </a:rPr>
              <a:t>(7+8):5 *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SimSun"/>
              </a:rPr>
              <a:t>18:3+5 *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SimSun"/>
              </a:rPr>
              <a:t>36+4+40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SimSun"/>
              </a:rPr>
              <a:t>4 *7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SimSun"/>
              </a:rPr>
              <a:t>15+27:(15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SimSun"/>
              </a:rPr>
              <a:t>(64:8)+2 *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52388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160020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1600200"/>
            <a:ext cx="304920" cy="2286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523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перв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тор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третьи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943600"/>
            <a:ext cx="3276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4+6 *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3657600"/>
            <a:ext cx="528480" cy="3049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5562720"/>
            <a:ext cx="528840" cy="304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410080"/>
            <a:ext cx="533160" cy="3049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312408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41911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46483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40000">
            <a:off x="5638320" y="5029200"/>
            <a:ext cx="528840" cy="3049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609588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124080"/>
            <a:ext cx="304920" cy="381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4038480"/>
            <a:ext cx="304920" cy="381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3434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352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8769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1981080"/>
            <a:ext cx="8763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738080" cy="13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0680" y="223920"/>
            <a:ext cx="1830240" cy="2290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V="1">
            <a:off x="3121200" y="221040"/>
            <a:ext cx="54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Расположите вел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в порядке убы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7760" y="1963800"/>
            <a:ext cx="14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86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3473280"/>
            <a:ext cx="8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4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9400" y="556416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21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461808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41 дм 3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5480" y="347328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2 м 40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5480" y="55641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8 м 6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5464800" y="3507480"/>
            <a:ext cx="5219640" cy="103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иль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-0.07454 L -0.3915 -0.54722 E">
                                      <p:cBhvr>
                                        <p:cTn id="17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36 -0.05324 L -0.08403 -0.32037 E">
                                      <p:cBhvr>
                                        <p:cTn id="17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-0.05324 L 0.22899 -0.05324 E">
                                      <p:cBhvr>
                                        <p:cTn id="18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78 -0.05324 L -0.4033 0.03588 E">
                                      <p:cBhvr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-0.06875 L 0.2618 -0.16898 E">
                                      <p:cBhvr>
                                        <p:cTn id="18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-0.06019 L -0.30034 0.45185 E">
                                      <p:cBhvr>
                                        <p:cTn id="19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60720" y="596880"/>
            <a:ext cx="5419800" cy="947160"/>
          </a:xfrm>
          <a:prstGeom prst="rect">
            <a:avLst/>
          </a:prstGeom>
          <a:solidFill>
            <a:srgbClr val="f6ea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Длина шага  Мартышки 27см, а Попугая- 9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19200" y="2244600"/>
            <a:ext cx="72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Что узнаете, выполнив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800" y="31608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0720" y="3160800"/>
            <a:ext cx="11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8600" y="316080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- 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9800" y="3220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66960" y="4000680"/>
            <a:ext cx="78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Решите задачу со следующим вопрос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3360" y="5032440"/>
            <a:ext cx="7877160" cy="1373760"/>
          </a:xfrm>
          <a:prstGeom prst="rect">
            <a:avLst/>
          </a:prstGeom>
          <a:solidFill>
            <a:srgbClr val="f6ea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колько шагов должен сделать Попугай, чтобы пройти то же расстояние, что и Мартышка, сделавшая 2 шага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9800" y="295200"/>
            <a:ext cx="1771560" cy="194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876920" y="316080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: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03520" y="565200"/>
            <a:ext cx="541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Arial"/>
              </a:rPr>
              <a:t>Объясните разные способы реш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35160" y="2886120"/>
            <a:ext cx="22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90440" y="2617920"/>
            <a:ext cx="25354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 u="sng">
                <a:solidFill>
                  <a:srgbClr val="540201"/>
                </a:solidFill>
                <a:uFillTx/>
                <a:latin typeface="Arial"/>
                <a:ea typeface="Arial"/>
              </a:rPr>
              <a:t>   </a:t>
            </a:r>
            <a:r>
              <a:rPr b="1" lang="el-GR" sz="3200" spc="-1" strike="noStrike" u="sng">
                <a:solidFill>
                  <a:srgbClr val="540201"/>
                </a:solidFill>
                <a:uFillTx/>
                <a:latin typeface="Arial"/>
                <a:ea typeface="Arial"/>
              </a:rPr>
              <a:t>Ι</a:t>
            </a:r>
            <a:r>
              <a:rPr b="1" lang="ru-RU" sz="3200" spc="-1" strike="noStrike" u="sng">
                <a:solidFill>
                  <a:srgbClr val="540201"/>
                </a:solidFill>
                <a:uFillTx/>
                <a:latin typeface="Arial"/>
                <a:ea typeface="Arial"/>
              </a:rPr>
              <a:t>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buClr>
                <a:srgbClr val="540201"/>
              </a:buClr>
              <a:buFont typeface="Arial"/>
              <a:buAutoNum type="arabicParenR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600" spc="-1" strike="noStrike">
                <a:solidFill>
                  <a:srgbClr val="540201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540201"/>
                </a:solidFill>
                <a:latin typeface="Arial"/>
                <a:ea typeface="Arial"/>
              </a:rPr>
              <a:t>27</a:t>
            </a:r>
            <a:r>
              <a:rPr b="0" lang="ar-SA" sz="3600" spc="-1" strike="noStrike">
                <a:solidFill>
                  <a:srgbClr val="540201"/>
                </a:solidFill>
                <a:latin typeface="Arial"/>
                <a:cs typeface="Arial"/>
              </a:rPr>
              <a:t>۰</a:t>
            </a:r>
            <a:r>
              <a:rPr b="0" lang="ru-RU" sz="3600" spc="-1" strike="noStrike">
                <a:solidFill>
                  <a:srgbClr val="540201"/>
                </a:solidFill>
                <a:latin typeface="Arial"/>
                <a:ea typeface="Arial"/>
              </a:rPr>
              <a:t>2=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buClr>
                <a:srgbClr val="540201"/>
              </a:buClr>
              <a:buFont typeface="Arial"/>
              <a:buAutoNum type="arabicParenR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600" spc="-1" strike="noStrike">
                <a:solidFill>
                  <a:srgbClr val="540201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540201"/>
                </a:solidFill>
                <a:latin typeface="Arial"/>
                <a:ea typeface="Arial"/>
              </a:rPr>
              <a:t>54:9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9120" y="2617920"/>
            <a:ext cx="2441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ΙΙ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спосо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buClr>
                <a:srgbClr val="000000"/>
              </a:buClr>
              <a:buFont typeface="Arial"/>
              <a:buAutoNum type="arabicParenR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7:9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buClr>
                <a:srgbClr val="000000"/>
              </a:buClr>
              <a:buFont typeface="Arial"/>
              <a:buAutoNum type="arabicParenR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7920" y="3762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32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36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40" dur="3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44" dur="3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Найдите флажки, имеющие одинаковые площа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86800" y="2055960"/>
            <a:ext cx="144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64680" y="2055960"/>
            <a:ext cx="144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8840" y="2066760"/>
            <a:ext cx="1800" cy="480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2055960"/>
            <a:ext cx="180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89240" y="2055960"/>
            <a:ext cx="1440" cy="481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95520" y="2055960"/>
            <a:ext cx="144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4120" y="2055960"/>
            <a:ext cx="144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2720" y="2055960"/>
            <a:ext cx="144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2760" y="2055960"/>
            <a:ext cx="180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1360" y="2055960"/>
            <a:ext cx="180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39960" y="2055960"/>
            <a:ext cx="180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8560" y="2055960"/>
            <a:ext cx="2304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756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4760" y="2055960"/>
            <a:ext cx="23004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924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644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544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3264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128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4848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07480" y="2055960"/>
            <a:ext cx="2286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055960"/>
            <a:ext cx="22212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055960"/>
            <a:ext cx="8229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513160"/>
            <a:ext cx="8229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741760"/>
            <a:ext cx="822960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720" y="297180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886200"/>
            <a:ext cx="8229600" cy="2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573440"/>
            <a:ext cx="8236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720" y="4343400"/>
            <a:ext cx="822960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26104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489640"/>
            <a:ext cx="822960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720" y="6176880"/>
            <a:ext cx="8229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6634080"/>
            <a:ext cx="8229600" cy="22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36520" y="2513160"/>
            <a:ext cx="1800" cy="9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8840" y="2297160"/>
            <a:ext cx="1800" cy="9158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89240" y="2284560"/>
            <a:ext cx="1440" cy="9158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8840" y="2284560"/>
            <a:ext cx="500400" cy="1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88840" y="2970000"/>
            <a:ext cx="247680" cy="2314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36520" y="2971800"/>
            <a:ext cx="252720" cy="228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2760" y="2284560"/>
            <a:ext cx="1800" cy="92844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39960" y="2297160"/>
            <a:ext cx="1800" cy="9158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2282760"/>
            <a:ext cx="457200" cy="18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2760" y="3200400"/>
            <a:ext cx="457200" cy="1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654360" y="2970000"/>
            <a:ext cx="231840" cy="24444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56160" y="2281320"/>
            <a:ext cx="1440" cy="691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284560"/>
            <a:ext cx="1440" cy="68724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6160" y="2282760"/>
            <a:ext cx="458640" cy="18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84760" y="2970000"/>
            <a:ext cx="230040" cy="23148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2284560"/>
            <a:ext cx="1440" cy="92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29200" y="2970000"/>
            <a:ext cx="458640" cy="244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2282760"/>
            <a:ext cx="4586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7840" y="2284560"/>
            <a:ext cx="1800" cy="687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4040" y="2284560"/>
            <a:ext cx="1440" cy="928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4040" y="3200400"/>
            <a:ext cx="228600" cy="1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632640" y="2970000"/>
            <a:ext cx="1440" cy="244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32640" y="2971800"/>
            <a:ext cx="228600" cy="1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61240" y="2284560"/>
            <a:ext cx="1440" cy="687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4040" y="2282760"/>
            <a:ext cx="4572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7080" y="2297160"/>
            <a:ext cx="230400" cy="91584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005680" y="2282760"/>
            <a:ext cx="231840" cy="93024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77080" y="2284560"/>
            <a:ext cx="459000" cy="144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65680" y="3668760"/>
            <a:ext cx="91584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65680" y="4118040"/>
            <a:ext cx="91584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3657600"/>
            <a:ext cx="144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65680" y="3660840"/>
            <a:ext cx="144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7920" y="220824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2760" y="2162160"/>
            <a:ext cx="68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6160" y="2208240"/>
            <a:ext cx="5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2208240"/>
            <a:ext cx="3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26360" y="220824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7080" y="2208240"/>
            <a:ext cx="6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75200" y="3535200"/>
            <a:ext cx="5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4573440"/>
            <a:ext cx="51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оверь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800" y="537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5259240"/>
            <a:ext cx="21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- 3- 4-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97000" y="545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5856120"/>
            <a:ext cx="13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-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1080" y="5313240"/>
            <a:ext cx="130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6 </a:t>
            </a: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88840" y="4343400"/>
            <a:ext cx="2291040" cy="20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07920" y="6415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спомните, в чем тренировались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7920" y="2352600"/>
            <a:ext cx="73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  <a:ea typeface="SimSun"/>
              </a:rPr>
              <a:t>Вычислительные нав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85960" y="326880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елич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24120" y="422928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шени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7314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824120" y="528480"/>
            <a:ext cx="5877000" cy="122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95520" y="2589120"/>
            <a:ext cx="6259320" cy="3816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54984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540201"/>
                </a:solidFill>
                <a:effectLst>
                  <a:outerShdw dist="107932" dir="1350000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Урок окончен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540201"/>
              </a:solidFill>
              <a:effectLst>
                <a:outerShdw dist="107932" dir="1350000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732120" y="3733920"/>
            <a:ext cx="2519280" cy="26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dur="indefinite" fill="hold">
                      <p:stCondLst>
                        <p:cond delay="0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3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8-09-08T07:59:3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