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drumroll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357-339D-421C-9118-0ADBFA96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13D-F9DE-4889-A3F9-30E7B243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584-6DF7-4D37-A5FE-45B19B84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FAD-3D3E-412E-933A-6A35C8AC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DF85-49DD-49F6-848B-35C65E00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F62-68BE-417F-B9B0-99E65FC3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A7C8-6AFF-4F3A-AC55-8FE619E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0A8-52AC-4EE3-8434-F70CCA1D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9D3E-F26F-4791-9675-A4D88C4B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D832-59E8-40E5-B506-F0A38F32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312A-D885-43C2-A989-B0C24153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88C-77F5-455F-A903-47A848A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EF8F-B8FE-4918-A330-E415C37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D59-51DB-4CA1-9BD8-FDE6CFE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4B3-6FDB-4E57-9D5A-08228062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BAE-AFA5-40A0-95BD-BF1AA627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D78-8183-4836-9170-4CE52A56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373-80F6-4E7F-A033-21A7CC4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843-BDB4-4FBB-9F73-5201FE8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414-3E89-46F3-8179-98239493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1B2-DBB3-405A-8099-53ABFF17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6B8-B19E-48E7-A7EA-FB81B428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0B0-81DF-4E02-8D1F-B5D5009E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442-534F-4D42-BC30-AF127C3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D85-336A-4FBD-8E79-BDE86D0380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F6A0-6BEB-4E7B-B2D2-6283ED48DD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Times New Roman"/>
              </a:rPr>
              <a:t>Подгруппа азота</a:t>
            </a: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dbbd71"/>
                </a:solidFill>
                <a:latin typeface="Times New Roman"/>
              </a:rPr>
              <a:t>Положение элементов подгруппы азота в периодической системе, строение их атомов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838080"/>
            <a:ext cx="8534520" cy="2895840"/>
          </a:xfrm>
          <a:custGeom>
            <a:avLst/>
            <a:gdLst>
              <a:gd name="textAreaLeft" fmla="*/ 2133720 w 8534520"/>
              <a:gd name="textAreaRight" fmla="*/ 6401160 w 8534520"/>
              <a:gd name="textAreaTop" fmla="*/ 0 h 2895840"/>
              <a:gd name="textAreaBottom" fmla="*/ 2534040 h 2895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-25000">
                <a:solidFill>
                  <a:srgbClr val="808000"/>
                </a:solidFill>
                <a:latin typeface="Brush Script MT"/>
              </a:rPr>
              <a:t>Отличия элемен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baseline="-25000">
                <a:solidFill>
                  <a:srgbClr val="808000"/>
                </a:solidFill>
                <a:latin typeface="Brush Script MT"/>
              </a:rPr>
              <a:t> </a:t>
            </a:r>
            <a:r>
              <a:rPr b="1" i="1" lang="en-US" sz="4800" spc="-1" strike="noStrike" baseline="-25000">
                <a:solidFill>
                  <a:srgbClr val="808000"/>
                </a:solidFill>
                <a:latin typeface="Brush Script MT"/>
              </a:rPr>
              <a:t>подгруппы азо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собенности строения атома фосфор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514600"/>
            <a:ext cx="457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505320" y="2514600"/>
            <a:ext cx="533160" cy="457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514600"/>
            <a:ext cx="533520" cy="457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514600"/>
            <a:ext cx="533520" cy="457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514600"/>
            <a:ext cx="45720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2514600"/>
            <a:ext cx="45720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2514600"/>
            <a:ext cx="45720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514600"/>
            <a:ext cx="45720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2514600"/>
            <a:ext cx="457200" cy="4572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819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752480" y="2514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294920" y="3200400"/>
            <a:ext cx="685800" cy="3808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Brush Script MT"/>
              </a:rPr>
              <a:t>3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rush Script MT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124080"/>
            <a:ext cx="838080" cy="457200"/>
          </a:xfrm>
          <a:prstGeom prst="wedgeRectCallout">
            <a:avLst>
              <a:gd name="adj1" fmla="val -43518"/>
              <a:gd name="adj2" fmla="val -67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Brush Script MT"/>
              </a:rPr>
              <a:t>3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rush Script MT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3429000"/>
            <a:ext cx="1904760" cy="457200"/>
          </a:xfrm>
          <a:prstGeom prst="wedgeRectCallout">
            <a:avLst>
              <a:gd name="adj1" fmla="val -12000"/>
              <a:gd name="adj2" fmla="val -15381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Brush Script MT"/>
              </a:rPr>
              <a:t>3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rush Script MT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8120"/>
            <a:ext cx="4952880" cy="1523880"/>
          </a:xfrm>
          <a:custGeom>
            <a:avLst/>
            <a:gdLst>
              <a:gd name="textAreaLeft" fmla="*/ 866520 w 4952880"/>
              <a:gd name="textAreaRight" fmla="*/ 3591000 w 495288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791320" y="3200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943600" y="2590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581000">
            <a:off x="2209680" y="5333760"/>
            <a:ext cx="3205440" cy="1218960"/>
          </a:xfrm>
          <a:prstGeom prst="cloudCallout">
            <a:avLst>
              <a:gd name="adj1" fmla="val -13810"/>
              <a:gd name="adj2" fmla="val 992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-25000">
                <a:solidFill>
                  <a:srgbClr val="000000"/>
                </a:solidFill>
                <a:latin typeface="Brush Script MT"/>
              </a:rPr>
              <a:t>5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Brush Script MT"/>
              </a:rPr>
              <a:t>неспаренных электр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5105520"/>
            <a:ext cx="2971800" cy="1752480"/>
          </a:xfrm>
          <a:custGeom>
            <a:avLst/>
            <a:gdLst>
              <a:gd name="textAreaLeft" fmla="*/ 0 w 2971800"/>
              <a:gd name="textAreaRight" fmla="*/ 2972160 w 2971800"/>
              <a:gd name="textAreaTop" fmla="*/ 227160 h 1752480"/>
              <a:gd name="textAreaBottom" fmla="*/ 15253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Brush Script MT"/>
              </a:rPr>
              <a:t>Эти электроны могут быть отд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rush Script MT"/>
              </a:rPr>
              <a:t>или смещены в сторону бо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Brush Script MT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rush Script MT"/>
              </a:rPr>
              <a:t>электроотрицательного  элемен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Brush Script MT"/>
              </a:rPr>
              <a:t>например кисл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Основные отличия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элементов главной подгруппы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V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  <a:ea typeface="Arial"/>
              </a:rPr>
              <a:t> групп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зо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единения азота тип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ожно получить только косвенным путё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т свободных орбита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ий оксид получается легк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3 энергетическом уровне имеется свободна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биталь на которую свободно перемещаютс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ектрон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Закрепим полученные знания.</a:t>
            </a:r>
            <a:br>
              <a:rPr sz="4000"/>
            </a:b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Ответьте на вопросы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На основе теории строения атомов пояснит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в чём проявляется сходство элементов азота и фосф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чем эти элементы отличаются один от друг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Каково строение молекулы азота? Почему одна связь в молекуле азота более прочна, чем две остальны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и и задачи уро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знакомится с элементами, относящимися к данной групп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учить схемы строения их атом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основе строения атомов сделать выводы о возможности проявлять определённые степени окис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делать выводы о возможных водородных и кислородных соединениях элементов этой групп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основании теории строения атомов научиться находить сходство и различие элементов пятой груп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  <a:ea typeface="Arial"/>
              </a:rPr>
              <a:t>Элементы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V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  <a:ea typeface="Arial"/>
              </a:rPr>
              <a:t> группы, главной (А) подгрупп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(эн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зот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    Sb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стибиум) сурьма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э) фосфор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Bi</a:t>
            </a: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висмут) висму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астат) мышья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1371600"/>
            <a:ext cx="8610480" cy="2819520"/>
          </a:xfrm>
          <a:custGeom>
            <a:avLst/>
            <a:gdLst>
              <a:gd name="textAreaLeft" fmla="*/ 2152440 w 8610480"/>
              <a:gd name="textAreaRight" fmla="*/ 6458040 w 8610480"/>
              <a:gd name="textAreaTop" fmla="*/ 0 h 2819520"/>
              <a:gd name="textAreaBottom" fmla="*/ 2429640 h 2819520"/>
            </a:gdLst>
            <a:ahLst/>
            <a:rect l="textAreaLeft" t="textAreaTop" r="textAreaRight" b="textAreaBottom"/>
            <a:pathLst>
              <a:path w="21600" h="21600">
                <a:moveTo>
                  <a:pt x="8100" y="18611"/>
                </a:moveTo>
                <a:lnTo>
                  <a:pt x="8100" y="20853"/>
                </a:lnTo>
                <a:cubicBezTo>
                  <a:pt x="8100" y="21226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295"/>
                </a:lnTo>
                <a:lnTo>
                  <a:pt x="0" y="2989"/>
                </a:lnTo>
                <a:lnTo>
                  <a:pt x="5400" y="2989"/>
                </a:lnTo>
                <a:lnTo>
                  <a:pt x="5400" y="747"/>
                </a:lnTo>
                <a:cubicBezTo>
                  <a:pt x="5400" y="374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74"/>
                  <a:pt x="16200" y="747"/>
                </a:cubicBezTo>
                <a:lnTo>
                  <a:pt x="16200" y="2989"/>
                </a:lnTo>
                <a:lnTo>
                  <a:pt x="21600" y="2989"/>
                </a:lnTo>
                <a:lnTo>
                  <a:pt x="18850" y="12295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26"/>
                  <a:pt x="13500" y="20853"/>
                </a:cubicBezTo>
                <a:lnTo>
                  <a:pt x="13500" y="18611"/>
                </a:lnTo>
                <a:close/>
              </a:path>
              <a:path fill="darkenLess" w="21600" h="21600">
                <a:moveTo>
                  <a:pt x="8100" y="18611"/>
                </a:moveTo>
                <a:lnTo>
                  <a:pt x="8100" y="20853"/>
                </a:lnTo>
                <a:cubicBezTo>
                  <a:pt x="8100" y="20479"/>
                  <a:pt x="7680" y="20106"/>
                  <a:pt x="7260" y="20106"/>
                </a:cubicBezTo>
                <a:lnTo>
                  <a:pt x="6240" y="20106"/>
                </a:lnTo>
                <a:cubicBezTo>
                  <a:pt x="5820" y="20106"/>
                  <a:pt x="5400" y="19732"/>
                  <a:pt x="5400" y="19358"/>
                </a:cubicBezTo>
                <a:cubicBezTo>
                  <a:pt x="5400" y="18985"/>
                  <a:pt x="5820" y="18611"/>
                  <a:pt x="6240" y="18611"/>
                </a:cubicBezTo>
                <a:close/>
              </a:path>
              <a:path fill="darkenLess" w="21600" h="21600">
                <a:moveTo>
                  <a:pt x="13500" y="18611"/>
                </a:moveTo>
                <a:lnTo>
                  <a:pt x="13500" y="20853"/>
                </a:lnTo>
                <a:cubicBezTo>
                  <a:pt x="13500" y="20479"/>
                  <a:pt x="13920" y="20106"/>
                  <a:pt x="14340" y="20106"/>
                </a:cubicBezTo>
                <a:lnTo>
                  <a:pt x="15360" y="20106"/>
                </a:lnTo>
                <a:cubicBezTo>
                  <a:pt x="15780" y="20106"/>
                  <a:pt x="16200" y="19732"/>
                  <a:pt x="16200" y="19358"/>
                </a:cubicBezTo>
                <a:cubicBezTo>
                  <a:pt x="16200" y="18985"/>
                  <a:pt x="15780" y="18611"/>
                  <a:pt x="15360" y="18611"/>
                </a:cubicBezTo>
                <a:close/>
              </a:path>
              <a:path fill="darkenLess" w="21600" h="21600">
                <a:moveTo>
                  <a:pt x="5400" y="19358"/>
                </a:moveTo>
                <a:lnTo>
                  <a:pt x="5400" y="2989"/>
                </a:lnTo>
              </a:path>
              <a:path fill="darkenLess" w="21600" h="21600">
                <a:moveTo>
                  <a:pt x="16200" y="19358"/>
                </a:moveTo>
                <a:lnTo>
                  <a:pt x="16200" y="2989"/>
                </a:lnTo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baseline="-25000">
                <a:solidFill>
                  <a:srgbClr val="808000"/>
                </a:solidFill>
                <a:latin typeface="Brush Script MT"/>
              </a:rPr>
              <a:t>Сходства элемент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baseline="-25000">
                <a:solidFill>
                  <a:srgbClr val="808000"/>
                </a:solidFill>
                <a:latin typeface="Brush Script MT"/>
              </a:rPr>
              <a:t> </a:t>
            </a:r>
            <a:r>
              <a:rPr b="1" i="1" lang="en-US" sz="5400" spc="-1" strike="noStrike" baseline="-25000">
                <a:solidFill>
                  <a:srgbClr val="808000"/>
                </a:solidFill>
                <a:latin typeface="Brush Script MT"/>
              </a:rPr>
              <a:t>подгруппы азо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хема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строения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атома азо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1523880"/>
          <a:ext cx="8763120" cy="4316400"/>
        </p:xfrm>
        <a:graphic>
          <a:graphicData uri="http://schemas.openxmlformats.org/drawingml/2006/table">
            <a:tbl>
              <a:tblPr/>
              <a:tblGrid>
                <a:gridCol w="1447920"/>
                <a:gridCol w="1904760"/>
                <a:gridCol w="3238560"/>
                <a:gridCol w="217188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мический з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электронов по энергетическим уровн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электронов по орбитал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7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, 5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S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p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ада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авьте схему размещения электронов по орбиталя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хема строения атома фосфор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1600200"/>
          <a:ext cx="8610480" cy="4530600"/>
        </p:xfrm>
        <a:graphic>
          <a:graphicData uri="http://schemas.openxmlformats.org/drawingml/2006/table">
            <a:tbl>
              <a:tblPr/>
              <a:tblGrid>
                <a:gridCol w="1447560"/>
                <a:gridCol w="2133720"/>
                <a:gridCol w="3124080"/>
                <a:gridCol w="190512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имический з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электронов по энергетическим уровн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щение электронов по орбитал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1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,8е,5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S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S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p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S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p</a:t>
                      </a:r>
                      <a:r>
                        <a:rPr b="0" lang="en-US" sz="2000" spc="-1" strike="noStrike" baseline="90000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адани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авьте схему размещения электронов по орбиталя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comic"/>
              </a:rPr>
              <a:t>Выводы о строении атом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На последнем энергетическом уровне атомов элементов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V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группы главной подгруппы находятся по пяти электрон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До устойчивого состояния атомов не хватает 3 электрон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Атомы этих электронов могут присоединять недостающие 3 электро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стойчивое состояние образуется при отдаче  5 электро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озможные степени окислени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1617840"/>
            <a:ext cx="8228520" cy="4494600"/>
            <a:chOff x="457200" y="1617840"/>
            <a:chExt cx="8228520" cy="4494600"/>
          </a:xfrm>
        </p:grpSpPr>
        <p:cxnSp>
          <p:nvCxnSpPr>
            <p:cNvPr id="165" name="_s37902"/>
            <p:cNvCxnSpPr>
              <a:stCxn id="166" idx="0"/>
              <a:endCxn id="167" idx="2"/>
            </p:cNvCxnSpPr>
            <p:nvPr/>
          </p:nvCxnSpPr>
          <p:spPr>
            <a:xfrm flipV="1" rot="16200000">
              <a:off x="5229360" y="275688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8" name="_s37900"/>
            <p:cNvCxnSpPr>
              <a:stCxn id="169" idx="0"/>
              <a:endCxn id="167" idx="2"/>
            </p:cNvCxnSpPr>
            <p:nvPr/>
          </p:nvCxnSpPr>
          <p:spPr>
            <a:xfrm flipH="1" flipV="1" rot="5400000">
              <a:off x="3013560" y="275688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7" name="_s37896"/>
            <p:cNvSpPr/>
            <p:nvPr/>
          </p:nvSpPr>
          <p:spPr>
            <a:xfrm>
              <a:off x="2673000" y="161784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00"/>
                  </a:solidFill>
                  <a:latin typeface="Tahoma"/>
                </a:rPr>
                <a:t>Высшая положитель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00"/>
                  </a:solidFill>
                  <a:latin typeface="Tahoma"/>
                </a:rPr>
                <a:t>и отрицат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808000"/>
                  </a:solidFill>
                  <a:latin typeface="Tahoma"/>
                </a:rPr>
                <a:t>степени окис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37897"/>
            <p:cNvSpPr/>
            <p:nvPr/>
          </p:nvSpPr>
          <p:spPr>
            <a:xfrm>
              <a:off x="457200" y="43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808000"/>
                  </a:solidFill>
                  <a:latin typeface="Tahoma"/>
                </a:rPr>
                <a:t>+5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37899"/>
            <p:cNvSpPr/>
            <p:nvPr/>
          </p:nvSpPr>
          <p:spPr>
            <a:xfrm>
              <a:off x="4888080" y="43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808000"/>
                  </a:solidFill>
                  <a:latin typeface="Tahoma"/>
                </a:rPr>
                <a:t>-3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58f4"/>
                </a:solidFill>
                <a:latin typeface="Arial"/>
              </a:rPr>
              <a:t>Высшие оксиды и водородные соедин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RH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4T08:06:1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