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13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49B-CD3C-45D0-8001-699BE0DE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E37-0643-4E48-9E99-C9E0CB9D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2A9-5CE2-43B1-9E36-ACE460BF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2D4-5A46-490F-8345-D7A8FDF8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2D80-D9AE-4A50-83EE-4058DF7B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FBD0-AC56-4307-B500-DAC2DECE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1F99-3178-4998-AD4D-2F738D57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CAFE-203C-4574-8315-283199CC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2BA2-12C2-4F2D-95D3-5D451106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E0D1-4CEE-461B-846B-650C9C68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A915-9587-4DFC-80FD-FCA8BDD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64A-758A-4BBF-8B9E-7FE38FC2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76B2-7B19-4A26-B93C-572FF753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9A4A-323D-462F-8F57-C64A75F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5283-CEED-4A3F-B156-588E5A63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2FE3-D73D-4533-941D-136F7D09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85CD-9DF3-4726-90D6-9D80F939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ECD7-7462-46F1-A5EF-4DC54C52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2D6C-9DAE-4D18-818A-F41BABA0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E579-E1F9-4ACF-BA2B-6FCD8FFB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4FE2-9E29-49EB-8486-84B0650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4EE0-AA78-489A-8079-DD240084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4E4-CDC1-4875-9D4A-860433D7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D4B02-55CB-4DA9-B8EE-18124390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4F3E-264D-4202-BADE-3238BB8B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E5D5-E098-44D9-86AA-F98E3C90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20AA-68EF-467D-B68F-B97257D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9755-E1DE-4846-952A-72BD282B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D1C1-D539-4101-B66F-FD7936B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D90A-EB9C-4B9D-AF1D-8DEA7F9F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3B8B-EF1D-4297-97F3-79FD6EF3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D125-A65A-48E4-81A0-C0478D0B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DAB0-0E49-4B24-B4D3-CF3CD8A8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A38-533B-408E-BF4C-69F3EDC2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D004B-4137-450F-B739-6F090E75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537C-86DB-4777-BF44-0D3664AD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3FEFA-BED1-4382-9C8D-849F6A98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90807-DA09-48ED-B3C3-E0DAB490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0278-8A07-4790-A73F-8F5D5788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8427-F6B9-4058-96ED-E1E85C51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53C9-F1EF-4B57-A79E-80FF78A2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3E66-8270-43DA-BE15-4935C939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74C8-577E-46FE-893F-BB7650B8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7B18-4D35-433C-A27F-E786B1C2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ACC-9EF3-4E71-A567-ED356EC8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4783-40AC-489C-8DF4-9FDC24CB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8868E-97A8-4562-A26A-1332F762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5EB99-4CE1-4FE2-9E7E-D8A2FA77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CC2B8-E746-4514-A3A2-CD611D68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EE21-A54D-48E4-A3F6-89484082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3A466-5203-4D82-B64D-8322B5C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9CBE8-5F53-4144-824A-00518D0B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6C79-D2D1-4A17-9E07-FFCDE6C3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23D76-47CD-44D3-A797-3666667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F090-4422-46BB-96D1-30204D6F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9F6-5455-4A63-9BA9-CB4C491D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50A6-BA89-4337-A4A6-943F2A1A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2C8F4-6AC8-41A4-9FD2-F92E02E0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BD6D2-3B44-4C46-B0D8-9734D535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264E4-E596-44AC-83C7-1C4C8520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83B5-FED2-41DF-AE14-D0B29249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F7D0-1B63-4E47-A026-F31A74B2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9E684-3A00-4547-B7EB-AEE763EA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1277E-9908-487A-8D1D-73C2299B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DB19E-2020-4708-8161-06A26FC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0ECCD-EB4B-4C66-87CE-A861500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921-1E96-49AB-869A-DF1B84C1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3FF0-FF67-47C3-8AFB-9473741A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7835-6493-44C1-A480-A544C70A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E4D08-70E7-4E3F-98D6-FEB7EFE3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A1CD-7338-427D-A766-84F9EC1A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36E77-5CC5-4DAB-B4B3-C0BF3770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B174B-C48D-4E3D-AC72-C29254D1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595AD-96D8-423B-A5EC-5C717CD4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79CD6-C315-49D9-8F8B-83563F66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412A9-4809-4293-9649-08C0F114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48674-F594-42EA-805F-E92633B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6F2-0012-40ED-A64C-2AE377EF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B6BF-FB8F-4A8B-AADB-FB71DD0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09B00-0E02-4F65-B7E5-59EFA555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A1FF3-1165-47E1-8E74-3B861B29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A0D94-001C-4CF9-8277-0C3BD6EC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12E84-DBBB-4AFB-B8E7-5495E488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5E428-3C9C-48FB-9621-DD6DADCD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254CD-4568-4329-BCEA-309D7660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95EAF-4E2C-4FEC-BBD6-DE0CB3F7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34423-11C4-42C4-8ECA-EF28E7FD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A1C93-64DC-4F2E-9300-64C759B2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945-D489-49D2-AA64-89943B90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D926E-D322-459A-983D-C76CD10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F6303-3857-42BB-BD43-9F13EB2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0E95-7A5C-47D5-AA56-C5C276D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DE884-269B-491B-A762-CA78E85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76659-922A-4293-B18C-A17508AC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9D8F3-3F67-4BB9-961A-97B0462B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5C9AC-74F8-4DA5-8AAA-305D7BC1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CEF2-FBD8-4166-9F28-25E096B90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A436-E3CE-478C-8066-35858A6F9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0042-69AD-4740-A074-AEFB3F12D4E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170E-B4D3-46A6-859D-F6D65062C0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7E5E-E163-40D7-9538-8D93CBCC7D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8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9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9EF3-0BBB-4E71-B0D9-F48202335D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3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3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34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34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35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5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5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B483-4A76-4EA4-89FB-C6746A7E15F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1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1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3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3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4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4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4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CFB3-E3C8-453F-A863-237B0FD25B1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Непредельные углеводороды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66"/>
                </a:solidFill>
                <a:latin typeface="comic"/>
              </a:rPr>
              <a:t>Алке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ие свойства алкен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лен – бесцветный газ, почти без запаха, немного легче воздуха, плохо растворим в в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илен и бутены (бутилены) при нормальных условиях также газообразны, от пентана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октадеце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водороды находятся в жидком состоянии, начиная с нонадеце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вёр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Химические свой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0000"/>
                </a:solidFill>
                <a:latin typeface="Arial"/>
              </a:rPr>
              <a:t>Определяются наличием в их молекулах двойной связ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0000"/>
                </a:solidFill>
                <a:latin typeface="Arial"/>
              </a:rPr>
              <a:t>Для них характерны реакци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en-US" sz="3100" spc="-1" strike="noStrike">
                <a:solidFill>
                  <a:srgbClr val="336666"/>
                </a:solidFill>
                <a:latin typeface="Arial"/>
              </a:rPr>
              <a:t>Присоединения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336666"/>
                </a:solidFill>
                <a:latin typeface="Arial"/>
              </a:rPr>
              <a:t>Окисления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336666"/>
                </a:solidFill>
                <a:latin typeface="Arial"/>
              </a:rPr>
              <a:t>Полимеризаци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867280" y="39625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еакции присоедин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1.Этилен и его гомологи взаимодействуют с галагенами (обесцвечивают бромную воду)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B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r-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r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,2-дибромэта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Аналогично происходит присоединение водорода (гидирование этилена и его гомологов)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                   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-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атализатор,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baseline="90000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400" spc="-1" strike="noStrike" baseline="9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В присутствии серной или ортофосфорной кислоты и др. катализаторов этилен присоединяет воду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(реакция гидратации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2C=CH2+HOH              CH3-CH2-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лен                           катализатор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4.Этилен и его гомологи присоединяют галагеноводороды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HBr               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HCl                  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илбромид                                                                                этилхлор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1400" spc="-1" strike="noStrike">
                <a:solidFill>
                  <a:srgbClr val="0033cc"/>
                </a:solidFill>
                <a:latin typeface="Times New Roman"/>
              </a:rPr>
              <a:t>Пропилен и последующие углеводороды ряда этилена реагируют с галагеноводородами согласно правилу В.В. Марковни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cc"/>
                </a:solidFill>
                <a:latin typeface="Times New Roman"/>
              </a:rPr>
              <a:t>Водород присоединяется к наиболее, а атом галогена – к наименее гидрированному атому угле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28480" cy="14572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3124080" y="2971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8108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485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еакции окис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.Этилен и его гомологи способны гореть в воздух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3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2C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2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С воздухом этилен и его гомологи образуют взрывчатые смес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.Этилен и его гомологи легко окисляются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пример кислородом перманганата калия. При этом раствор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него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обесцв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                                       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KMnO4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+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                    HO-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иленглик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3. Большое промышленное значение имеет частичное окисление этилена кислородом воздуха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50 – 350 </a:t>
            </a:r>
            <a:r>
              <a:rPr b="1" i="1" lang="en-US" sz="1000" spc="-1" strike="noStrike" baseline="90000">
                <a:solidFill>
                  <a:srgbClr val="000000"/>
                </a:solidFill>
                <a:latin typeface="Times New Roman"/>
                <a:ea typeface="Times New Roman"/>
              </a:rPr>
              <a:t>o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CH2=CH2 + O2                       2H2C-C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304640" cy="1047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8954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7162920" y="182880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81952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0" y="5486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647960" y="54864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акции полимериз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447920" y="1981080"/>
            <a:ext cx="6629400" cy="3200400"/>
          </a:xfrm>
          <a:prstGeom prst="cloudCallout">
            <a:avLst>
              <a:gd name="adj1" fmla="val 34722"/>
              <a:gd name="adj2" fmla="val 610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, в которых происходит соединение молекул исходного вещества в огромную молек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ходные вещества называются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мономе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а продукт реакции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полиме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акции полимер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и повышенной температуре, давлении и в присутствии катализаторов молекулы этилена соединяются друг с другом вследствие разрыва двойной связ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AL(C</a:t>
            </a:r>
            <a:r>
              <a:rPr b="0" i="1" lang="en-US" sz="1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i="1" lang="en-US" sz="1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i="1" lang="en-US" sz="1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 CH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CH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                 ( -CH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-CH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-) 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этилен             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,давление        полиэтиле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219320" y="5029200"/>
            <a:ext cx="1085760" cy="15238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3733920" y="4267080"/>
            <a:ext cx="1295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8575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351080" y="360360"/>
            <a:ext cx="727992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Old English Text MT"/>
              </a:rPr>
              <a:t>Применение углеводородов ряда этилен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294920" y="1447560"/>
            <a:ext cx="76597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Этилхлорид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CH3-CH2Cl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именяют в медицине для местной анестезии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Этиленгликоль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HO-CH2-CH2-OH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ля производства труднозамерзающих жидкостей – антифризов, а также синтетического волокна лавсана, взрывчатых веществ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ксид этилена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C2H4O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спользуют для синтеза различных органических веществ, для производства уксусного альдегида, синтетических моющих веществ, лаков, пластмасс, синтетических каучуков и волокон, косметических препаратов и многих других ценных продуктов;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лиэтилен и полипропилен химически очень прочны, поэтому их используют для изготовления оборудования в различных отраслях промышленности (аппараты, трубы, сосуды и т.д.). Они обладают хорошими электроизоляционными свойствами. В тонком слое эти материалы хорошо пропускают ультрафиолетовые лучи, поэтому их используют вместо стекла в парниках и теплицах. Широко применяют для упаковки разных продукто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Если в молекуле этилена все атомы водорода заменить атомами фтора, то получится тетрафторэтилен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CF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=CF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и полимеризации получают </a:t>
            </a:r>
            <a:r>
              <a:rPr b="1" i="1" lang="ru-RU" sz="1400" spc="-1" strike="noStrike">
                <a:solidFill>
                  <a:srgbClr val="ff0000"/>
                </a:solidFill>
                <a:latin typeface="Verdana"/>
              </a:rPr>
              <a:t>политетрафторэтилен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, или</a:t>
            </a:r>
            <a:r>
              <a:rPr b="1" i="1" lang="ru-RU" sz="1400" spc="-1" strike="noStrike">
                <a:solidFill>
                  <a:srgbClr val="ff0000"/>
                </a:solidFill>
                <a:latin typeface="Verdana"/>
              </a:rPr>
              <a:t> тефлон (</a:t>
            </a:r>
            <a:r>
              <a:rPr b="1" i="1" lang="en-US" sz="1400" spc="-1" strike="noStrike">
                <a:solidFill>
                  <a:srgbClr val="ff0000"/>
                </a:solidFill>
                <a:latin typeface="Verdana"/>
              </a:rPr>
              <a:t>-CF</a:t>
            </a:r>
            <a:r>
              <a:rPr b="1" i="1" lang="en-US" sz="1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i="1" lang="en-US" sz="1400" spc="-1" strike="noStrike">
                <a:solidFill>
                  <a:srgbClr val="ff0000"/>
                </a:solidFill>
                <a:latin typeface="Verdana"/>
              </a:rPr>
              <a:t>-CF</a:t>
            </a:r>
            <a:r>
              <a:rPr b="1" i="1" lang="en-US" sz="1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i="1" lang="en-US" sz="1400" spc="-1" strike="noStrike">
                <a:solidFill>
                  <a:srgbClr val="ff0000"/>
                </a:solidFill>
                <a:latin typeface="Verdana"/>
              </a:rPr>
              <a:t>-)n </a:t>
            </a: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механически прочное и химически очень стойкое вещество. Тефлон по химическим свойствам превосходит все металлы, даже золото и платину. Он выдерживает температуру до 260С, не горит и является отличным диэлектрико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261720"/>
            <a:ext cx="8229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62120" y="990720"/>
            <a:ext cx="7619760" cy="33177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ду от Вас отличных знани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бщая характеристик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бщая формула непредельных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 -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те и напишите общую формулу предельных углеводородов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Как можно получить непредельный углеводород? (напишите соответствующее уравнение реакци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дположите , исходя из общей формулы, какие реакции будут характерны для алкенов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Гомологический ряд алкен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ясь общей формулой составьте гомологический ряд этилена. Впишите в слайд химические формулы, названия и сокращённые структурные формулы гомологов эти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 по следующему слай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4419720" y="4724280"/>
            <a:ext cx="7617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Гомологический ряд алкен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лен, этен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илен,проп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CH-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утилен, бут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CH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нтилен, пент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CH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ксилен, гекс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CH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птилен, гепт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CH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ктилен, окт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CH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онилен, нон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CH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-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килен, дек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CH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Строение молекулы этилен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 формула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                              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                              H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ая формула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H           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1" lang="en-US" sz="2000" spc="-1" strike="noStrike" baseline="90000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</a:t>
            </a:r>
            <a:r>
              <a:rPr b="1" lang="en-US" sz="2000" spc="-1" strike="noStrike" baseline="90000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791320" y="21333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91320" y="25146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572000" y="21333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571640" y="2514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12193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Способы получения непредельных углеводород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84280" indent="-584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гидрирование предельных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   H                   H       H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0 -650</a:t>
            </a:r>
            <a:r>
              <a:rPr b="0" lang="en-US" sz="1000" spc="-1" strike="noStrike" baseline="9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&gt; 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=   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+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2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   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 нагревании смеси этилового спирта с концентрированной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рной кисло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          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HOH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реакция дегидратации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2SO4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н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роизводстве из природного газа и в процессе крекинга неф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spcBef>
                <a:spcPts val="3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ем дигалагенпроизводных предельных углеводородов с метал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 – CHBr – 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Zn            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CH – 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ZnB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 – дибромпропан                                                                       пропил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томы галагенов находятся не у соседних атомов, то могут образовываться циклопарпф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84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219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718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91320" y="3048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9112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Способы получения непредельных углеводород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При действии спиртовых растворов щелочей на галагенпроизводные отщепляется галагеноводород и образуется углеводород с двойной связ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–C- Cl        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                                  +  KCl +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–C- H        OH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рт. р-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- C – H                              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 хлорпропан                     пропил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952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30481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380988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 rot="1300200">
            <a:off x="7086240" y="4952880"/>
            <a:ext cx="13716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914400" y="1143000"/>
            <a:ext cx="7315200" cy="3733920"/>
          </a:xfrm>
          <a:prstGeom prst="cloudCallout">
            <a:avLst>
              <a:gd name="adj1" fmla="val -26106"/>
              <a:gd name="adj2" fmla="val 7487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ции разложения, в результате которых от молекул веществ отщепляется вода, называются реакциями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дегидр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990360" cy="7617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зомерия и номенклату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троению углеродного ске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H=C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=C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пилен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ропен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-метилпро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оложению двойно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-C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-буте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бу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енная изомер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3                  CH3                                        CH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C                                                               C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                  H                                                 H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с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анс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943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49528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1676520" y="53337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52578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24852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857640" y="487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248160" y="5334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0" y="5257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514240" y="4876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29T12:03:49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