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5D364-918A-498A-8AE0-EFCD7D8E2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D6B63-2FFB-4C5B-800E-3D1F02A2F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AB650-08BC-4E8B-A99A-0A8823DA6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B6AB0-DA82-47E2-B4BA-06E9721BF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F272A-FDEC-4857-8B7F-BE66FFD00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07089-B317-417B-ABDF-B6ECA4FE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55D0A-A0FD-4DCA-A9EE-1125B5C93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B7E3A-5685-4224-9977-5993061D7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A0CF5-B5B7-487F-A870-0E4AD5F07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DC6BA-7A9A-4F98-A583-915C5D450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5712E-5608-4AA9-8677-427496CC2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8D25E-4D6E-4E1F-A985-89A89A09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F6B3B-3C52-453B-8D86-1A513C98C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6F57B-9996-47E9-B8A4-FCD0AC3DD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EBD88-0A8A-490A-ABB7-79862EED0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F7FB5-128C-4AB5-9168-1A8042B51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633B9-B6D5-438D-852A-39CC5B3FE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CE7A3-69E7-47CD-BBA2-1A7D6C069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AF865-2A12-4508-8405-A8D8EC606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8066-54A2-412D-8ADE-60FD1D9F6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F38BD-FE79-40F0-9653-8446633F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CC3F-6B74-4CE7-A45E-79E80A06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252C5-6D4F-4169-8785-99B746B97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D13B-5915-42FD-A691-904C140B7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
          <p:cNvSpPr/>
          <p:nvPr/>
        </p:nvSpPr>
        <p:spPr>
          <a:xfrm>
            <a:off x="800280" y="1098720"/>
            <a:ext cx="328320" cy="47448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11160" y="1521000"/>
            <a:ext cx="368280" cy="47448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127080" y="1447920"/>
            <a:ext cx="56016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42800" y="1781280"/>
            <a:ext cx="8226360" cy="3168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A1BC-3B12-44EA-A67F-A9DA47495787}"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673560" y="2546280"/>
                <a:ext cx="328320" cy="474840"/>
              </a:xfrm>
              <a:prstGeom prst="rect">
                <a:avLst/>
              </a:prstGeom>
              <a:gradFill rotWithShape="0">
                <a:gsLst>
                  <a:gs pos="0">
                    <a:srgbClr val="0000cc"/>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783000" y="2968560"/>
                <a:ext cx="369000" cy="474840"/>
              </a:xfrm>
              <a:prstGeom prst="rect">
                <a:avLst/>
              </a:prstGeom>
              <a:gradFill rotWithShape="0">
                <a:gsLst>
                  <a:gs pos="0">
                    <a:srgbClr val="0000cc"/>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 name=""/>
            <p:cNvSpPr/>
            <p:nvPr/>
          </p:nvSpPr>
          <p:spPr>
            <a:xfrm>
              <a:off x="0" y="2895480"/>
              <a:ext cx="560520" cy="422280"/>
            </a:xfrm>
            <a:prstGeom prst="rect">
              <a:avLst/>
            </a:prstGeom>
            <a:gradFill rotWithShape="0">
              <a:gsLst>
                <a:gs pos="0">
                  <a:srgbClr val="ff3399"/>
                </a:gs>
                <a:gs pos="100000">
                  <a:srgbClr val="0000c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flipV="1">
              <a:off x="316080" y="3260520"/>
              <a:ext cx="8692920" cy="55440"/>
            </a:xfrm>
            <a:prstGeom prst="rect">
              <a:avLst/>
            </a:prstGeom>
            <a:gradFill rotWithShape="0">
              <a:gsLst>
                <a:gs pos="0">
                  <a:srgbClr val="0000cc"/>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4"/>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F8F4-8393-4358-8996-FA48D4F47CF1}" type="slidenum">
              <a:rPr b="0" lang="en-US" sz="1400" spc="-1" strike="noStrike">
                <a:solidFill>
                  <a:srgbClr val="000094"/>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hita.ru/files/tv/img/1cf0a1a52a19c97.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hita.ru/files/tv/img/1cf0a1a52a19c97.jpg"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chita.ru/files/tv/img/1cf0a1a52a19c97.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 Target="slide32.xml"/><Relationship Id="rId5" Type="http://schemas.openxmlformats.org/officeDocument/2006/relationships/slide" Target="slide44.xm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7.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 Target="slide17.xml"/><Relationship Id="rId12" Type="http://schemas.openxmlformats.org/officeDocument/2006/relationships/slide" Target="slide19.xml"/><Relationship Id="rId13" Type="http://schemas.openxmlformats.org/officeDocument/2006/relationships/slide" Target="slide21.xml"/><Relationship Id="rId14" Type="http://schemas.openxmlformats.org/officeDocument/2006/relationships/slide" Target="slide23.xml"/><Relationship Id="rId1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chita.ru/files/tv/img/1cf0a1a52a19c97.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9.xml"/><Relationship Id="rId3" Type="http://schemas.openxmlformats.org/officeDocument/2006/relationships/slide" Target="slide51.xml"/><Relationship Id="rId4" Type="http://schemas.openxmlformats.org/officeDocument/2006/relationships/slide" Target="slide53.xml"/><Relationship Id="rId5" Type="http://schemas.openxmlformats.org/officeDocument/2006/relationships/slide" Target="slide55.xml"/><Relationship Id="rId6" Type="http://schemas.openxmlformats.org/officeDocument/2006/relationships/slide" Target="slide57.xml"/><Relationship Id="rId7" Type="http://schemas.openxmlformats.org/officeDocument/2006/relationships/slide" Target="slide59.xml"/><Relationship Id="rId8" Type="http://schemas.openxmlformats.org/officeDocument/2006/relationships/slide" Target="slide65.xml"/><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chita.ru/files/tv/img/1cf0a1a52a19c97.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2.xml"/><Relationship Id="rId5" Type="http://schemas.openxmlformats.org/officeDocument/2006/relationships/slide" Target="slide74.xml"/><Relationship Id="rId6" Type="http://schemas.openxmlformats.org/officeDocument/2006/relationships/slide" Target="slide76.xml"/><Relationship Id="rId7" Type="http://schemas.openxmlformats.org/officeDocument/2006/relationships/slide" Target="slide78.xml"/><Relationship Id="rId8" Type="http://schemas.openxmlformats.org/officeDocument/2006/relationships/slide" Target="slide78.xml"/><Relationship Id="rId9" Type="http://schemas.openxmlformats.org/officeDocument/2006/relationships/slide" Target="slide80.xml"/><Relationship Id="rId10" Type="http://schemas.openxmlformats.org/officeDocument/2006/relationships/slide" Target="slide80.xml"/><Relationship Id="rId11" Type="http://schemas.openxmlformats.org/officeDocument/2006/relationships/slide" Target="slide82.xml"/><Relationship Id="rId12" Type="http://schemas.openxmlformats.org/officeDocument/2006/relationships/slide" Target="slide82.xml"/><Relationship Id="rId13" Type="http://schemas.openxmlformats.org/officeDocument/2006/relationships/slide" Target="slide84.xml"/><Relationship Id="rId1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99" name="" descr="Картинка 19 из 1770">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039920" y="1268280"/>
            <a:ext cx="510372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сенародным голосованием.</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
            <a:hlinkClick r:id="rId1" action="ppaction://hlinksldjump"/>
          </p:cNvPr>
          <p:cNvSpPr/>
          <p:nvPr/>
        </p:nvSpPr>
        <p:spPr>
          <a:xfrm>
            <a:off x="7885080" y="6237360"/>
            <a:ext cx="934920" cy="620640"/>
          </a:xfrm>
          <a:custGeom>
            <a:avLst/>
            <a:gdLst>
              <a:gd name="textAreaLeft" fmla="*/ 39960 w 934920"/>
              <a:gd name="textAreaRight" fmla="*/ 894960 w 934920"/>
              <a:gd name="textAreaTop" fmla="*/ 39960 h 620640"/>
              <a:gd name="textAreaBottom" fmla="*/ 580680 h 620640"/>
            </a:gdLst>
            <a:ahLst/>
            <a:rect l="textAreaLeft" t="textAreaTop" r="textAreaRight" b="textAreaBottom"/>
            <a:pathLst>
              <a:path w="32531" h="21600">
                <a:moveTo>
                  <a:pt x="0" y="0"/>
                </a:moveTo>
                <a:lnTo>
                  <a:pt x="32531" y="0"/>
                </a:lnTo>
                <a:lnTo>
                  <a:pt x="32531" y="21600"/>
                </a:lnTo>
                <a:lnTo>
                  <a:pt x="0" y="21600"/>
                </a:lnTo>
                <a:close/>
              </a:path>
              <a:path fill="lightenLess" w="32531" h="21600">
                <a:moveTo>
                  <a:pt x="0" y="0"/>
                </a:moveTo>
                <a:lnTo>
                  <a:pt x="32531" y="0"/>
                </a:lnTo>
                <a:lnTo>
                  <a:pt x="31131" y="1400"/>
                </a:lnTo>
                <a:lnTo>
                  <a:pt x="1400" y="1400"/>
                </a:lnTo>
                <a:close/>
              </a:path>
              <a:path fill="darken" w="32531" h="21600">
                <a:moveTo>
                  <a:pt x="32531" y="0"/>
                </a:moveTo>
                <a:lnTo>
                  <a:pt x="32531" y="21600"/>
                </a:lnTo>
                <a:lnTo>
                  <a:pt x="31131" y="20200"/>
                </a:lnTo>
                <a:lnTo>
                  <a:pt x="31131" y="1400"/>
                </a:lnTo>
                <a:close/>
              </a:path>
              <a:path fill="darkenLess" w="32531" h="21600">
                <a:moveTo>
                  <a:pt x="32531" y="21600"/>
                </a:moveTo>
                <a:lnTo>
                  <a:pt x="0" y="21600"/>
                </a:lnTo>
                <a:lnTo>
                  <a:pt x="1400" y="20200"/>
                </a:lnTo>
                <a:lnTo>
                  <a:pt x="31131" y="20200"/>
                </a:lnTo>
                <a:close/>
              </a:path>
              <a:path fill="lighten" w="32531" h="21600">
                <a:moveTo>
                  <a:pt x="0" y="21600"/>
                </a:moveTo>
                <a:lnTo>
                  <a:pt x="0" y="0"/>
                </a:lnTo>
                <a:lnTo>
                  <a:pt x="1400" y="1400"/>
                </a:lnTo>
                <a:lnTo>
                  <a:pt x="1400" y="20200"/>
                </a:lnTo>
                <a:close/>
              </a:path>
              <a:path fill="darken" w="32531" h="21600">
                <a:moveTo>
                  <a:pt x="12767" y="10800"/>
                </a:moveTo>
                <a:lnTo>
                  <a:pt x="23272" y="3794"/>
                </a:lnTo>
                <a:lnTo>
                  <a:pt x="23272" y="17806"/>
                </a:lnTo>
                <a:close/>
              </a:path>
              <a:path fill="darken" w="32531" h="21600">
                <a:moveTo>
                  <a:pt x="9259" y="3794"/>
                </a:moveTo>
                <a:lnTo>
                  <a:pt x="10922" y="3794"/>
                </a:lnTo>
                <a:lnTo>
                  <a:pt x="10922" y="17806"/>
                </a:lnTo>
                <a:lnTo>
                  <a:pt x="9259"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8" name="" descr=""/>
          <p:cNvPicPr/>
          <p:nvPr/>
        </p:nvPicPr>
        <p:blipFill>
          <a:blip r:embed="rId2"/>
          <a:stretch/>
        </p:blipFill>
        <p:spPr>
          <a:xfrm>
            <a:off x="539640" y="981000"/>
            <a:ext cx="3246480" cy="466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скольких разделов состоит Конституция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2 разделов.</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
            <a:hlinkClick r:id="rId1" action="ppaction://hlinksldjump"/>
          </p:cNvPr>
          <p:cNvSpPr/>
          <p:nvPr/>
        </p:nvSpPr>
        <p:spPr>
          <a:xfrm>
            <a:off x="8244000" y="6381720"/>
            <a:ext cx="900000" cy="476280"/>
          </a:xfrm>
          <a:custGeom>
            <a:avLst/>
            <a:gdLst>
              <a:gd name="textAreaLeft" fmla="*/ 30600 w 900000"/>
              <a:gd name="textAreaRight" fmla="*/ 869400 w 900000"/>
              <a:gd name="textAreaTop" fmla="*/ 30600 h 476280"/>
              <a:gd name="textAreaBottom" fmla="*/ 445680 h 476280"/>
            </a:gdLst>
            <a:ahLst/>
            <a:rect l="textAreaLeft" t="textAreaTop" r="textAreaRight" b="textAreaBottom"/>
            <a:pathLst>
              <a:path w="40802" h="21600">
                <a:moveTo>
                  <a:pt x="0" y="0"/>
                </a:moveTo>
                <a:lnTo>
                  <a:pt x="40802" y="0"/>
                </a:lnTo>
                <a:lnTo>
                  <a:pt x="40802" y="21600"/>
                </a:lnTo>
                <a:lnTo>
                  <a:pt x="0" y="21600"/>
                </a:lnTo>
                <a:close/>
              </a:path>
              <a:path fill="lightenLess" w="40802" h="21600">
                <a:moveTo>
                  <a:pt x="0" y="0"/>
                </a:moveTo>
                <a:lnTo>
                  <a:pt x="40802" y="0"/>
                </a:lnTo>
                <a:lnTo>
                  <a:pt x="39402" y="1400"/>
                </a:lnTo>
                <a:lnTo>
                  <a:pt x="1400" y="1400"/>
                </a:lnTo>
                <a:close/>
              </a:path>
              <a:path fill="darken" w="40802" h="21600">
                <a:moveTo>
                  <a:pt x="40802" y="0"/>
                </a:moveTo>
                <a:lnTo>
                  <a:pt x="40802" y="21600"/>
                </a:lnTo>
                <a:lnTo>
                  <a:pt x="39402" y="20200"/>
                </a:lnTo>
                <a:lnTo>
                  <a:pt x="39402" y="1400"/>
                </a:lnTo>
                <a:close/>
              </a:path>
              <a:path fill="darkenLess" w="40802" h="21600">
                <a:moveTo>
                  <a:pt x="40802" y="21600"/>
                </a:moveTo>
                <a:lnTo>
                  <a:pt x="0" y="21600"/>
                </a:lnTo>
                <a:lnTo>
                  <a:pt x="1400" y="20200"/>
                </a:lnTo>
                <a:lnTo>
                  <a:pt x="39402" y="20200"/>
                </a:lnTo>
                <a:close/>
              </a:path>
              <a:path fill="lighten" w="40802" h="21600">
                <a:moveTo>
                  <a:pt x="0" y="21600"/>
                </a:moveTo>
                <a:lnTo>
                  <a:pt x="0" y="0"/>
                </a:lnTo>
                <a:lnTo>
                  <a:pt x="1400" y="1400"/>
                </a:lnTo>
                <a:lnTo>
                  <a:pt x="1400" y="20200"/>
                </a:lnTo>
                <a:close/>
              </a:path>
              <a:path fill="darken" w="40802" h="21600">
                <a:moveTo>
                  <a:pt x="16902" y="10800"/>
                </a:moveTo>
                <a:lnTo>
                  <a:pt x="27407" y="3794"/>
                </a:lnTo>
                <a:lnTo>
                  <a:pt x="27407" y="17806"/>
                </a:lnTo>
                <a:close/>
              </a:path>
              <a:path fill="darken" w="40802" h="21600">
                <a:moveTo>
                  <a:pt x="13394" y="3794"/>
                </a:moveTo>
                <a:lnTo>
                  <a:pt x="15057" y="3794"/>
                </a:lnTo>
                <a:lnTo>
                  <a:pt x="15057" y="17806"/>
                </a:lnTo>
                <a:lnTo>
                  <a:pt x="13394"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то является непосредственным выражением власти народ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4443120"/>
            <a:ext cx="3635280" cy="241452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вободные выборы, референдум.</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
            <a:hlinkClick r:id="rId1" action="ppaction://hlinksldjump"/>
          </p:cNvPr>
          <p:cNvSpPr/>
          <p:nvPr/>
        </p:nvSpPr>
        <p:spPr>
          <a:xfrm>
            <a:off x="8101080" y="6308640"/>
            <a:ext cx="792000" cy="549360"/>
          </a:xfrm>
          <a:custGeom>
            <a:avLst/>
            <a:gdLst>
              <a:gd name="textAreaLeft" fmla="*/ 35280 w 792000"/>
              <a:gd name="textAreaRight" fmla="*/ 756720 w 792000"/>
              <a:gd name="textAreaTop" fmla="*/ 35280 h 549360"/>
              <a:gd name="textAreaBottom" fmla="*/ 514080 h 549360"/>
            </a:gdLst>
            <a:ahLst/>
            <a:rect l="textAreaLeft" t="textAreaTop" r="textAreaRight" b="textAreaBottom"/>
            <a:pathLst>
              <a:path w="31134" h="21600">
                <a:moveTo>
                  <a:pt x="0" y="0"/>
                </a:moveTo>
                <a:lnTo>
                  <a:pt x="31134" y="0"/>
                </a:lnTo>
                <a:lnTo>
                  <a:pt x="31134" y="21600"/>
                </a:lnTo>
                <a:lnTo>
                  <a:pt x="0" y="21600"/>
                </a:lnTo>
                <a:close/>
              </a:path>
              <a:path fill="lightenLess" w="31134" h="21600">
                <a:moveTo>
                  <a:pt x="0" y="0"/>
                </a:moveTo>
                <a:lnTo>
                  <a:pt x="31134" y="0"/>
                </a:lnTo>
                <a:lnTo>
                  <a:pt x="29734" y="1400"/>
                </a:lnTo>
                <a:lnTo>
                  <a:pt x="1400" y="1400"/>
                </a:lnTo>
                <a:close/>
              </a:path>
              <a:path fill="darken" w="31134" h="21600">
                <a:moveTo>
                  <a:pt x="31134" y="0"/>
                </a:moveTo>
                <a:lnTo>
                  <a:pt x="31134" y="21600"/>
                </a:lnTo>
                <a:lnTo>
                  <a:pt x="29734" y="20200"/>
                </a:lnTo>
                <a:lnTo>
                  <a:pt x="29734" y="1400"/>
                </a:lnTo>
                <a:close/>
              </a:path>
              <a:path fill="darkenLess" w="31134" h="21600">
                <a:moveTo>
                  <a:pt x="31134" y="21600"/>
                </a:moveTo>
                <a:lnTo>
                  <a:pt x="0" y="21600"/>
                </a:lnTo>
                <a:lnTo>
                  <a:pt x="1400" y="20200"/>
                </a:lnTo>
                <a:lnTo>
                  <a:pt x="29734" y="20200"/>
                </a:lnTo>
                <a:close/>
              </a:path>
              <a:path fill="lighten" w="31134" h="21600">
                <a:moveTo>
                  <a:pt x="0" y="21600"/>
                </a:moveTo>
                <a:lnTo>
                  <a:pt x="0" y="0"/>
                </a:lnTo>
                <a:lnTo>
                  <a:pt x="1400" y="1400"/>
                </a:lnTo>
                <a:lnTo>
                  <a:pt x="1400" y="20200"/>
                </a:lnTo>
                <a:close/>
              </a:path>
              <a:path fill="darken" w="31134" h="21600">
                <a:moveTo>
                  <a:pt x="12068" y="10800"/>
                </a:moveTo>
                <a:lnTo>
                  <a:pt x="22573" y="3794"/>
                </a:lnTo>
                <a:lnTo>
                  <a:pt x="22573" y="17806"/>
                </a:lnTo>
                <a:close/>
              </a:path>
              <a:path fill="darken" w="31134" h="21600">
                <a:moveTo>
                  <a:pt x="8561" y="3794"/>
                </a:moveTo>
                <a:lnTo>
                  <a:pt x="10223" y="3794"/>
                </a:lnTo>
                <a:lnTo>
                  <a:pt x="10223" y="17806"/>
                </a:lnTo>
                <a:lnTo>
                  <a:pt x="8561"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 name="" descr=""/>
          <p:cNvPicPr/>
          <p:nvPr/>
        </p:nvPicPr>
        <p:blipFill>
          <a:blip r:embed="rId2"/>
          <a:stretch/>
        </p:blipFill>
        <p:spPr>
          <a:xfrm>
            <a:off x="3059280" y="1125360"/>
            <a:ext cx="567360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каких субъектов состоит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00000" y="260280"/>
            <a:ext cx="7772400" cy="144000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еспублик, краёв, областей, городов, автономных областей и округов.</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a:hlinkClick r:id="rId1" action="ppaction://hlinksldjump"/>
          </p:cNvPr>
          <p:cNvSpPr/>
          <p:nvPr/>
        </p:nvSpPr>
        <p:spPr>
          <a:xfrm>
            <a:off x="8172360" y="6165720"/>
            <a:ext cx="647640" cy="692280"/>
          </a:xfrm>
          <a:custGeom>
            <a:avLst/>
            <a:gdLst>
              <a:gd name="textAreaLeft" fmla="*/ 41760 w 647640"/>
              <a:gd name="textAreaRight" fmla="*/ 605880 w 647640"/>
              <a:gd name="textAreaTop" fmla="*/ 41760 h 692280"/>
              <a:gd name="textAreaBottom" fmla="*/ 650520 h 692280"/>
            </a:gdLst>
            <a:ahLst/>
            <a:rect l="textAreaLeft" t="textAreaTop" r="textAreaRight" b="textAreaBottom"/>
            <a:pathLst>
              <a:path w="21600" h="23088">
                <a:moveTo>
                  <a:pt x="0" y="0"/>
                </a:moveTo>
                <a:lnTo>
                  <a:pt x="21600" y="0"/>
                </a:lnTo>
                <a:lnTo>
                  <a:pt x="21600" y="23088"/>
                </a:lnTo>
                <a:lnTo>
                  <a:pt x="0" y="23088"/>
                </a:lnTo>
                <a:close/>
              </a:path>
              <a:path fill="lightenLess" w="21600" h="23088">
                <a:moveTo>
                  <a:pt x="0" y="0"/>
                </a:moveTo>
                <a:lnTo>
                  <a:pt x="21600" y="0"/>
                </a:lnTo>
                <a:lnTo>
                  <a:pt x="20200" y="1400"/>
                </a:lnTo>
                <a:lnTo>
                  <a:pt x="1400" y="1400"/>
                </a:lnTo>
                <a:close/>
              </a:path>
              <a:path fill="darken" w="21600" h="23088">
                <a:moveTo>
                  <a:pt x="21600" y="0"/>
                </a:moveTo>
                <a:lnTo>
                  <a:pt x="21600" y="23088"/>
                </a:lnTo>
                <a:lnTo>
                  <a:pt x="20200" y="21688"/>
                </a:lnTo>
                <a:lnTo>
                  <a:pt x="20200" y="1400"/>
                </a:lnTo>
                <a:close/>
              </a:path>
              <a:path fill="darkenLess" w="21600" h="23088">
                <a:moveTo>
                  <a:pt x="21600" y="23088"/>
                </a:moveTo>
                <a:lnTo>
                  <a:pt x="0" y="23088"/>
                </a:lnTo>
                <a:lnTo>
                  <a:pt x="1400" y="21688"/>
                </a:lnTo>
                <a:lnTo>
                  <a:pt x="20200" y="21688"/>
                </a:lnTo>
                <a:close/>
              </a:path>
              <a:path fill="lighten" w="21600" h="23088">
                <a:moveTo>
                  <a:pt x="0" y="23088"/>
                </a:moveTo>
                <a:lnTo>
                  <a:pt x="0" y="0"/>
                </a:lnTo>
                <a:lnTo>
                  <a:pt x="1400" y="1400"/>
                </a:lnTo>
                <a:lnTo>
                  <a:pt x="1400" y="21688"/>
                </a:lnTo>
                <a:close/>
              </a:path>
              <a:path fill="darken" w="21600" h="23088">
                <a:moveTo>
                  <a:pt x="7301" y="11544"/>
                </a:moveTo>
                <a:lnTo>
                  <a:pt x="17806" y="4538"/>
                </a:lnTo>
                <a:lnTo>
                  <a:pt x="17806" y="18550"/>
                </a:lnTo>
                <a:close/>
              </a:path>
              <a:path fill="darken" w="21600" h="23088">
                <a:moveTo>
                  <a:pt x="3794" y="4538"/>
                </a:moveTo>
                <a:lnTo>
                  <a:pt x="5456" y="4538"/>
                </a:lnTo>
                <a:lnTo>
                  <a:pt x="5456" y="18550"/>
                </a:lnTo>
                <a:lnTo>
                  <a:pt x="3794" y="18550"/>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 name="" descr=""/>
          <p:cNvPicPr/>
          <p:nvPr/>
        </p:nvPicPr>
        <p:blipFill>
          <a:blip r:embed="rId2"/>
          <a:stretch/>
        </p:blipFill>
        <p:spPr>
          <a:xfrm>
            <a:off x="971640" y="1700280"/>
            <a:ext cx="7226280" cy="44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ие ветви государственной власти вы можете назвать?</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Законодательная, исполнительная и государственная.</a:t>
            </a:r>
            <a:endParaRPr b="0" lang="en-US" sz="3200" spc="-1" strike="noStrike">
              <a:solidFill>
                <a:srgbClr val="ffffff"/>
              </a:solidFill>
              <a:latin typeface="Tahoma"/>
            </a:endParaRPr>
          </a:p>
        </p:txBody>
      </p:sp>
      <p:sp>
        <p:nvSpPr>
          <p:cNvPr id="132" name="">
            <a:hlinkClick r:id="rId1" action="ppaction://hlinksldjump"/>
          </p:cNvPr>
          <p:cNvSpPr/>
          <p:nvPr/>
        </p:nvSpPr>
        <p:spPr>
          <a:xfrm>
            <a:off x="8278920" y="6237360"/>
            <a:ext cx="865080" cy="620640"/>
          </a:xfrm>
          <a:custGeom>
            <a:avLst/>
            <a:gdLst>
              <a:gd name="textAreaLeft" fmla="*/ 39960 w 865080"/>
              <a:gd name="textAreaRight" fmla="*/ 825120 w 865080"/>
              <a:gd name="textAreaTop" fmla="*/ 39960 h 620640"/>
              <a:gd name="textAreaBottom" fmla="*/ 580680 h 620640"/>
            </a:gdLst>
            <a:ahLst/>
            <a:rect l="textAreaLeft" t="textAreaTop" r="textAreaRight" b="textAreaBottom"/>
            <a:pathLst>
              <a:path w="30102" h="21600">
                <a:moveTo>
                  <a:pt x="0" y="0"/>
                </a:moveTo>
                <a:lnTo>
                  <a:pt x="30102" y="0"/>
                </a:lnTo>
                <a:lnTo>
                  <a:pt x="30102" y="21600"/>
                </a:lnTo>
                <a:lnTo>
                  <a:pt x="0" y="21600"/>
                </a:lnTo>
                <a:close/>
              </a:path>
              <a:path fill="lightenLess" w="30102" h="21600">
                <a:moveTo>
                  <a:pt x="0" y="0"/>
                </a:moveTo>
                <a:lnTo>
                  <a:pt x="30102" y="0"/>
                </a:lnTo>
                <a:lnTo>
                  <a:pt x="28702" y="1400"/>
                </a:lnTo>
                <a:lnTo>
                  <a:pt x="1400" y="1400"/>
                </a:lnTo>
                <a:close/>
              </a:path>
              <a:path fill="darken" w="30102" h="21600">
                <a:moveTo>
                  <a:pt x="30102" y="0"/>
                </a:moveTo>
                <a:lnTo>
                  <a:pt x="30102" y="21600"/>
                </a:lnTo>
                <a:lnTo>
                  <a:pt x="28702" y="20200"/>
                </a:lnTo>
                <a:lnTo>
                  <a:pt x="28702" y="1400"/>
                </a:lnTo>
                <a:close/>
              </a:path>
              <a:path fill="darkenLess" w="30102" h="21600">
                <a:moveTo>
                  <a:pt x="30102" y="21600"/>
                </a:moveTo>
                <a:lnTo>
                  <a:pt x="0" y="21600"/>
                </a:lnTo>
                <a:lnTo>
                  <a:pt x="1400" y="20200"/>
                </a:lnTo>
                <a:lnTo>
                  <a:pt x="28702" y="20200"/>
                </a:lnTo>
                <a:close/>
              </a:path>
              <a:path fill="lighten" w="30102" h="21600">
                <a:moveTo>
                  <a:pt x="0" y="21600"/>
                </a:moveTo>
                <a:lnTo>
                  <a:pt x="0" y="0"/>
                </a:lnTo>
                <a:lnTo>
                  <a:pt x="1400" y="1400"/>
                </a:lnTo>
                <a:lnTo>
                  <a:pt x="1400" y="20200"/>
                </a:lnTo>
                <a:close/>
              </a:path>
              <a:path fill="darken" w="30102" h="21600">
                <a:moveTo>
                  <a:pt x="11552" y="10800"/>
                </a:moveTo>
                <a:lnTo>
                  <a:pt x="22058" y="3794"/>
                </a:lnTo>
                <a:lnTo>
                  <a:pt x="22058" y="17806"/>
                </a:lnTo>
                <a:close/>
              </a:path>
              <a:path fill="darken" w="30102" h="21600">
                <a:moveTo>
                  <a:pt x="8045" y="3794"/>
                </a:moveTo>
                <a:lnTo>
                  <a:pt x="9707" y="3794"/>
                </a:lnTo>
                <a:lnTo>
                  <a:pt x="9707" y="17806"/>
                </a:lnTo>
                <a:lnTo>
                  <a:pt x="8045"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ой  орган является представительным и законодательным органом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00" name="" descr="Картинка 19 из 1770">
            <a:hlinkClick r:id="rId1"/>
          </p:cNvP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826560" y="-360"/>
            <a:ext cx="7791480" cy="119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ПЕРВЫЙ   АГОН</a:t>
            </a:r>
            <a:endParaRPr b="0" lang="en-US" sz="6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Федеральное Собрание.</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
            <a:hlinkClick r:id="rId1" action="ppaction://hlinksldjump"/>
          </p:cNvPr>
          <p:cNvSpPr/>
          <p:nvPr/>
        </p:nvSpPr>
        <p:spPr>
          <a:xfrm>
            <a:off x="838836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11354" y="10800"/>
                </a:moveTo>
                <a:lnTo>
                  <a:pt x="21859" y="3794"/>
                </a:lnTo>
                <a:lnTo>
                  <a:pt x="21859" y="17806"/>
                </a:lnTo>
                <a:close/>
              </a:path>
              <a:path fill="darken" w="29705" h="21600">
                <a:moveTo>
                  <a:pt x="7846" y="3794"/>
                </a:moveTo>
                <a:lnTo>
                  <a:pt x="9509" y="3794"/>
                </a:lnTo>
                <a:lnTo>
                  <a:pt x="9509" y="17806"/>
                </a:lnTo>
                <a:lnTo>
                  <a:pt x="7846"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6" name="" descr=""/>
          <p:cNvPicPr/>
          <p:nvPr/>
        </p:nvPicPr>
        <p:blipFill>
          <a:blip r:embed="rId2"/>
          <a:stretch/>
        </p:blipFill>
        <p:spPr>
          <a:xfrm>
            <a:off x="2340000" y="3068640"/>
            <a:ext cx="4700520" cy="352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зовите высший судебный орган по решению экономических спор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рбитражный суд</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
            <a:hlinkClick r:id="rId1" action="ppaction://hlinksldjump"/>
          </p:cNvPr>
          <p:cNvSpPr/>
          <p:nvPr/>
        </p:nvSpPr>
        <p:spPr>
          <a:xfrm>
            <a:off x="8352000" y="6308640"/>
            <a:ext cx="792000" cy="549360"/>
          </a:xfrm>
          <a:custGeom>
            <a:avLst/>
            <a:gdLst>
              <a:gd name="textAreaLeft" fmla="*/ 35280 w 792000"/>
              <a:gd name="textAreaRight" fmla="*/ 756720 w 792000"/>
              <a:gd name="textAreaTop" fmla="*/ 35280 h 549360"/>
              <a:gd name="textAreaBottom" fmla="*/ 514080 h 549360"/>
            </a:gdLst>
            <a:ahLst/>
            <a:rect l="textAreaLeft" t="textAreaTop" r="textAreaRight" b="textAreaBottom"/>
            <a:pathLst>
              <a:path w="31134" h="21600">
                <a:moveTo>
                  <a:pt x="0" y="0"/>
                </a:moveTo>
                <a:lnTo>
                  <a:pt x="31134" y="0"/>
                </a:lnTo>
                <a:lnTo>
                  <a:pt x="31134" y="21600"/>
                </a:lnTo>
                <a:lnTo>
                  <a:pt x="0" y="21600"/>
                </a:lnTo>
                <a:close/>
              </a:path>
              <a:path fill="lightenLess" w="31134" h="21600">
                <a:moveTo>
                  <a:pt x="0" y="0"/>
                </a:moveTo>
                <a:lnTo>
                  <a:pt x="31134" y="0"/>
                </a:lnTo>
                <a:lnTo>
                  <a:pt x="29734" y="1400"/>
                </a:lnTo>
                <a:lnTo>
                  <a:pt x="1400" y="1400"/>
                </a:lnTo>
                <a:close/>
              </a:path>
              <a:path fill="darken" w="31134" h="21600">
                <a:moveTo>
                  <a:pt x="31134" y="0"/>
                </a:moveTo>
                <a:lnTo>
                  <a:pt x="31134" y="21600"/>
                </a:lnTo>
                <a:lnTo>
                  <a:pt x="29734" y="20200"/>
                </a:lnTo>
                <a:lnTo>
                  <a:pt x="29734" y="1400"/>
                </a:lnTo>
                <a:close/>
              </a:path>
              <a:path fill="darkenLess" w="31134" h="21600">
                <a:moveTo>
                  <a:pt x="31134" y="21600"/>
                </a:moveTo>
                <a:lnTo>
                  <a:pt x="0" y="21600"/>
                </a:lnTo>
                <a:lnTo>
                  <a:pt x="1400" y="20200"/>
                </a:lnTo>
                <a:lnTo>
                  <a:pt x="29734" y="20200"/>
                </a:lnTo>
                <a:close/>
              </a:path>
              <a:path fill="lighten" w="31134" h="21600">
                <a:moveTo>
                  <a:pt x="0" y="21600"/>
                </a:moveTo>
                <a:lnTo>
                  <a:pt x="0" y="0"/>
                </a:lnTo>
                <a:lnTo>
                  <a:pt x="1400" y="1400"/>
                </a:lnTo>
                <a:lnTo>
                  <a:pt x="1400" y="20200"/>
                </a:lnTo>
                <a:close/>
              </a:path>
              <a:path fill="darken" w="31134" h="21600">
                <a:moveTo>
                  <a:pt x="12068" y="10800"/>
                </a:moveTo>
                <a:lnTo>
                  <a:pt x="22573" y="3794"/>
                </a:lnTo>
                <a:lnTo>
                  <a:pt x="22573" y="17806"/>
                </a:lnTo>
                <a:close/>
              </a:path>
              <a:path fill="darken" w="31134" h="21600">
                <a:moveTo>
                  <a:pt x="8561" y="3794"/>
                </a:moveTo>
                <a:lnTo>
                  <a:pt x="10223" y="3794"/>
                </a:lnTo>
                <a:lnTo>
                  <a:pt x="10223" y="17806"/>
                </a:lnTo>
                <a:lnTo>
                  <a:pt x="8561"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40" name="" descr="Картинка 19 из 1770">
            <a:hlinkClick r:id="rId1"/>
          </p:cNvPr>
          <p:cNvPicPr/>
          <p:nvPr/>
        </p:nvPicPr>
        <p:blipFill>
          <a:blip r:embed="rId2"/>
          <a:stretch/>
        </p:blipFill>
        <p:spPr>
          <a:xfrm>
            <a:off x="0" y="0"/>
            <a:ext cx="9144000" cy="6858000"/>
          </a:xfrm>
          <a:prstGeom prst="rect">
            <a:avLst/>
          </a:prstGeom>
          <a:ln w="0">
            <a:noFill/>
          </a:ln>
        </p:spPr>
      </p:pic>
      <p:sp>
        <p:nvSpPr>
          <p:cNvPr id="141" name="PlaceHolder 1"/>
          <p:cNvSpPr>
            <a:spLocks noGrp="1"/>
          </p:cNvSpPr>
          <p:nvPr>
            <p:ph type="title"/>
          </p:nvPr>
        </p:nvSpPr>
        <p:spPr>
          <a:xfrm>
            <a:off x="971280" y="0"/>
            <a:ext cx="77929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ВТОРОЙ  АГОН</a:t>
            </a:r>
            <a:endParaRPr b="0" lang="en-US" sz="6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ahoma"/>
              </a:rPr>
              <a:t>КОНКУРС</a:t>
            </a:r>
            <a:r>
              <a:rPr b="1" i="1" lang="en-US" sz="4400" spc="-1" strike="noStrike">
                <a:solidFill>
                  <a:srgbClr val="ffffff"/>
                </a:solidFill>
                <a:latin typeface="Tahoma"/>
              </a:rPr>
              <a:t>  </a:t>
            </a:r>
            <a:r>
              <a:rPr b="1" i="1" lang="en-US" sz="4400" spc="-1" strike="noStrike" u="sng">
                <a:solidFill>
                  <a:srgbClr val="ffffff"/>
                </a:solidFill>
                <a:uFillTx/>
                <a:latin typeface="Tahoma"/>
              </a:rPr>
              <a:t>РУССКОГО  ЯЗЫКА</a:t>
            </a:r>
            <a:endParaRPr b="0" lang="en-US" sz="4400" spc="-1" strike="noStrike">
              <a:solidFill>
                <a:srgbClr val="ffffcc"/>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верху,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двоём,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скоре,</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троём,</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переди,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низу,</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из-далек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КЛЮЧЕВЫ СЛОВА</a:t>
            </a:r>
            <a:br>
              <a:rPr sz="4400"/>
            </a:br>
            <a:r>
              <a:rPr b="1" lang="en-US" sz="4400" spc="-1" strike="noStrike" u="sng">
                <a:solidFill>
                  <a:srgbClr val="ffffff"/>
                </a:solidFill>
                <a:uFillTx/>
                <a:latin typeface="Tahoma"/>
              </a:rPr>
              <a:t> 2 АГОНА</a:t>
            </a:r>
            <a:endParaRPr b="0" lang="en-US" sz="4400" spc="-1" strike="noStrike">
              <a:solidFill>
                <a:srgbClr val="ffffcc"/>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1" action="ppaction://hlinksldjump"/>
              </a:rPr>
              <a:t>«глав»</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2" action="ppaction://hlinksldjump"/>
              </a:rPr>
              <a:t>«Российская Федерация»</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3" action="ppaction://hlinksldjump"/>
              </a:rPr>
              <a:t>«равнозначны» </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4" action="ppaction://hlinksldjump"/>
              </a:rPr>
              <a:t>«палата» </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депутаты» </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рок» </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главнокомандующий» </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язык»</a:t>
            </a:r>
            <a:endParaRPr b="0" lang="en-US" sz="3200" spc="-1" strike="noStrike">
              <a:solidFill>
                <a:srgbClr val="ffffff"/>
              </a:solidFill>
              <a:latin typeface="Tahoma"/>
            </a:endParaRPr>
          </a:p>
          <a:p>
            <a:pPr marL="301680" indent="-30168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более двух»</a:t>
            </a:r>
            <a:endParaRPr b="0" lang="en-US" sz="3200" spc="-1" strike="noStrike">
              <a:solidFill>
                <a:srgbClr val="ffffff"/>
              </a:solidFill>
              <a:latin typeface="Tahoma"/>
            </a:endParaRPr>
          </a:p>
        </p:txBody>
      </p:sp>
      <p:sp>
        <p:nvSpPr>
          <p:cNvPr id="146" name="">
            <a:hlinkClick r:id="rId5" action="ppaction://hlinksldjump"/>
          </p:cNvPr>
          <p:cNvSpPr/>
          <p:nvPr/>
        </p:nvSpPr>
        <p:spPr>
          <a:xfrm>
            <a:off x="8317080" y="6308640"/>
            <a:ext cx="826920" cy="549360"/>
          </a:xfrm>
          <a:custGeom>
            <a:avLst/>
            <a:gdLst>
              <a:gd name="textAreaLeft" fmla="*/ 35280 w 826920"/>
              <a:gd name="textAreaRight" fmla="*/ 791640 w 826920"/>
              <a:gd name="textAreaTop" fmla="*/ 35280 h 549360"/>
              <a:gd name="textAreaBottom" fmla="*/ 514080 h 549360"/>
            </a:gdLst>
            <a:ahLst/>
            <a:rect l="textAreaLeft" t="textAreaTop" r="textAreaRight" b="textAreaBottom"/>
            <a:pathLst>
              <a:path w="32506" h="21600">
                <a:moveTo>
                  <a:pt x="0" y="0"/>
                </a:moveTo>
                <a:lnTo>
                  <a:pt x="32506" y="0"/>
                </a:lnTo>
                <a:lnTo>
                  <a:pt x="32506" y="21600"/>
                </a:lnTo>
                <a:lnTo>
                  <a:pt x="0" y="21600"/>
                </a:lnTo>
                <a:close/>
              </a:path>
              <a:path fill="lightenLess" w="32506" h="21600">
                <a:moveTo>
                  <a:pt x="0" y="0"/>
                </a:moveTo>
                <a:lnTo>
                  <a:pt x="32506" y="0"/>
                </a:lnTo>
                <a:lnTo>
                  <a:pt x="31106" y="1400"/>
                </a:lnTo>
                <a:lnTo>
                  <a:pt x="1400" y="1400"/>
                </a:lnTo>
                <a:close/>
              </a:path>
              <a:path fill="darken" w="32506" h="21600">
                <a:moveTo>
                  <a:pt x="32506" y="0"/>
                </a:moveTo>
                <a:lnTo>
                  <a:pt x="32506" y="21600"/>
                </a:lnTo>
                <a:lnTo>
                  <a:pt x="31106" y="20200"/>
                </a:lnTo>
                <a:lnTo>
                  <a:pt x="31106" y="1400"/>
                </a:lnTo>
                <a:close/>
              </a:path>
              <a:path fill="darkenLess" w="32506" h="21600">
                <a:moveTo>
                  <a:pt x="32506" y="21600"/>
                </a:moveTo>
                <a:lnTo>
                  <a:pt x="0" y="21600"/>
                </a:lnTo>
                <a:lnTo>
                  <a:pt x="1400" y="20200"/>
                </a:lnTo>
                <a:lnTo>
                  <a:pt x="31106" y="20200"/>
                </a:lnTo>
                <a:close/>
              </a:path>
              <a:path fill="lighten" w="32506" h="21600">
                <a:moveTo>
                  <a:pt x="0" y="21600"/>
                </a:moveTo>
                <a:lnTo>
                  <a:pt x="0" y="0"/>
                </a:lnTo>
                <a:lnTo>
                  <a:pt x="1400" y="1400"/>
                </a:lnTo>
                <a:lnTo>
                  <a:pt x="1400" y="20200"/>
                </a:lnTo>
                <a:close/>
              </a:path>
              <a:path fill="darken" w="32506" h="21600">
                <a:moveTo>
                  <a:pt x="9247" y="3794"/>
                </a:moveTo>
                <a:lnTo>
                  <a:pt x="23260" y="10800"/>
                </a:lnTo>
                <a:lnTo>
                  <a:pt x="9247"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скольких глав состоит 1 раздел Конституции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
            <a:hlinkClick r:id="rId1" action="ppaction://hlinksldjump"/>
          </p:cNvPr>
          <p:cNvSpPr/>
          <p:nvPr/>
        </p:nvSpPr>
        <p:spPr>
          <a:xfrm>
            <a:off x="8352000" y="6165720"/>
            <a:ext cx="792000" cy="692280"/>
          </a:xfrm>
          <a:custGeom>
            <a:avLst/>
            <a:gdLst>
              <a:gd name="textAreaLeft" fmla="*/ 44640 w 792000"/>
              <a:gd name="textAreaRight" fmla="*/ 747360 w 792000"/>
              <a:gd name="textAreaTop" fmla="*/ 44640 h 692280"/>
              <a:gd name="textAreaBottom" fmla="*/ 647640 h 692280"/>
            </a:gdLst>
            <a:ahLst/>
            <a:rect l="textAreaLeft" t="textAreaTop" r="textAreaRight" b="textAreaBottom"/>
            <a:pathLst>
              <a:path w="24710" h="21600">
                <a:moveTo>
                  <a:pt x="0" y="0"/>
                </a:moveTo>
                <a:lnTo>
                  <a:pt x="24710" y="0"/>
                </a:lnTo>
                <a:lnTo>
                  <a:pt x="24710" y="21600"/>
                </a:lnTo>
                <a:lnTo>
                  <a:pt x="0" y="21600"/>
                </a:lnTo>
                <a:close/>
              </a:path>
              <a:path fill="lightenLess" w="24710" h="21600">
                <a:moveTo>
                  <a:pt x="0" y="0"/>
                </a:moveTo>
                <a:lnTo>
                  <a:pt x="24710" y="0"/>
                </a:lnTo>
                <a:lnTo>
                  <a:pt x="23310" y="1400"/>
                </a:lnTo>
                <a:lnTo>
                  <a:pt x="1400" y="1400"/>
                </a:lnTo>
                <a:close/>
              </a:path>
              <a:path fill="darken" w="24710" h="21600">
                <a:moveTo>
                  <a:pt x="24710" y="0"/>
                </a:moveTo>
                <a:lnTo>
                  <a:pt x="24710" y="21600"/>
                </a:lnTo>
                <a:lnTo>
                  <a:pt x="23310" y="20200"/>
                </a:lnTo>
                <a:lnTo>
                  <a:pt x="23310" y="1400"/>
                </a:lnTo>
                <a:close/>
              </a:path>
              <a:path fill="darkenLess" w="24710" h="21600">
                <a:moveTo>
                  <a:pt x="24710" y="21600"/>
                </a:moveTo>
                <a:lnTo>
                  <a:pt x="0" y="21600"/>
                </a:lnTo>
                <a:lnTo>
                  <a:pt x="1400" y="20200"/>
                </a:lnTo>
                <a:lnTo>
                  <a:pt x="23310" y="20200"/>
                </a:lnTo>
                <a:close/>
              </a:path>
              <a:path fill="lighten" w="24710" h="21600">
                <a:moveTo>
                  <a:pt x="0" y="21600"/>
                </a:moveTo>
                <a:lnTo>
                  <a:pt x="0" y="0"/>
                </a:lnTo>
                <a:lnTo>
                  <a:pt x="1400" y="1400"/>
                </a:lnTo>
                <a:lnTo>
                  <a:pt x="1400" y="20200"/>
                </a:lnTo>
                <a:close/>
              </a:path>
              <a:path fill="darken" w="24710" h="21600">
                <a:moveTo>
                  <a:pt x="8856" y="10800"/>
                </a:moveTo>
                <a:lnTo>
                  <a:pt x="19361" y="3794"/>
                </a:lnTo>
                <a:lnTo>
                  <a:pt x="19361" y="17806"/>
                </a:lnTo>
                <a:close/>
              </a:path>
              <a:path fill="darken" w="24710" h="21600">
                <a:moveTo>
                  <a:pt x="5348" y="3794"/>
                </a:moveTo>
                <a:lnTo>
                  <a:pt x="7011" y="3794"/>
                </a:lnTo>
                <a:lnTo>
                  <a:pt x="7011" y="17806"/>
                </a:lnTo>
                <a:lnTo>
                  <a:pt x="5348"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0" name="" descr=""/>
          <p:cNvPicPr/>
          <p:nvPr/>
        </p:nvPicPr>
        <p:blipFill>
          <a:blip r:embed="rId2"/>
          <a:stretch/>
        </p:blipFill>
        <p:spPr>
          <a:xfrm>
            <a:off x="3851280" y="260280"/>
            <a:ext cx="4389480" cy="633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одолжите фразу, с которой начинается Глава 1 статья 1 пункт 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Конституции Р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076360" y="2017800"/>
            <a:ext cx="38782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оссия есть демократическое федеративное правовое государство с республиканской формой правлени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
            <a:hlinkClick r:id="rId1" action="ppaction://hlinksldjump"/>
          </p:cNvPr>
          <p:cNvSpPr/>
          <p:nvPr/>
        </p:nvSpPr>
        <p:spPr>
          <a:xfrm>
            <a:off x="838836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11354" y="10800"/>
                </a:moveTo>
                <a:lnTo>
                  <a:pt x="21859" y="3794"/>
                </a:lnTo>
                <a:lnTo>
                  <a:pt x="21859" y="17806"/>
                </a:lnTo>
                <a:close/>
              </a:path>
              <a:path fill="darken" w="29705" h="21600">
                <a:moveTo>
                  <a:pt x="7846" y="3794"/>
                </a:moveTo>
                <a:lnTo>
                  <a:pt x="9509" y="3794"/>
                </a:lnTo>
                <a:lnTo>
                  <a:pt x="9509" y="17806"/>
                </a:lnTo>
                <a:lnTo>
                  <a:pt x="7846"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2"/>
          <a:srcRect l="0" t="27896" r="49086" b="16246"/>
          <a:stretch/>
        </p:blipFill>
        <p:spPr>
          <a:xfrm>
            <a:off x="324000" y="333360"/>
            <a:ext cx="5040000" cy="397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ahoma"/>
              </a:rPr>
              <a:t>КОНКУРС</a:t>
            </a:r>
            <a:r>
              <a:rPr b="1" i="1" lang="en-US" sz="4400" spc="-1" strike="noStrike">
                <a:solidFill>
                  <a:srgbClr val="ffffff"/>
                </a:solidFill>
                <a:latin typeface="Tahoma"/>
              </a:rPr>
              <a:t>  </a:t>
            </a:r>
            <a:r>
              <a:rPr b="1" i="1" lang="en-US" sz="4400" spc="-1" strike="noStrike" u="sng">
                <a:solidFill>
                  <a:srgbClr val="ffffff"/>
                </a:solidFill>
                <a:uFillTx/>
                <a:latin typeface="Tahoma"/>
              </a:rPr>
              <a:t>РУССКОГО  ЯЗЫКА</a:t>
            </a:r>
            <a:endParaRPr b="0" lang="en-US" sz="4400" spc="-1" strike="noStrike">
              <a:solidFill>
                <a:srgbClr val="ffffcc"/>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веация,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толог,</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лона,</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лонада,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овесник,</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миссия,</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ртилер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авнозначны ли наименования : Российская Федерация и Росси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а</a:t>
            </a:r>
            <a:endParaRPr b="0" lang="en-US" sz="3200" spc="-1" strike="noStrike">
              <a:solidFill>
                <a:srgbClr val="ffffff"/>
              </a:solidFill>
              <a:latin typeface="Tahoma"/>
            </a:endParaRPr>
          </a:p>
        </p:txBody>
      </p:sp>
      <p:sp>
        <p:nvSpPr>
          <p:cNvPr id="157" name="">
            <a:hlinkClick r:id="rId1" action="ppaction://hlinksldjump"/>
          </p:cNvPr>
          <p:cNvSpPr/>
          <p:nvPr/>
        </p:nvSpPr>
        <p:spPr>
          <a:xfrm>
            <a:off x="8317080" y="6308640"/>
            <a:ext cx="826920" cy="549360"/>
          </a:xfrm>
          <a:custGeom>
            <a:avLst/>
            <a:gdLst>
              <a:gd name="textAreaLeft" fmla="*/ 35280 w 826920"/>
              <a:gd name="textAreaRight" fmla="*/ 791640 w 826920"/>
              <a:gd name="textAreaTop" fmla="*/ 35280 h 549360"/>
              <a:gd name="textAreaBottom" fmla="*/ 514080 h 549360"/>
            </a:gdLst>
            <a:ahLst/>
            <a:rect l="textAreaLeft" t="textAreaTop" r="textAreaRight" b="textAreaBottom"/>
            <a:pathLst>
              <a:path w="32506" h="21600">
                <a:moveTo>
                  <a:pt x="0" y="0"/>
                </a:moveTo>
                <a:lnTo>
                  <a:pt x="32506" y="0"/>
                </a:lnTo>
                <a:lnTo>
                  <a:pt x="32506" y="21600"/>
                </a:lnTo>
                <a:lnTo>
                  <a:pt x="0" y="21600"/>
                </a:lnTo>
                <a:close/>
              </a:path>
              <a:path fill="lightenLess" w="32506" h="21600">
                <a:moveTo>
                  <a:pt x="0" y="0"/>
                </a:moveTo>
                <a:lnTo>
                  <a:pt x="32506" y="0"/>
                </a:lnTo>
                <a:lnTo>
                  <a:pt x="31106" y="1400"/>
                </a:lnTo>
                <a:lnTo>
                  <a:pt x="1400" y="1400"/>
                </a:lnTo>
                <a:close/>
              </a:path>
              <a:path fill="darken" w="32506" h="21600">
                <a:moveTo>
                  <a:pt x="32506" y="0"/>
                </a:moveTo>
                <a:lnTo>
                  <a:pt x="32506" y="21600"/>
                </a:lnTo>
                <a:lnTo>
                  <a:pt x="31106" y="20200"/>
                </a:lnTo>
                <a:lnTo>
                  <a:pt x="31106" y="1400"/>
                </a:lnTo>
                <a:close/>
              </a:path>
              <a:path fill="darkenLess" w="32506" h="21600">
                <a:moveTo>
                  <a:pt x="32506" y="21600"/>
                </a:moveTo>
                <a:lnTo>
                  <a:pt x="0" y="21600"/>
                </a:lnTo>
                <a:lnTo>
                  <a:pt x="1400" y="20200"/>
                </a:lnTo>
                <a:lnTo>
                  <a:pt x="31106" y="20200"/>
                </a:lnTo>
                <a:close/>
              </a:path>
              <a:path fill="lighten" w="32506" h="21600">
                <a:moveTo>
                  <a:pt x="0" y="21600"/>
                </a:moveTo>
                <a:lnTo>
                  <a:pt x="0" y="0"/>
                </a:lnTo>
                <a:lnTo>
                  <a:pt x="1400" y="1400"/>
                </a:lnTo>
                <a:lnTo>
                  <a:pt x="1400" y="20200"/>
                </a:lnTo>
                <a:close/>
              </a:path>
              <a:path fill="darken" w="32506" h="21600">
                <a:moveTo>
                  <a:pt x="12754" y="10800"/>
                </a:moveTo>
                <a:lnTo>
                  <a:pt x="23260" y="3794"/>
                </a:lnTo>
                <a:lnTo>
                  <a:pt x="23260" y="17806"/>
                </a:lnTo>
                <a:close/>
              </a:path>
              <a:path fill="darken" w="32506" h="21600">
                <a:moveTo>
                  <a:pt x="9247" y="3794"/>
                </a:moveTo>
                <a:lnTo>
                  <a:pt x="10909" y="3794"/>
                </a:lnTo>
                <a:lnTo>
                  <a:pt x="10909" y="17806"/>
                </a:lnTo>
                <a:lnTo>
                  <a:pt x="9247"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скольких палат состоит Федеральное Собрание? Назовите 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371600" y="333360"/>
            <a:ext cx="7772400" cy="1698480"/>
          </a:xfrm>
          <a:prstGeom prst="rect">
            <a:avLst/>
          </a:prstGeom>
          <a:noFill/>
          <a:ln w="0">
            <a:noFill/>
          </a:ln>
        </p:spPr>
        <p:txBody>
          <a:bodyPr lIns="90000" rIns="90000" tIns="46800" bIns="46800"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Совет Федерации и Государственная Дума.</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
            <a:hlinkClick r:id="rId1" action="ppaction://hlinksldjump"/>
          </p:cNvPr>
          <p:cNvSpPr/>
          <p:nvPr/>
        </p:nvSpPr>
        <p:spPr>
          <a:xfrm>
            <a:off x="8388360" y="6237360"/>
            <a:ext cx="755640" cy="620640"/>
          </a:xfrm>
          <a:custGeom>
            <a:avLst/>
            <a:gdLst>
              <a:gd name="textAreaLeft" fmla="*/ 39960 w 755640"/>
              <a:gd name="textAreaRight" fmla="*/ 715680 w 755640"/>
              <a:gd name="textAreaTop" fmla="*/ 39960 h 620640"/>
              <a:gd name="textAreaBottom" fmla="*/ 580680 h 620640"/>
            </a:gdLst>
            <a:ahLst/>
            <a:rect l="textAreaLeft" t="textAreaTop" r="textAreaRight" b="textAreaBottom"/>
            <a:pathLst>
              <a:path w="26296" h="21600">
                <a:moveTo>
                  <a:pt x="0" y="0"/>
                </a:moveTo>
                <a:lnTo>
                  <a:pt x="26296" y="0"/>
                </a:lnTo>
                <a:lnTo>
                  <a:pt x="26296" y="21600"/>
                </a:lnTo>
                <a:lnTo>
                  <a:pt x="0" y="21600"/>
                </a:lnTo>
                <a:close/>
              </a:path>
              <a:path fill="lightenLess" w="26296" h="21600">
                <a:moveTo>
                  <a:pt x="0" y="0"/>
                </a:moveTo>
                <a:lnTo>
                  <a:pt x="26296" y="0"/>
                </a:lnTo>
                <a:lnTo>
                  <a:pt x="24896" y="1400"/>
                </a:lnTo>
                <a:lnTo>
                  <a:pt x="1400" y="1400"/>
                </a:lnTo>
                <a:close/>
              </a:path>
              <a:path fill="darken" w="26296" h="21600">
                <a:moveTo>
                  <a:pt x="26296" y="0"/>
                </a:moveTo>
                <a:lnTo>
                  <a:pt x="26296" y="21600"/>
                </a:lnTo>
                <a:lnTo>
                  <a:pt x="24896" y="20200"/>
                </a:lnTo>
                <a:lnTo>
                  <a:pt x="24896" y="1400"/>
                </a:lnTo>
                <a:close/>
              </a:path>
              <a:path fill="darkenLess" w="26296" h="21600">
                <a:moveTo>
                  <a:pt x="26296" y="21600"/>
                </a:moveTo>
                <a:lnTo>
                  <a:pt x="0" y="21600"/>
                </a:lnTo>
                <a:lnTo>
                  <a:pt x="1400" y="20200"/>
                </a:lnTo>
                <a:lnTo>
                  <a:pt x="24896" y="20200"/>
                </a:lnTo>
                <a:close/>
              </a:path>
              <a:path fill="lighten" w="26296" h="21600">
                <a:moveTo>
                  <a:pt x="0" y="21600"/>
                </a:moveTo>
                <a:lnTo>
                  <a:pt x="0" y="0"/>
                </a:lnTo>
                <a:lnTo>
                  <a:pt x="1400" y="1400"/>
                </a:lnTo>
                <a:lnTo>
                  <a:pt x="1400" y="20200"/>
                </a:lnTo>
                <a:close/>
              </a:path>
              <a:path fill="darken" w="26296" h="21600">
                <a:moveTo>
                  <a:pt x="9649" y="10800"/>
                </a:moveTo>
                <a:lnTo>
                  <a:pt x="20154" y="3794"/>
                </a:lnTo>
                <a:lnTo>
                  <a:pt x="20154" y="17806"/>
                </a:lnTo>
                <a:close/>
              </a:path>
              <a:path fill="darken" w="26296" h="21600">
                <a:moveTo>
                  <a:pt x="6141" y="3794"/>
                </a:moveTo>
                <a:lnTo>
                  <a:pt x="7804" y="3794"/>
                </a:lnTo>
                <a:lnTo>
                  <a:pt x="7804" y="17806"/>
                </a:lnTo>
                <a:lnTo>
                  <a:pt x="6141"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1" name="" descr=""/>
          <p:cNvPicPr/>
          <p:nvPr/>
        </p:nvPicPr>
        <p:blipFill>
          <a:blip r:embed="rId2"/>
          <a:stretch/>
        </p:blipFill>
        <p:spPr>
          <a:xfrm>
            <a:off x="324000" y="2060640"/>
            <a:ext cx="4700520" cy="3522600"/>
          </a:xfrm>
          <a:prstGeom prst="rect">
            <a:avLst/>
          </a:prstGeom>
          <a:ln w="0">
            <a:noFill/>
          </a:ln>
        </p:spPr>
      </p:pic>
      <p:pic>
        <p:nvPicPr>
          <p:cNvPr id="162" name="" descr=""/>
          <p:cNvPicPr/>
          <p:nvPr/>
        </p:nvPicPr>
        <p:blipFill>
          <a:blip r:embed="rId3"/>
          <a:stretch/>
        </p:blipFill>
        <p:spPr>
          <a:xfrm>
            <a:off x="5137200" y="1989000"/>
            <a:ext cx="4006800" cy="400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колько депутатов входят в Государственную думу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24000" y="-360"/>
            <a:ext cx="1228680" cy="76356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0</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
            <a:hlinkClick r:id="rId1" action="ppaction://hlinksldjump"/>
          </p:cNvPr>
          <p:cNvSpPr/>
          <p:nvPr/>
        </p:nvSpPr>
        <p:spPr>
          <a:xfrm>
            <a:off x="8388360" y="6165720"/>
            <a:ext cx="755640" cy="692280"/>
          </a:xfrm>
          <a:custGeom>
            <a:avLst/>
            <a:gdLst>
              <a:gd name="textAreaLeft" fmla="*/ 44640 w 755640"/>
              <a:gd name="textAreaRight" fmla="*/ 711000 w 755640"/>
              <a:gd name="textAreaTop" fmla="*/ 44640 h 692280"/>
              <a:gd name="textAreaBottom" fmla="*/ 647640 h 692280"/>
            </a:gdLst>
            <a:ahLst/>
            <a:rect l="textAreaLeft" t="textAreaTop" r="textAreaRight" b="textAreaBottom"/>
            <a:pathLst>
              <a:path w="23576" h="21600">
                <a:moveTo>
                  <a:pt x="0" y="0"/>
                </a:moveTo>
                <a:lnTo>
                  <a:pt x="23576" y="0"/>
                </a:lnTo>
                <a:lnTo>
                  <a:pt x="23576" y="21600"/>
                </a:lnTo>
                <a:lnTo>
                  <a:pt x="0" y="21600"/>
                </a:lnTo>
                <a:close/>
              </a:path>
              <a:path fill="lightenLess" w="23576" h="21600">
                <a:moveTo>
                  <a:pt x="0" y="0"/>
                </a:moveTo>
                <a:lnTo>
                  <a:pt x="23576" y="0"/>
                </a:lnTo>
                <a:lnTo>
                  <a:pt x="22176" y="1400"/>
                </a:lnTo>
                <a:lnTo>
                  <a:pt x="1400" y="1400"/>
                </a:lnTo>
                <a:close/>
              </a:path>
              <a:path fill="darken" w="23576" h="21600">
                <a:moveTo>
                  <a:pt x="23576" y="0"/>
                </a:moveTo>
                <a:lnTo>
                  <a:pt x="23576" y="21600"/>
                </a:lnTo>
                <a:lnTo>
                  <a:pt x="22176" y="20200"/>
                </a:lnTo>
                <a:lnTo>
                  <a:pt x="22176" y="1400"/>
                </a:lnTo>
                <a:close/>
              </a:path>
              <a:path fill="darkenLess" w="23576" h="21600">
                <a:moveTo>
                  <a:pt x="23576" y="21600"/>
                </a:moveTo>
                <a:lnTo>
                  <a:pt x="0" y="21600"/>
                </a:lnTo>
                <a:lnTo>
                  <a:pt x="1400" y="20200"/>
                </a:lnTo>
                <a:lnTo>
                  <a:pt x="22176" y="20200"/>
                </a:lnTo>
                <a:close/>
              </a:path>
              <a:path fill="lighten" w="23576" h="21600">
                <a:moveTo>
                  <a:pt x="0" y="21600"/>
                </a:moveTo>
                <a:lnTo>
                  <a:pt x="0" y="0"/>
                </a:lnTo>
                <a:lnTo>
                  <a:pt x="1400" y="1400"/>
                </a:lnTo>
                <a:lnTo>
                  <a:pt x="1400" y="20200"/>
                </a:lnTo>
                <a:close/>
              </a:path>
              <a:path fill="darken" w="23576" h="21600">
                <a:moveTo>
                  <a:pt x="8289" y="10800"/>
                </a:moveTo>
                <a:lnTo>
                  <a:pt x="18794" y="3794"/>
                </a:lnTo>
                <a:lnTo>
                  <a:pt x="18794" y="17806"/>
                </a:lnTo>
                <a:close/>
              </a:path>
              <a:path fill="darken" w="23576" h="21600">
                <a:moveTo>
                  <a:pt x="4781" y="3794"/>
                </a:moveTo>
                <a:lnTo>
                  <a:pt x="6444" y="3794"/>
                </a:lnTo>
                <a:lnTo>
                  <a:pt x="6444" y="17806"/>
                </a:lnTo>
                <a:lnTo>
                  <a:pt x="4781"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 name="" descr=""/>
          <p:cNvPicPr/>
          <p:nvPr/>
        </p:nvPicPr>
        <p:blipFill>
          <a:blip r:embed="rId2"/>
          <a:srcRect l="3248" t="2698" r="2464" b="3062"/>
          <a:stretch/>
        </p:blipFill>
        <p:spPr>
          <a:xfrm>
            <a:off x="0" y="765000"/>
            <a:ext cx="8317080" cy="580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16000" y="333360"/>
            <a:ext cx="7772400" cy="1295280"/>
          </a:xfrm>
          <a:prstGeom prst="rect">
            <a:avLst/>
          </a:prstGeom>
          <a:noFill/>
          <a:ln w="0">
            <a:noFill/>
          </a:ln>
        </p:spPr>
        <p:txBody>
          <a:bodyPr lIns="90000" rIns="90000" tIns="46800" bIns="46800"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 какой срок избирается Государственная Дума? </a:t>
            </a:r>
            <a:endParaRPr b="0" lang="en-US" sz="3200" spc="-1" strike="noStrike">
              <a:solidFill>
                <a:srgbClr val="ffffff"/>
              </a:solidFill>
              <a:latin typeface="Tahoma"/>
            </a:endParaRPr>
          </a:p>
        </p:txBody>
      </p:sp>
      <p:pic>
        <p:nvPicPr>
          <p:cNvPr id="168" name="" descr=""/>
          <p:cNvPicPr/>
          <p:nvPr/>
        </p:nvPicPr>
        <p:blipFill>
          <a:blip r:embed="rId1"/>
          <a:stretch/>
        </p:blipFill>
        <p:spPr>
          <a:xfrm>
            <a:off x="1763640" y="2708280"/>
            <a:ext cx="6096240" cy="34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 5 лет</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
            <a:hlinkClick r:id="rId1" action="ppaction://hlinksldjump"/>
          </p:cNvPr>
          <p:cNvSpPr/>
          <p:nvPr/>
        </p:nvSpPr>
        <p:spPr>
          <a:xfrm>
            <a:off x="838836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11354" y="10800"/>
                </a:moveTo>
                <a:lnTo>
                  <a:pt x="21859" y="3794"/>
                </a:lnTo>
                <a:lnTo>
                  <a:pt x="21859" y="17806"/>
                </a:lnTo>
                <a:close/>
              </a:path>
              <a:path fill="darken" w="29705" h="21600">
                <a:moveTo>
                  <a:pt x="7846" y="3794"/>
                </a:moveTo>
                <a:lnTo>
                  <a:pt x="9509" y="3794"/>
                </a:lnTo>
                <a:lnTo>
                  <a:pt x="9509" y="17806"/>
                </a:lnTo>
                <a:lnTo>
                  <a:pt x="7846"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то является Верховным Главнокомандующим Вооружёнными силами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езидент</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
            <a:hlinkClick r:id="rId1" action="ppaction://hlinksldjump"/>
          </p:cNvPr>
          <p:cNvSpPr/>
          <p:nvPr/>
        </p:nvSpPr>
        <p:spPr>
          <a:xfrm>
            <a:off x="8317080" y="6308640"/>
            <a:ext cx="826920" cy="549360"/>
          </a:xfrm>
          <a:custGeom>
            <a:avLst/>
            <a:gdLst>
              <a:gd name="textAreaLeft" fmla="*/ 35280 w 826920"/>
              <a:gd name="textAreaRight" fmla="*/ 791640 w 826920"/>
              <a:gd name="textAreaTop" fmla="*/ 35280 h 549360"/>
              <a:gd name="textAreaBottom" fmla="*/ 514080 h 549360"/>
            </a:gdLst>
            <a:ahLst/>
            <a:rect l="textAreaLeft" t="textAreaTop" r="textAreaRight" b="textAreaBottom"/>
            <a:pathLst>
              <a:path w="32506" h="21600">
                <a:moveTo>
                  <a:pt x="0" y="0"/>
                </a:moveTo>
                <a:lnTo>
                  <a:pt x="32506" y="0"/>
                </a:lnTo>
                <a:lnTo>
                  <a:pt x="32506" y="21600"/>
                </a:lnTo>
                <a:lnTo>
                  <a:pt x="0" y="21600"/>
                </a:lnTo>
                <a:close/>
              </a:path>
              <a:path fill="lightenLess" w="32506" h="21600">
                <a:moveTo>
                  <a:pt x="0" y="0"/>
                </a:moveTo>
                <a:lnTo>
                  <a:pt x="32506" y="0"/>
                </a:lnTo>
                <a:lnTo>
                  <a:pt x="31106" y="1400"/>
                </a:lnTo>
                <a:lnTo>
                  <a:pt x="1400" y="1400"/>
                </a:lnTo>
                <a:close/>
              </a:path>
              <a:path fill="darken" w="32506" h="21600">
                <a:moveTo>
                  <a:pt x="32506" y="0"/>
                </a:moveTo>
                <a:lnTo>
                  <a:pt x="32506" y="21600"/>
                </a:lnTo>
                <a:lnTo>
                  <a:pt x="31106" y="20200"/>
                </a:lnTo>
                <a:lnTo>
                  <a:pt x="31106" y="1400"/>
                </a:lnTo>
                <a:close/>
              </a:path>
              <a:path fill="darkenLess" w="32506" h="21600">
                <a:moveTo>
                  <a:pt x="32506" y="21600"/>
                </a:moveTo>
                <a:lnTo>
                  <a:pt x="0" y="21600"/>
                </a:lnTo>
                <a:lnTo>
                  <a:pt x="1400" y="20200"/>
                </a:lnTo>
                <a:lnTo>
                  <a:pt x="31106" y="20200"/>
                </a:lnTo>
                <a:close/>
              </a:path>
              <a:path fill="lighten" w="32506" h="21600">
                <a:moveTo>
                  <a:pt x="0" y="21600"/>
                </a:moveTo>
                <a:lnTo>
                  <a:pt x="0" y="0"/>
                </a:lnTo>
                <a:lnTo>
                  <a:pt x="1400" y="1400"/>
                </a:lnTo>
                <a:lnTo>
                  <a:pt x="1400" y="20200"/>
                </a:lnTo>
                <a:close/>
              </a:path>
              <a:path fill="darken" w="32506" h="21600">
                <a:moveTo>
                  <a:pt x="12754" y="10800"/>
                </a:moveTo>
                <a:lnTo>
                  <a:pt x="23260" y="3794"/>
                </a:lnTo>
                <a:lnTo>
                  <a:pt x="23260" y="17806"/>
                </a:lnTo>
                <a:close/>
              </a:path>
              <a:path fill="darken" w="32506" h="21600">
                <a:moveTo>
                  <a:pt x="9247" y="3794"/>
                </a:moveTo>
                <a:lnTo>
                  <a:pt x="10909" y="3794"/>
                </a:lnTo>
                <a:lnTo>
                  <a:pt x="10909" y="17806"/>
                </a:lnTo>
                <a:lnTo>
                  <a:pt x="9247"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КЛЮЧЕВЫ СЛОВА</a:t>
            </a:r>
            <a:br>
              <a:rPr sz="4400"/>
            </a:br>
            <a:r>
              <a:rPr b="1" lang="en-US" sz="4400" spc="-1" strike="noStrike" u="sng">
                <a:solidFill>
                  <a:srgbClr val="ffffff"/>
                </a:solidFill>
                <a:uFillTx/>
                <a:latin typeface="Tahoma"/>
              </a:rPr>
              <a:t> 1 АГОНА</a:t>
            </a:r>
            <a:endParaRPr b="0" lang="en-US" sz="4400" spc="-1" strike="noStrike">
              <a:solidFill>
                <a:srgbClr val="ffffcc"/>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1" action="ppaction://hlinksldjump"/>
              </a:rPr>
              <a:t>«Статья»</a:t>
            </a:r>
            <a:r>
              <a:rPr b="0" lang="en-US" sz="3200" spc="-1" strike="noStrike" u="sng">
                <a:solidFill>
                  <a:srgbClr val="ff3399"/>
                </a:solidFill>
                <a:uFillTx/>
                <a:latin typeface="Tahoma"/>
                <a:hlinkClick r:id="rId2" action="ppaction://hlinksldjump"/>
              </a:rPr>
              <a:t> </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3" action="ppaction://hlinksldjump"/>
              </a:rPr>
              <a:t>«принята»</a:t>
            </a:r>
            <a:r>
              <a:rPr b="0" lang="en-US" sz="3200" spc="-1" strike="noStrike" u="sng">
                <a:solidFill>
                  <a:srgbClr val="ff3399"/>
                </a:solidFill>
                <a:uFillTx/>
                <a:latin typeface="Tahoma"/>
                <a:hlinkClick r:id="rId4" action="ppaction://hlinksldjump"/>
              </a:rPr>
              <a:t> </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5" action="ppaction://hlinksldjump"/>
              </a:rPr>
              <a:t>«кем»</a:t>
            </a:r>
            <a:r>
              <a:rPr b="0" lang="en-US" sz="3200" spc="-1" strike="noStrike" u="sng">
                <a:solidFill>
                  <a:srgbClr val="ff3399"/>
                </a:solidFill>
                <a:uFillTx/>
                <a:latin typeface="Tahoma"/>
                <a:hlinkClick r:id="rId6" action="ppaction://hlinksldjump"/>
              </a:rPr>
              <a:t> </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7" action="ppaction://hlinksldjump"/>
              </a:rPr>
              <a:t>«раздел»</a:t>
            </a:r>
            <a:r>
              <a:rPr b="0" lang="en-US" sz="3200" spc="-1" strike="noStrike" u="sng">
                <a:solidFill>
                  <a:srgbClr val="ff3399"/>
                </a:solidFill>
                <a:uFillTx/>
                <a:latin typeface="Tahoma"/>
                <a:hlinkClick r:id="rId8" action="ppaction://hlinksldjump"/>
              </a:rPr>
              <a:t>  </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9" action="ppaction://hlinksldjump"/>
              </a:rPr>
              <a:t>«власть» </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10" action="ppaction://hlinksldjump"/>
              </a:rPr>
              <a:t>«субъект»</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3399"/>
                </a:solidFill>
                <a:uFillTx/>
                <a:latin typeface="Tahoma"/>
                <a:hlinkClick r:id="rId11" action="ppaction://hlinksldjump"/>
              </a:rPr>
              <a:t>«ветви»</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3399"/>
                </a:solidFill>
                <a:uFillTx/>
                <a:latin typeface="Tahoma"/>
                <a:hlinkClick r:id="rId12" action="ppaction://hlinksldjump"/>
              </a:rPr>
              <a:t>«орган»</a:t>
            </a:r>
            <a:endParaRPr b="0" lang="en-US" sz="3200" spc="-1" strike="noStrike">
              <a:solidFill>
                <a:srgbClr val="ffffff"/>
              </a:solidFill>
              <a:latin typeface="Tahoma"/>
            </a:endParaRPr>
          </a:p>
          <a:p>
            <a:pPr marL="284400" indent="-2844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3399"/>
                </a:solidFill>
                <a:uFillTx/>
                <a:latin typeface="Tahoma"/>
                <a:hlinkClick r:id="rId13" action="ppaction://hlinksldjump"/>
              </a:rPr>
              <a:t>«высший судебный»</a:t>
            </a:r>
            <a:endParaRPr b="0" lang="en-US" sz="3200" spc="-1" strike="noStrike">
              <a:solidFill>
                <a:srgbClr val="ffffff"/>
              </a:solidFill>
              <a:latin typeface="Tahoma"/>
            </a:endParaRPr>
          </a:p>
        </p:txBody>
      </p:sp>
      <p:sp>
        <p:nvSpPr>
          <p:cNvPr id="106" name="">
            <a:hlinkClick r:id="rId14" action="ppaction://hlinksldjump"/>
          </p:cNvPr>
          <p:cNvSpPr/>
          <p:nvPr/>
        </p:nvSpPr>
        <p:spPr>
          <a:xfrm>
            <a:off x="8280360" y="628164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 fill="darken" w="32360" h="21600">
                <a:moveTo>
                  <a:pt x="9173" y="3794"/>
                </a:moveTo>
                <a:lnTo>
                  <a:pt x="23186" y="10800"/>
                </a:lnTo>
                <a:lnTo>
                  <a:pt x="9173"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ой язык является государственным языком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усский</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
            <a:hlinkClick r:id="rId1" action="ppaction://hlinksldjump"/>
          </p:cNvPr>
          <p:cNvSpPr/>
          <p:nvPr/>
        </p:nvSpPr>
        <p:spPr>
          <a:xfrm>
            <a:off x="8352000" y="6308640"/>
            <a:ext cx="792000" cy="549360"/>
          </a:xfrm>
          <a:custGeom>
            <a:avLst/>
            <a:gdLst>
              <a:gd name="textAreaLeft" fmla="*/ 35280 w 792000"/>
              <a:gd name="textAreaRight" fmla="*/ 756720 w 792000"/>
              <a:gd name="textAreaTop" fmla="*/ 35280 h 549360"/>
              <a:gd name="textAreaBottom" fmla="*/ 514080 h 549360"/>
            </a:gdLst>
            <a:ahLst/>
            <a:rect l="textAreaLeft" t="textAreaTop" r="textAreaRight" b="textAreaBottom"/>
            <a:pathLst>
              <a:path w="31134" h="21600">
                <a:moveTo>
                  <a:pt x="0" y="0"/>
                </a:moveTo>
                <a:lnTo>
                  <a:pt x="31134" y="0"/>
                </a:lnTo>
                <a:lnTo>
                  <a:pt x="31134" y="21600"/>
                </a:lnTo>
                <a:lnTo>
                  <a:pt x="0" y="21600"/>
                </a:lnTo>
                <a:close/>
              </a:path>
              <a:path fill="lightenLess" w="31134" h="21600">
                <a:moveTo>
                  <a:pt x="0" y="0"/>
                </a:moveTo>
                <a:lnTo>
                  <a:pt x="31134" y="0"/>
                </a:lnTo>
                <a:lnTo>
                  <a:pt x="29734" y="1400"/>
                </a:lnTo>
                <a:lnTo>
                  <a:pt x="1400" y="1400"/>
                </a:lnTo>
                <a:close/>
              </a:path>
              <a:path fill="darken" w="31134" h="21600">
                <a:moveTo>
                  <a:pt x="31134" y="0"/>
                </a:moveTo>
                <a:lnTo>
                  <a:pt x="31134" y="21600"/>
                </a:lnTo>
                <a:lnTo>
                  <a:pt x="29734" y="20200"/>
                </a:lnTo>
                <a:lnTo>
                  <a:pt x="29734" y="1400"/>
                </a:lnTo>
                <a:close/>
              </a:path>
              <a:path fill="darkenLess" w="31134" h="21600">
                <a:moveTo>
                  <a:pt x="31134" y="21600"/>
                </a:moveTo>
                <a:lnTo>
                  <a:pt x="0" y="21600"/>
                </a:lnTo>
                <a:lnTo>
                  <a:pt x="1400" y="20200"/>
                </a:lnTo>
                <a:lnTo>
                  <a:pt x="29734" y="20200"/>
                </a:lnTo>
                <a:close/>
              </a:path>
              <a:path fill="lighten" w="31134" h="21600">
                <a:moveTo>
                  <a:pt x="0" y="21600"/>
                </a:moveTo>
                <a:lnTo>
                  <a:pt x="0" y="0"/>
                </a:lnTo>
                <a:lnTo>
                  <a:pt x="1400" y="1400"/>
                </a:lnTo>
                <a:lnTo>
                  <a:pt x="1400" y="20200"/>
                </a:lnTo>
                <a:close/>
              </a:path>
              <a:path fill="darken" w="31134" h="21600">
                <a:moveTo>
                  <a:pt x="12068" y="10800"/>
                </a:moveTo>
                <a:lnTo>
                  <a:pt x="22573" y="3794"/>
                </a:lnTo>
                <a:lnTo>
                  <a:pt x="22573" y="17806"/>
                </a:lnTo>
                <a:close/>
              </a:path>
              <a:path fill="darken" w="31134" h="21600">
                <a:moveTo>
                  <a:pt x="8561" y="3794"/>
                </a:moveTo>
                <a:lnTo>
                  <a:pt x="10223" y="3794"/>
                </a:lnTo>
                <a:lnTo>
                  <a:pt x="10223" y="17806"/>
                </a:lnTo>
                <a:lnTo>
                  <a:pt x="8561"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ожет ли одно и то же лицо занимать должность Президента РФ более двух сроков подря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ет, не может.</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
            <a:hlinkClick r:id="rId1" action="ppaction://hlinksldjump"/>
          </p:cNvPr>
          <p:cNvSpPr/>
          <p:nvPr/>
        </p:nvSpPr>
        <p:spPr>
          <a:xfrm>
            <a:off x="8028000" y="6308640"/>
            <a:ext cx="865080" cy="549360"/>
          </a:xfrm>
          <a:custGeom>
            <a:avLst/>
            <a:gdLst>
              <a:gd name="textAreaLeft" fmla="*/ 35280 w 865080"/>
              <a:gd name="textAreaRight" fmla="*/ 829800 w 865080"/>
              <a:gd name="textAreaTop" fmla="*/ 35280 h 549360"/>
              <a:gd name="textAreaBottom" fmla="*/ 514080 h 549360"/>
            </a:gdLst>
            <a:ahLst/>
            <a:rect l="textAreaLeft" t="textAreaTop" r="textAreaRight" b="textAreaBottom"/>
            <a:pathLst>
              <a:path w="34006" h="21600">
                <a:moveTo>
                  <a:pt x="0" y="0"/>
                </a:moveTo>
                <a:lnTo>
                  <a:pt x="34006" y="0"/>
                </a:lnTo>
                <a:lnTo>
                  <a:pt x="34006" y="21600"/>
                </a:lnTo>
                <a:lnTo>
                  <a:pt x="0" y="21600"/>
                </a:lnTo>
                <a:close/>
              </a:path>
              <a:path fill="lightenLess" w="34006" h="21600">
                <a:moveTo>
                  <a:pt x="0" y="0"/>
                </a:moveTo>
                <a:lnTo>
                  <a:pt x="34006" y="0"/>
                </a:lnTo>
                <a:lnTo>
                  <a:pt x="32606" y="1400"/>
                </a:lnTo>
                <a:lnTo>
                  <a:pt x="1400" y="1400"/>
                </a:lnTo>
                <a:close/>
              </a:path>
              <a:path fill="darken" w="34006" h="21600">
                <a:moveTo>
                  <a:pt x="34006" y="0"/>
                </a:moveTo>
                <a:lnTo>
                  <a:pt x="34006" y="21600"/>
                </a:lnTo>
                <a:lnTo>
                  <a:pt x="32606" y="20200"/>
                </a:lnTo>
                <a:lnTo>
                  <a:pt x="32606" y="1400"/>
                </a:lnTo>
                <a:close/>
              </a:path>
              <a:path fill="darkenLess" w="34006" h="21600">
                <a:moveTo>
                  <a:pt x="34006" y="21600"/>
                </a:moveTo>
                <a:lnTo>
                  <a:pt x="0" y="21600"/>
                </a:lnTo>
                <a:lnTo>
                  <a:pt x="1400" y="20200"/>
                </a:lnTo>
                <a:lnTo>
                  <a:pt x="32606" y="20200"/>
                </a:lnTo>
                <a:close/>
              </a:path>
              <a:path fill="lighten" w="34006" h="21600">
                <a:moveTo>
                  <a:pt x="0" y="21600"/>
                </a:moveTo>
                <a:lnTo>
                  <a:pt x="0" y="0"/>
                </a:lnTo>
                <a:lnTo>
                  <a:pt x="1400" y="1400"/>
                </a:lnTo>
                <a:lnTo>
                  <a:pt x="1400" y="20200"/>
                </a:lnTo>
                <a:close/>
              </a:path>
              <a:path fill="darken" w="34006" h="21600">
                <a:moveTo>
                  <a:pt x="13504" y="10800"/>
                </a:moveTo>
                <a:lnTo>
                  <a:pt x="24009" y="3794"/>
                </a:lnTo>
                <a:lnTo>
                  <a:pt x="24009" y="17806"/>
                </a:lnTo>
                <a:close/>
              </a:path>
              <a:path fill="darken" w="34006" h="21600">
                <a:moveTo>
                  <a:pt x="9996" y="3794"/>
                </a:moveTo>
                <a:lnTo>
                  <a:pt x="11659" y="3794"/>
                </a:lnTo>
                <a:lnTo>
                  <a:pt x="11659" y="17806"/>
                </a:lnTo>
                <a:lnTo>
                  <a:pt x="9996"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 name="" descr=""/>
          <p:cNvPicPr/>
          <p:nvPr/>
        </p:nvPicPr>
        <p:blipFill>
          <a:blip r:embed="rId2"/>
          <a:stretch/>
        </p:blipFill>
        <p:spPr>
          <a:xfrm>
            <a:off x="2050920" y="3068640"/>
            <a:ext cx="5619960" cy="3314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81" name="" descr="Картинка 19 из 1770">
            <a:hlinkClick r:id="rId1"/>
          </p:cNvPr>
          <p:cNvPicPr/>
          <p:nvPr/>
        </p:nvPicPr>
        <p:blipFill>
          <a:blip r:embed="rId2"/>
          <a:stretch/>
        </p:blipFill>
        <p:spPr>
          <a:xfrm>
            <a:off x="0" y="0"/>
            <a:ext cx="9144000" cy="6858000"/>
          </a:xfrm>
          <a:prstGeom prst="rect">
            <a:avLst/>
          </a:prstGeom>
          <a:ln w="0">
            <a:noFill/>
          </a:ln>
        </p:spPr>
      </p:pic>
      <p:sp>
        <p:nvSpPr>
          <p:cNvPr id="182" name="PlaceHolder 1"/>
          <p:cNvSpPr>
            <a:spLocks noGrp="1"/>
          </p:cNvSpPr>
          <p:nvPr>
            <p:ph type="title"/>
          </p:nvPr>
        </p:nvSpPr>
        <p:spPr>
          <a:xfrm>
            <a:off x="1150560" y="214200"/>
            <a:ext cx="779292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ТРЕТИЙ  АГОН</a:t>
            </a:r>
            <a:endParaRPr b="0" lang="en-US" sz="6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ahoma"/>
              </a:rPr>
              <a:t>КОНКУРС</a:t>
            </a:r>
            <a:r>
              <a:rPr b="1" i="1" lang="en-US" sz="4400" spc="-1" strike="noStrike">
                <a:solidFill>
                  <a:srgbClr val="ffffff"/>
                </a:solidFill>
                <a:latin typeface="Tahoma"/>
              </a:rPr>
              <a:t>  </a:t>
            </a:r>
            <a:r>
              <a:rPr b="1" i="1" lang="en-US" sz="4400" spc="-1" strike="noStrike" u="sng">
                <a:solidFill>
                  <a:srgbClr val="ffffff"/>
                </a:solidFill>
                <a:uFillTx/>
                <a:latin typeface="Tahoma"/>
              </a:rPr>
              <a:t>РУССКОГО  ЯЗЫКА</a:t>
            </a:r>
            <a:endParaRPr b="0" lang="en-US" sz="4400" spc="-1" strike="noStrike">
              <a:solidFill>
                <a:srgbClr val="ffffcc"/>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Дрянной,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нетканный,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бережённый,</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бешеный,</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жёваный,</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желаный,</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догруженый.</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КЛЮЧЕВЫ СЛОВА</a:t>
            </a:r>
            <a:br>
              <a:rPr sz="4400"/>
            </a:br>
            <a:r>
              <a:rPr b="1" lang="en-US" sz="4400" spc="-1" strike="noStrike" u="sng">
                <a:solidFill>
                  <a:srgbClr val="ffffff"/>
                </a:solidFill>
                <a:uFillTx/>
                <a:latin typeface="Tahoma"/>
              </a:rPr>
              <a:t> 3 АГОНА</a:t>
            </a:r>
            <a:endParaRPr b="0" lang="en-US" sz="4400" spc="-1" strike="noStrike">
              <a:solidFill>
                <a:srgbClr val="ffffcc"/>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5000"/>
          </a:bodyPr>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1" action="ppaction://hlinksldjump"/>
              </a:rPr>
              <a:t>«единица»</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2" action="ppaction://hlinksldjump"/>
              </a:rPr>
              <a:t>«стать президентом» </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3" action="ppaction://hlinksldjump"/>
              </a:rPr>
              <a:t>«Правительство»  </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4" action="ppaction://hlinksldjump"/>
              </a:rPr>
              <a:t>«структура»</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5" action="ppaction://hlinksldjump"/>
              </a:rPr>
              <a:t>«вопросы» </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6" action="ppaction://hlinksldjump"/>
              </a:rPr>
              <a:t>«правосудие»</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7" action="ppaction://hlinksldjump"/>
              </a:rPr>
              <a:t>«избирается»</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может ли» </a:t>
            </a:r>
            <a:endParaRPr b="0" lang="en-US" sz="3200" spc="-1" strike="noStrike">
              <a:solidFill>
                <a:srgbClr val="ffffff"/>
              </a:solidFill>
              <a:latin typeface="Tahoma"/>
            </a:endParaRPr>
          </a:p>
          <a:p>
            <a:pPr marL="291600" indent="-291600">
              <a:lnSpc>
                <a:spcPct val="8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ценность»</a:t>
            </a:r>
            <a:endParaRPr b="0" lang="en-US" sz="3200" spc="-1" strike="noStrike">
              <a:solidFill>
                <a:srgbClr val="ffffff"/>
              </a:solidFill>
              <a:latin typeface="Tahoma"/>
            </a:endParaRPr>
          </a:p>
        </p:txBody>
      </p:sp>
      <p:sp>
        <p:nvSpPr>
          <p:cNvPr id="187" name="">
            <a:hlinkClick r:id="rId8" action="ppaction://hlinksldjump"/>
          </p:cNvPr>
          <p:cNvSpPr/>
          <p:nvPr/>
        </p:nvSpPr>
        <p:spPr>
          <a:xfrm>
            <a:off x="8317080" y="6381720"/>
            <a:ext cx="826920" cy="476280"/>
          </a:xfrm>
          <a:custGeom>
            <a:avLst/>
            <a:gdLst>
              <a:gd name="textAreaLeft" fmla="*/ 30600 w 826920"/>
              <a:gd name="textAreaRight" fmla="*/ 796320 w 826920"/>
              <a:gd name="textAreaTop" fmla="*/ 30600 h 476280"/>
              <a:gd name="textAreaBottom" fmla="*/ 445680 h 476280"/>
            </a:gdLst>
            <a:ahLst/>
            <a:rect l="textAreaLeft" t="textAreaTop" r="textAreaRight" b="textAreaBottom"/>
            <a:pathLst>
              <a:path w="37490" h="21600">
                <a:moveTo>
                  <a:pt x="0" y="0"/>
                </a:moveTo>
                <a:lnTo>
                  <a:pt x="37490" y="0"/>
                </a:lnTo>
                <a:lnTo>
                  <a:pt x="37490" y="21600"/>
                </a:lnTo>
                <a:lnTo>
                  <a:pt x="0" y="21600"/>
                </a:lnTo>
                <a:close/>
              </a:path>
              <a:path fill="lightenLess" w="37490" h="21600">
                <a:moveTo>
                  <a:pt x="0" y="0"/>
                </a:moveTo>
                <a:lnTo>
                  <a:pt x="37490" y="0"/>
                </a:lnTo>
                <a:lnTo>
                  <a:pt x="36090" y="1400"/>
                </a:lnTo>
                <a:lnTo>
                  <a:pt x="1400" y="1400"/>
                </a:lnTo>
                <a:close/>
              </a:path>
              <a:path fill="darken" w="37490" h="21600">
                <a:moveTo>
                  <a:pt x="37490" y="0"/>
                </a:moveTo>
                <a:lnTo>
                  <a:pt x="37490" y="21600"/>
                </a:lnTo>
                <a:lnTo>
                  <a:pt x="36090" y="20200"/>
                </a:lnTo>
                <a:lnTo>
                  <a:pt x="36090" y="1400"/>
                </a:lnTo>
                <a:close/>
              </a:path>
              <a:path fill="darkenLess" w="37490" h="21600">
                <a:moveTo>
                  <a:pt x="37490" y="21600"/>
                </a:moveTo>
                <a:lnTo>
                  <a:pt x="0" y="21600"/>
                </a:lnTo>
                <a:lnTo>
                  <a:pt x="1400" y="20200"/>
                </a:lnTo>
                <a:lnTo>
                  <a:pt x="36090" y="20200"/>
                </a:lnTo>
                <a:close/>
              </a:path>
              <a:path fill="lighten" w="37490" h="21600">
                <a:moveTo>
                  <a:pt x="0" y="21600"/>
                </a:moveTo>
                <a:lnTo>
                  <a:pt x="0" y="0"/>
                </a:lnTo>
                <a:lnTo>
                  <a:pt x="1400" y="1400"/>
                </a:lnTo>
                <a:lnTo>
                  <a:pt x="1400" y="20200"/>
                </a:lnTo>
                <a:close/>
              </a:path>
              <a:path fill="darken" w="37490" h="21600">
                <a:moveTo>
                  <a:pt x="11739" y="3794"/>
                </a:moveTo>
                <a:lnTo>
                  <a:pt x="25751" y="10800"/>
                </a:lnTo>
                <a:lnTo>
                  <a:pt x="11739"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зовите денежную единицу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убль</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
            <a:hlinkClick r:id="rId1" action="ppaction://hlinksldjump"/>
          </p:cNvPr>
          <p:cNvSpPr/>
          <p:nvPr/>
        </p:nvSpPr>
        <p:spPr>
          <a:xfrm>
            <a:off x="838836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11354" y="10800"/>
                </a:moveTo>
                <a:lnTo>
                  <a:pt x="21859" y="3794"/>
                </a:lnTo>
                <a:lnTo>
                  <a:pt x="21859" y="17806"/>
                </a:lnTo>
                <a:close/>
              </a:path>
              <a:path fill="darken" w="29705" h="21600">
                <a:moveTo>
                  <a:pt x="7846" y="3794"/>
                </a:moveTo>
                <a:lnTo>
                  <a:pt x="9509" y="3794"/>
                </a:lnTo>
                <a:lnTo>
                  <a:pt x="9509" y="17806"/>
                </a:lnTo>
                <a:lnTo>
                  <a:pt x="7846"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 name="" descr=""/>
          <p:cNvPicPr/>
          <p:nvPr/>
        </p:nvPicPr>
        <p:blipFill>
          <a:blip r:embed="rId2"/>
          <a:stretch/>
        </p:blipFill>
        <p:spPr>
          <a:xfrm>
            <a:off x="2484360" y="3141720"/>
            <a:ext cx="6381720" cy="2809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то, согласно Конституции РФ, может быть избран президентом РФ?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колько статей в Конституции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Ф может быть избран гражданин РФ не моложе 35 лет, постоянно проживающий в РФ не менее 10 лет.</a:t>
            </a:r>
            <a:endParaRPr b="0" lang="en-US" sz="3200" spc="-1" strike="noStrike">
              <a:solidFill>
                <a:srgbClr val="ffffff"/>
              </a:solidFill>
              <a:latin typeface="Tahoma"/>
            </a:endParaRPr>
          </a:p>
        </p:txBody>
      </p:sp>
      <p:sp>
        <p:nvSpPr>
          <p:cNvPr id="194" name="">
            <a:hlinkClick r:id="rId1" action="ppaction://hlinksldjump"/>
          </p:cNvPr>
          <p:cNvSpPr/>
          <p:nvPr/>
        </p:nvSpPr>
        <p:spPr>
          <a:xfrm>
            <a:off x="7596360" y="6165720"/>
            <a:ext cx="1296720" cy="432000"/>
          </a:xfrm>
          <a:custGeom>
            <a:avLst/>
            <a:gdLst>
              <a:gd name="textAreaLeft" fmla="*/ 27720 w 1296720"/>
              <a:gd name="textAreaRight" fmla="*/ 1269000 w 1296720"/>
              <a:gd name="textAreaTop" fmla="*/ 27720 h 432000"/>
              <a:gd name="textAreaBottom" fmla="*/ 404280 h 43200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 fill="darken" w="64800" h="21600">
                <a:moveTo>
                  <a:pt x="28901" y="10800"/>
                </a:moveTo>
                <a:lnTo>
                  <a:pt x="39406" y="3794"/>
                </a:lnTo>
                <a:lnTo>
                  <a:pt x="39406" y="17806"/>
                </a:lnTo>
                <a:close/>
              </a:path>
              <a:path fill="darken" w="64800" h="21600">
                <a:moveTo>
                  <a:pt x="25394" y="3794"/>
                </a:moveTo>
                <a:lnTo>
                  <a:pt x="27056" y="3794"/>
                </a:lnTo>
                <a:lnTo>
                  <a:pt x="27056" y="17806"/>
                </a:lnTo>
                <a:lnTo>
                  <a:pt x="25394"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ую ветвь власти представляет Правительство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371600" y="620280"/>
            <a:ext cx="7772400" cy="763560"/>
          </a:xfrm>
          <a:prstGeom prst="rect">
            <a:avLst/>
          </a:prstGeom>
          <a:noFill/>
          <a:ln w="0">
            <a:noFill/>
          </a:ln>
        </p:spPr>
        <p:txBody>
          <a:bodyPr lIns="90000" rIns="90000" tIns="46800" bIns="46800"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сполнительную</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
            <a:hlinkClick r:id="rId1" action="ppaction://hlinksldjump"/>
          </p:cNvPr>
          <p:cNvSpPr/>
          <p:nvPr/>
        </p:nvSpPr>
        <p:spPr>
          <a:xfrm>
            <a:off x="8459640" y="6237360"/>
            <a:ext cx="684360" cy="620640"/>
          </a:xfrm>
          <a:custGeom>
            <a:avLst/>
            <a:gdLst>
              <a:gd name="textAreaLeft" fmla="*/ 39960 w 684360"/>
              <a:gd name="textAreaRight" fmla="*/ 644400 w 684360"/>
              <a:gd name="textAreaTop" fmla="*/ 39960 h 620640"/>
              <a:gd name="textAreaBottom" fmla="*/ 580680 h 620640"/>
            </a:gdLst>
            <a:ahLst/>
            <a:rect l="textAreaLeft" t="textAreaTop" r="textAreaRight" b="textAreaBottom"/>
            <a:pathLst>
              <a:path w="23816" h="21600">
                <a:moveTo>
                  <a:pt x="0" y="0"/>
                </a:moveTo>
                <a:lnTo>
                  <a:pt x="23816" y="0"/>
                </a:lnTo>
                <a:lnTo>
                  <a:pt x="23816" y="21600"/>
                </a:lnTo>
                <a:lnTo>
                  <a:pt x="0" y="21600"/>
                </a:lnTo>
                <a:close/>
              </a:path>
              <a:path fill="lightenLess" w="23816" h="21600">
                <a:moveTo>
                  <a:pt x="0" y="0"/>
                </a:moveTo>
                <a:lnTo>
                  <a:pt x="23816" y="0"/>
                </a:lnTo>
                <a:lnTo>
                  <a:pt x="22416" y="1400"/>
                </a:lnTo>
                <a:lnTo>
                  <a:pt x="1400" y="1400"/>
                </a:lnTo>
                <a:close/>
              </a:path>
              <a:path fill="darken" w="23816" h="21600">
                <a:moveTo>
                  <a:pt x="23816" y="0"/>
                </a:moveTo>
                <a:lnTo>
                  <a:pt x="23816" y="21600"/>
                </a:lnTo>
                <a:lnTo>
                  <a:pt x="22416" y="20200"/>
                </a:lnTo>
                <a:lnTo>
                  <a:pt x="22416" y="1400"/>
                </a:lnTo>
                <a:close/>
              </a:path>
              <a:path fill="darkenLess" w="23816" h="21600">
                <a:moveTo>
                  <a:pt x="23816" y="21600"/>
                </a:moveTo>
                <a:lnTo>
                  <a:pt x="0" y="21600"/>
                </a:lnTo>
                <a:lnTo>
                  <a:pt x="1400" y="20200"/>
                </a:lnTo>
                <a:lnTo>
                  <a:pt x="22416" y="20200"/>
                </a:lnTo>
                <a:close/>
              </a:path>
              <a:path fill="lighten" w="23816" h="21600">
                <a:moveTo>
                  <a:pt x="0" y="21600"/>
                </a:moveTo>
                <a:lnTo>
                  <a:pt x="0" y="0"/>
                </a:lnTo>
                <a:lnTo>
                  <a:pt x="1400" y="1400"/>
                </a:lnTo>
                <a:lnTo>
                  <a:pt x="1400" y="20200"/>
                </a:lnTo>
                <a:close/>
              </a:path>
              <a:path fill="darken" w="23816" h="21600">
                <a:moveTo>
                  <a:pt x="8409" y="10800"/>
                </a:moveTo>
                <a:lnTo>
                  <a:pt x="18915" y="3794"/>
                </a:lnTo>
                <a:lnTo>
                  <a:pt x="18915" y="17806"/>
                </a:lnTo>
                <a:close/>
              </a:path>
              <a:path fill="darken" w="23816" h="21600">
                <a:moveTo>
                  <a:pt x="4902" y="3794"/>
                </a:moveTo>
                <a:lnTo>
                  <a:pt x="6564" y="3794"/>
                </a:lnTo>
                <a:lnTo>
                  <a:pt x="6564" y="17806"/>
                </a:lnTo>
                <a:lnTo>
                  <a:pt x="4902"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8" name="" descr=""/>
          <p:cNvPicPr/>
          <p:nvPr/>
        </p:nvPicPr>
        <p:blipFill>
          <a:blip r:embed="rId2"/>
          <a:srcRect l="3543" t="0" r="11406" b="54194"/>
          <a:stretch/>
        </p:blipFill>
        <p:spPr>
          <a:xfrm>
            <a:off x="468360" y="2708280"/>
            <a:ext cx="7777080" cy="3141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 определяется структура местного самоуправлени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амостоятельно населением</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
            <a:hlinkClick r:id="rId1" action="ppaction://hlinksldjump"/>
          </p:cNvPr>
          <p:cNvSpPr/>
          <p:nvPr/>
        </p:nvSpPr>
        <p:spPr>
          <a:xfrm>
            <a:off x="8317080" y="6237360"/>
            <a:ext cx="826920" cy="620640"/>
          </a:xfrm>
          <a:custGeom>
            <a:avLst/>
            <a:gdLst>
              <a:gd name="textAreaLeft" fmla="*/ 39960 w 826920"/>
              <a:gd name="textAreaRight" fmla="*/ 786960 w 826920"/>
              <a:gd name="textAreaTop" fmla="*/ 39960 h 620640"/>
              <a:gd name="textAreaBottom" fmla="*/ 580680 h 620640"/>
            </a:gdLst>
            <a:ahLst/>
            <a:rect l="textAreaLeft" t="textAreaTop" r="textAreaRight" b="textAreaBottom"/>
            <a:pathLst>
              <a:path w="28775" h="21600">
                <a:moveTo>
                  <a:pt x="0" y="0"/>
                </a:moveTo>
                <a:lnTo>
                  <a:pt x="28775" y="0"/>
                </a:lnTo>
                <a:lnTo>
                  <a:pt x="28775" y="21600"/>
                </a:lnTo>
                <a:lnTo>
                  <a:pt x="0" y="21600"/>
                </a:lnTo>
                <a:close/>
              </a:path>
              <a:path fill="lightenLess" w="28775" h="21600">
                <a:moveTo>
                  <a:pt x="0" y="0"/>
                </a:moveTo>
                <a:lnTo>
                  <a:pt x="28775" y="0"/>
                </a:lnTo>
                <a:lnTo>
                  <a:pt x="27375" y="1400"/>
                </a:lnTo>
                <a:lnTo>
                  <a:pt x="1400" y="1400"/>
                </a:lnTo>
                <a:close/>
              </a:path>
              <a:path fill="darken" w="28775" h="21600">
                <a:moveTo>
                  <a:pt x="28775" y="0"/>
                </a:moveTo>
                <a:lnTo>
                  <a:pt x="28775" y="21600"/>
                </a:lnTo>
                <a:lnTo>
                  <a:pt x="27375" y="20200"/>
                </a:lnTo>
                <a:lnTo>
                  <a:pt x="27375" y="1400"/>
                </a:lnTo>
                <a:close/>
              </a:path>
              <a:path fill="darkenLess" w="28775" h="21600">
                <a:moveTo>
                  <a:pt x="28775" y="21600"/>
                </a:moveTo>
                <a:lnTo>
                  <a:pt x="0" y="21600"/>
                </a:lnTo>
                <a:lnTo>
                  <a:pt x="1400" y="20200"/>
                </a:lnTo>
                <a:lnTo>
                  <a:pt x="27375" y="20200"/>
                </a:lnTo>
                <a:close/>
              </a:path>
              <a:path fill="lighten" w="28775" h="21600">
                <a:moveTo>
                  <a:pt x="0" y="21600"/>
                </a:moveTo>
                <a:lnTo>
                  <a:pt x="0" y="0"/>
                </a:lnTo>
                <a:lnTo>
                  <a:pt x="1400" y="1400"/>
                </a:lnTo>
                <a:lnTo>
                  <a:pt x="1400" y="20200"/>
                </a:lnTo>
                <a:close/>
              </a:path>
              <a:path fill="darken" w="28775" h="21600">
                <a:moveTo>
                  <a:pt x="10889" y="10800"/>
                </a:moveTo>
                <a:lnTo>
                  <a:pt x="21394" y="3794"/>
                </a:lnTo>
                <a:lnTo>
                  <a:pt x="21394" y="17806"/>
                </a:lnTo>
                <a:close/>
              </a:path>
              <a:path fill="darken" w="28775" h="21600">
                <a:moveTo>
                  <a:pt x="7381" y="3794"/>
                </a:moveTo>
                <a:lnTo>
                  <a:pt x="9043" y="3794"/>
                </a:lnTo>
                <a:lnTo>
                  <a:pt x="9043" y="17806"/>
                </a:lnTo>
                <a:lnTo>
                  <a:pt x="7381"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ие вопросы решает Президент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ражданства РФ и предоставления политического убежища, награждает государственными наградами, присваивает почётные звания, высшие воинские и высшие специальные звания, осуществляет помилование.</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
            <a:hlinkClick r:id="rId1" action="ppaction://hlinksldjump"/>
          </p:cNvPr>
          <p:cNvSpPr/>
          <p:nvPr/>
        </p:nvSpPr>
        <p:spPr>
          <a:xfrm>
            <a:off x="8388360" y="6381720"/>
            <a:ext cx="755640" cy="476280"/>
          </a:xfrm>
          <a:custGeom>
            <a:avLst/>
            <a:gdLst>
              <a:gd name="textAreaLeft" fmla="*/ 30600 w 755640"/>
              <a:gd name="textAreaRight" fmla="*/ 725040 w 755640"/>
              <a:gd name="textAreaTop" fmla="*/ 30600 h 476280"/>
              <a:gd name="textAreaBottom" fmla="*/ 445680 h 476280"/>
            </a:gdLst>
            <a:ahLst/>
            <a:rect l="textAreaLeft" t="textAreaTop" r="textAreaRight" b="textAreaBottom"/>
            <a:pathLst>
              <a:path w="34260" h="21600">
                <a:moveTo>
                  <a:pt x="0" y="0"/>
                </a:moveTo>
                <a:lnTo>
                  <a:pt x="34260" y="0"/>
                </a:lnTo>
                <a:lnTo>
                  <a:pt x="34260" y="21600"/>
                </a:lnTo>
                <a:lnTo>
                  <a:pt x="0" y="21600"/>
                </a:lnTo>
                <a:close/>
              </a:path>
              <a:path fill="lightenLess" w="34260" h="21600">
                <a:moveTo>
                  <a:pt x="0" y="0"/>
                </a:moveTo>
                <a:lnTo>
                  <a:pt x="34260" y="0"/>
                </a:lnTo>
                <a:lnTo>
                  <a:pt x="32860" y="1400"/>
                </a:lnTo>
                <a:lnTo>
                  <a:pt x="1400" y="1400"/>
                </a:lnTo>
                <a:close/>
              </a:path>
              <a:path fill="darken" w="34260" h="21600">
                <a:moveTo>
                  <a:pt x="34260" y="0"/>
                </a:moveTo>
                <a:lnTo>
                  <a:pt x="34260" y="21600"/>
                </a:lnTo>
                <a:lnTo>
                  <a:pt x="32860" y="20200"/>
                </a:lnTo>
                <a:lnTo>
                  <a:pt x="32860" y="1400"/>
                </a:lnTo>
                <a:close/>
              </a:path>
              <a:path fill="darkenLess" w="34260" h="21600">
                <a:moveTo>
                  <a:pt x="34260" y="21600"/>
                </a:moveTo>
                <a:lnTo>
                  <a:pt x="0" y="21600"/>
                </a:lnTo>
                <a:lnTo>
                  <a:pt x="1400" y="20200"/>
                </a:lnTo>
                <a:lnTo>
                  <a:pt x="32860" y="20200"/>
                </a:lnTo>
                <a:close/>
              </a:path>
              <a:path fill="lighten" w="34260" h="21600">
                <a:moveTo>
                  <a:pt x="0" y="21600"/>
                </a:moveTo>
                <a:lnTo>
                  <a:pt x="0" y="0"/>
                </a:lnTo>
                <a:lnTo>
                  <a:pt x="1400" y="1400"/>
                </a:lnTo>
                <a:lnTo>
                  <a:pt x="1400" y="20200"/>
                </a:lnTo>
                <a:close/>
              </a:path>
              <a:path fill="darken" w="34260" h="21600">
                <a:moveTo>
                  <a:pt x="13631" y="10800"/>
                </a:moveTo>
                <a:lnTo>
                  <a:pt x="24136" y="3794"/>
                </a:lnTo>
                <a:lnTo>
                  <a:pt x="24136" y="17806"/>
                </a:lnTo>
                <a:close/>
              </a:path>
              <a:path fill="darken" w="34260" h="21600">
                <a:moveTo>
                  <a:pt x="10123" y="3794"/>
                </a:moveTo>
                <a:lnTo>
                  <a:pt x="11786" y="3794"/>
                </a:lnTo>
                <a:lnTo>
                  <a:pt x="11786" y="17806"/>
                </a:lnTo>
                <a:lnTo>
                  <a:pt x="10123"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ем осуществляется правосудие в РФ?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116000" y="404280"/>
            <a:ext cx="7772400" cy="690840"/>
          </a:xfrm>
          <a:prstGeom prst="rect">
            <a:avLst/>
          </a:prstGeom>
          <a:noFill/>
          <a:ln w="0">
            <a:noFill/>
          </a:ln>
        </p:spPr>
        <p:txBody>
          <a:bodyPr lIns="90000" rIns="90000" tIns="46800" bIns="46800"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олько судом</a:t>
            </a:r>
            <a:endParaRPr b="0" lang="en-US" sz="3200" spc="-1" strike="noStrike">
              <a:solidFill>
                <a:srgbClr val="ffffff"/>
              </a:solidFill>
              <a:latin typeface="Tahoma"/>
            </a:endParaRPr>
          </a:p>
        </p:txBody>
      </p:sp>
      <p:sp>
        <p:nvSpPr>
          <p:cNvPr id="207" name="">
            <a:hlinkClick r:id="rId1" action="ppaction://hlinksldjump"/>
          </p:cNvPr>
          <p:cNvSpPr/>
          <p:nvPr/>
        </p:nvSpPr>
        <p:spPr>
          <a:xfrm>
            <a:off x="838836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11354" y="10800"/>
                </a:moveTo>
                <a:lnTo>
                  <a:pt x="21859" y="3794"/>
                </a:lnTo>
                <a:lnTo>
                  <a:pt x="21859" y="17806"/>
                </a:lnTo>
                <a:close/>
              </a:path>
              <a:path fill="darken" w="29705" h="21600">
                <a:moveTo>
                  <a:pt x="7846" y="3794"/>
                </a:moveTo>
                <a:lnTo>
                  <a:pt x="9509" y="3794"/>
                </a:lnTo>
                <a:lnTo>
                  <a:pt x="9509" y="17806"/>
                </a:lnTo>
                <a:lnTo>
                  <a:pt x="7846"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8" name="" descr=""/>
          <p:cNvPicPr/>
          <p:nvPr/>
        </p:nvPicPr>
        <p:blipFill>
          <a:blip r:embed="rId2"/>
          <a:srcRect l="12201" t="22005" r="5902" b="7995"/>
          <a:stretch/>
        </p:blipFill>
        <p:spPr>
          <a:xfrm>
            <a:off x="1979640" y="1844640"/>
            <a:ext cx="5616720" cy="3600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 какой срок избирается Президент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7</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
            <a:hlinkClick r:id="rId1" action="ppaction://hlinksldjump"/>
          </p:cNvPr>
          <p:cNvSpPr/>
          <p:nvPr/>
        </p:nvSpPr>
        <p:spPr>
          <a:xfrm>
            <a:off x="82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1527" y="10800"/>
                </a:moveTo>
                <a:lnTo>
                  <a:pt x="22033" y="3794"/>
                </a:lnTo>
                <a:lnTo>
                  <a:pt x="22033" y="17806"/>
                </a:lnTo>
                <a:close/>
              </a:path>
              <a:path fill="darken" w="30052" h="21600">
                <a:moveTo>
                  <a:pt x="8020" y="3794"/>
                </a:moveTo>
                <a:lnTo>
                  <a:pt x="9682" y="3794"/>
                </a:lnTo>
                <a:lnTo>
                  <a:pt x="9682" y="17806"/>
                </a:lnTo>
                <a:lnTo>
                  <a:pt x="8020"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лет</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
            <a:hlinkClick r:id="rId1" action="ppaction://hlinksldjump"/>
          </p:cNvPr>
          <p:cNvSpPr/>
          <p:nvPr/>
        </p:nvSpPr>
        <p:spPr>
          <a:xfrm>
            <a:off x="8388360" y="6237360"/>
            <a:ext cx="755640" cy="620640"/>
          </a:xfrm>
          <a:custGeom>
            <a:avLst/>
            <a:gdLst>
              <a:gd name="textAreaLeft" fmla="*/ 39960 w 755640"/>
              <a:gd name="textAreaRight" fmla="*/ 715680 w 755640"/>
              <a:gd name="textAreaTop" fmla="*/ 39960 h 620640"/>
              <a:gd name="textAreaBottom" fmla="*/ 580680 h 620640"/>
            </a:gdLst>
            <a:ahLst/>
            <a:rect l="textAreaLeft" t="textAreaTop" r="textAreaRight" b="textAreaBottom"/>
            <a:pathLst>
              <a:path w="26296" h="21600">
                <a:moveTo>
                  <a:pt x="0" y="0"/>
                </a:moveTo>
                <a:lnTo>
                  <a:pt x="26296" y="0"/>
                </a:lnTo>
                <a:lnTo>
                  <a:pt x="26296" y="21600"/>
                </a:lnTo>
                <a:lnTo>
                  <a:pt x="0" y="21600"/>
                </a:lnTo>
                <a:close/>
              </a:path>
              <a:path fill="lightenLess" w="26296" h="21600">
                <a:moveTo>
                  <a:pt x="0" y="0"/>
                </a:moveTo>
                <a:lnTo>
                  <a:pt x="26296" y="0"/>
                </a:lnTo>
                <a:lnTo>
                  <a:pt x="24896" y="1400"/>
                </a:lnTo>
                <a:lnTo>
                  <a:pt x="1400" y="1400"/>
                </a:lnTo>
                <a:close/>
              </a:path>
              <a:path fill="darken" w="26296" h="21600">
                <a:moveTo>
                  <a:pt x="26296" y="0"/>
                </a:moveTo>
                <a:lnTo>
                  <a:pt x="26296" y="21600"/>
                </a:lnTo>
                <a:lnTo>
                  <a:pt x="24896" y="20200"/>
                </a:lnTo>
                <a:lnTo>
                  <a:pt x="24896" y="1400"/>
                </a:lnTo>
                <a:close/>
              </a:path>
              <a:path fill="darkenLess" w="26296" h="21600">
                <a:moveTo>
                  <a:pt x="26296" y="21600"/>
                </a:moveTo>
                <a:lnTo>
                  <a:pt x="0" y="21600"/>
                </a:lnTo>
                <a:lnTo>
                  <a:pt x="1400" y="20200"/>
                </a:lnTo>
                <a:lnTo>
                  <a:pt x="24896" y="20200"/>
                </a:lnTo>
                <a:close/>
              </a:path>
              <a:path fill="lighten" w="26296" h="21600">
                <a:moveTo>
                  <a:pt x="0" y="21600"/>
                </a:moveTo>
                <a:lnTo>
                  <a:pt x="0" y="0"/>
                </a:lnTo>
                <a:lnTo>
                  <a:pt x="1400" y="1400"/>
                </a:lnTo>
                <a:lnTo>
                  <a:pt x="1400" y="20200"/>
                </a:lnTo>
                <a:close/>
              </a:path>
              <a:path fill="darken" w="26296" h="21600">
                <a:moveTo>
                  <a:pt x="9649" y="10800"/>
                </a:moveTo>
                <a:lnTo>
                  <a:pt x="20154" y="3794"/>
                </a:lnTo>
                <a:lnTo>
                  <a:pt x="20154" y="17806"/>
                </a:lnTo>
                <a:close/>
              </a:path>
              <a:path fill="darken" w="26296" h="21600">
                <a:moveTo>
                  <a:pt x="6141" y="3794"/>
                </a:moveTo>
                <a:lnTo>
                  <a:pt x="7804" y="3794"/>
                </a:lnTo>
                <a:lnTo>
                  <a:pt x="7804" y="17806"/>
                </a:lnTo>
                <a:lnTo>
                  <a:pt x="6141"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ожет ли быть распущена Государственная Дума РФ Президентом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а,  может. В случаях предусмотренных ст.111 и ст.117.</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
            <a:hlinkClick r:id="rId1" action="ppaction://hlinksldjump"/>
          </p:cNvPr>
          <p:cNvSpPr/>
          <p:nvPr/>
        </p:nvSpPr>
        <p:spPr>
          <a:xfrm>
            <a:off x="8459640" y="6237360"/>
            <a:ext cx="684360" cy="620640"/>
          </a:xfrm>
          <a:custGeom>
            <a:avLst/>
            <a:gdLst>
              <a:gd name="textAreaLeft" fmla="*/ 39960 w 684360"/>
              <a:gd name="textAreaRight" fmla="*/ 644400 w 684360"/>
              <a:gd name="textAreaTop" fmla="*/ 39960 h 620640"/>
              <a:gd name="textAreaBottom" fmla="*/ 580680 h 620640"/>
            </a:gdLst>
            <a:ahLst/>
            <a:rect l="textAreaLeft" t="textAreaTop" r="textAreaRight" b="textAreaBottom"/>
            <a:pathLst>
              <a:path w="23816" h="21600">
                <a:moveTo>
                  <a:pt x="0" y="0"/>
                </a:moveTo>
                <a:lnTo>
                  <a:pt x="23816" y="0"/>
                </a:lnTo>
                <a:lnTo>
                  <a:pt x="23816" y="21600"/>
                </a:lnTo>
                <a:lnTo>
                  <a:pt x="0" y="21600"/>
                </a:lnTo>
                <a:close/>
              </a:path>
              <a:path fill="lightenLess" w="23816" h="21600">
                <a:moveTo>
                  <a:pt x="0" y="0"/>
                </a:moveTo>
                <a:lnTo>
                  <a:pt x="23816" y="0"/>
                </a:lnTo>
                <a:lnTo>
                  <a:pt x="22416" y="1400"/>
                </a:lnTo>
                <a:lnTo>
                  <a:pt x="1400" y="1400"/>
                </a:lnTo>
                <a:close/>
              </a:path>
              <a:path fill="darken" w="23816" h="21600">
                <a:moveTo>
                  <a:pt x="23816" y="0"/>
                </a:moveTo>
                <a:lnTo>
                  <a:pt x="23816" y="21600"/>
                </a:lnTo>
                <a:lnTo>
                  <a:pt x="22416" y="20200"/>
                </a:lnTo>
                <a:lnTo>
                  <a:pt x="22416" y="1400"/>
                </a:lnTo>
                <a:close/>
              </a:path>
              <a:path fill="darkenLess" w="23816" h="21600">
                <a:moveTo>
                  <a:pt x="23816" y="21600"/>
                </a:moveTo>
                <a:lnTo>
                  <a:pt x="0" y="21600"/>
                </a:lnTo>
                <a:lnTo>
                  <a:pt x="1400" y="20200"/>
                </a:lnTo>
                <a:lnTo>
                  <a:pt x="22416" y="20200"/>
                </a:lnTo>
                <a:close/>
              </a:path>
              <a:path fill="lighten" w="23816" h="21600">
                <a:moveTo>
                  <a:pt x="0" y="21600"/>
                </a:moveTo>
                <a:lnTo>
                  <a:pt x="0" y="0"/>
                </a:lnTo>
                <a:lnTo>
                  <a:pt x="1400" y="1400"/>
                </a:lnTo>
                <a:lnTo>
                  <a:pt x="1400" y="20200"/>
                </a:lnTo>
                <a:close/>
              </a:path>
              <a:path fill="darken" w="23816" h="21600">
                <a:moveTo>
                  <a:pt x="8409" y="10800"/>
                </a:moveTo>
                <a:lnTo>
                  <a:pt x="18915" y="3794"/>
                </a:lnTo>
                <a:lnTo>
                  <a:pt x="18915" y="17806"/>
                </a:lnTo>
                <a:close/>
              </a:path>
              <a:path fill="darken" w="23816" h="21600">
                <a:moveTo>
                  <a:pt x="4902" y="3794"/>
                </a:moveTo>
                <a:lnTo>
                  <a:pt x="6564" y="3794"/>
                </a:lnTo>
                <a:lnTo>
                  <a:pt x="6564" y="17806"/>
                </a:lnTo>
                <a:lnTo>
                  <a:pt x="4902"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то, в соответствии с Конституцией РФ, является высшей ценностью?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еловек, его права и свобод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
            <a:hlinkClick r:id="rId1" action="ppaction://hlinksldjump"/>
          </p:cNvPr>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 fill="darken" w="24033" h="21600">
                <a:moveTo>
                  <a:pt x="8518" y="10800"/>
                </a:moveTo>
                <a:lnTo>
                  <a:pt x="19023" y="3794"/>
                </a:lnTo>
                <a:lnTo>
                  <a:pt x="19023" y="17806"/>
                </a:lnTo>
                <a:close/>
              </a:path>
              <a:path fill="darken" w="24033" h="21600">
                <a:moveTo>
                  <a:pt x="5010" y="3794"/>
                </a:moveTo>
                <a:lnTo>
                  <a:pt x="6672" y="3794"/>
                </a:lnTo>
                <a:lnTo>
                  <a:pt x="6672" y="17806"/>
                </a:lnTo>
                <a:lnTo>
                  <a:pt x="5010"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8" name="" descr=""/>
          <p:cNvPicPr/>
          <p:nvPr/>
        </p:nvPicPr>
        <p:blipFill>
          <a:blip r:embed="rId2"/>
          <a:srcRect l="6945" t="29013" r="2756" b="10803"/>
          <a:stretch/>
        </p:blipFill>
        <p:spPr>
          <a:xfrm>
            <a:off x="1403280" y="3284640"/>
            <a:ext cx="6193080" cy="3095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19" name="" descr="Картинка 19 из 1770">
            <a:hlinkClick r:id="rId1"/>
          </p:cNvPr>
          <p:cNvPicPr/>
          <p:nvPr/>
        </p:nvPicPr>
        <p:blipFill>
          <a:blip r:embed="rId2"/>
          <a:stretch/>
        </p:blipFill>
        <p:spPr>
          <a:xfrm>
            <a:off x="0" y="0"/>
            <a:ext cx="9144000" cy="6858000"/>
          </a:xfrm>
          <a:prstGeom prst="rect">
            <a:avLst/>
          </a:prstGeom>
          <a:ln w="0">
            <a:noFill/>
          </a:ln>
        </p:spPr>
      </p:pic>
      <p:sp>
        <p:nvSpPr>
          <p:cNvPr id="220" name="PlaceHolder 1"/>
          <p:cNvSpPr>
            <a:spLocks noGrp="1"/>
          </p:cNvSpPr>
          <p:nvPr>
            <p:ph type="title"/>
          </p:nvPr>
        </p:nvSpPr>
        <p:spPr>
          <a:xfrm>
            <a:off x="1150560" y="214200"/>
            <a:ext cx="7792920" cy="98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Ф  И  Н  А  Л</a:t>
            </a:r>
            <a:endParaRPr b="0" lang="en-US" sz="6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Tahoma"/>
              </a:rPr>
              <a:t>КОНКУРС</a:t>
            </a:r>
            <a:r>
              <a:rPr b="1" i="1" lang="en-US" sz="4400" spc="-1" strike="noStrike">
                <a:solidFill>
                  <a:srgbClr val="ffffff"/>
                </a:solidFill>
                <a:latin typeface="Tahoma"/>
              </a:rPr>
              <a:t>  </a:t>
            </a:r>
            <a:r>
              <a:rPr b="1" i="1" lang="en-US" sz="4400" spc="-1" strike="noStrike" u="sng">
                <a:solidFill>
                  <a:srgbClr val="ffffff"/>
                </a:solidFill>
                <a:uFillTx/>
                <a:latin typeface="Tahoma"/>
              </a:rPr>
              <a:t>РУССКОГО  ЯЗЫКА</a:t>
            </a:r>
            <a:endParaRPr b="0" lang="en-US" sz="4400" spc="-1" strike="noStrike">
              <a:solidFill>
                <a:srgbClr val="ffffcc"/>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малу,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медвежьи,</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 настоящему,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полудни, </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середине,</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свойски,</a:t>
            </a:r>
            <a:endParaRPr b="0" lang="en-US" sz="3200" spc="-1" strike="noStrike">
              <a:solidFill>
                <a:srgbClr val="ffffff"/>
              </a:solidFill>
              <a:latin typeface="Tahoma"/>
            </a:endParaRPr>
          </a:p>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по человечески</a:t>
            </a:r>
            <a:r>
              <a:rPr b="0" lang="ru-RU"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КЛЮЧЕВЫ СЛОВА</a:t>
            </a:r>
            <a:br>
              <a:rPr sz="4400"/>
            </a:br>
            <a:r>
              <a:rPr b="1" lang="en-US" sz="4400" spc="-1" strike="noStrike" u="sng">
                <a:solidFill>
                  <a:srgbClr val="ffffff"/>
                </a:solidFill>
                <a:uFillTx/>
                <a:latin typeface="Tahoma"/>
              </a:rPr>
              <a:t> Ф И Н А Л А </a:t>
            </a:r>
            <a:endParaRPr b="0" lang="en-US" sz="4400" spc="-1" strike="noStrike">
              <a:solidFill>
                <a:srgbClr val="ffffcc"/>
              </a:solidFill>
              <a:latin typeface="Tahoma"/>
            </a:endParaRPr>
          </a:p>
        </p:txBody>
      </p:sp>
      <p:sp>
        <p:nvSpPr>
          <p:cNvPr id="224" name="PlaceHolder 2"/>
          <p:cNvSpPr>
            <a:spLocks noGrp="1"/>
          </p:cNvSpPr>
          <p:nvPr>
            <p:ph/>
          </p:nvPr>
        </p:nvSpPr>
        <p:spPr>
          <a:xfrm>
            <a:off x="1182600" y="1699920"/>
            <a:ext cx="7772400" cy="51577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1" action="ppaction://hlinksldjump"/>
              </a:rPr>
              <a:t>«гарант»</a:t>
            </a:r>
            <a:r>
              <a:rPr b="0" lang="en-US" sz="3200" spc="-1" strike="noStrike" u="sng">
                <a:solidFill>
                  <a:srgbClr val="ff3399"/>
                </a:solidFill>
                <a:uFillTx/>
                <a:latin typeface="Tahoma"/>
                <a:hlinkClick r:id="rId2" action="ppaction://hlinksldjump"/>
              </a:rPr>
              <a:t> </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3" action="ppaction://hlinksldjump"/>
              </a:rPr>
              <a:t>«судья» </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4" action="ppaction://hlinksldjump"/>
              </a:rPr>
              <a:t>«Конституционный»</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5" action="ppaction://hlinksldjump"/>
              </a:rPr>
              <a:t>«по гражданским»</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6" action="ppaction://hlinksldjump"/>
              </a:rPr>
              <a:t>«состоит» </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7" action="ppaction://hlinksldjump"/>
              </a:rPr>
              <a:t>« обязательное рассмотрение»</a:t>
            </a:r>
            <a:r>
              <a:rPr b="0" lang="en-US" sz="3200" spc="-1" strike="noStrike" u="sng">
                <a:solidFill>
                  <a:srgbClr val="ff3399"/>
                </a:solidFill>
                <a:uFillTx/>
                <a:latin typeface="Tahoma"/>
                <a:hlinkClick r:id="rId8" action="ppaction://hlinksldjump"/>
              </a:rPr>
              <a:t> </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9" action="ppaction://hlinksldjump"/>
              </a:rPr>
              <a:t>« как принимаются»</a:t>
            </a:r>
            <a:r>
              <a:rPr b="0" lang="en-US" sz="3200" spc="-1" strike="noStrike" u="sng">
                <a:solidFill>
                  <a:srgbClr val="ff3399"/>
                </a:solidFill>
                <a:uFillTx/>
                <a:latin typeface="Tahoma"/>
                <a:hlinkClick r:id="rId10" action="ppaction://hlinksldjump"/>
              </a:rPr>
              <a:t> </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11" action="ppaction://hlinksldjump"/>
              </a:rPr>
              <a:t>«может быть избран</a:t>
            </a:r>
            <a:r>
              <a:rPr b="0" lang="en-US" sz="3200" spc="-1" strike="noStrike" u="sng">
                <a:solidFill>
                  <a:srgbClr val="ff3399"/>
                </a:solidFill>
                <a:uFillTx/>
                <a:latin typeface="Tahoma"/>
                <a:hlinkClick r:id="rId12" action="ppaction://hlinksldjump"/>
              </a:rPr>
              <a:t>» </a:t>
            </a:r>
            <a:endParaRPr b="0" lang="en-US" sz="3200" spc="-1" strike="noStrike">
              <a:solidFill>
                <a:srgbClr val="ffffff"/>
              </a:solidFill>
              <a:latin typeface="Tahoma"/>
            </a:endParaRPr>
          </a:p>
          <a:p>
            <a:pPr marL="325800" indent="-325800">
              <a:lnSpc>
                <a:spcPct val="9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Tahoma"/>
                <a:hlinkClick r:id="rId13" action="ppaction://hlinksldjump"/>
              </a:rPr>
              <a:t>«каждый имеет право»</a:t>
            </a:r>
            <a:endParaRPr b="0" lang="en-US" sz="3200" spc="-1" strike="noStrike">
              <a:solidFill>
                <a:srgbClr val="ffffff"/>
              </a:solidFill>
              <a:latin typeface="Tahoma"/>
            </a:endParaRPr>
          </a:p>
        </p:txBody>
      </p:sp>
      <p:sp>
        <p:nvSpPr>
          <p:cNvPr id="225" name=""/>
          <p:cNvSpPr/>
          <p:nvPr/>
        </p:nvSpPr>
        <p:spPr>
          <a:xfrm>
            <a:off x="8244000" y="6453360"/>
            <a:ext cx="900000" cy="404640"/>
          </a:xfrm>
          <a:custGeom>
            <a:avLst/>
            <a:gdLst>
              <a:gd name="textAreaLeft" fmla="*/ 25920 w 900000"/>
              <a:gd name="textAreaRight" fmla="*/ 874080 w 900000"/>
              <a:gd name="textAreaTop" fmla="*/ 25920 h 404640"/>
              <a:gd name="textAreaBottom" fmla="*/ 378720 h 404640"/>
            </a:gdLst>
            <a:ahLst/>
            <a:rect l="textAreaLeft" t="textAreaTop" r="textAreaRight" b="textAreaBottom"/>
            <a:pathLst>
              <a:path w="48019" h="21600">
                <a:moveTo>
                  <a:pt x="0" y="0"/>
                </a:moveTo>
                <a:lnTo>
                  <a:pt x="48019" y="0"/>
                </a:lnTo>
                <a:lnTo>
                  <a:pt x="48019" y="21600"/>
                </a:lnTo>
                <a:lnTo>
                  <a:pt x="0" y="21600"/>
                </a:lnTo>
                <a:close/>
              </a:path>
              <a:path fill="lightenLess" w="48019" h="21600">
                <a:moveTo>
                  <a:pt x="0" y="0"/>
                </a:moveTo>
                <a:lnTo>
                  <a:pt x="48019" y="0"/>
                </a:lnTo>
                <a:lnTo>
                  <a:pt x="46619" y="1400"/>
                </a:lnTo>
                <a:lnTo>
                  <a:pt x="1400" y="1400"/>
                </a:lnTo>
                <a:close/>
              </a:path>
              <a:path fill="darken" w="48019" h="21600">
                <a:moveTo>
                  <a:pt x="48019" y="0"/>
                </a:moveTo>
                <a:lnTo>
                  <a:pt x="48019" y="21600"/>
                </a:lnTo>
                <a:lnTo>
                  <a:pt x="46619" y="20200"/>
                </a:lnTo>
                <a:lnTo>
                  <a:pt x="46619" y="1400"/>
                </a:lnTo>
                <a:close/>
              </a:path>
              <a:path fill="darkenLess" w="48019" h="21600">
                <a:moveTo>
                  <a:pt x="48019" y="21600"/>
                </a:moveTo>
                <a:lnTo>
                  <a:pt x="0" y="21600"/>
                </a:lnTo>
                <a:lnTo>
                  <a:pt x="1400" y="20200"/>
                </a:lnTo>
                <a:lnTo>
                  <a:pt x="46619" y="20200"/>
                </a:lnTo>
                <a:close/>
              </a:path>
              <a:path fill="lighten" w="48019" h="21600">
                <a:moveTo>
                  <a:pt x="0" y="21600"/>
                </a:moveTo>
                <a:lnTo>
                  <a:pt x="0" y="0"/>
                </a:lnTo>
                <a:lnTo>
                  <a:pt x="1400" y="1400"/>
                </a:lnTo>
                <a:lnTo>
                  <a:pt x="1400" y="20200"/>
                </a:lnTo>
                <a:close/>
              </a:path>
              <a:path fill="darken" w="48019" h="21600">
                <a:moveTo>
                  <a:pt x="17003" y="3794"/>
                </a:moveTo>
                <a:lnTo>
                  <a:pt x="31016" y="10800"/>
                </a:lnTo>
                <a:lnTo>
                  <a:pt x="17003"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Гарантом чего является Президент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нституции РФ, прав и свобод человека и гражданин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
          <p:cNvSpPr/>
          <p:nvPr/>
        </p:nvSpPr>
        <p:spPr>
          <a:xfrm>
            <a:off x="8459640" y="6381720"/>
            <a:ext cx="684360" cy="476280"/>
          </a:xfrm>
          <a:custGeom>
            <a:avLst/>
            <a:gdLst>
              <a:gd name="textAreaLeft" fmla="*/ 30600 w 684360"/>
              <a:gd name="textAreaRight" fmla="*/ 653760 w 684360"/>
              <a:gd name="textAreaTop" fmla="*/ 30600 h 476280"/>
              <a:gd name="textAreaBottom" fmla="*/ 445680 h 476280"/>
            </a:gdLst>
            <a:ahLst/>
            <a:rect l="textAreaLeft" t="textAreaTop" r="textAreaRight" b="textAreaBottom"/>
            <a:pathLst>
              <a:path w="31030" h="21600">
                <a:moveTo>
                  <a:pt x="0" y="0"/>
                </a:moveTo>
                <a:lnTo>
                  <a:pt x="31030" y="0"/>
                </a:lnTo>
                <a:lnTo>
                  <a:pt x="31030" y="21600"/>
                </a:lnTo>
                <a:lnTo>
                  <a:pt x="0" y="21600"/>
                </a:lnTo>
                <a:close/>
              </a:path>
              <a:path fill="lightenLess" w="31030" h="21600">
                <a:moveTo>
                  <a:pt x="0" y="0"/>
                </a:moveTo>
                <a:lnTo>
                  <a:pt x="31030" y="0"/>
                </a:lnTo>
                <a:lnTo>
                  <a:pt x="29630" y="1400"/>
                </a:lnTo>
                <a:lnTo>
                  <a:pt x="1400" y="1400"/>
                </a:lnTo>
                <a:close/>
              </a:path>
              <a:path fill="darken" w="31030" h="21600">
                <a:moveTo>
                  <a:pt x="31030" y="0"/>
                </a:moveTo>
                <a:lnTo>
                  <a:pt x="31030" y="21600"/>
                </a:lnTo>
                <a:lnTo>
                  <a:pt x="29630" y="20200"/>
                </a:lnTo>
                <a:lnTo>
                  <a:pt x="29630" y="1400"/>
                </a:lnTo>
                <a:close/>
              </a:path>
              <a:path fill="darkenLess" w="31030" h="21600">
                <a:moveTo>
                  <a:pt x="31030" y="21600"/>
                </a:moveTo>
                <a:lnTo>
                  <a:pt x="0" y="21600"/>
                </a:lnTo>
                <a:lnTo>
                  <a:pt x="1400" y="20200"/>
                </a:lnTo>
                <a:lnTo>
                  <a:pt x="29630" y="20200"/>
                </a:lnTo>
                <a:close/>
              </a:path>
              <a:path fill="lighten" w="31030" h="21600">
                <a:moveTo>
                  <a:pt x="0" y="21600"/>
                </a:moveTo>
                <a:lnTo>
                  <a:pt x="0" y="0"/>
                </a:lnTo>
                <a:lnTo>
                  <a:pt x="1400" y="1400"/>
                </a:lnTo>
                <a:lnTo>
                  <a:pt x="1400" y="20200"/>
                </a:lnTo>
                <a:close/>
              </a:path>
              <a:path fill="darken" w="31030" h="21600">
                <a:moveTo>
                  <a:pt x="12016" y="10800"/>
                </a:moveTo>
                <a:lnTo>
                  <a:pt x="22521" y="3794"/>
                </a:lnTo>
                <a:lnTo>
                  <a:pt x="22521" y="17806"/>
                </a:lnTo>
                <a:close/>
              </a:path>
              <a:path fill="darken" w="31030" h="21600">
                <a:moveTo>
                  <a:pt x="8508" y="3794"/>
                </a:moveTo>
                <a:lnTo>
                  <a:pt x="10171" y="3794"/>
                </a:lnTo>
                <a:lnTo>
                  <a:pt x="10171" y="17806"/>
                </a:lnTo>
                <a:lnTo>
                  <a:pt x="8508"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148360" y="2017800"/>
            <a:ext cx="380664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гда принята Конституция РФ? </a:t>
            </a:r>
            <a:endParaRPr b="0" lang="en-US" sz="3200" spc="-1" strike="noStrike">
              <a:solidFill>
                <a:srgbClr val="ffffff"/>
              </a:solidFill>
              <a:latin typeface="Tahoma"/>
            </a:endParaRPr>
          </a:p>
        </p:txBody>
      </p:sp>
      <p:pic>
        <p:nvPicPr>
          <p:cNvPr id="111" name="" descr=""/>
          <p:cNvPicPr/>
          <p:nvPr/>
        </p:nvPicPr>
        <p:blipFill>
          <a:blip r:embed="rId1"/>
          <a:stretch/>
        </p:blipFill>
        <p:spPr>
          <a:xfrm>
            <a:off x="1332000" y="620640"/>
            <a:ext cx="3552840" cy="5589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то может стать судьёй? </a:t>
            </a:r>
            <a:endParaRPr b="0" lang="en-US" sz="3200" spc="-1" strike="noStrike">
              <a:solidFill>
                <a:srgbClr val="ffffff"/>
              </a:solidFill>
              <a:latin typeface="Tahoma"/>
            </a:endParaRPr>
          </a:p>
        </p:txBody>
      </p:sp>
      <p:pic>
        <p:nvPicPr>
          <p:cNvPr id="230" name="" descr=""/>
          <p:cNvPicPr/>
          <p:nvPr/>
        </p:nvPicPr>
        <p:blipFill>
          <a:blip r:embed="rId1"/>
          <a:stretch/>
        </p:blipFill>
        <p:spPr>
          <a:xfrm>
            <a:off x="3857760" y="2890800"/>
            <a:ext cx="5035320" cy="37940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огут быть граждане РФ, достигшие 25 лет, имеющие высшее юридическое образование и стаж работы по юридической профессии не менее 5 лет.</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
          <p:cNvSpPr/>
          <p:nvPr/>
        </p:nvSpPr>
        <p:spPr>
          <a:xfrm>
            <a:off x="8532720" y="6381720"/>
            <a:ext cx="611280" cy="476280"/>
          </a:xfrm>
          <a:custGeom>
            <a:avLst/>
            <a:gdLst>
              <a:gd name="textAreaLeft" fmla="*/ 30600 w 611280"/>
              <a:gd name="textAreaRight" fmla="*/ 580680 w 611280"/>
              <a:gd name="textAreaTop" fmla="*/ 30600 h 476280"/>
              <a:gd name="textAreaBottom" fmla="*/ 445680 h 476280"/>
            </a:gdLst>
            <a:ahLst/>
            <a:rect l="textAreaLeft" t="textAreaTop" r="textAreaRight" b="textAreaBottom"/>
            <a:pathLst>
              <a:path w="27718" h="21600">
                <a:moveTo>
                  <a:pt x="0" y="0"/>
                </a:moveTo>
                <a:lnTo>
                  <a:pt x="27718" y="0"/>
                </a:lnTo>
                <a:lnTo>
                  <a:pt x="27718" y="21600"/>
                </a:lnTo>
                <a:lnTo>
                  <a:pt x="0" y="21600"/>
                </a:lnTo>
                <a:close/>
              </a:path>
              <a:path fill="lightenLess" w="27718" h="21600">
                <a:moveTo>
                  <a:pt x="0" y="0"/>
                </a:moveTo>
                <a:lnTo>
                  <a:pt x="27718" y="0"/>
                </a:lnTo>
                <a:lnTo>
                  <a:pt x="26318" y="1400"/>
                </a:lnTo>
                <a:lnTo>
                  <a:pt x="1400" y="1400"/>
                </a:lnTo>
                <a:close/>
              </a:path>
              <a:path fill="darken" w="27718" h="21600">
                <a:moveTo>
                  <a:pt x="27718" y="0"/>
                </a:moveTo>
                <a:lnTo>
                  <a:pt x="27718" y="21600"/>
                </a:lnTo>
                <a:lnTo>
                  <a:pt x="26318" y="20200"/>
                </a:lnTo>
                <a:lnTo>
                  <a:pt x="26318" y="1400"/>
                </a:lnTo>
                <a:close/>
              </a:path>
              <a:path fill="darkenLess" w="27718" h="21600">
                <a:moveTo>
                  <a:pt x="27718" y="21600"/>
                </a:moveTo>
                <a:lnTo>
                  <a:pt x="0" y="21600"/>
                </a:lnTo>
                <a:lnTo>
                  <a:pt x="1400" y="20200"/>
                </a:lnTo>
                <a:lnTo>
                  <a:pt x="26318" y="20200"/>
                </a:lnTo>
                <a:close/>
              </a:path>
              <a:path fill="lighten" w="27718" h="21600">
                <a:moveTo>
                  <a:pt x="0" y="21600"/>
                </a:moveTo>
                <a:lnTo>
                  <a:pt x="0" y="0"/>
                </a:lnTo>
                <a:lnTo>
                  <a:pt x="1400" y="1400"/>
                </a:lnTo>
                <a:lnTo>
                  <a:pt x="1400" y="20200"/>
                </a:lnTo>
                <a:close/>
              </a:path>
              <a:path fill="darken" w="27718" h="21600">
                <a:moveTo>
                  <a:pt x="10360" y="10800"/>
                </a:moveTo>
                <a:lnTo>
                  <a:pt x="20865" y="3794"/>
                </a:lnTo>
                <a:lnTo>
                  <a:pt x="20865" y="17806"/>
                </a:lnTo>
                <a:close/>
              </a:path>
              <a:path fill="darken" w="27718" h="21600">
                <a:moveTo>
                  <a:pt x="6852" y="3794"/>
                </a:moveTo>
                <a:lnTo>
                  <a:pt x="8515" y="3794"/>
                </a:lnTo>
                <a:lnTo>
                  <a:pt x="8515" y="17806"/>
                </a:lnTo>
                <a:lnTo>
                  <a:pt x="6852"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826920" y="333360"/>
            <a:ext cx="7772400" cy="906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колько судей входит в Конституционный Суд РФ? </a:t>
            </a:r>
            <a:endParaRPr b="0" lang="en-US" sz="2800" spc="-1" strike="noStrike">
              <a:solidFill>
                <a:srgbClr val="ffffff"/>
              </a:solidFill>
              <a:latin typeface="Tahoma"/>
            </a:endParaRPr>
          </a:p>
        </p:txBody>
      </p:sp>
      <p:pic>
        <p:nvPicPr>
          <p:cNvPr id="234" name="" descr=""/>
          <p:cNvPicPr/>
          <p:nvPr/>
        </p:nvPicPr>
        <p:blipFill>
          <a:blip r:embed="rId1"/>
          <a:stretch/>
        </p:blipFill>
        <p:spPr>
          <a:xfrm>
            <a:off x="1547640" y="1773360"/>
            <a:ext cx="5969160" cy="39495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 судей.</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
          <p:cNvSpPr/>
          <p:nvPr/>
        </p:nvSpPr>
        <p:spPr>
          <a:xfrm>
            <a:off x="8459640" y="6308640"/>
            <a:ext cx="684360" cy="549360"/>
          </a:xfrm>
          <a:custGeom>
            <a:avLst/>
            <a:gdLst>
              <a:gd name="textAreaLeft" fmla="*/ 35280 w 684360"/>
              <a:gd name="textAreaRight" fmla="*/ 649080 w 684360"/>
              <a:gd name="textAreaTop" fmla="*/ 35280 h 549360"/>
              <a:gd name="textAreaBottom" fmla="*/ 514080 h 549360"/>
            </a:gdLst>
            <a:ahLst/>
            <a:rect l="textAreaLeft" t="textAreaTop" r="textAreaRight" b="textAreaBottom"/>
            <a:pathLst>
              <a:path w="26905" h="21600">
                <a:moveTo>
                  <a:pt x="0" y="0"/>
                </a:moveTo>
                <a:lnTo>
                  <a:pt x="26905" y="0"/>
                </a:lnTo>
                <a:lnTo>
                  <a:pt x="26905" y="21600"/>
                </a:lnTo>
                <a:lnTo>
                  <a:pt x="0" y="21600"/>
                </a:lnTo>
                <a:close/>
              </a:path>
              <a:path fill="lightenLess" w="26905" h="21600">
                <a:moveTo>
                  <a:pt x="0" y="0"/>
                </a:moveTo>
                <a:lnTo>
                  <a:pt x="26905" y="0"/>
                </a:lnTo>
                <a:lnTo>
                  <a:pt x="25505" y="1400"/>
                </a:lnTo>
                <a:lnTo>
                  <a:pt x="1400" y="1400"/>
                </a:lnTo>
                <a:close/>
              </a:path>
              <a:path fill="darken" w="26905" h="21600">
                <a:moveTo>
                  <a:pt x="26905" y="0"/>
                </a:moveTo>
                <a:lnTo>
                  <a:pt x="26905" y="21600"/>
                </a:lnTo>
                <a:lnTo>
                  <a:pt x="25505" y="20200"/>
                </a:lnTo>
                <a:lnTo>
                  <a:pt x="25505" y="1400"/>
                </a:lnTo>
                <a:close/>
              </a:path>
              <a:path fill="darkenLess" w="26905" h="21600">
                <a:moveTo>
                  <a:pt x="26905" y="21600"/>
                </a:moveTo>
                <a:lnTo>
                  <a:pt x="0" y="21600"/>
                </a:lnTo>
                <a:lnTo>
                  <a:pt x="1400" y="20200"/>
                </a:lnTo>
                <a:lnTo>
                  <a:pt x="25505" y="20200"/>
                </a:lnTo>
                <a:close/>
              </a:path>
              <a:path fill="lighten" w="26905" h="21600">
                <a:moveTo>
                  <a:pt x="0" y="21600"/>
                </a:moveTo>
                <a:lnTo>
                  <a:pt x="0" y="0"/>
                </a:lnTo>
                <a:lnTo>
                  <a:pt x="1400" y="1400"/>
                </a:lnTo>
                <a:lnTo>
                  <a:pt x="1400" y="20200"/>
                </a:lnTo>
                <a:close/>
              </a:path>
              <a:path fill="darken" w="26905" h="21600">
                <a:moveTo>
                  <a:pt x="9953" y="10800"/>
                </a:moveTo>
                <a:lnTo>
                  <a:pt x="20459" y="3794"/>
                </a:lnTo>
                <a:lnTo>
                  <a:pt x="20459" y="17806"/>
                </a:lnTo>
                <a:close/>
              </a:path>
              <a:path fill="darken" w="26905" h="21600">
                <a:moveTo>
                  <a:pt x="6446" y="3794"/>
                </a:moveTo>
                <a:lnTo>
                  <a:pt x="8108" y="3794"/>
                </a:lnTo>
                <a:lnTo>
                  <a:pt x="8108" y="17806"/>
                </a:lnTo>
                <a:lnTo>
                  <a:pt x="6446"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зовите высший судебный орган по гражданским, уголовным, административным и иным делам, подсудным судам общей юрисдикц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ерховный Суд Российской Федерации.</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
          <p:cNvSpPr/>
          <p:nvPr/>
        </p:nvSpPr>
        <p:spPr>
          <a:xfrm>
            <a:off x="8459640" y="6381720"/>
            <a:ext cx="684360" cy="476280"/>
          </a:xfrm>
          <a:custGeom>
            <a:avLst/>
            <a:gdLst>
              <a:gd name="textAreaLeft" fmla="*/ 30600 w 684360"/>
              <a:gd name="textAreaRight" fmla="*/ 653760 w 684360"/>
              <a:gd name="textAreaTop" fmla="*/ 30600 h 476280"/>
              <a:gd name="textAreaBottom" fmla="*/ 445680 h 476280"/>
            </a:gdLst>
            <a:ahLst/>
            <a:rect l="textAreaLeft" t="textAreaTop" r="textAreaRight" b="textAreaBottom"/>
            <a:pathLst>
              <a:path w="31030" h="21600">
                <a:moveTo>
                  <a:pt x="0" y="0"/>
                </a:moveTo>
                <a:lnTo>
                  <a:pt x="31030" y="0"/>
                </a:lnTo>
                <a:lnTo>
                  <a:pt x="31030" y="21600"/>
                </a:lnTo>
                <a:lnTo>
                  <a:pt x="0" y="21600"/>
                </a:lnTo>
                <a:close/>
              </a:path>
              <a:path fill="lightenLess" w="31030" h="21600">
                <a:moveTo>
                  <a:pt x="0" y="0"/>
                </a:moveTo>
                <a:lnTo>
                  <a:pt x="31030" y="0"/>
                </a:lnTo>
                <a:lnTo>
                  <a:pt x="29630" y="1400"/>
                </a:lnTo>
                <a:lnTo>
                  <a:pt x="1400" y="1400"/>
                </a:lnTo>
                <a:close/>
              </a:path>
              <a:path fill="darken" w="31030" h="21600">
                <a:moveTo>
                  <a:pt x="31030" y="0"/>
                </a:moveTo>
                <a:lnTo>
                  <a:pt x="31030" y="21600"/>
                </a:lnTo>
                <a:lnTo>
                  <a:pt x="29630" y="20200"/>
                </a:lnTo>
                <a:lnTo>
                  <a:pt x="29630" y="1400"/>
                </a:lnTo>
                <a:close/>
              </a:path>
              <a:path fill="darkenLess" w="31030" h="21600">
                <a:moveTo>
                  <a:pt x="31030" y="21600"/>
                </a:moveTo>
                <a:lnTo>
                  <a:pt x="0" y="21600"/>
                </a:lnTo>
                <a:lnTo>
                  <a:pt x="1400" y="20200"/>
                </a:lnTo>
                <a:lnTo>
                  <a:pt x="29630" y="20200"/>
                </a:lnTo>
                <a:close/>
              </a:path>
              <a:path fill="lighten" w="31030" h="21600">
                <a:moveTo>
                  <a:pt x="0" y="21600"/>
                </a:moveTo>
                <a:lnTo>
                  <a:pt x="0" y="0"/>
                </a:lnTo>
                <a:lnTo>
                  <a:pt x="1400" y="1400"/>
                </a:lnTo>
                <a:lnTo>
                  <a:pt x="1400" y="20200"/>
                </a:lnTo>
                <a:close/>
              </a:path>
              <a:path fill="darken" w="31030" h="21600">
                <a:moveTo>
                  <a:pt x="12016" y="10800"/>
                </a:moveTo>
                <a:lnTo>
                  <a:pt x="22521" y="3794"/>
                </a:lnTo>
                <a:lnTo>
                  <a:pt x="22521" y="17806"/>
                </a:lnTo>
                <a:close/>
              </a:path>
              <a:path fill="darken" w="31030" h="21600">
                <a:moveTo>
                  <a:pt x="8508" y="3794"/>
                </a:moveTo>
                <a:lnTo>
                  <a:pt x="10171" y="3794"/>
                </a:lnTo>
                <a:lnTo>
                  <a:pt x="10171" y="17806"/>
                </a:lnTo>
                <a:lnTo>
                  <a:pt x="8508"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авительство РФ состоит из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еречислите, пожалуйст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едседателя Правительства РФ, заместителей Председателя Правительства РФ и Федеральных министров.</a:t>
            </a:r>
            <a:endParaRPr b="0" lang="en-US" sz="3200" spc="-1" strike="noStrike">
              <a:solidFill>
                <a:srgbClr val="ffffff"/>
              </a:solidFill>
              <a:latin typeface="Tahoma"/>
            </a:endParaRPr>
          </a:p>
        </p:txBody>
      </p:sp>
      <p:sp>
        <p:nvSpPr>
          <p:cNvPr id="242" name=""/>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 fill="darken" w="24033" h="21600">
                <a:moveTo>
                  <a:pt x="8518" y="10800"/>
                </a:moveTo>
                <a:lnTo>
                  <a:pt x="19023" y="3794"/>
                </a:lnTo>
                <a:lnTo>
                  <a:pt x="19023" y="17806"/>
                </a:lnTo>
                <a:close/>
              </a:path>
              <a:path fill="darken" w="24033" h="21600">
                <a:moveTo>
                  <a:pt x="5010" y="3794"/>
                </a:moveTo>
                <a:lnTo>
                  <a:pt x="6672" y="3794"/>
                </a:lnTo>
                <a:lnTo>
                  <a:pt x="6672" y="17806"/>
                </a:lnTo>
                <a:lnTo>
                  <a:pt x="5010"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Что подлежит обязательному рассмотрению в Совете Федерации /подсказка: законы по каким вопросам/? Назовите хотя бы 3.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82600" y="1557000"/>
            <a:ext cx="7772400" cy="457524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Законы по вопросам: федерального бюджета, федеральных налогов и сборов, финансового, валютного, кредитного, таможенного регулирования, денежной эмиссии, ратификация и денонсация международных договоров РФ, статуса и защиты государственной границы РФ, войны и мира.</a:t>
            </a:r>
            <a:endParaRPr b="0" lang="en-US" sz="3200" spc="-1" strike="noStrike">
              <a:solidFill>
                <a:srgbClr val="ffffff"/>
              </a:solidFill>
              <a:latin typeface="Tahoma"/>
            </a:endParaRPr>
          </a:p>
        </p:txBody>
      </p:sp>
      <p:sp>
        <p:nvSpPr>
          <p:cNvPr id="245" name=""/>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 fill="darken" w="24033" h="21600">
                <a:moveTo>
                  <a:pt x="8518" y="10800"/>
                </a:moveTo>
                <a:lnTo>
                  <a:pt x="19023" y="3794"/>
                </a:lnTo>
                <a:lnTo>
                  <a:pt x="19023" y="17806"/>
                </a:lnTo>
                <a:close/>
              </a:path>
              <a:path fill="darken" w="24033" h="21600">
                <a:moveTo>
                  <a:pt x="5010" y="3794"/>
                </a:moveTo>
                <a:lnTo>
                  <a:pt x="6672" y="3794"/>
                </a:lnTo>
                <a:lnTo>
                  <a:pt x="6672" y="17806"/>
                </a:lnTo>
                <a:lnTo>
                  <a:pt x="5010"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971640" y="333000"/>
            <a:ext cx="7772400" cy="979560"/>
          </a:xfrm>
          <a:prstGeom prst="rect">
            <a:avLst/>
          </a:prstGeom>
          <a:noFill/>
          <a:ln w="0">
            <a:noFill/>
          </a:ln>
        </p:spPr>
        <p:txBody>
          <a:bodyPr lIns="90000" rIns="90000" tIns="46800" bIns="46800" anchor="t">
            <a:normAutofit/>
          </a:bodyPr>
          <a:p>
            <a:pPr marL="343080" indent="-343080" algn="ctr">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 декабря 1993 года</a:t>
            </a:r>
            <a:endParaRPr b="0" lang="en-US" sz="3200" spc="-1" strike="noStrike">
              <a:solidFill>
                <a:srgbClr val="ffffff"/>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
            <a:hlinkClick r:id="rId1" action="ppaction://hlinksldjump"/>
          </p:cNvPr>
          <p:cNvSpPr/>
          <p:nvPr/>
        </p:nvSpPr>
        <p:spPr>
          <a:xfrm>
            <a:off x="8317080" y="6308640"/>
            <a:ext cx="826920" cy="549360"/>
          </a:xfrm>
          <a:custGeom>
            <a:avLst/>
            <a:gdLst>
              <a:gd name="textAreaLeft" fmla="*/ 35280 w 826920"/>
              <a:gd name="textAreaRight" fmla="*/ 791640 w 826920"/>
              <a:gd name="textAreaTop" fmla="*/ 35280 h 549360"/>
              <a:gd name="textAreaBottom" fmla="*/ 514080 h 549360"/>
            </a:gdLst>
            <a:ahLst/>
            <a:rect l="textAreaLeft" t="textAreaTop" r="textAreaRight" b="textAreaBottom"/>
            <a:pathLst>
              <a:path w="32506" h="21600">
                <a:moveTo>
                  <a:pt x="0" y="0"/>
                </a:moveTo>
                <a:lnTo>
                  <a:pt x="32506" y="0"/>
                </a:lnTo>
                <a:lnTo>
                  <a:pt x="32506" y="21600"/>
                </a:lnTo>
                <a:lnTo>
                  <a:pt x="0" y="21600"/>
                </a:lnTo>
                <a:close/>
              </a:path>
              <a:path fill="lightenLess" w="32506" h="21600">
                <a:moveTo>
                  <a:pt x="0" y="0"/>
                </a:moveTo>
                <a:lnTo>
                  <a:pt x="32506" y="0"/>
                </a:lnTo>
                <a:lnTo>
                  <a:pt x="31106" y="1400"/>
                </a:lnTo>
                <a:lnTo>
                  <a:pt x="1400" y="1400"/>
                </a:lnTo>
                <a:close/>
              </a:path>
              <a:path fill="darken" w="32506" h="21600">
                <a:moveTo>
                  <a:pt x="32506" y="0"/>
                </a:moveTo>
                <a:lnTo>
                  <a:pt x="32506" y="21600"/>
                </a:lnTo>
                <a:lnTo>
                  <a:pt x="31106" y="20200"/>
                </a:lnTo>
                <a:lnTo>
                  <a:pt x="31106" y="1400"/>
                </a:lnTo>
                <a:close/>
              </a:path>
              <a:path fill="darkenLess" w="32506" h="21600">
                <a:moveTo>
                  <a:pt x="32506" y="21600"/>
                </a:moveTo>
                <a:lnTo>
                  <a:pt x="0" y="21600"/>
                </a:lnTo>
                <a:lnTo>
                  <a:pt x="1400" y="20200"/>
                </a:lnTo>
                <a:lnTo>
                  <a:pt x="31106" y="20200"/>
                </a:lnTo>
                <a:close/>
              </a:path>
              <a:path fill="lighten" w="32506" h="21600">
                <a:moveTo>
                  <a:pt x="0" y="21600"/>
                </a:moveTo>
                <a:lnTo>
                  <a:pt x="0" y="0"/>
                </a:lnTo>
                <a:lnTo>
                  <a:pt x="1400" y="1400"/>
                </a:lnTo>
                <a:lnTo>
                  <a:pt x="1400" y="20200"/>
                </a:lnTo>
                <a:close/>
              </a:path>
              <a:path fill="darken" w="32506" h="21600">
                <a:moveTo>
                  <a:pt x="12754" y="10800"/>
                </a:moveTo>
                <a:lnTo>
                  <a:pt x="23260" y="3794"/>
                </a:lnTo>
                <a:lnTo>
                  <a:pt x="23260" y="17806"/>
                </a:lnTo>
                <a:close/>
              </a:path>
              <a:path fill="darken" w="32506" h="21600">
                <a:moveTo>
                  <a:pt x="9247" y="3794"/>
                </a:moveTo>
                <a:lnTo>
                  <a:pt x="10909" y="3794"/>
                </a:lnTo>
                <a:lnTo>
                  <a:pt x="10909" y="17806"/>
                </a:lnTo>
                <a:lnTo>
                  <a:pt x="9247"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4" name="" descr=""/>
          <p:cNvPicPr/>
          <p:nvPr/>
        </p:nvPicPr>
        <p:blipFill>
          <a:blip r:embed="rId2"/>
          <a:stretch/>
        </p:blipFill>
        <p:spPr>
          <a:xfrm>
            <a:off x="2050920" y="1125360"/>
            <a:ext cx="5400720" cy="54007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ак принимаются Федеральные законы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Федеральные законы принимаются Государственной Думой не менее 2/3 голосов от общего числа депутатов ГД.</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
          <p:cNvSpPr/>
          <p:nvPr/>
        </p:nvSpPr>
        <p:spPr>
          <a:xfrm>
            <a:off x="8459640" y="6381720"/>
            <a:ext cx="684360" cy="476280"/>
          </a:xfrm>
          <a:custGeom>
            <a:avLst/>
            <a:gdLst>
              <a:gd name="textAreaLeft" fmla="*/ 30600 w 684360"/>
              <a:gd name="textAreaRight" fmla="*/ 653760 w 684360"/>
              <a:gd name="textAreaTop" fmla="*/ 30600 h 476280"/>
              <a:gd name="textAreaBottom" fmla="*/ 445680 h 476280"/>
            </a:gdLst>
            <a:ahLst/>
            <a:rect l="textAreaLeft" t="textAreaTop" r="textAreaRight" b="textAreaBottom"/>
            <a:pathLst>
              <a:path w="31030" h="21600">
                <a:moveTo>
                  <a:pt x="0" y="0"/>
                </a:moveTo>
                <a:lnTo>
                  <a:pt x="31030" y="0"/>
                </a:lnTo>
                <a:lnTo>
                  <a:pt x="31030" y="21600"/>
                </a:lnTo>
                <a:lnTo>
                  <a:pt x="0" y="21600"/>
                </a:lnTo>
                <a:close/>
              </a:path>
              <a:path fill="lightenLess" w="31030" h="21600">
                <a:moveTo>
                  <a:pt x="0" y="0"/>
                </a:moveTo>
                <a:lnTo>
                  <a:pt x="31030" y="0"/>
                </a:lnTo>
                <a:lnTo>
                  <a:pt x="29630" y="1400"/>
                </a:lnTo>
                <a:lnTo>
                  <a:pt x="1400" y="1400"/>
                </a:lnTo>
                <a:close/>
              </a:path>
              <a:path fill="darken" w="31030" h="21600">
                <a:moveTo>
                  <a:pt x="31030" y="0"/>
                </a:moveTo>
                <a:lnTo>
                  <a:pt x="31030" y="21600"/>
                </a:lnTo>
                <a:lnTo>
                  <a:pt x="29630" y="20200"/>
                </a:lnTo>
                <a:lnTo>
                  <a:pt x="29630" y="1400"/>
                </a:lnTo>
                <a:close/>
              </a:path>
              <a:path fill="darkenLess" w="31030" h="21600">
                <a:moveTo>
                  <a:pt x="31030" y="21600"/>
                </a:moveTo>
                <a:lnTo>
                  <a:pt x="0" y="21600"/>
                </a:lnTo>
                <a:lnTo>
                  <a:pt x="1400" y="20200"/>
                </a:lnTo>
                <a:lnTo>
                  <a:pt x="29630" y="20200"/>
                </a:lnTo>
                <a:close/>
              </a:path>
              <a:path fill="lighten" w="31030" h="21600">
                <a:moveTo>
                  <a:pt x="0" y="21600"/>
                </a:moveTo>
                <a:lnTo>
                  <a:pt x="0" y="0"/>
                </a:lnTo>
                <a:lnTo>
                  <a:pt x="1400" y="1400"/>
                </a:lnTo>
                <a:lnTo>
                  <a:pt x="1400" y="20200"/>
                </a:lnTo>
                <a:close/>
              </a:path>
              <a:path fill="darken" w="31030" h="21600">
                <a:moveTo>
                  <a:pt x="12016" y="10800"/>
                </a:moveTo>
                <a:lnTo>
                  <a:pt x="22521" y="3794"/>
                </a:lnTo>
                <a:lnTo>
                  <a:pt x="22521" y="17806"/>
                </a:lnTo>
                <a:close/>
              </a:path>
              <a:path fill="darken" w="31030" h="21600">
                <a:moveTo>
                  <a:pt x="8508" y="3794"/>
                </a:moveTo>
                <a:lnTo>
                  <a:pt x="10171" y="3794"/>
                </a:lnTo>
                <a:lnTo>
                  <a:pt x="10171" y="17806"/>
                </a:lnTo>
                <a:lnTo>
                  <a:pt x="8508"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то может быть избран депутатом Государственной Думы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Может быть избран гражданин РФ, достигший 21 года и имеющий право участвовать в выборах.</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
          <p:cNvSpPr/>
          <p:nvPr/>
        </p:nvSpPr>
        <p:spPr>
          <a:xfrm>
            <a:off x="8459640" y="6381720"/>
            <a:ext cx="684360" cy="476280"/>
          </a:xfrm>
          <a:custGeom>
            <a:avLst/>
            <a:gdLst>
              <a:gd name="textAreaLeft" fmla="*/ 30600 w 684360"/>
              <a:gd name="textAreaRight" fmla="*/ 653760 w 684360"/>
              <a:gd name="textAreaTop" fmla="*/ 30600 h 476280"/>
              <a:gd name="textAreaBottom" fmla="*/ 445680 h 476280"/>
            </a:gdLst>
            <a:ahLst/>
            <a:rect l="textAreaLeft" t="textAreaTop" r="textAreaRight" b="textAreaBottom"/>
            <a:pathLst>
              <a:path w="31030" h="21600">
                <a:moveTo>
                  <a:pt x="0" y="0"/>
                </a:moveTo>
                <a:lnTo>
                  <a:pt x="31030" y="0"/>
                </a:lnTo>
                <a:lnTo>
                  <a:pt x="31030" y="21600"/>
                </a:lnTo>
                <a:lnTo>
                  <a:pt x="0" y="21600"/>
                </a:lnTo>
                <a:close/>
              </a:path>
              <a:path fill="lightenLess" w="31030" h="21600">
                <a:moveTo>
                  <a:pt x="0" y="0"/>
                </a:moveTo>
                <a:lnTo>
                  <a:pt x="31030" y="0"/>
                </a:lnTo>
                <a:lnTo>
                  <a:pt x="29630" y="1400"/>
                </a:lnTo>
                <a:lnTo>
                  <a:pt x="1400" y="1400"/>
                </a:lnTo>
                <a:close/>
              </a:path>
              <a:path fill="darken" w="31030" h="21600">
                <a:moveTo>
                  <a:pt x="31030" y="0"/>
                </a:moveTo>
                <a:lnTo>
                  <a:pt x="31030" y="21600"/>
                </a:lnTo>
                <a:lnTo>
                  <a:pt x="29630" y="20200"/>
                </a:lnTo>
                <a:lnTo>
                  <a:pt x="29630" y="1400"/>
                </a:lnTo>
                <a:close/>
              </a:path>
              <a:path fill="darkenLess" w="31030" h="21600">
                <a:moveTo>
                  <a:pt x="31030" y="21600"/>
                </a:moveTo>
                <a:lnTo>
                  <a:pt x="0" y="21600"/>
                </a:lnTo>
                <a:lnTo>
                  <a:pt x="1400" y="20200"/>
                </a:lnTo>
                <a:lnTo>
                  <a:pt x="29630" y="20200"/>
                </a:lnTo>
                <a:close/>
              </a:path>
              <a:path fill="lighten" w="31030" h="21600">
                <a:moveTo>
                  <a:pt x="0" y="21600"/>
                </a:moveTo>
                <a:lnTo>
                  <a:pt x="0" y="0"/>
                </a:lnTo>
                <a:lnTo>
                  <a:pt x="1400" y="1400"/>
                </a:lnTo>
                <a:lnTo>
                  <a:pt x="1400" y="20200"/>
                </a:lnTo>
                <a:close/>
              </a:path>
              <a:path fill="darken" w="31030" h="21600">
                <a:moveTo>
                  <a:pt x="12016" y="10800"/>
                </a:moveTo>
                <a:lnTo>
                  <a:pt x="22521" y="3794"/>
                </a:lnTo>
                <a:lnTo>
                  <a:pt x="22521" y="17806"/>
                </a:lnTo>
                <a:close/>
              </a:path>
              <a:path fill="darken" w="31030" h="21600">
                <a:moveTo>
                  <a:pt x="8508" y="3794"/>
                </a:moveTo>
                <a:lnTo>
                  <a:pt x="10171" y="3794"/>
                </a:lnTo>
                <a:lnTo>
                  <a:pt x="10171" y="17806"/>
                </a:lnTo>
                <a:lnTo>
                  <a:pt x="8508"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азовите хотя бы три  пункта «Каждый имеет право» на чт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60" y="259920"/>
            <a:ext cx="8955000" cy="6264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На жизнь, на свободу и личную неприкосновенность, на неприкосновенность частной жизни, личную и семейную тайну, защиту своей чести и доброго имени, на тайну переписки, телефонных переговоров, почтовых, телеграфных и иных сообщений, на пользование родным языком, на свободный выбор языка общения, воспитания и обучения, свободно искать, получать, передавать, производить и распространять информацию любым законным способом, на объединение, включая право создавать профессиональные союзы для защиты своих интересов, на свободное использование своих способностей, на отдых, на жилище, на охрану здоровья, на благоприятную окружающую среду, на образование, на участие в культурной жизни и пользование культурными учреждениями, на возмещение государством вреда причиненного незаконными действиями органов государственной власти.</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6858000"/>
          </a:xfrm>
          <a:prstGeom prst="rect">
            <a:avLst/>
          </a:prstGeom>
          <a:ln w="0">
            <a:noFill/>
          </a:ln>
        </p:spPr>
      </p:pic>
      <p:sp>
        <p:nvSpPr>
          <p:cNvPr id="255" name=""/>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0281" y="10800"/>
                </a:moveTo>
                <a:lnTo>
                  <a:pt x="20787" y="3794"/>
                </a:lnTo>
                <a:lnTo>
                  <a:pt x="20787" y="17806"/>
                </a:lnTo>
                <a:close/>
              </a:path>
              <a:path fill="darken" w="27560" h="21600">
                <a:moveTo>
                  <a:pt x="6774" y="3794"/>
                </a:moveTo>
                <a:lnTo>
                  <a:pt x="8436" y="3794"/>
                </a:lnTo>
                <a:lnTo>
                  <a:pt x="8436" y="17806"/>
                </a:lnTo>
                <a:lnTo>
                  <a:pt x="6774" y="17806"/>
                </a:lnTo>
                <a:close/>
              </a:path>
            </a:pathLst>
          </a:custGeom>
          <a:solidFill>
            <a:srgbClr val="3193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6" name=""/>
          <p:cNvSpPr txBox="1"/>
          <p:nvPr/>
        </p:nvSpPr>
        <p:spPr>
          <a:xfrm>
            <a:off x="324000" y="620640"/>
            <a:ext cx="8208720" cy="475308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Monotype Corsiva"/>
              </a:rPr>
              <a:t>ВСЕМ</a:t>
            </a:r>
            <a:endParaRPr b="1" lang="en-US" sz="4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Monotype Corsiva"/>
              </a:rPr>
              <a:t>С П А С И Б О !</a:t>
            </a:r>
            <a:endParaRPr b="1" lang="en-US" sz="4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Литература </a:t>
            </a:r>
            <a:endParaRPr b="0" lang="en-US" sz="4400" spc="-1" strike="noStrike">
              <a:solidFill>
                <a:srgbClr val="ffffcc"/>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 Конституция Российской Федерации. – М.: Эксмо, 2010.- 32 с. – (Законы и кодекс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Заставка и картинки</a:t>
            </a:r>
            <a:endParaRPr b="0" lang="en-US" sz="4400" spc="-1" strike="noStrike">
              <a:solidFill>
                <a:srgbClr val="ffffcc"/>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a:t>
            </a:r>
            <a:r>
              <a:rPr b="0" lang="en-US" sz="3200" spc="-1" strike="noStrike">
                <a:solidFill>
                  <a:srgbClr val="ffffff"/>
                </a:solidFill>
                <a:latin typeface="Tahoma"/>
              </a:rPr>
              <a:t>http://images.yandex.r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ем была принята Конституция Р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1:08:34Z</dcterms:created>
  <dc:creator>User</dc:creator>
  <dc:description/>
  <dc:language>en-US</dc:language>
  <cp:lastModifiedBy>User</cp:lastModifiedBy>
  <dcterms:modified xsi:type="dcterms:W3CDTF">2012-03-15T09:08:25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