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B3AE1-BF79-4A11-8671-0A867F543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56680"/>
            <a:ext cx="821844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184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22080"/>
            <a:ext cx="82184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2CFC-FECE-4132-9D93-48C48AE8E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56680"/>
            <a:ext cx="821844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0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120" y="1935000"/>
            <a:ext cx="4010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22080"/>
            <a:ext cx="4010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120" y="4222080"/>
            <a:ext cx="4010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09C9-87A9-4131-B5AE-2191B634A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56680"/>
            <a:ext cx="821844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60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5680" y="1935000"/>
            <a:ext cx="26460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4160" y="1935000"/>
            <a:ext cx="26460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22080"/>
            <a:ext cx="26460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5680" y="4222080"/>
            <a:ext cx="26460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4160" y="4222080"/>
            <a:ext cx="26460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93EFD-4051-492E-9D0A-9FC4B12F7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B9953-EA4E-4CFE-8329-8D51DE5A60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56680"/>
            <a:ext cx="821844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184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26F2C-2171-4D6B-83F2-2ABE250476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56680"/>
            <a:ext cx="821844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184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0B130-2ADF-46E5-9BEC-1F9C8C88E8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56680"/>
            <a:ext cx="821844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0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120" y="1935000"/>
            <a:ext cx="4010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0FBE-0D3D-419D-AED8-C625311743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56680"/>
            <a:ext cx="821844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C8BB6-B89E-4C71-81C9-4BDBD4F942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56680"/>
            <a:ext cx="821844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1F220-2939-4E4D-A0A5-0789DEFDBE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56680"/>
            <a:ext cx="821844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0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1935000"/>
            <a:ext cx="4010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222080"/>
            <a:ext cx="4010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FE6B3-B30E-4761-8CC2-D1028BD309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56680"/>
            <a:ext cx="821844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184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A084-89F9-4B3B-B133-65914BBD0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56680"/>
            <a:ext cx="821844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0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120" y="1935000"/>
            <a:ext cx="4010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120" y="4222080"/>
            <a:ext cx="4010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EC846-4B19-4947-A6D5-6E8FE062FB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56680"/>
            <a:ext cx="821844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0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1935000"/>
            <a:ext cx="4010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222080"/>
            <a:ext cx="82184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66454-800B-48D0-B7A2-2A77D1F902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56680"/>
            <a:ext cx="821844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184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4222080"/>
            <a:ext cx="82184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FBFC-F38F-4A8F-9297-AA3695DCF5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56680"/>
            <a:ext cx="821844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0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120" y="1935000"/>
            <a:ext cx="4010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222080"/>
            <a:ext cx="4010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120" y="4222080"/>
            <a:ext cx="4010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4AD12-9C83-4CD6-9274-F4694F2CCF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56680"/>
            <a:ext cx="821844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60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5680" y="1935000"/>
            <a:ext cx="26460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14160" y="1935000"/>
            <a:ext cx="26460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4222080"/>
            <a:ext cx="26460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5680" y="4222080"/>
            <a:ext cx="26460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14160" y="4222080"/>
            <a:ext cx="26460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BB802-1850-4F89-80A5-5AF8183638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56680"/>
            <a:ext cx="821844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184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F9D2-1CB9-41BD-952F-2040FA76A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56680"/>
            <a:ext cx="821844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0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935000"/>
            <a:ext cx="4010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58C3-35EC-4ACE-ACD3-C971D16D2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56680"/>
            <a:ext cx="821844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2F59-58AD-44E2-8EAB-90768B712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56680"/>
            <a:ext cx="821844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33EA-3441-4128-B6E0-71591ED37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56680"/>
            <a:ext cx="821844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0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935000"/>
            <a:ext cx="4010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22080"/>
            <a:ext cx="4010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6EB5-AAE8-4FD8-8DD2-98F58CF66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56680"/>
            <a:ext cx="821844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0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935000"/>
            <a:ext cx="4010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120" y="4222080"/>
            <a:ext cx="4010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A536-27B6-420E-8762-CDFDA913A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56680"/>
            <a:ext cx="821844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0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120" y="1935000"/>
            <a:ext cx="40104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22080"/>
            <a:ext cx="82184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4059-FF2C-4620-9EDA-906D265FF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90b00"/>
              </a:gs>
              <a:gs pos="100000">
                <a:srgbClr val="4d6c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5480d1"/>
              </a:gs>
              <a:gs pos="100000">
                <a:srgbClr val="941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56680"/>
            <a:ext cx="821844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184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924680" y="6356160"/>
            <a:ext cx="75096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D9C01-D3BF-4A8D-8F7A-1191E43AC0F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61640" cy="646200"/>
              <a:chOff x="-19080" y="203040"/>
              <a:chExt cx="9161640" cy="646200"/>
            </a:xfrm>
          </p:grpSpPr>
          <p:pic>
            <p:nvPicPr>
              <p:cNvPr id="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203040"/>
                <a:ext cx="91393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736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2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 rot="420000">
            <a:off x="799272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c90b00"/>
              </a:gs>
              <a:gs pos="100000">
                <a:srgbClr val="4d6c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5480d1"/>
              </a:gs>
              <a:gs pos="100000">
                <a:srgbClr val="941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56680"/>
            <a:ext cx="821844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184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2"/>
          </p:nvPr>
        </p:nvSpPr>
        <p:spPr>
          <a:xfrm>
            <a:off x="8077320" y="6356160"/>
            <a:ext cx="59832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35a68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2C27BE-9BEA-4426-A609-F65B01DE2A28}" type="slidenum">
              <a:rPr b="0" lang="ru-RU" sz="1200" spc="-1" strike="noStrike">
                <a:solidFill>
                  <a:srgbClr val="535a68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539640" y="1079640"/>
            <a:ext cx="7740720" cy="3060720"/>
            <a:chOff x="539640" y="1079640"/>
            <a:chExt cx="7740720" cy="306072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539640" y="1079640"/>
              <a:ext cx="774072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39640" y="1079640"/>
              <a:ext cx="7740720" cy="30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143080" y="6000840"/>
            <a:ext cx="65721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onstantia"/>
              </a:rPr>
              <a:t>Учитель технолог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onstantia"/>
              </a:rPr>
              <a:t>И. О. Джапаридз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71720" y="714240"/>
            <a:ext cx="779292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62110"/>
                </a:solidFill>
                <a:latin typeface="Calibri"/>
              </a:rPr>
              <a:t>Основные качества интерье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5840" y="2000160"/>
            <a:ext cx="500040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>
              <a:lnSpc>
                <a:spcPct val="90000"/>
              </a:lnSpc>
              <a:spcBef>
                <a:spcPts val="499"/>
              </a:spcBef>
              <a:buClr>
                <a:srgbClr val="b32c16"/>
              </a:buClr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Constantia"/>
              </a:rPr>
              <a:t>Функциональность</a:t>
            </a:r>
            <a:r>
              <a:rPr b="0" lang="ru-RU" sz="2400" spc="-1" strike="noStrike">
                <a:solidFill>
                  <a:srgbClr val="e75c01"/>
                </a:solidFill>
                <a:latin typeface="Constantia"/>
              </a:rPr>
              <a:t>  </a:t>
            </a:r>
            <a:r>
              <a:rPr b="1" lang="ru-RU" sz="2400" spc="-1" strike="noStrike">
                <a:solidFill>
                  <a:srgbClr val="862110"/>
                </a:solidFill>
                <a:latin typeface="Constantia"/>
              </a:rPr>
              <a:t>-</a:t>
            </a:r>
            <a:r>
              <a:rPr b="1" lang="ru-RU" sz="2000" spc="-1" strike="noStrike">
                <a:solidFill>
                  <a:srgbClr val="86211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5a160b"/>
                </a:solidFill>
                <a:latin typeface="Constantia"/>
              </a:rPr>
              <a:t> у каждого помещения в квартире есть свое назначение (функция): кухня, столовая, гостиная, спаль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499"/>
              </a:spcBef>
              <a:buClr>
                <a:srgbClr val="b32c16"/>
              </a:buClr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Constantia"/>
              </a:rPr>
              <a:t>Гигиеничность</a:t>
            </a:r>
            <a:r>
              <a:rPr b="0" lang="ru-RU" sz="2400" spc="-1" strike="noStrike">
                <a:solidFill>
                  <a:srgbClr val="e75c01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5a160b"/>
                </a:solidFill>
                <a:latin typeface="Constantia"/>
              </a:rPr>
              <a:t>– звуковая изоляция, воздухообмен и освещение, системы отопления, водоснабжения, канализ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499"/>
              </a:spcBef>
              <a:buClr>
                <a:srgbClr val="b32c16"/>
              </a:buClr>
              <a:buFont typeface="Wingdings 2" charset="2"/>
              <a:buChar char="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Constantia"/>
              </a:rPr>
              <a:t>Эстетика</a:t>
            </a:r>
            <a:r>
              <a:rPr b="0" lang="ru-RU" sz="2400" spc="-1" strike="noStrike">
                <a:solidFill>
                  <a:srgbClr val="eb6e5a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862110"/>
                </a:solidFill>
                <a:latin typeface="Constantia"/>
              </a:rPr>
              <a:t>–</a:t>
            </a:r>
            <a:r>
              <a:rPr b="1" lang="ru-RU" sz="2400" spc="-1" strike="noStrike">
                <a:solidFill>
                  <a:srgbClr val="eb6e5a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5a160b"/>
                </a:solidFill>
                <a:latin typeface="Constantia"/>
              </a:rPr>
              <a:t>гармония вещей и пространства. Это расположение мебели и предметов, их соответствие друг другу, цветовое оформление, декоративное убранство, озелен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940360" y="2519280"/>
            <a:ext cx="2340000" cy="324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690480"/>
            <a:ext cx="82296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62110"/>
                </a:solidFill>
                <a:latin typeface="Calibri"/>
              </a:rPr>
              <a:t>Дизайн интерьеров спальни</a:t>
            </a:r>
            <a:r>
              <a:rPr b="0" lang="ru-RU" sz="3600" spc="-1" strike="noStrike">
                <a:solidFill>
                  <a:srgbClr val="86211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00360" y="2160720"/>
            <a:ext cx="3598920" cy="3958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690480"/>
            <a:ext cx="82296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62110"/>
                </a:solidFill>
                <a:latin typeface="Calibri"/>
              </a:rPr>
              <a:t>Дизайн интерьеров столов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2340000"/>
            <a:ext cx="5038920" cy="341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62110"/>
                </a:solidFill>
                <a:latin typeface="Calibri"/>
              </a:rPr>
              <a:t>Интерьеры ванной и туалетной комна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371" t="3333" r="1368" b="3333"/>
          <a:stretch/>
        </p:blipFill>
        <p:spPr>
          <a:xfrm>
            <a:off x="2700360" y="2479680"/>
            <a:ext cx="3451320" cy="2560680"/>
          </a:xfrm>
          <a:prstGeom prst="rect">
            <a:avLst/>
          </a:prstGeom>
          <a:ln w="38160">
            <a:solidFill>
              <a:srgbClr val="862110"/>
            </a:solidFill>
            <a:miter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06440"/>
            <a:ext cx="82296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86211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862110"/>
                </a:solidFill>
                <a:latin typeface="Calibri"/>
              </a:rPr>
              <a:t>Словарная раб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42960"/>
            <a:ext cx="392904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6120" indent="-399960">
              <a:lnSpc>
                <a:spcPct val="80000"/>
              </a:lnSpc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6120" indent="-399960">
              <a:lnSpc>
                <a:spcPct val="80000"/>
              </a:lnSpc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6120" indent="-399960">
              <a:lnSpc>
                <a:spcPct val="80000"/>
              </a:lnSpc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6120" indent="-399960">
              <a:lnSpc>
                <a:spcPct val="80000"/>
              </a:lnSpc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6120" indent="-399960">
              <a:lnSpc>
                <a:spcPct val="80000"/>
              </a:lnSpc>
              <a:buClr>
                <a:srgbClr val="000000"/>
              </a:buClr>
              <a:buFont typeface="Wingdings 2" charset="2"/>
              <a:buChar char=""/>
              <a:tabLst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изайн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862110"/>
                </a:solidFill>
                <a:latin typeface="Arial"/>
              </a:rPr>
              <a:t>художественное, эстетическое оформление интерье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1680" y="2571840"/>
            <a:ext cx="3929040" cy="28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c11dc"/>
                </a:solidFill>
                <a:latin typeface="Arial"/>
              </a:rPr>
              <a:t>Функциональность </a:t>
            </a:r>
            <a:r>
              <a:rPr b="1" lang="ru-RU" sz="2000" spc="-1" strike="noStrike">
                <a:solidFill>
                  <a:srgbClr val="86211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86211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c11dc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5a160b"/>
                </a:solidFill>
                <a:latin typeface="Arial"/>
              </a:rPr>
              <a:t>назначение (функция) каждого помещ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c11dc"/>
                </a:solidFill>
                <a:latin typeface="Arial"/>
              </a:rPr>
              <a:t>Гигиеничность</a:t>
            </a:r>
            <a:r>
              <a:rPr b="0" lang="ru-RU" sz="2000" spc="-1" strike="noStrike">
                <a:solidFill>
                  <a:srgbClr val="e75c0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5a160b"/>
                </a:solidFill>
                <a:latin typeface="Arial"/>
              </a:rPr>
              <a:t>– звуковая изоляция, воздухообмен, системы отопления, водоснабжения, канализ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c11dc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eb6e5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6211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eb6e5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5a160b"/>
                </a:solidFill>
                <a:latin typeface="Arial"/>
              </a:rPr>
              <a:t>гармония вещей и пространства в помещ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4920" y="178596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c11dc"/>
                </a:solidFill>
                <a:latin typeface="Arial"/>
              </a:rPr>
              <a:t>Зонирование</a:t>
            </a:r>
            <a:r>
              <a:rPr b="0" lang="ru-RU" sz="1800" spc="-1" strike="noStrike">
                <a:solidFill>
                  <a:srgbClr val="eb6e5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862110"/>
                </a:solidFill>
                <a:latin typeface="Arial"/>
              </a:rPr>
              <a:t>–</a:t>
            </a:r>
            <a:r>
              <a:rPr b="0" i="1" lang="ru-RU" sz="1800" spc="-1" strike="noStrike">
                <a:solidFill>
                  <a:srgbClr val="eb6e5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62110"/>
                </a:solidFill>
                <a:latin typeface="Arial"/>
              </a:rPr>
              <a:t>разделение пространства на отдельные з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3280" y="335772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c11dc"/>
                </a:solidFill>
                <a:latin typeface="Arial"/>
              </a:rPr>
              <a:t>Функциональная зона</a:t>
            </a:r>
            <a:r>
              <a:rPr b="1" lang="ru-RU" sz="1800" spc="-1" strike="noStrike">
                <a:solidFill>
                  <a:srgbClr val="86211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862110"/>
                </a:solidFill>
                <a:latin typeface="Arial"/>
              </a:rPr>
              <a:t> выделенный определенным образом участок жиль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00880" y="578628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14920" y="4500720"/>
            <a:ext cx="392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Arial"/>
                <a:ea typeface="Arial"/>
              </a:rPr>
              <a:t>Композиция</a:t>
            </a:r>
            <a:r>
              <a:rPr b="0" lang="ru-RU" sz="1800" spc="-1" strike="noStrike">
                <a:solidFill>
                  <a:srgbClr val="22228b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8d2323"/>
                </a:solidFill>
                <a:latin typeface="Arial"/>
                <a:ea typeface="Arial"/>
              </a:rPr>
              <a:t>– особое расположение составных частей интерье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70488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62110"/>
                </a:solidFill>
                <a:latin typeface="Calibri"/>
              </a:rPr>
              <a:t>Проверь себя</a:t>
            </a:r>
            <a:br>
              <a:rPr sz="3600"/>
            </a:br>
            <a:r>
              <a:rPr b="1" lang="ru-RU" sz="3600" spc="-1" strike="noStrike">
                <a:solidFill>
                  <a:srgbClr val="862110"/>
                </a:solidFill>
                <a:latin typeface="Calibri"/>
              </a:rPr>
              <a:t>(ключ к тесту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1199"/>
              </a:spcBef>
              <a:buClr>
                <a:srgbClr val="b32c16"/>
              </a:buClr>
              <a:buFont typeface="Constantia"/>
              <a:buAutoNum type="arabicParenR"/>
              <a:tabLst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а, б, в, г, д, 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199"/>
              </a:spcBef>
              <a:buClr>
                <a:srgbClr val="b32c16"/>
              </a:buClr>
              <a:buFont typeface="Constantia"/>
              <a:buAutoNum type="arabicParenR"/>
              <a:tabLst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199"/>
              </a:spcBef>
              <a:buClr>
                <a:srgbClr val="b32c16"/>
              </a:buClr>
              <a:buFont typeface="Constantia"/>
              <a:buAutoNum type="arabicParenR"/>
              <a:tabLst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б, 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199"/>
              </a:spcBef>
              <a:buClr>
                <a:srgbClr val="b32c16"/>
              </a:buClr>
              <a:buFont typeface="Constantia"/>
              <a:buAutoNum type="arabicParenR"/>
              <a:tabLst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1199"/>
              </a:spcBef>
              <a:buClr>
                <a:srgbClr val="b32c16"/>
              </a:buClr>
              <a:buFont typeface="Constantia"/>
              <a:buAutoNum type="arabicParenR"/>
              <a:tabLst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72160" y="385776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3:36:57Z</dcterms:created>
  <dc:creator>user</dc:creator>
  <dc:description/>
  <dc:language>en-US</dc:language>
  <cp:lastModifiedBy>user</cp:lastModifiedBy>
  <dcterms:modified xsi:type="dcterms:W3CDTF">2011-02-04T03:08:26Z</dcterms:modified>
  <cp:revision>49</cp:revision>
  <dc:subject/>
  <dc:title>Открытый урок в 6 классе «Виды интерьера»</dc:title>
</cp:coreProperties>
</file>