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5FB-D363-435A-85C9-47041269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321-D2E5-4D25-84E4-2BE45AAD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678-9ADA-4008-9C22-42A900C2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429-7D02-4111-9D6F-ACD0DB3A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488-818D-4F93-B0EA-DAB3D55A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449-2DFC-4B68-9D8E-C6B09B9D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9D3-B5D5-4037-9DD9-81B2DB70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589-8F0E-446E-92E4-9BFF0FF0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B69-760A-4FBC-BA9C-314C9A1E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ACA-7493-4E8C-B244-EFC65924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937-07AB-4EB6-BEC5-61B2D4D7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505-0427-4FE5-8C59-BD2E0D58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60D0-3D8B-4923-92B5-4D382A3E5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Documents\Intelli-studio\Samsung Camera\2012-09-21\SAM_2231.JPG"/>
          <p:cNvPicPr/>
          <p:nvPr/>
        </p:nvPicPr>
        <p:blipFill>
          <a:blip r:embed="rId1"/>
          <a:srcRect l="0" t="147" r="0" b="11410"/>
          <a:stretch/>
        </p:blipFill>
        <p:spPr>
          <a:xfrm>
            <a:off x="971640" y="860400"/>
            <a:ext cx="7512120" cy="4983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79280" y="595008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ой  выбор – здоровый  образ  жи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1835280" y="33336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БОУ  «Чулковская  СОШ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user\Desktop\для Т.Б\SAM_2726.JPG"/>
          <p:cNvPicPr/>
          <p:nvPr/>
        </p:nvPicPr>
        <p:blipFill>
          <a:blip r:embed="rId1"/>
          <a:stretch/>
        </p:blipFill>
        <p:spPr>
          <a:xfrm>
            <a:off x="4788000" y="335772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user\Desktop\для Т.Б\S6001483.JPG"/>
          <p:cNvPicPr/>
          <p:nvPr/>
        </p:nvPicPr>
        <p:blipFill>
          <a:blip r:embed="rId2"/>
          <a:stretch/>
        </p:blipFill>
        <p:spPr>
          <a:xfrm>
            <a:off x="119160" y="1268280"/>
            <a:ext cx="4236840" cy="3178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324000" y="189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седы  о  здоровье  проводит  врач  Первомайской  амбулатории  Середа  Анна  Вале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Desktop\для Т.Б\S6000808.JPG"/>
          <p:cNvPicPr/>
          <p:nvPr/>
        </p:nvPicPr>
        <p:blipFill>
          <a:blip r:embed="rId1"/>
          <a:stretch/>
        </p:blipFill>
        <p:spPr>
          <a:xfrm>
            <a:off x="324000" y="1749600"/>
            <a:ext cx="4055760" cy="30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user\Desktop\для Т.Б\SAM_0363.JPG"/>
          <p:cNvPicPr/>
          <p:nvPr/>
        </p:nvPicPr>
        <p:blipFill>
          <a:blip r:embed="rId2"/>
          <a:stretch/>
        </p:blipFill>
        <p:spPr>
          <a:xfrm>
            <a:off x="4572000" y="3186000"/>
            <a:ext cx="4284720" cy="3213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84360" y="54936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ассные  мероприятия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вящённые   здоровому  образу  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user\Desktop\для Т.Б\SAM_0617.JPG"/>
          <p:cNvPicPr/>
          <p:nvPr/>
        </p:nvPicPr>
        <p:blipFill>
          <a:blip r:embed="rId1"/>
          <a:stretch/>
        </p:blipFill>
        <p:spPr>
          <a:xfrm>
            <a:off x="179280" y="2022480"/>
            <a:ext cx="4129200" cy="309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user\Desktop\для Т.Б\SAM_0619.JPG"/>
          <p:cNvPicPr/>
          <p:nvPr/>
        </p:nvPicPr>
        <p:blipFill>
          <a:blip r:embed="rId2"/>
          <a:stretch/>
        </p:blipFill>
        <p:spPr>
          <a:xfrm>
            <a:off x="4500720" y="3570120"/>
            <a:ext cx="3922560" cy="2943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835280" y="11592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школьное  мероприят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Здоровье  займи  у  приро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user\Desktop\для Т.Б\SAM_1252.JPG"/>
          <p:cNvPicPr/>
          <p:nvPr/>
        </p:nvPicPr>
        <p:blipFill>
          <a:blip r:embed="rId1"/>
          <a:stretch/>
        </p:blipFill>
        <p:spPr>
          <a:xfrm>
            <a:off x="257040" y="988920"/>
            <a:ext cx="3997440" cy="299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user\Desktop\для Т.Б\SAM_2554.JPG"/>
          <p:cNvPicPr/>
          <p:nvPr/>
        </p:nvPicPr>
        <p:blipFill>
          <a:blip r:embed="rId2"/>
          <a:stretch/>
        </p:blipFill>
        <p:spPr>
          <a:xfrm>
            <a:off x="4572000" y="98892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user\Desktop\для Т.Б\SAM_2603.JPG"/>
          <p:cNvPicPr/>
          <p:nvPr/>
        </p:nvPicPr>
        <p:blipFill>
          <a:blip r:embed="rId3"/>
          <a:stretch/>
        </p:blipFill>
        <p:spPr>
          <a:xfrm>
            <a:off x="2771640" y="3716280"/>
            <a:ext cx="4068720" cy="3051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1258920" y="2602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школьная  игра  «Зарниц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user\Desktop\для Т.Б\DSCN0980.JPG"/>
          <p:cNvPicPr/>
          <p:nvPr/>
        </p:nvPicPr>
        <p:blipFill>
          <a:blip r:embed="rId1"/>
          <a:stretch/>
        </p:blipFill>
        <p:spPr>
          <a:xfrm>
            <a:off x="231840" y="404640"/>
            <a:ext cx="4282920" cy="321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user\Desktop\для Т.Б\SAM_0429.JPG"/>
          <p:cNvPicPr/>
          <p:nvPr/>
        </p:nvPicPr>
        <p:blipFill>
          <a:blip r:embed="rId2"/>
          <a:stretch/>
        </p:blipFill>
        <p:spPr>
          <a:xfrm>
            <a:off x="4697280" y="111924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250920" y="378936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тивисты  школьного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узе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 г. Мур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4356000" y="4497480"/>
            <a:ext cx="47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бята, отдыхающие  в  школьном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здоровительном  лагере  «Солнышко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  Доме  народного  творчеств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   ремёсе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09:49:33Z</dcterms:created>
  <dc:creator>user</dc:creator>
  <dc:description/>
  <dc:language>en-US</dc:language>
  <cp:lastModifiedBy>123</cp:lastModifiedBy>
  <dcterms:modified xsi:type="dcterms:W3CDTF">2014-02-11T15:58:36Z</dcterms:modified>
  <cp:revision>13</cp:revision>
  <dc:subject/>
  <dc:title>Презентация PowerPoint</dc:title>
</cp:coreProperties>
</file>