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B4FCF-8A07-4C20-BAE8-480B22B927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666B1-1065-47F4-8699-9F7C7795A6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E6851-3C87-4A89-B5AE-5B8F222E0E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EE695-B3AF-4ABC-BBDB-CF9F37FDE3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9FED0-8A4D-45BB-A68D-8DAEF2C90B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DD418-82B6-488D-AC79-79AD4CAF36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32079-DE33-4AE5-B8BB-E081E7837C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3500D-23A0-4675-A85A-0F7BB46B53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F701B-3B85-4197-95CA-3E594C36B9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4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A4AAF-30F6-47E4-B8E6-8D2C82EA89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1840" y="676440"/>
            <a:ext cx="4592520" cy="34448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496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068-C2C9-4759-B168-6A4B16A2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D20-031F-462A-8C0A-C8EF01B9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BAC0-375F-443C-83EF-2D226D2D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4F8F-72B5-4851-8C8C-36858736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719-8C4F-4172-93F2-4AAA5CD0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B41-CA21-48AB-B28F-D70FD735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1799-A149-4872-B410-849AF6C7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283-8D91-4C79-B084-23A41FA2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D25-F61F-4380-A3F6-9E4AB4D7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C89F-D569-43E1-BC89-BDD22279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5395-099D-4013-8F7E-B0E6703E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BA6C-3CC8-4069-B7FE-A35280CC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3C7D18-778F-4D39-A564-4CA10C6D74CF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457200" y="-114480"/>
            <a:ext cx="82296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ить взаимное расположение прямых АВ и 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(ответ пояснить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0" y="1714680"/>
            <a:ext cx="9144000" cy="3666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714240" y="5786280"/>
            <a:ext cx="1505160" cy="362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3786120" y="5786280"/>
            <a:ext cx="1409760" cy="390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5"/>
          <a:stretch/>
        </p:blipFill>
        <p:spPr>
          <a:xfrm>
            <a:off x="6643800" y="5715000"/>
            <a:ext cx="148572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25360" y="228600"/>
          <a:ext cx="8594640" cy="5519880"/>
        </p:xfrm>
        <a:graphic>
          <a:graphicData uri="http://schemas.openxmlformats.org/drawingml/2006/table">
            <a:tbl>
              <a:tblPr/>
              <a:tblGrid>
                <a:gridCol w="8594640"/>
              </a:tblGrid>
              <a:tr h="55198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 Unicode MS"/>
                        </a:rPr>
                        <a:t>Задание 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  Вставьте пропущенные слов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Единственную плоскость можно задать через три точки, при этом они … на одной прямой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Если … точки прямой принадлежат плоскости, то и вся прямая принадлежит плоскости.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Прямые являются … в пространстве, если они не пересекаются и … в одной плоскости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Задание 2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но ли утвержд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прямые не пересекаются, то они параллельны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Задание 3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ыберите правильный отве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ли одна из двух параллельных прямых пересекает плоскость, то другая прям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параллельна плоск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ересекает  плоск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перпендикулярна плоскост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28760" y="-220680"/>
            <a:ext cx="82296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e636"/>
                </a:solidFill>
                <a:latin typeface="Arial"/>
              </a:rPr>
              <a:t>Прямая и плоскость в простран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0" y="3286080"/>
            <a:ext cx="2523960" cy="885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142920" y="4286160"/>
            <a:ext cx="1257120" cy="381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2500200" y="5214960"/>
            <a:ext cx="2733840" cy="1305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2714760" y="6524640"/>
            <a:ext cx="1361880" cy="333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7"/>
          <a:stretch/>
        </p:blipFill>
        <p:spPr>
          <a:xfrm>
            <a:off x="6429240" y="5143680"/>
            <a:ext cx="2428920" cy="100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8"/>
          <a:stretch/>
        </p:blipFill>
        <p:spPr>
          <a:xfrm>
            <a:off x="6357960" y="6215040"/>
            <a:ext cx="1324080" cy="4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864072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1"/>
          <p:cNvSpPr/>
          <p:nvPr/>
        </p:nvSpPr>
        <p:spPr>
          <a:xfrm>
            <a:off x="1879560" y="2514600"/>
            <a:ext cx="3327480" cy="2286000"/>
          </a:xfrm>
          <a:custGeom>
            <a:avLst/>
            <a:gdLst>
              <a:gd name="textAreaLeft" fmla="*/ 0 w 3327480"/>
              <a:gd name="textAreaRight" fmla="*/ 3327840 w 332748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096" h="1440">
                <a:moveTo>
                  <a:pt x="0" y="0"/>
                </a:moveTo>
                <a:lnTo>
                  <a:pt x="2096" y="0"/>
                </a:lnTo>
                <a:lnTo>
                  <a:pt x="2080" y="1424"/>
                </a:lnTo>
                <a:lnTo>
                  <a:pt x="16" y="144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Freeform 2"/>
          <p:cNvSpPr/>
          <p:nvPr/>
        </p:nvSpPr>
        <p:spPr>
          <a:xfrm>
            <a:off x="4191120" y="2514600"/>
            <a:ext cx="990360" cy="3276720"/>
          </a:xfrm>
          <a:custGeom>
            <a:avLst/>
            <a:gdLst>
              <a:gd name="textAreaLeft" fmla="*/ 0 w 990360"/>
              <a:gd name="textAreaRight" fmla="*/ 990720 w 990360"/>
              <a:gd name="textAreaTop" fmla="*/ 0 h 3276720"/>
              <a:gd name="textAreaBottom" fmla="*/ 3277080 h 3276720"/>
            </a:gdLst>
            <a:ahLst/>
            <a:rect l="textAreaLeft" t="textAreaTop" r="textAreaRight" b="textAreaBottom"/>
            <a:pathLst>
              <a:path w="624" h="2064">
                <a:moveTo>
                  <a:pt x="0" y="624"/>
                </a:moveTo>
                <a:lnTo>
                  <a:pt x="624" y="0"/>
                </a:lnTo>
                <a:lnTo>
                  <a:pt x="608" y="1456"/>
                </a:lnTo>
                <a:lnTo>
                  <a:pt x="0" y="2064"/>
                </a:lnTo>
                <a:lnTo>
                  <a:pt x="0" y="624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Freeform 3"/>
          <p:cNvSpPr/>
          <p:nvPr/>
        </p:nvSpPr>
        <p:spPr>
          <a:xfrm>
            <a:off x="914400" y="4800600"/>
            <a:ext cx="4267080" cy="990720"/>
          </a:xfrm>
          <a:custGeom>
            <a:avLst/>
            <a:gdLst>
              <a:gd name="textAreaLeft" fmla="*/ 0 w 4267080"/>
              <a:gd name="textAreaRight" fmla="*/ 4267440 w 4267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688" h="624">
                <a:moveTo>
                  <a:pt x="0" y="624"/>
                </a:moveTo>
                <a:lnTo>
                  <a:pt x="624" y="0"/>
                </a:lnTo>
                <a:lnTo>
                  <a:pt x="2688" y="0"/>
                </a:lnTo>
                <a:lnTo>
                  <a:pt x="2064" y="624"/>
                </a:lnTo>
                <a:lnTo>
                  <a:pt x="0" y="624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914400" y="2514600"/>
            <a:ext cx="4267080" cy="3276720"/>
          </a:xfrm>
          <a:prstGeom prst="cube">
            <a:avLst>
              <a:gd name="adj" fmla="val 30129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Freeform 5"/>
          <p:cNvSpPr/>
          <p:nvPr/>
        </p:nvSpPr>
        <p:spPr>
          <a:xfrm>
            <a:off x="1892160" y="4800600"/>
            <a:ext cx="3289320" cy="1440"/>
          </a:xfrm>
          <a:custGeom>
            <a:avLst/>
            <a:gdLst>
              <a:gd name="textAreaLeft" fmla="*/ 0 w 3289320"/>
              <a:gd name="textAreaRight" fmla="*/ 3289680 w 3289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072" h="1">
                <a:moveTo>
                  <a:pt x="2072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1905120" y="2514600"/>
            <a:ext cx="144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Freeform 7"/>
          <p:cNvSpPr/>
          <p:nvPr/>
        </p:nvSpPr>
        <p:spPr>
          <a:xfrm>
            <a:off x="914400" y="4775040"/>
            <a:ext cx="1003320" cy="101628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1016280"/>
              <a:gd name="textAreaBottom" fmla="*/ 1016640 h 1016280"/>
            </a:gdLst>
            <a:ahLst/>
            <a:rect l="textAreaLeft" t="textAreaTop" r="textAreaRight" b="textAreaBottom"/>
            <a:pathLst>
              <a:path w="632" h="640">
                <a:moveTo>
                  <a:pt x="632" y="0"/>
                </a:moveTo>
                <a:lnTo>
                  <a:pt x="0" y="64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687600" y="57913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040640" y="5715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183280" y="4648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1523880" y="441972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1371600" y="207180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5118120" y="2071800"/>
            <a:ext cx="55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4203720" y="327672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468360" y="3048120"/>
            <a:ext cx="53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6"/>
          <p:cNvSpPr/>
          <p:nvPr/>
        </p:nvSpPr>
        <p:spPr>
          <a:xfrm>
            <a:off x="382320" y="228600"/>
            <a:ext cx="758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прямые, параллельные данной плоск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1"/>
          <p:cNvSpPr/>
          <p:nvPr/>
        </p:nvSpPr>
        <p:spPr>
          <a:xfrm>
            <a:off x="2882880" y="4064040"/>
            <a:ext cx="4038480" cy="149868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2544" h="944">
                <a:moveTo>
                  <a:pt x="864" y="944"/>
                </a:moveTo>
                <a:lnTo>
                  <a:pt x="0" y="176"/>
                </a:lnTo>
                <a:lnTo>
                  <a:pt x="2176" y="0"/>
                </a:lnTo>
                <a:lnTo>
                  <a:pt x="2544" y="336"/>
                </a:lnTo>
                <a:lnTo>
                  <a:pt x="848" y="944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2"/>
          <p:cNvSpPr/>
          <p:nvPr/>
        </p:nvSpPr>
        <p:spPr>
          <a:xfrm>
            <a:off x="2895480" y="2463840"/>
            <a:ext cx="1714680" cy="3124080"/>
          </a:xfrm>
          <a:custGeom>
            <a:avLst/>
            <a:gdLst>
              <a:gd name="textAreaLeft" fmla="*/ 0 w 1714680"/>
              <a:gd name="textAreaRight" fmla="*/ 1715040 w 1714680"/>
              <a:gd name="textAreaTop" fmla="*/ 0 h 3124080"/>
              <a:gd name="textAreaBottom" fmla="*/ 3124440 h 3124080"/>
            </a:gdLst>
            <a:ahLst/>
            <a:rect l="textAreaLeft" t="textAreaTop" r="textAreaRight" b="textAreaBottom"/>
            <a:pathLst>
              <a:path w="1080" h="1968">
                <a:moveTo>
                  <a:pt x="856" y="1952"/>
                </a:moveTo>
                <a:lnTo>
                  <a:pt x="0" y="1184"/>
                </a:lnTo>
                <a:lnTo>
                  <a:pt x="1080" y="16"/>
                </a:lnTo>
                <a:lnTo>
                  <a:pt x="1064" y="0"/>
                </a:lnTo>
                <a:lnTo>
                  <a:pt x="856" y="19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592360" y="4191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116240" y="1981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887640" y="533412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523880" y="3808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пеция,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еугольни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ажите, что 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I (AB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2895480" y="4343400"/>
            <a:ext cx="1346400" cy="1219320"/>
          </a:xfrm>
          <a:custGeom>
            <a:avLst/>
            <a:gdLst>
              <a:gd name="textAreaLeft" fmla="*/ 0 w 1346400"/>
              <a:gd name="textAreaRight" fmla="*/ 1346760 w 13464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848" h="768">
                <a:moveTo>
                  <a:pt x="0" y="0"/>
                </a:moveTo>
                <a:lnTo>
                  <a:pt x="848" y="7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250320" y="35193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6951600" y="451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reeform 10"/>
          <p:cNvSpPr/>
          <p:nvPr/>
        </p:nvSpPr>
        <p:spPr>
          <a:xfrm>
            <a:off x="6324480" y="4038480"/>
            <a:ext cx="622440" cy="559080"/>
          </a:xfrm>
          <a:custGeom>
            <a:avLst/>
            <a:gdLst>
              <a:gd name="textAreaLeft" fmla="*/ 0 w 622440"/>
              <a:gd name="textAreaRight" fmla="*/ 622800 w 62244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392" h="352">
                <a:moveTo>
                  <a:pt x="0" y="0"/>
                </a:moveTo>
                <a:lnTo>
                  <a:pt x="392" y="3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57200" y="274680"/>
            <a:ext cx="82296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195120" y="219240"/>
            <a:ext cx="8607600" cy="609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285840" y="1000080"/>
            <a:ext cx="8858160" cy="5423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4"/>
          <a:stretch/>
        </p:blipFill>
        <p:spPr>
          <a:xfrm>
            <a:off x="214200" y="1214280"/>
            <a:ext cx="8508960" cy="4500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5"/>
          <a:stretch/>
        </p:blipFill>
        <p:spPr>
          <a:xfrm>
            <a:off x="285840" y="1214280"/>
            <a:ext cx="8643960" cy="4368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6"/>
          <a:stretch/>
        </p:blipFill>
        <p:spPr>
          <a:xfrm>
            <a:off x="1357200" y="1000080"/>
            <a:ext cx="5214960" cy="5713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7"/>
          <a:stretch/>
        </p:blipFill>
        <p:spPr>
          <a:xfrm>
            <a:off x="285840" y="1357200"/>
            <a:ext cx="8858160" cy="510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8"/>
          <a:stretch/>
        </p:blipFill>
        <p:spPr>
          <a:xfrm>
            <a:off x="357120" y="1428840"/>
            <a:ext cx="8728200" cy="4929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9"/>
          <a:stretch/>
        </p:blipFill>
        <p:spPr>
          <a:xfrm>
            <a:off x="928800" y="1539720"/>
            <a:ext cx="7429320" cy="5318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10"/>
          <a:stretch/>
        </p:blipFill>
        <p:spPr>
          <a:xfrm>
            <a:off x="36360" y="116208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845964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79280" y="360360"/>
            <a:ext cx="8640720" cy="611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зитроника</cp:lastModifiedBy>
  <dcterms:modified xsi:type="dcterms:W3CDTF">2015-03-07T20:08:14Z</dcterms:modified>
  <cp:revision>1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