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25.png" ContentType="image/png"/>
  <Override PartName="/ppt/media/image2.gif" ContentType="image/gif"/>
  <Override PartName="/ppt/media/image32.gif" ContentType="image/gif"/>
  <Override PartName="/ppt/media/image28.gif" ContentType="image/gif"/>
  <Override PartName="/ppt/media/image14.jpeg" ContentType="image/jpeg"/>
  <Override PartName="/ppt/media/image22.jpeg" ContentType="image/jpeg"/>
  <Override PartName="/ppt/media/image8.gif" ContentType="image/gif"/>
  <Override PartName="/ppt/media/image9.wmf" ContentType="image/x-wmf"/>
  <Override PartName="/ppt/media/image13.jpeg" ContentType="image/jpeg"/>
  <Override PartName="/ppt/media/image30.png" ContentType="image/png"/>
  <Override PartName="/ppt/media/image6.wmf" ContentType="image/x-wmf"/>
  <Override PartName="/ppt/media/image11.png" ContentType="image/png"/>
  <Override PartName="/ppt/media/image34.jpeg" ContentType="image/jpeg"/>
  <Override PartName="/ppt/media/image5.gif" ContentType="image/gif"/>
  <Override PartName="/ppt/media/image7.jpeg" ContentType="image/jpeg"/>
  <Override PartName="/ppt/media/image35.png" ContentType="image/png"/>
  <Override PartName="/ppt/media/image20.png" ContentType="image/png"/>
  <Override PartName="/ppt/media/image18.wmf" ContentType="image/x-wmf"/>
  <Override PartName="/ppt/media/image36.gif" ContentType="image/gif"/>
  <Override PartName="/ppt/media/image10.png" ContentType="image/png"/>
  <Override PartName="/ppt/media/image4.gif" ContentType="image/gif"/>
  <Override PartName="/ppt/media/image27.png" ContentType="image/png"/>
  <Override PartName="/ppt/media/image16.png" ContentType="image/png"/>
  <Override PartName="/ppt/media/image12.gif" ContentType="image/gif"/>
  <Override PartName="/ppt/media/image17.jpeg" ContentType="image/jpeg"/>
  <Override PartName="/ppt/media/image33.gif" ContentType="image/gif"/>
  <Override PartName="/ppt/media/image26.png" ContentType="image/png"/>
  <Override PartName="/ppt/media/image3.gif" ContentType="image/gif"/>
  <Override PartName="/ppt/media/image19.wmf" ContentType="image/x-wmf"/>
  <Override PartName="/ppt/media/image21.png" ContentType="image/png"/>
  <Override PartName="/ppt/media/image23.jpeg" ContentType="image/jpeg"/>
  <Override PartName="/ppt/media/image24.png" ContentType="image/png"/>
  <Override PartName="/ppt/media/image1.gif" ContentType="image/gif"/>
  <Override PartName="/ppt/media/image3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92B-862F-40D2-82F8-9DB730A79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FB81-26BF-423F-B89A-1485B1A4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566C-9009-4463-8AF4-17F1F378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4EA0-7E59-4CB2-A696-89B9007F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985D-661F-4D3C-8959-5F077E629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AFA9-0329-425F-B933-612A716A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9155-467C-4472-93FB-B3E02311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F19D-6AC5-4E39-8A15-BC752CD7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706E-331D-4D04-B553-198645A1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8698-5532-4507-A0D5-87FFA0D8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2315-CDC4-4E20-8248-3ACB5C8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67D-7F13-4A7D-926F-FE981C23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2B73-29B8-4952-8B12-D2B3E968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2A212-3FDF-49D6-8175-41A87DC5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1434-9B55-4386-B453-F015FE53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0713-C39D-431C-9F1B-3405AED7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04E9-61C0-47F5-8B64-035C062D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06D9-EE53-420D-A46D-FFAED0B1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E44B6-A298-4F42-8C79-C24A4987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5654-3A1D-43EC-96CA-932AF557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418E1-465D-42A6-8396-4B7ACF3D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263E-64AA-4EDC-8594-6B073865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1D0-6226-40C8-8789-24CFBEA7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FA2B7-8F41-4284-BCFA-7A3E5B0B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C33A5-B1A3-4080-8068-F4EDBB65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E3A1F-2CC6-457C-B353-45895C0A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57D33-A12E-40AA-AC26-66402223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CF091-98A0-4C28-A8EA-9F1AD008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3A836-2F60-4E25-9414-EE19E0CAC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F5FD4-D1DD-412C-94F9-223B9546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CAE-5B01-4376-A4A0-97454636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B126-40D2-460E-B448-C838B1B7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7721-5A75-44EF-B393-D966EC97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8B7-BE03-466F-B0A7-C5A72B0B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450-1FB0-4E84-89C8-691B1661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8D6C-35D2-4EA4-A53F-0E46DE1E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F708-A486-40D7-93D3-586329142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C96C-AE5A-4677-B41B-17042B2C3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B6E8-2E6C-4030-A2F5-72B2A1B02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39.piczo.com/view/1/5/q/p/s/d/x/c/m/h/t/5/img/i118558926_88288.gif?redirsrc=img" TargetMode="External"/><Relationship Id="rId2" Type="http://schemas.openxmlformats.org/officeDocument/2006/relationships/hyperlink" Target="http://img0.liveinternet.ru/images/attach/c/0/48/299/48299788_zolushka.jpg" TargetMode="External"/><Relationship Id="rId3" Type="http://schemas.openxmlformats.org/officeDocument/2006/relationships/hyperlink" Target="http://img0.liveinternet.ru/images/attach/c/0/48/299/48299788_zolushka.jpg" TargetMode="External"/><Relationship Id="rId4" Type="http://schemas.openxmlformats.org/officeDocument/2006/relationships/hyperlink" Target="http://dl2.glitter-graphics.net/pub/427/427362nmapjtvf4p.gif" TargetMode="External"/><Relationship Id="rId5" Type="http://schemas.openxmlformats.org/officeDocument/2006/relationships/hyperlink" Target="http://i.current.com/images/asset/907/883/92/4nKzEd.jpg" TargetMode="External"/><Relationship Id="rId6" Type="http://schemas.openxmlformats.org/officeDocument/2006/relationships/hyperlink" Target="http://mic.granit.ru/getfile.aspx?DocID=6770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6.wm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6920" y="1125360"/>
            <a:ext cx="75470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ложение и вычитание многозначных чисе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математики, 4 класс,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МК "Школа Росси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80008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187280" y="4797360"/>
            <a:ext cx="121788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1127160" cy="898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76720" y="3645000"/>
            <a:ext cx="1044360" cy="1006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39640" y="2060640"/>
            <a:ext cx="1198800" cy="961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6156360" y="3213000"/>
            <a:ext cx="1282680" cy="123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 rot="16200000">
            <a:off x="-141840" y="3940920"/>
            <a:ext cx="3059280" cy="2774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 rot="10800000">
            <a:off x="6084720" y="4083120"/>
            <a:ext cx="3059280" cy="27748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00720" y="4797360"/>
            <a:ext cx="4321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втор: Горбачева Елена Афанас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МКОУ СОШ №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.  Киров Калуж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95280" y="1484280"/>
            <a:ext cx="792360" cy="504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ahoma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3394080" cy="1079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7 м 2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87640" y="981000"/>
            <a:ext cx="3538440" cy="100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840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0"/>
            <a:ext cx="79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03280" y="189000"/>
            <a:ext cx="63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равните  величин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4005360"/>
            <a:ext cx="3394080" cy="10792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0 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76640"/>
            <a:ext cx="3538800" cy="1008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 м 6 д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24360" y="4581360"/>
            <a:ext cx="792000" cy="5050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Tahoma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 rot="1092000">
            <a:off x="4640400" y="2647800"/>
            <a:ext cx="4100400" cy="7257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 rot="655200">
            <a:off x="178920" y="5660640"/>
            <a:ext cx="4097520" cy="689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 rot="777600">
            <a:off x="4716360" y="5589720"/>
            <a:ext cx="4427640" cy="8636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 rot="906600">
            <a:off x="392040" y="2652840"/>
            <a:ext cx="41814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ЫРАЗИТ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ЕЛИЧИНЫ  В КИЛОГРАММАХ  И  ГРАММА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63280" y="1557360"/>
            <a:ext cx="3683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ИС      3004 г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ШЕНО 5200 г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ЕЧКУ 4050 г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1628640"/>
            <a:ext cx="3683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1700280"/>
            <a:ext cx="3683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1773360"/>
            <a:ext cx="3683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88000" y="1700280"/>
            <a:ext cx="36828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1628640"/>
            <a:ext cx="3682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1628640"/>
            <a:ext cx="36831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08720" y="1557360"/>
            <a:ext cx="2303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кг 4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кг 2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кг 5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940360" y="4941720"/>
            <a:ext cx="3203640" cy="19162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4941720"/>
            <a:ext cx="54356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77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77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" dur="77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 rot="21432000">
            <a:off x="1550880" y="547560"/>
            <a:ext cx="6048360" cy="61930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 rot="19900200">
            <a:off x="2627280" y="1699920"/>
            <a:ext cx="2243160" cy="4105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572000" y="184464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851280" y="1628640"/>
            <a:ext cx="2243160" cy="4105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 rot="19400400">
            <a:off x="3131640" y="1628280"/>
            <a:ext cx="2343240" cy="4105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rcRect l="0" t="0" r="0" b="24594"/>
          <a:stretch/>
        </p:blipFill>
        <p:spPr>
          <a:xfrm rot="1872000">
            <a:off x="5580000" y="2852640"/>
            <a:ext cx="2243160" cy="30956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7"/>
          <a:srcRect l="0" t="0" r="0" b="24594"/>
          <a:stretch/>
        </p:blipFill>
        <p:spPr>
          <a:xfrm flipH="1" rot="19077000">
            <a:off x="1907280" y="3284280"/>
            <a:ext cx="2089440" cy="3096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8"/>
          <a:srcRect l="6444" t="0" r="0" b="51023"/>
          <a:stretch/>
        </p:blipFill>
        <p:spPr>
          <a:xfrm rot="478200">
            <a:off x="3132000" y="378936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9"/>
          <a:srcRect l="6444" t="0" r="0" b="51023"/>
          <a:stretch/>
        </p:blipFill>
        <p:spPr>
          <a:xfrm rot="20004000">
            <a:off x="4572000" y="2997000"/>
            <a:ext cx="20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0"/>
          <a:srcRect l="0" t="0" r="0" b="35111"/>
          <a:stretch/>
        </p:blipFill>
        <p:spPr>
          <a:xfrm rot="1306200">
            <a:off x="4284360" y="3357720"/>
            <a:ext cx="2343240" cy="2663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1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 rot="16200000">
            <a:off x="-141840" y="3940920"/>
            <a:ext cx="3059280" cy="27748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3"/>
          <a:stretch/>
        </p:blipFill>
        <p:spPr>
          <a:xfrm rot="5400000">
            <a:off x="6226920" y="141840"/>
            <a:ext cx="30592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195640" y="836640"/>
            <a:ext cx="4356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189320" cy="511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3097440" cy="20732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 rot="16200000">
            <a:off x="-141840" y="3940920"/>
            <a:ext cx="3059280" cy="2774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 rot="5400000">
            <a:off x="6226920" y="141840"/>
            <a:ext cx="3059280" cy="2774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4572000" y="1628640"/>
            <a:ext cx="3959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аница 69, №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7093080" cy="3159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blesk_princese"/>
          <p:cNvPicPr/>
          <p:nvPr/>
        </p:nvPicPr>
        <p:blipFill>
          <a:blip r:embed="rId3"/>
          <a:stretch/>
        </p:blipFill>
        <p:spPr>
          <a:xfrm flipH="1">
            <a:off x="0" y="3530520"/>
            <a:ext cx="2535120" cy="33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68360" y="836640"/>
            <a:ext cx="4044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0920" y="620640"/>
            <a:ext cx="54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Monotype Corsiva"/>
              </a:rPr>
              <a:t>РЕШИТЕ</a:t>
            </a:r>
            <a:r>
              <a:rPr b="0" lang="en-US" sz="3600" spc="-1" strike="noStrike">
                <a:solidFill>
                  <a:srgbClr val="663300"/>
                </a:solidFill>
                <a:latin typeface="Monotype Corsiva"/>
              </a:rPr>
              <a:t>  </a:t>
            </a:r>
            <a:r>
              <a:rPr b="1" lang="en-US" sz="3600" spc="-1" strike="noStrike">
                <a:solidFill>
                  <a:srgbClr val="663300"/>
                </a:solidFill>
                <a:latin typeface="Monotype Corsiva"/>
              </a:rPr>
              <a:t>УРАВН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1700280"/>
            <a:ext cx="31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Ӏ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 + 150 = 450 Х - 200 = 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1628640"/>
            <a:ext cx="35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Ӏ Ӏ 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 - 150 = 6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Х + 25 = 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Картинка 119 из 339"/>
          <p:cNvPicPr/>
          <p:nvPr/>
        </p:nvPicPr>
        <p:blipFill>
          <a:blip r:embed="rId1"/>
          <a:stretch/>
        </p:blipFill>
        <p:spPr>
          <a:xfrm>
            <a:off x="3276720" y="3429000"/>
            <a:ext cx="2436840" cy="3168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 rot="16200000">
            <a:off x="-141840" y="3940920"/>
            <a:ext cx="3059280" cy="2774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 rot="10800000">
            <a:off x="6084720" y="4083120"/>
            <a:ext cx="30592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496908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900000" y="765000"/>
            <a:ext cx="7345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утешествие в сказку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195640" y="1989000"/>
            <a:ext cx="439236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1332000" y="476280"/>
            <a:ext cx="4681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 нов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треч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484360" y="2619360"/>
            <a:ext cx="417528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Моро М.И. и др. Математика. Учебник для 4 класса начальной школы, в двух частя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. Просвещение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точники иллюст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лушка и фея -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39.piczo.com/view/1/5/q/p/s/d/x/c/m/h/t/5/img/i118558926_88288.gif?redirsrc=i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лушка -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img0.liveinternet.ru/images/attach/c/0/48/299/48299788_zolushk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лушка и Принц -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l2.glitter-graphics.net/pub/427/427362nmapjtvf4p.gi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i.current.com/images/asset/907/883/92/4nKzEd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 -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mic.granit.ru/getfile.aspx?DocID=67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фелька -http://file.mobilmusic.ru/69/e2/b5/741310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71640" y="2133720"/>
            <a:ext cx="72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Monotype Corsiva"/>
              </a:rPr>
              <a:t>«Сложение и вычитание многозначных чисел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108000" y="1197000"/>
            <a:ext cx="943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541440" y="620640"/>
            <a:ext cx="5207040" cy="5400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24360" y="4292640"/>
            <a:ext cx="3276720" cy="2163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5400000">
            <a:off x="6226920" y="141840"/>
            <a:ext cx="3059280" cy="2774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7020000" y="981000"/>
            <a:ext cx="17604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5373720"/>
            <a:ext cx="7207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869000"/>
            <a:ext cx="718920" cy="936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4797360"/>
            <a:ext cx="718920" cy="9367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19480" y="5086440"/>
            <a:ext cx="704880" cy="85680"/>
          </a:xfrm>
          <a:custGeom>
            <a:avLst/>
            <a:gdLst/>
            <a:ahLst/>
            <a:rect l="l" t="t" r="r" b="b"/>
            <a:pathLst>
              <a:path w="444" h="54">
                <a:moveTo>
                  <a:pt x="0" y="54"/>
                </a:moveTo>
                <a:lnTo>
                  <a:pt x="444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57360" y="5159520"/>
            <a:ext cx="747720" cy="88920"/>
          </a:xfrm>
          <a:custGeom>
            <a:avLst/>
            <a:gdLst/>
            <a:ahLst/>
            <a:rect l="l" t="t" r="r" b="b"/>
            <a:pathLst>
              <a:path w="471" h="56">
                <a:moveTo>
                  <a:pt x="0" y="56"/>
                </a:moveTo>
                <a:lnTo>
                  <a:pt x="471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24360" y="4581360"/>
            <a:ext cx="718920" cy="9367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00720" y="4743360"/>
            <a:ext cx="766800" cy="125640"/>
          </a:xfrm>
          <a:custGeom>
            <a:avLst/>
            <a:gdLst/>
            <a:ahLst/>
            <a:rect l="l" t="t" r="r" b="b"/>
            <a:pathLst>
              <a:path w="483" h="79">
                <a:moveTo>
                  <a:pt x="0" y="79"/>
                </a:moveTo>
                <a:lnTo>
                  <a:pt x="483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77040" y="4870440"/>
            <a:ext cx="752400" cy="63360"/>
          </a:xfrm>
          <a:custGeom>
            <a:avLst/>
            <a:gdLst/>
            <a:ahLst/>
            <a:rect l="l" t="t" r="r" b="b"/>
            <a:pathLst>
              <a:path w="474" h="40">
                <a:moveTo>
                  <a:pt x="0" y="4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76760" y="4943520"/>
            <a:ext cx="760320" cy="95040"/>
          </a:xfrm>
          <a:custGeom>
            <a:avLst/>
            <a:gdLst/>
            <a:ahLst/>
            <a:rect l="l" t="t" r="r" b="b"/>
            <a:pathLst>
              <a:path w="479" h="60">
                <a:moveTo>
                  <a:pt x="0" y="60"/>
                </a:moveTo>
                <a:lnTo>
                  <a:pt x="479" y="0"/>
                </a:lnTo>
              </a:path>
            </a:pathLst>
          </a:custGeom>
          <a:noFill/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93080" y="4292640"/>
            <a:ext cx="718920" cy="9367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59280" cy="2774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10800000">
            <a:off x="6084720" y="4083120"/>
            <a:ext cx="3059280" cy="2774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03280" y="1052640"/>
            <a:ext cx="5791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cc00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9280" y="194400"/>
            <a:ext cx="8713800" cy="30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 платье мачехе потребуется 3000 см ткан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ладшей дочери в 3 раза меньше, чем матер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старшей дочери на 1000 см больш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ем младшей дочери. Сколько всего метров ткани потребуется на все плать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Картинка 54 из 3686"/>
          <p:cNvPicPr/>
          <p:nvPr/>
        </p:nvPicPr>
        <p:blipFill>
          <a:blip r:embed="rId1"/>
          <a:stretch/>
        </p:blipFill>
        <p:spPr>
          <a:xfrm>
            <a:off x="3132000" y="2852640"/>
            <a:ext cx="2673360" cy="4005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 rot="16200000">
            <a:off x="-141840" y="3940920"/>
            <a:ext cx="3059280" cy="2774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 rot="10800000">
            <a:off x="6084720" y="4083120"/>
            <a:ext cx="30592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187280" y="836640"/>
            <a:ext cx="6697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Физкультминутк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161" name="" descr="Картинка 1 из 4732"/>
          <p:cNvPicPr/>
          <p:nvPr/>
        </p:nvPicPr>
        <p:blipFill>
          <a:blip r:embed="rId2"/>
          <a:stretch/>
        </p:blipFill>
        <p:spPr>
          <a:xfrm>
            <a:off x="2916360" y="2276640"/>
            <a:ext cx="3186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09:43:56Z</dcterms:created>
  <dc:creator>Горбачёвы</dc:creator>
  <dc:description/>
  <dc:language>en-US</dc:language>
  <cp:lastModifiedBy>Горбачёвы</cp:lastModifiedBy>
  <dcterms:modified xsi:type="dcterms:W3CDTF">2013-01-09T14:10:55Z</dcterms:modified>
  <cp:revision>18</cp:revision>
  <dc:subject/>
  <dc:title>Слайд 1</dc:title>
</cp:coreProperties>
</file>