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7473-3179-4EEA-B64A-5487EAC29A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94FF-2F76-414D-942D-D93AF5F3F7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570-4624-4E53-B7E0-B1363EB2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204-BF02-411E-B37C-78B0294E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942-321F-4F64-BDB4-3EBDB3F7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B37-12C4-4C38-8DE5-8622AC4C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08EE-A2D5-4003-9754-528CD03C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47AD-7CB6-485E-8985-93ED62FD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47BC-7BB2-4E14-A756-1D609169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D726-B038-4D21-9B97-2F2B3A5B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1135-56D5-4EA0-AD81-7BF49451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2626-7854-4020-97B8-B1183C69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9D0E-C44B-4524-9947-496916C1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EB0-182D-4BB5-9E56-FB722E7F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6373-8028-4422-A548-FCF3D072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A707-FFD9-42FF-9C39-F3CC68D8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DCB5-1715-4622-A90B-3FE3A651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81EB-6F6C-4184-85F2-C01808BC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B8EE-C106-470D-BA62-B54347D3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7F0A-B053-4153-9D5C-51D3CC00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7365E-8C4B-4267-8C29-2DAF3EEB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6B85-614A-4484-95C5-BB4FEE58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D0B4-944B-4CC1-8CAE-8DFD9484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E3F6-4431-4780-A9C8-5EA26B0D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01A-4721-4F8F-8A67-0ACEBF51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427D-3238-4D96-A9EF-A9189F53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0BB6-08A3-4610-88E9-638C6C6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22AB-D188-43F8-96C8-DD1FC88E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635F-9239-441F-9486-46E5127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2C926-038A-4A5C-B07B-CA586BC7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A0B2-70D9-49DD-A63D-316BAAA8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2D53-DF24-4F82-945D-D5D3E08D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C19E8-3CD5-498A-832E-D6D00569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D2EA1-9D7B-4418-9058-CE89A789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89B0F-69E8-407D-8858-658C5D48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EB5-E191-4F6B-909D-118841C3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6CCB-C15B-4609-8307-910B8B5F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26F94-E29C-468F-93C4-436A8698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38916-5381-44BE-B6AC-C0F4E69B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D711-CE40-4DEC-99CF-63E609BB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F703F-E0DC-4888-92C0-74E695A6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BEDB-6EE7-4CCC-9DC7-07E92F4E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4596-35D0-48BE-96E8-ADBAB249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0096F-425A-40C2-B987-C61941EB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60194-1413-4DC0-B629-3C576675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B89-AAEF-4C29-AC23-6D9969F7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C89-C17B-4812-B00C-B1833397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C99-D223-49DF-A940-C54E5695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EE6-5A8E-445F-8BBF-C06FFDA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B68-92A7-480D-B026-DEB32747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6DDB-5FAE-45A7-91B6-FFA85D5BD5D2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B6E8-20E8-4346-9A38-6A073991360D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FC81-3D4A-4352-8AB9-7D9F4B50C4E5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6577-7466-445E-82AB-7ACDB5D6D9B5}" type="slidenum">
              <a:rPr b="0" lang="ru-RU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9"/>
          <p:cNvSpPr/>
          <p:nvPr/>
        </p:nvSpPr>
        <p:spPr>
          <a:xfrm>
            <a:off x="468360" y="21096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1e00"/>
                </a:solidFill>
                <a:latin typeface="Book Antiqua"/>
              </a:rPr>
              <a:t>МКОУ Ермолов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1e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324000" y="939960"/>
            <a:ext cx="5572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00000"/>
                </a:solidFill>
                <a:latin typeface="Book Antiqua"/>
              </a:rPr>
              <a:t>Математика в литератур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0000"/>
                </a:solidFill>
                <a:latin typeface="Book Antiqua"/>
              </a:rPr>
              <a:t>Выполнили: Бригадиренко Алина и Емцева Светлана  ученицы 8 кла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0000"/>
                </a:solidFill>
                <a:latin typeface="Book Antiqua"/>
              </a:rPr>
              <a:t>Руководитель- Малей Н.И. учитель мате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5810400" y="3330720"/>
            <a:ext cx="3333600" cy="352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Documents and Settings\Иятта\Рабочий стол\ЭТО СРОЧНО\Новая папка\755ad610193c.png"/>
          <p:cNvPicPr/>
          <p:nvPr/>
        </p:nvPicPr>
        <p:blipFill>
          <a:blip r:embed="rId2"/>
          <a:stretch/>
        </p:blipFill>
        <p:spPr>
          <a:xfrm>
            <a:off x="4788000" y="2852640"/>
            <a:ext cx="3786120" cy="41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237672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50920" y="115920"/>
            <a:ext cx="583236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00000"/>
                </a:solidFill>
                <a:latin typeface="Arial Black"/>
              </a:rPr>
              <a:t>А.П Чех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5921280" y="3716280"/>
            <a:ext cx="3222720" cy="3116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Иятта\Рабочий стол\ЭТО СРОЧНО\Новая папка\чернильница.gif"/>
          <p:cNvPicPr/>
          <p:nvPr/>
        </p:nvPicPr>
        <p:blipFill>
          <a:blip r:embed="rId2"/>
          <a:stretch/>
        </p:blipFill>
        <p:spPr>
          <a:xfrm>
            <a:off x="5867280" y="3633840"/>
            <a:ext cx="1619280" cy="31906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8"/>
          <p:cNvSpPr/>
          <p:nvPr/>
        </p:nvSpPr>
        <p:spPr>
          <a:xfrm>
            <a:off x="3274920" y="907920"/>
            <a:ext cx="5483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9"/>
          <p:cNvSpPr/>
          <p:nvPr/>
        </p:nvSpPr>
        <p:spPr>
          <a:xfrm>
            <a:off x="3189240" y="954000"/>
            <a:ext cx="565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8462e"/>
                </a:solidFill>
                <a:latin typeface="Arial"/>
              </a:rPr>
              <a:t>Арифметическая задача из рассказа «Репетито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262080" y="3284640"/>
            <a:ext cx="560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3819"/>
                </a:solidFill>
                <a:latin typeface="Arial"/>
              </a:rPr>
              <a:t>«Купец купил 18 аршин черного и  синего  сукна на 540 руб. Спрашивается, сколько  аршин он купил того и другого, если синее стоило 5рублей за аршин, а черное-3 руб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3819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3819"/>
                </a:solidFill>
                <a:latin typeface="Arial"/>
              </a:rPr>
              <a:t>Если бы купец заплатил за все сукно по 3 руб. за аршин, то стоимость его равна 138*3 = 414 руб.» Переплата» в 540-414 = 126 руб. образовалась из-за того, что за  каждый аршин синего сукна он платил на 2 руб. больше. Поэтому синего сукна было 126:2= 63 аршина. Значит черного сукна он купил 138-63=75 арш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1" descr=""/>
          <p:cNvPicPr/>
          <p:nvPr/>
        </p:nvPicPr>
        <p:blipFill>
          <a:blip r:embed="rId3"/>
          <a:stretch/>
        </p:blipFill>
        <p:spPr>
          <a:xfrm>
            <a:off x="208080" y="409680"/>
            <a:ext cx="2390760" cy="2874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-243360"/>
            <a:ext cx="8569440" cy="10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3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8121"/>
                </a:solidFill>
                <a:latin typeface="Times New Roman"/>
              </a:rPr>
              <a:t>Майн Рид «Морской волчонок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87920" y="1312920"/>
            <a:ext cx="3475440" cy="4593240"/>
          </a:xfrm>
          <a:prstGeom prst="rect">
            <a:avLst/>
          </a:prstGeom>
          <a:solidFill>
            <a:srgbClr val="db8b5d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1600" spc="-1" strike="noStrike">
                <a:solidFill>
                  <a:srgbClr val="68462e"/>
                </a:solidFill>
                <a:latin typeface="Times New Roman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51280" y="907920"/>
            <a:ext cx="529272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4043"/>
                </a:solidFill>
                <a:latin typeface="Times New Roman"/>
              </a:rPr>
              <a:t>Юный любитель приключений из романа «Морской волчонок» оказался запертым в тюрьме корабля и не мог выбраться наружу. Он решил выяснить, хватит ли обнаруженного в одном из ящиков запаса галет на 6 месяцев плавания – именно столько времени оно должно было продлитьс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4043"/>
                </a:solidFill>
                <a:latin typeface="Times New Roman"/>
              </a:rPr>
              <a:t>«Ящик, по моим расчетам, имел около ярда в длину и 2 фута в ширину, а в вышину – около одного фута. Зная точные размеры ящика, я мог бы подсчитать галеты, не вынимая их оттуда. Каждая из них была диаметром немного меньше шести дюймов, а толщиной в среднем в 3 четверти дюйма. Таким образом, в ящике должно было находиться ровно тридцать две дюжины галет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24043"/>
                </a:solidFill>
                <a:latin typeface="Times New Roman"/>
              </a:rPr>
              <a:t>Тридцать две дюжины – это триста восемьдесят четыре галеты. Я съел  восемь, значит, осталось ровно триста семьдесят шесть. Считая по две штуки в день, этого хватит на 188 дней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8" descr="E:\литература и математика\images (1).jpg"/>
          <p:cNvPicPr/>
          <p:nvPr/>
        </p:nvPicPr>
        <p:blipFill>
          <a:blip r:embed="rId1"/>
          <a:stretch/>
        </p:blipFill>
        <p:spPr>
          <a:xfrm>
            <a:off x="395280" y="1413000"/>
            <a:ext cx="2763720" cy="4421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7000" y="1646280"/>
            <a:ext cx="2241720" cy="266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3548a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931840" y="836640"/>
            <a:ext cx="6211800" cy="45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900000"/>
                </a:solidFill>
                <a:latin typeface="Arial Black"/>
              </a:rPr>
              <a:t>Герои измеряли высоту скал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0000"/>
                </a:solidFill>
                <a:latin typeface="Arial Black"/>
              </a:rPr>
              <a:t>Расстояние от колышка до шеста так относится к расстоянию от колышка до основания стены, как высота шеста к высоте стены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0000"/>
                </a:solidFill>
                <a:latin typeface="Arial Black"/>
              </a:rPr>
              <a:t>«Если мы измерим два первых расстояния, то, зная высоту шеста, сможем вычислить четвертый, неизвестный член пропорции, т. е. высоту сте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0000"/>
                </a:solidFill>
                <a:latin typeface="Arial Black"/>
              </a:rPr>
              <a:t>«0ба горизонтальных расстояния были измерены: меньшее равнялось 15 футам, большее - 500 футам. По окончании  измерений инженер  составил  следующую запись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600000"/>
                </a:solidFill>
                <a:latin typeface="Arial Black"/>
              </a:rPr>
              <a:t>15:500 = 10:х,   500×10 = 5000,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600000"/>
                </a:solidFill>
                <a:latin typeface="Arial Black"/>
              </a:rPr>
              <a:t>5000:15 = 333,3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0000"/>
                </a:solidFill>
                <a:latin typeface="Arial Black"/>
              </a:rPr>
              <a:t>Ответ: высота  гранитной стены равнялась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600000"/>
                </a:solidFill>
                <a:latin typeface="Arial Black"/>
              </a:rPr>
              <a:t>333 футам». </a:t>
            </a:r>
            <a:r>
              <a:rPr b="1" i="1" lang="ru-RU" sz="1600" spc="-1" strike="noStrike">
                <a:solidFill>
                  <a:srgbClr val="6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00000"/>
                </a:solidFill>
                <a:latin typeface="Arial Black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2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1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00000"/>
                </a:solidFill>
                <a:latin typeface="Arial Black"/>
              </a:rPr>
              <a:t>Жюль Верн «Таинственный остров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125280" y="896760"/>
            <a:ext cx="2700360" cy="3060720"/>
          </a:xfrm>
          <a:prstGeom prst="rect">
            <a:avLst/>
          </a:prstGeom>
          <a:ln w="38160">
            <a:solidFill>
              <a:srgbClr val="900000"/>
            </a:solidFill>
            <a:miter/>
          </a:ln>
        </p:spPr>
      </p:pic>
      <p:pic>
        <p:nvPicPr>
          <p:cNvPr id="238" name="Picture 3" descr="C:\Documents and Settings\Иятта\Рабочий стол\ЭТО СРОЧНО\Новая папка\755ad610193c.png"/>
          <p:cNvPicPr/>
          <p:nvPr/>
        </p:nvPicPr>
        <p:blipFill>
          <a:blip r:embed="rId2"/>
          <a:stretch/>
        </p:blipFill>
        <p:spPr>
          <a:xfrm>
            <a:off x="0" y="2500200"/>
            <a:ext cx="3638520" cy="399600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21" descr=""/>
          <p:cNvPicPr/>
          <p:nvPr/>
        </p:nvPicPr>
        <p:blipFill>
          <a:blip r:embed="rId3"/>
          <a:stretch/>
        </p:blipFill>
        <p:spPr>
          <a:xfrm>
            <a:off x="5494320" y="4689360"/>
            <a:ext cx="3564000" cy="2016360"/>
          </a:xfrm>
          <a:prstGeom prst="rect">
            <a:avLst/>
          </a:prstGeom>
          <a:ln w="38160">
            <a:solidFill>
              <a:srgbClr val="900000"/>
            </a:solidFill>
            <a:miter/>
          </a:ln>
        </p:spPr>
      </p:pic>
      <p:pic>
        <p:nvPicPr>
          <p:cNvPr id="240" name="Picture 2" descr="C:\Documents and Settings\Иятта\Рабочий стол\ЭТО СРОЧНО\Новая папка\чернильница.gif"/>
          <p:cNvPicPr/>
          <p:nvPr/>
        </p:nvPicPr>
        <p:blipFill>
          <a:blip r:embed="rId4"/>
          <a:stretch/>
        </p:blipFill>
        <p:spPr>
          <a:xfrm>
            <a:off x="1476360" y="2427120"/>
            <a:ext cx="1552680" cy="305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24000" y="-171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2610"/>
                </a:solidFill>
                <a:latin typeface="Times New Roman"/>
              </a:rPr>
              <a:t>Джонатан Свиф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626920" y="1341000"/>
            <a:ext cx="6443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e3819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a2610"/>
                </a:solidFill>
                <a:latin typeface="Times New Roman"/>
              </a:rPr>
              <a:t>В книге Д.Свифта «Путешествия Гулливера» можно отыскать ряд геометрических задач, в том числе о размерах лилипутов и великанов. Свифт положил в основу сравнения их роста простое линейное соотношение, основанное на числе 12, то есть на соотношении дюйма и английского фута. Он принял во внимание не линейную, а кубическую зависимость. Значит обед Гулливера-это 12*12*12=1728 обедов лилипу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610"/>
                </a:solidFill>
                <a:latin typeface="Times New Roman"/>
              </a:rPr>
              <a:t>Книга из библиотеки великанов в 1728 раз больше, её длина превышает 7метров, а масса 3тон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9080" y="23760"/>
            <a:ext cx="263196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2610"/>
                </a:solidFill>
                <a:latin typeface="Times New Roman"/>
              </a:rPr>
              <a:t>Как Гулливер определил размеры столицы страны великанов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162828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e3819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6e3819"/>
                </a:solidFill>
                <a:latin typeface="Times New Roman"/>
              </a:rPr>
              <a:t>«Город расположен по обоим берегам пересекающей его реки. Он тянется в длину на три глонгюнга  (что составляет  около пятидесяти четырёх английских миль),а в ширину – на два с половиной  глонгюнга. Я лично произвёл эти измерения на карте, составленной по приказанию короля и нарочно для меня разложенной на земле, где она занимала пространство в сто фунтов . Разувшись, я прошёл несколько раз  по диаметру окружности карты, сосчитал число  моих шагов и без труда определил по масштабу протяжение города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e3819"/>
                </a:solidFill>
                <a:latin typeface="Times New Roman"/>
              </a:rPr>
              <a:t>На чем основан описанный Гулливером способ измерения и как в данном случае используется идея подоби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e3819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6e3819"/>
                </a:solidFill>
                <a:latin typeface="Times New Roman"/>
              </a:rPr>
              <a:t>Ответ: Карта – плоское, уменьшенное во много раз изображение  города. Её масштаб играет роль коэффициента подобия. Измерив по карте протяженность города в разных направлениях и увеличив ее в указанное в масштабе число раз, можно легко вычислить истинные размеры гор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28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e3819"/>
                </a:solidFill>
                <a:latin typeface="Times New Roman"/>
              </a:rPr>
              <a:t>Как рассмотреть лилипута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907920"/>
            <a:ext cx="536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1e00"/>
                </a:solidFill>
                <a:latin typeface="Times New Roman"/>
              </a:rPr>
              <a:t>Описывая императора Лилипутии,  Лемюэль  Гулливер замечае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1e00"/>
                </a:solidFill>
                <a:latin typeface="Times New Roman"/>
              </a:rPr>
              <a:t>«Ростом он почти на мой ноготь выше всех своих придворных… Чтобы лучше рассмотреть его величество, я лег на бок так, чтобы мое лицо пришлось как раз против него, причем он стоял на расстоянии всего трех ярдов от меня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1e00"/>
                </a:solidFill>
                <a:latin typeface="Times New Roman"/>
              </a:rPr>
              <a:t>Действительно ли Гулливер мог хорошо рассмотреть императора  с такого расстояния? (Средний рост взрослого лилипута равен 6 дюймам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1e00"/>
                </a:solidFill>
                <a:latin typeface="Times New Roman"/>
              </a:rPr>
              <a:t>Расстояние необходимо значительно  сократить, что и сделал  Гулливер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1e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291e00"/>
                </a:solidFill>
                <a:latin typeface="Times New Roman"/>
              </a:rPr>
              <a:t>«Кроме того, впоследствии я несколько раз  брал  его (императора) на руки (чтобы как следует рассмотреть) и потому не могу ошибиться при описании его наружности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40">
              <a:spcBef>
                <a:spcPts val="499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3471840" cy="5354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14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4a2610"/>
                </a:solidFill>
                <a:latin typeface="Times New Roman"/>
              </a:rPr>
              <a:t>Как видит лилипут?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8000" y="126828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500"/>
                </a:solidFill>
                <a:latin typeface="Times New Roman"/>
              </a:rPr>
              <a:t>«…Природа приспособила зрение лилипутов к окружающим их предметам: они хорошо видят, но на небольшом расстоянии. Вот представление об остроте их зрения для близких предметов: большое удовольствие доставило мне наблюдать повара, ощипывающего жаворонка величиной не более нашей мухи, и девушку, вдевающую шелковинку в ушко невидимой иголки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5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2b2500"/>
                </a:solidFill>
                <a:latin typeface="Times New Roman"/>
              </a:rPr>
              <a:t>Согласны ли вы с оценкой Гулливера? Можно ли утверждать, что лилипуты отличаются особой остротой зрения по сравнению с Гулливером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25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2b2500"/>
                </a:solidFill>
                <a:latin typeface="Times New Roman"/>
              </a:rPr>
              <a:t>Гулливер в целом прав. Зрение лилипутов подчиняется тем же законам, что и зрение человека: подобие сохраняет величину угла. В частности, предельный угол зрения для них так же равен 1. И Гулливер , и лилипут ( каждый в своем мире) видят жаворонка или ушко иголки под одинаковым углом, и острота зрения у обоих одинакова. Другое дело, что зрение первого не приспособлено к миниатюрному миру лилипутов; да и глаз лилипута воспринимает Гулливера не иначе как великана – Человека-Гор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499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4a2610"/>
                </a:solidFill>
                <a:latin typeface="Times New Roman"/>
              </a:rPr>
              <a:t>«Скучный» автор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b25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2b2500"/>
                </a:solidFill>
                <a:latin typeface="Times New Roman"/>
              </a:rPr>
              <a:t>Вскоре после выхода из печати в1865 г. Книга Льюиса Кэррола «Алиса в Стране чудес» попала в руки королевы Англии. Она  пришла в восторг от удивительных приключений   Алисы и тут же потребовала принести ей другие книги такого замечательного писателя. Каково же было  ее разочарование, когда выяснилось, что прочие труды этого  автора посвящены… математике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b2500"/>
                </a:solidFill>
                <a:latin typeface="Times New Roman"/>
              </a:rPr>
              <a:t>   </a:t>
            </a:r>
            <a:r>
              <a:rPr b="0" lang="ru-RU" sz="3000" spc="-1" strike="noStrike">
                <a:solidFill>
                  <a:srgbClr val="2b2500"/>
                </a:solidFill>
                <a:latin typeface="Times New Roman"/>
              </a:rPr>
              <a:t>Льюис Кэррол - никто иной как Чарлз Людвидж Доджсон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6840" y="692280"/>
            <a:ext cx="7877160" cy="54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3000" spc="-1" strike="noStrike">
                <a:solidFill>
                  <a:srgbClr val="c00000"/>
                </a:solidFill>
                <a:latin typeface="Times New Roman"/>
              </a:rPr>
              <a:t>Многие авторы произведений, используя некоторые математические данные, дают возможность читателю подумать над поставленной задачей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3000" spc="-1" strike="noStrike">
                <a:solidFill>
                  <a:srgbClr val="c00000"/>
                </a:solidFill>
                <a:latin typeface="Times New Roman"/>
              </a:rPr>
              <a:t>Книга  позволяет открыть  свои  тайны  только тому человеку, кто умеет читать между строк и  сам добывать знания, и отвечать на интересующие его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c00000"/>
                </a:solidFill>
                <a:latin typeface="Times New Roman"/>
              </a:rPr>
              <a:t>вопросы</a:t>
            </a:r>
            <a:r>
              <a:rPr b="0" i="1" lang="ru-RU" sz="3000" spc="-1" strike="noStrike">
                <a:solidFill>
                  <a:srgbClr val="c00000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6012000" y="3368520"/>
            <a:ext cx="3441600" cy="3780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Иятта\Рабочий стол\ЭТО СРОЧНО\Новая папка\чернильница.gif"/>
          <p:cNvPicPr/>
          <p:nvPr/>
        </p:nvPicPr>
        <p:blipFill>
          <a:blip r:embed="rId2"/>
          <a:stretch/>
        </p:blipFill>
        <p:spPr>
          <a:xfrm>
            <a:off x="7524720" y="2565360"/>
            <a:ext cx="1619280" cy="3191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2500"/>
                </a:solidFill>
                <a:latin typeface="Times New Roman"/>
              </a:rPr>
              <a:t>Заключение</a:t>
            </a:r>
            <a:br>
              <a:rPr sz="4000"/>
            </a:br>
            <a:r>
              <a:rPr b="0" lang="ru-RU" sz="4000" spc="-1" strike="noStrike">
                <a:solidFill>
                  <a:srgbClr val="2b2500"/>
                </a:solidFill>
                <a:latin typeface="Times New Roman"/>
              </a:rPr>
              <a:t>Результаты работы 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10920" y="1267920"/>
            <a:ext cx="810396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610"/>
                </a:solidFill>
                <a:latin typeface="Times New Roman"/>
              </a:rPr>
              <a:t>1.Было установлено, что связь между математикой и     литературой действительно существует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610"/>
                </a:solidFill>
                <a:latin typeface="Times New Roman"/>
              </a:rPr>
              <a:t>2.Найдены материалы, подтверждающие эт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610"/>
                </a:solidFill>
                <a:latin typeface="Times New Roman"/>
              </a:rPr>
              <a:t>3. Математика обладает большим эстетическим потенциал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610"/>
                </a:solidFill>
                <a:latin typeface="Times New Roman"/>
              </a:rPr>
              <a:t>4.Был опровергнут стереотип о сухости математик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610"/>
                </a:solidFill>
                <a:latin typeface="Times New Roman"/>
              </a:rPr>
              <a:t>5. Проведен опрос учащихся 6, 10 и 11 класс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610"/>
                </a:solidFill>
                <a:latin typeface="Times New Roman"/>
              </a:rPr>
              <a:t>6.Использованы исторические сведения межпредметного характер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610"/>
                </a:solidFill>
                <a:latin typeface="Times New Roman"/>
              </a:rPr>
              <a:t>7.Доказано присутствие математики в литературе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9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139680" y="141120"/>
            <a:ext cx="882504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Цель работы: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доказательство существования связи между литературой и математик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дбор математических задач в литературных произвед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ешение отобранных задач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нализ полученных в ходе решения результа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ценка проделанной работы и формулировка выв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работе использованы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ледующие метод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иск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зуче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нализ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бобще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рав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00000"/>
                </a:solidFill>
                <a:latin typeface="Arial"/>
              </a:rPr>
              <a:t>Актуальность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зрушение стереотипов несовместимости  этих наук и доказательство наличия между ними тесного взаимодействия. Достаточно лишь увидеть за словом число, за сюжетом – формулу и убедиться, что литература существует не только для литераторов, а математика – не только для математ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285840" y="21420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2500"/>
                </a:solidFill>
                <a:latin typeface="Arial"/>
              </a:rPr>
              <a:t>Литература и математика – что может объединять эти далекие друг от друга области знаний? Литературу, с её интересом к духовному миру человека, и математику, предпочитающую строгий научный подход. Литературу мы привыкли относить к гуманитарным наукам, а математика требует точности и конкретизации фактов. Казалось бы, нет ничего общего… Но математика, так же как и поэзия, живопись, театр и искусство стремится к познанию и красоте. Что любят, то находят повсюду, и было бы странно не встретиться с математикой в художественной литерату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3610080" y="2225520"/>
            <a:ext cx="1806480" cy="1906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0600" y="37116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В наши дни литературные журналы не помещают научных, 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а тем более математических, статей на своих страницах, но во времена Пушкина это было обычным явлением. Как это ни странно, в то время среди писателей существовала своего рода мода на математик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847760" y="4436640"/>
            <a:ext cx="4103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a2610"/>
                </a:solidFill>
                <a:latin typeface="Times New Roman"/>
              </a:rPr>
              <a:t>А.С.Грибоедов в 1826 г. просил прислать ему учебник по дифференциальному исчисл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50560" y="4652640"/>
            <a:ext cx="432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2610"/>
                </a:solidFill>
                <a:latin typeface="Times New Roman"/>
              </a:rPr>
              <a:t>Гоголь в 1827 г. не только выписывал “Ручную математическую энциклопедию” Перевозчикова, но даже изучал 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2160720" cy="2087280"/>
          </a:xfrm>
          <a:prstGeom prst="rect">
            <a:avLst/>
          </a:prstGeom>
          <a:ln w="76320">
            <a:solidFill>
              <a:srgbClr val="6e3819"/>
            </a:solidFill>
            <a:miter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796000" y="2136600"/>
            <a:ext cx="2208240" cy="2084400"/>
          </a:xfrm>
          <a:prstGeom prst="rect">
            <a:avLst/>
          </a:prstGeom>
          <a:ln w="76320">
            <a:solidFill>
              <a:srgbClr val="6e3819"/>
            </a:solidFill>
            <a:miter/>
          </a:ln>
        </p:spPr>
      </p:pic>
      <p:pic>
        <p:nvPicPr>
          <p:cNvPr id="195" name="Picture 5" descr=""/>
          <p:cNvPicPr/>
          <p:nvPr/>
        </p:nvPicPr>
        <p:blipFill>
          <a:blip r:embed="rId4"/>
          <a:stretch/>
        </p:blipFill>
        <p:spPr>
          <a:xfrm>
            <a:off x="3276720" y="2281320"/>
            <a:ext cx="1998720" cy="219708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2"/>
          <p:cNvSpPr/>
          <p:nvPr/>
        </p:nvSpPr>
        <p:spPr>
          <a:xfrm>
            <a:off x="2286000" y="750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676764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900000"/>
                </a:solidFill>
                <a:latin typeface="Times New Roman"/>
              </a:rPr>
              <a:t>Башня Гого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4365360"/>
            <a:ext cx="6192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548a"/>
                </a:solidFill>
                <a:latin typeface="Arial Black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428760" y="1000080"/>
            <a:ext cx="8072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462e"/>
                </a:solidFill>
                <a:latin typeface="Arial Black"/>
              </a:rPr>
              <a:t>Гоголь в статье «Об архитектуре нашего времени» писал следующее: «Башни огромные, колоссальные необходимы в городе, не говоря уже о важности их назначения для христианских церквей. Кроме того, что они составляют вид и украшение, они нужны для сообщения городу резких примет, чтобы служить маяком, указывавшим бы путь всякому, не допуская сбиться с пути. Они еще более нужны в столицах для наблюдения над окрестностями. У нас обыкновенно ограничиваются высотою, дающею возможность обглядеть один только город. Между тем как для столицы необходимо видеть по крайней мере на полтораста верст во все стороны и для этого, может быть, один только или два этажа лишних — и всё изменяется. Объем кругозора по мере возвышения распространяется необыкновенною прогрессией…»  (1 верста = 1,0668 км, 150 верст = 160 к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612144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15560"/>
            <a:ext cx="585936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548a"/>
                </a:solidFill>
                <a:latin typeface="Times New Roman"/>
              </a:rPr>
              <a:t>Многие думают, что с возвышением наблюдателя горизонт возрастает необычайно быстро. Так думал и Гоголь. Но формула дальность горизонта =√2Rh,где R= радиус земного шара, а h= высота подъема, сразу говорит нам о неправильности этого утверждения. Напротив, дальность горизонта растет медленнее, чем высота поднятия: она пропорциональна квадратному корню из  этой высоты. Если к восьмиэтажному дому прибавить ещё два этажа, дальность горизонта возрастет всего на 10%.Такая прибавка мало ощутима. Для образа на 150 верст башня должна иметь огромную высоту, о чем не подозревал Гоголь: 2 км. Это высота большой го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03640" y="5300640"/>
            <a:ext cx="208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5967360" y="3579840"/>
            <a:ext cx="3130560" cy="3311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Documents and Settings\Иятта\Рабочий стол\ЭТО СРОЧНО\Новая папка\чернильница.gif"/>
          <p:cNvPicPr/>
          <p:nvPr/>
        </p:nvPicPr>
        <p:blipFill>
          <a:blip r:embed="rId2"/>
          <a:stretch/>
        </p:blipFill>
        <p:spPr>
          <a:xfrm>
            <a:off x="5724360" y="3639960"/>
            <a:ext cx="1619280" cy="3191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Documents and Settings\Иятта\Рабочий стол\ЭТО СРОЧНО\Новая папка\свиток.gif"/>
          <p:cNvPicPr/>
          <p:nvPr/>
        </p:nvPicPr>
        <p:blipFill>
          <a:blip r:embed="rId1"/>
          <a:stretch/>
        </p:blipFill>
        <p:spPr>
          <a:xfrm>
            <a:off x="3492360" y="4797360"/>
            <a:ext cx="1700280" cy="1798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Documents and Settings\Иятта\Рабочий стол\ЭТО СРОЧНО\Новая папка\755ad610193c.png"/>
          <p:cNvPicPr/>
          <p:nvPr/>
        </p:nvPicPr>
        <p:blipFill>
          <a:blip r:embed="rId2"/>
          <a:stretch/>
        </p:blipFill>
        <p:spPr>
          <a:xfrm>
            <a:off x="2195640" y="4581360"/>
            <a:ext cx="2295360" cy="2519640"/>
          </a:xfrm>
          <a:prstGeom prst="rect">
            <a:avLst/>
          </a:prstGeom>
          <a:ln w="0">
            <a:noFill/>
          </a:ln>
        </p:spPr>
      </p:pic>
      <p:pic>
        <p:nvPicPr>
          <p:cNvPr id="207" name="Заголовок 1" descr=""/>
          <p:cNvPicPr/>
          <p:nvPr/>
        </p:nvPicPr>
        <p:blipFill>
          <a:blip r:embed="rId3"/>
          <a:stretch/>
        </p:blipFill>
        <p:spPr>
          <a:xfrm>
            <a:off x="4017960" y="487440"/>
            <a:ext cx="5003640" cy="55893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250920" y="549000"/>
            <a:ext cx="35640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4"/>
          <a:stretch/>
        </p:blipFill>
        <p:spPr>
          <a:xfrm>
            <a:off x="395280" y="549360"/>
            <a:ext cx="3419640" cy="4103640"/>
          </a:xfrm>
          <a:prstGeom prst="rect">
            <a:avLst/>
          </a:prstGeom>
          <a:ln w="76320">
            <a:solidFill>
              <a:srgbClr val="6e3819"/>
            </a:solidFill>
            <a:miter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30080" y="188640"/>
            <a:ext cx="6635880" cy="66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А. С. Пушкин (1799 – 1837)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       “Скупой рыцарь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3719520"/>
            <a:ext cx="504036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 Black"/>
              </a:rPr>
              <a:t>Даже полчища Атиллы не могли бы воздвигнуть холм выше 5,7м. Глаз наблюдателя, поместившегося на вершине холма, возвышался бы над почвой на 5,7 + 1,6, т.е. на 7,3м, и, следовательно, дальность горизонта равна была бы 9,6(к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 Black"/>
              </a:rPr>
              <a:t>Это всего на 5км больше того, что можно видеть, стоя на ровном мест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Объект 9" descr=""/>
          <p:cNvPicPr/>
          <p:nvPr/>
        </p:nvPicPr>
        <p:blipFill>
          <a:blip r:embed="rId1"/>
          <a:stretch/>
        </p:blipFill>
        <p:spPr>
          <a:xfrm>
            <a:off x="355680" y="246240"/>
            <a:ext cx="2519280" cy="3419280"/>
          </a:xfrm>
          <a:prstGeom prst="rect">
            <a:avLst/>
          </a:prstGeom>
          <a:ln w="38160">
            <a:solidFill>
              <a:srgbClr val="900000"/>
            </a:solidFill>
            <a:miter/>
          </a:ln>
        </p:spPr>
      </p:pic>
      <p:sp>
        <p:nvSpPr>
          <p:cNvPr id="213" name="Прямоугольник 10"/>
          <p:cNvSpPr/>
          <p:nvPr/>
        </p:nvSpPr>
        <p:spPr>
          <a:xfrm>
            <a:off x="3276720" y="1268280"/>
            <a:ext cx="522576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0000"/>
                </a:solidFill>
                <a:latin typeface="Arial Black"/>
              </a:rPr>
              <a:t>«…И царь мог с высоты с весельем озир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900000"/>
                </a:solidFill>
                <a:latin typeface="Arial Black"/>
              </a:rPr>
              <a:t>И дол, покрытый белыми шатр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0000"/>
                </a:solidFill>
                <a:latin typeface="Arial Black"/>
              </a:rPr>
              <a:t> </a:t>
            </a:r>
            <a:r>
              <a:rPr b="1" i="1" lang="ru-RU" sz="2400" spc="-1" strike="noStrike">
                <a:solidFill>
                  <a:srgbClr val="900000"/>
                </a:solidFill>
                <a:latin typeface="Arial Black"/>
              </a:rPr>
              <a:t>И море, где бежали корабли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C:\Documents and Settings\Иятта\Рабочий стол\ЭТО СРОЧНО\Новая папка\свиток.gif"/>
          <p:cNvPicPr/>
          <p:nvPr/>
        </p:nvPicPr>
        <p:blipFill>
          <a:blip r:embed="rId2"/>
          <a:stretch/>
        </p:blipFill>
        <p:spPr>
          <a:xfrm>
            <a:off x="5730840" y="3295800"/>
            <a:ext cx="3333960" cy="3527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Иятта\Рабочий стол\ЭТО СРОЧНО\Новая папка\755ad610193c.png"/>
          <p:cNvPicPr/>
          <p:nvPr/>
        </p:nvPicPr>
        <p:blipFill>
          <a:blip r:embed="rId3"/>
          <a:stretch/>
        </p:blipFill>
        <p:spPr>
          <a:xfrm>
            <a:off x="5357880" y="2781360"/>
            <a:ext cx="378612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C:\Documents and Settings\Иятта\Рабочий стол\ЭТО СРОЧНО\Новая папка\755ad610193c.png"/>
          <p:cNvPicPr/>
          <p:nvPr/>
        </p:nvPicPr>
        <p:blipFill>
          <a:blip r:embed="rId1"/>
          <a:stretch/>
        </p:blipFill>
        <p:spPr>
          <a:xfrm>
            <a:off x="-92160" y="3357720"/>
            <a:ext cx="3475080" cy="38145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400" y="125280"/>
            <a:ext cx="6946920" cy="92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1" i="1" lang="ru-RU" sz="2400" spc="-1" strike="noStrike">
                <a:solidFill>
                  <a:srgbClr val="600000"/>
                </a:solidFill>
                <a:latin typeface="Arial Black"/>
                <a:ea typeface="BatangChe"/>
              </a:rPr>
              <a:t>Л. Н. Толстой (1828 – 1910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03280" y="3357360"/>
            <a:ext cx="5832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900000"/>
                </a:solidFill>
                <a:latin typeface="Times New Roman"/>
              </a:rPr>
              <a:t>Софизм древних(софизм  Зенона) состоит в том, что Ахиллес никогда не догонит впереди  идущую черепаху, несмотря на то, что Ахиллес  идет в 10раз  скорее  черепахи: как только Ахиллес пройдет пространство, отделяющее его от черепахи, черепаха пройдет впереди его одну десятую этого пространства; Ахиллес пройдет эту десятую, черепаха пройдет одну сотую и т.д. до бесконечности. Задача представлялась древним неразрешимою. Бессмысленность решения )Ахиллес никогда не догонит черепаху) вытекала из того только, что произвольно были допущены прерывные единицы движения, тогда как движение  и Ахиллеса и черепахи совершалось непрерывн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800" y="691920"/>
            <a:ext cx="655164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3548a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53548a"/>
                </a:solidFill>
                <a:latin typeface="Times New Roman"/>
              </a:rPr>
              <a:t>Лев Толстой в III томе эпопеи «Война и мир» (начало 3-й части) пересказывает парадокс про Ахиллеса и черепаху и предлагает своё толкование: нельзя разделять непрерывное движение на «отдельные единицы» (вероятно, имеются в виду точки). Далее Толстой, по аналогии, рассуждает о роли отдельной личности в истор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Объект 8" descr=""/>
          <p:cNvPicPr/>
          <p:nvPr/>
        </p:nvPicPr>
        <p:blipFill>
          <a:blip r:embed="rId2"/>
          <a:stretch/>
        </p:blipFill>
        <p:spPr>
          <a:xfrm>
            <a:off x="6659640" y="228600"/>
            <a:ext cx="2316240" cy="2952720"/>
          </a:xfrm>
          <a:prstGeom prst="rect">
            <a:avLst/>
          </a:prstGeom>
          <a:ln w="57240">
            <a:solidFill>
              <a:srgbClr val="900000"/>
            </a:solidFill>
            <a:miter/>
          </a:ln>
        </p:spPr>
      </p:pic>
      <p:sp>
        <p:nvSpPr>
          <p:cNvPr id="2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ученик3</cp:lastModifiedBy>
  <dcterms:modified xsi:type="dcterms:W3CDTF">2014-10-16T11:05:23Z</dcterms:modified>
  <cp:revision>217</cp:revision>
  <dc:subject/>
  <dc:title>Слайд 1</dc:title>
</cp:coreProperties>
</file>