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708-DA12-4782-8B6D-AE237974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0D7-3E81-4150-927A-6D3BA1B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041-D7D9-4599-A86A-E5A9678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CFD-6C3A-44DC-B4B4-2C6DDCC9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C71-FB03-480F-BAAA-BCB46285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7D6-7EA7-46CF-9DD0-13EBFB0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401-39CF-4FD9-A59D-DC004E97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8A0-2B74-464C-9F25-67102C87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0F6-44CE-4248-A140-3B93F870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5C2-E019-4FFD-836B-8F8A991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66F-3167-4F97-9279-8397212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C52-46A7-4908-8A69-AF360A6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BACF-0E88-449D-9F05-23ADD6760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6BF0-557F-41EF-88B0-191D4D088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ifiga-sebe.ru/index.php?newsid=941" TargetMode="External"/><Relationship Id="rId3" Type="http://schemas.openxmlformats.org/officeDocument/2006/relationships/hyperlink" Target="http://nifiga-sebe.ru/index.php?newsid=941" TargetMode="External"/><Relationship Id="rId4" Type="http://schemas.openxmlformats.org/officeDocument/2006/relationships/hyperlink" Target="http://nasfoto.narod.ru/images/kuznechiki/Gallery2.html" TargetMode="External"/><Relationship Id="rId5" Type="http://schemas.openxmlformats.org/officeDocument/2006/relationships/hyperlink" Target="http://mult-pict.narod.ru/" TargetMode="External"/><Relationship Id="rId6" Type="http://schemas.openxmlformats.org/officeDocument/2006/relationships/hyperlink" Target="http://mult-pict.narod.ru/" TargetMode="External"/><Relationship Id="rId7" Type="http://schemas.openxmlformats.org/officeDocument/2006/relationships/hyperlink" Target="http://fafka.ru/pictures/personaji-sovetskie-russkie-multfilms/" TargetMode="External"/><Relationship Id="rId8" Type="http://schemas.openxmlformats.org/officeDocument/2006/relationships/hyperlink" Target="http://fafka.ru/pictures/personaji-sovetskie-russkie-multfilms/" TargetMode="External"/><Relationship Id="rId9" Type="http://schemas.openxmlformats.org/officeDocument/2006/relationships/hyperlink" Target="http://cvetys.narod.ru/pict1.htm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Текст 2" descr=""/>
          <p:cNvPicPr/>
          <p:nvPr/>
        </p:nvPicPr>
        <p:blipFill>
          <a:blip r:embed="rId2"/>
          <a:stretch/>
        </p:blipFill>
        <p:spPr>
          <a:xfrm>
            <a:off x="0" y="7776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766-19C4-48FB-A281-2170448B1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A68-C1AF-4389-91AD-E3E23D447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1201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http://nifiga-sebe.ru/index.php?newsid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=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http://nasfoto.narod.ru/images/kuznechiki/Gallery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http://mult-pict.narod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http://fafka.ru/pictures/personaji-sovetskie-russkie-multfilm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http://cvetys.narod.ru/pict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ttp://nasfoto.narod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34540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539640" y="4365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otoskay.ucoz.ru/load/muzyka/zvuki/gudok_parovoza/91-1-0-214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гудок паров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324000" y="537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80160" y="5505120"/>
            <a:ext cx="51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www.railway.te.ua/sounds/sound5.mp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звук поез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73200" y="6008400"/>
            <a:ext cx="72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ttp://zvuki-tut.narod2.ru/gudok_parohoda/Gudok_parohoda.mp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 гудок пар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14400" y="4428720"/>
            <a:ext cx="64292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84807"/>
              </a:solidFill>
              <a:latin typeface="Arial"/>
              <a:ea typeface="Arial"/>
            </a:endParaRPr>
          </a:p>
        </p:txBody>
      </p:sp>
      <p:grpSp>
        <p:nvGrpSpPr>
          <p:cNvPr id="45" name="Прямоугольник 6"/>
          <p:cNvGrpSpPr/>
          <p:nvPr/>
        </p:nvGrpSpPr>
        <p:grpSpPr>
          <a:xfrm>
            <a:off x="496080" y="-347760"/>
            <a:ext cx="6926760" cy="7626600"/>
            <a:chOff x="496080" y="-347760"/>
            <a:chExt cx="6926760" cy="7626600"/>
          </a:xfrm>
        </p:grpSpPr>
        <p:pic>
          <p:nvPicPr>
            <p:cNvPr id="4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96080" y="-347760"/>
              <a:ext cx="69267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rot="2909400">
              <a:off x="3902400" y="-832320"/>
              <a:ext cx="119160" cy="85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4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7"/>
          <p:cNvSpPr/>
          <p:nvPr/>
        </p:nvSpPr>
        <p:spPr>
          <a:xfrm>
            <a:off x="6363000" y="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 rot="19903800">
            <a:off x="3308760" y="3431880"/>
            <a:ext cx="62625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утешествие в    стра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       </a:t>
            </a:r>
            <a:r>
              <a:rPr b="1" i="1" lang="ru-RU" sz="6000" spc="-1" strike="noStrike">
                <a:solidFill>
                  <a:srgbClr val="c0504d"/>
                </a:solidFill>
                <a:latin typeface="Arial"/>
              </a:rPr>
              <a:t>Глаголи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дилижанс.wma" descr=""/>
          <p:cNvPicPr/>
          <p:nvPr/>
        </p:nvPicPr>
        <p:blipFill>
          <a:blip r:embed="rId5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Текст 2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06472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 станция «Плоскогорье начальной форм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24000" y="4292640"/>
            <a:ext cx="703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17"/>
          <p:cNvPicPr/>
          <p:nvPr/>
        </p:nvPicPr>
        <p:blipFill>
          <a:blip r:embed="rId2"/>
          <a:stretch/>
        </p:blipFill>
        <p:spPr>
          <a:xfrm>
            <a:off x="1116000" y="2276640"/>
            <a:ext cx="7559640" cy="280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2321280" y="-34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186000" y="-341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358160" y="-366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57440" y="-457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544920" y="-341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9097920" y="2852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9144000" y="249228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9144000" y="3357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8675640" y="4365720"/>
            <a:ext cx="4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9145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8997840" y="5075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9145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9051840" y="49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9145800" y="54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9326880" y="587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78 -0.04028 L -0.0566 0.2956 E">
                                      <p:cBhvr>
                                        <p:cTn id="9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4 -0.04028 L 0.0684 0.29305 E">
                                      <p:cBhvr>
                                        <p:cTn id="10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157 0.02662 L -0.15157 0.35995 E">
                                      <p:cBhvr>
                                        <p:cTn id="10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213 L -0.06754 0.41759 E">
                                      <p:cBhvr>
                                        <p:cTn id="10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19 0.08564 L 0.09219 0.40069 E">
                                      <p:cBhvr>
                                        <p:cTn id="11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7939 L -0.19045 -0.07939 E">
                                      <p:cBhvr>
                                        <p:cTn id="11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0.03611 L -0.30573 0.02569 E">
                                      <p:cBhvr>
                                        <p:cTn id="121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37 -0.04792 L -0.1493 -0.04792 E">
                                      <p:cBhvr>
                                        <p:cTn id="125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1 -0.00601 L -0.29861 -0.00601 E">
                                      <p:cBhvr>
                                        <p:cTn id="12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43 -0.06736 L -0.50243 -0.06736 E">
                                      <p:cBhvr>
                                        <p:cTn id="13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792 0.04676 L -0.58212 0.04676 E">
                                      <p:cBhvr>
                                        <p:cTn id="13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684 0.0676 L -0.51684 0.0676 E">
                                      <p:cBhvr>
                                        <p:cTn id="14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21 0.03611 L -0.52621 0.03611 E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965 -0.02686 L -0.49167 -0.01621 E">
                                      <p:cBhvr>
                                        <p:cTn id="14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2 станция «Числовая поля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17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90" name="sound3.mp3" descr=""/>
          <p:cNvPicPr/>
          <p:nvPr/>
        </p:nvPicPr>
        <p:blipFill>
          <a:blip r:embed="rId3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 станция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Морфологическая долин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7"/>
          <p:cNvPicPr/>
          <p:nvPr/>
        </p:nvPicPr>
        <p:blipFill>
          <a:blip r:embed="rId2"/>
          <a:stretch/>
        </p:blipFill>
        <p:spPr>
          <a:xfrm flipH="1" rot="85200">
            <a:off x="896400" y="1619280"/>
            <a:ext cx="7467840" cy="4562280"/>
          </a:xfrm>
          <a:prstGeom prst="rect">
            <a:avLst/>
          </a:prstGeom>
          <a:ln w="0">
            <a:noFill/>
          </a:ln>
        </p:spPr>
      </p:pic>
      <p:pic>
        <p:nvPicPr>
          <p:cNvPr id="93" name="sound5.mp3" descr=""/>
          <p:cNvPicPr/>
          <p:nvPr/>
        </p:nvPicPr>
        <p:blipFill>
          <a:blip r:embed="rId3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4 станция «Временной перевал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5"/>
          <p:cNvPicPr/>
          <p:nvPr/>
        </p:nvPicPr>
        <p:blipFill>
          <a:blip r:embed="rId2"/>
          <a:stretch/>
        </p:blipFill>
        <p:spPr>
          <a:xfrm>
            <a:off x="826920" y="1646280"/>
            <a:ext cx="7345440" cy="4348080"/>
          </a:xfrm>
          <a:prstGeom prst="rect">
            <a:avLst/>
          </a:prstGeom>
          <a:ln w="0">
            <a:noFill/>
          </a:ln>
        </p:spPr>
      </p:pic>
      <p:pic>
        <p:nvPicPr>
          <p:cNvPr id="96" name="Gudok_parohoda.mp3" descr=""/>
          <p:cNvPicPr/>
          <p:nvPr/>
        </p:nvPicPr>
        <p:blipFill>
          <a:blip r:embed="rId3"/>
          <a:stretch/>
        </p:blipFill>
        <p:spPr>
          <a:xfrm>
            <a:off x="838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5 станция «Станция словарна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7"/>
          <p:cNvPicPr/>
          <p:nvPr/>
        </p:nvPicPr>
        <p:blipFill>
          <a:blip r:embed="rId2"/>
          <a:stretch/>
        </p:blipFill>
        <p:spPr>
          <a:xfrm flipH="1" rot="85200">
            <a:off x="1255320" y="1839960"/>
            <a:ext cx="6824520" cy="4169160"/>
          </a:xfrm>
          <a:prstGeom prst="rect">
            <a:avLst/>
          </a:prstGeom>
          <a:ln w="0">
            <a:noFill/>
          </a:ln>
        </p:spPr>
      </p:pic>
      <p:pic>
        <p:nvPicPr>
          <p:cNvPr id="99" name="zvuk eduschego parovoza 2.mp3" descr=""/>
          <p:cNvPicPr/>
          <p:nvPr/>
        </p:nvPicPr>
        <p:blipFill>
          <a:blip r:embed="rId3"/>
          <a:stretch/>
        </p:blipFill>
        <p:spPr>
          <a:xfrm>
            <a:off x="8388360" y="573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аше путешествие заканчивае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7"/>
          <p:cNvPicPr/>
          <p:nvPr/>
        </p:nvPicPr>
        <p:blipFill>
          <a:blip r:embed="rId2"/>
          <a:stretch/>
        </p:blipFill>
        <p:spPr>
          <a:xfrm>
            <a:off x="395280" y="2349360"/>
            <a:ext cx="799308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дилижанс.wma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8560" y="1719360"/>
            <a:ext cx="53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дъезжаем к последней 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дытож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8:52:16Z</dcterms:created>
  <dc:creator>АЛЕКС</dc:creator>
  <dc:description>http://aida.ucoz.ru</dc:description>
  <dc:language>en-US</dc:language>
  <cp:lastModifiedBy>ХХХ</cp:lastModifiedBy>
  <dcterms:modified xsi:type="dcterms:W3CDTF">2014-04-28T19:39:03Z</dcterms:modified>
  <cp:revision>42</cp:revision>
  <dc:subject/>
  <dc:title>Слайд 1</dc:title>
</cp:coreProperties>
</file>