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jpeg" ContentType="image/jpeg"/>
  <Override PartName="/ppt/media/image23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5.gif" ContentType="image/gif"/>
  <Override PartName="/ppt/media/image28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8.gif" ContentType="image/gif"/>
  <Override PartName="/ppt/media/image13.jpeg" ContentType="image/jpeg"/>
  <Override PartName="/ppt/media/image11.gif" ContentType="image/gif"/>
  <Override PartName="/ppt/media/image30.jpeg" ContentType="image/jpeg"/>
  <Override PartName="/ppt/media/image33.jpeg" ContentType="image/jpeg"/>
  <Override PartName="/ppt/media/image36.wmf" ContentType="image/x-wmf"/>
  <Override PartName="/ppt/media/image3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3.png" ContentType="image/png"/>
  <Override PartName="/ppt/media/image26.png" ContentType="image/png"/>
  <Override PartName="/ppt/media/image9.jpeg" ContentType="image/jpeg"/>
  <Override PartName="/ppt/media/image31.jpeg" ContentType="image/jpeg"/>
  <Override PartName="/ppt/media/image14.gif" ContentType="image/gif"/>
  <Override PartName="/ppt/media/image16.gif" ContentType="image/gif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54D-3A93-46E2-8A12-7934FE02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C74-1FB6-4496-93B1-D381A088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ABF-85D1-49F4-8008-ABE1AAC9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30B-85B9-4BFC-8DC4-4C610215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94F0-AA05-422D-84F1-EE291207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C718-2D16-448B-8FC1-817B44C5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90EE-322B-4003-9154-10FB5039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2FAE-5F97-49E4-8824-BBCF2889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CF9D-247F-463D-8BD0-E4E9D38A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A4E9-EE87-4F84-890B-B72E80B4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8FB0-FFC9-4443-B8C0-AC919D9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4DE-14E4-40B1-B8D4-B321CB5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13F2-190F-4E23-AE4B-0E2910B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840E-34DA-4185-8A60-A0939078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987-8773-437E-9DCC-0751F979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A3E9-6D22-40DD-8BE2-F7713741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F75B-C915-4191-B60B-C87E78B6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604A-64F8-4745-AC05-DF86C7C3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9708-775B-42F3-851B-AD37A735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33B4-B00E-46D5-B31D-A3D445A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DB5B-487E-412B-A75B-DF73597D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08AF-FFFE-4A12-8B0D-50C0874F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F20-E24A-4A2F-861B-C4EBD4D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586B-E7DE-40A8-AD96-41B77AA0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EA9D-F4CE-4F27-8D44-D8AAD34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4462-DA9E-46AF-B410-7D2C0640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C395-5818-438F-9DD1-6BCBE37F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EFDA-4201-4EEC-9B66-E57BFE6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ED4D-963F-4904-9D2F-31BE1B3B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EAE5-FC64-4B10-9582-050CC6E7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D3F4-6798-43EE-A515-A55BE969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0EAE-AC74-466D-A3FC-3AFC434C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688D3-9C51-470B-A29B-57C2AADC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B75-1FE4-4F8F-B31E-542B0F09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A97B-BAC2-4566-9EE1-E74751CB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406B0-3985-4EBD-94EC-579AF904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7424-ABF9-4058-8DC1-92B31198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4FF9-BF3A-44E0-9CA1-574F29EF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4240B-00DF-4FF8-AA52-EA19C98E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5AF1-0CE9-43AE-936A-5829C50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A769D-2FEE-4AA9-B10F-4A7A4FD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2499-B838-4666-BE38-80E61DE0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97AB-686A-41D2-B8F7-456278E8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CA7-C8FE-4686-95BD-D24B71A7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3FE-F45B-454D-B514-8CDA15A5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9F6-253A-4DEF-9B01-C01B75AC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D8E-23CC-4243-89B5-F15952E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097-F4D4-4C15-AC5C-0998B69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9D7-1B8F-46A3-A80A-BEEA5676F5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7DA2-4BC7-4741-8059-022004C762A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F6C8-3BB2-4127-B7CC-3E895D00106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84F3-F441-4B7F-BCBB-38787965E6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82520" y="706320"/>
            <a:ext cx="888228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Социализация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Театрализованная игра.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«Кукла Алдуня показыва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концерт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Подвижные игры</a:t>
            </a:r>
            <a:r>
              <a:rPr b="1" lang="ru-RU" sz="2600" spc="-1" strike="noStrike">
                <a:solidFill>
                  <a:srgbClr val="04617b"/>
                </a:solidFill>
                <a:latin typeface="Constantia"/>
              </a:rPr>
              <a:t>.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Развивать у детей желание игр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вместе с воспитателем в мордовские подвижные игры 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ростым содержани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Игры с ходьбой и бегом : « В зайчиков»( Нумолнэсэ 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эрз., Нумолнякс –мокш.); « В белочек» ( Урнэсэ - эрз.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Урняса- мокш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4.gif"/>
          <p:cNvPicPr/>
          <p:nvPr/>
        </p:nvPicPr>
        <p:blipFill>
          <a:blip r:embed="rId1"/>
          <a:stretch/>
        </p:blipFill>
        <p:spPr>
          <a:xfrm>
            <a:off x="142920" y="5715000"/>
            <a:ext cx="8858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Безопасность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 помощью фольклорных произведений познакоми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детей с правилами безопасного для человека 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окружающего мира поведения( мордовская народ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казка « Мышк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Рисунок 3" descr="V05ANI.GIF"/>
          <p:cNvPicPr/>
          <p:nvPr/>
        </p:nvPicPr>
        <p:blipFill>
          <a:blip r:embed="rId1"/>
          <a:stretch/>
        </p:blipFill>
        <p:spPr>
          <a:xfrm>
            <a:off x="5357880" y="4500720"/>
            <a:ext cx="2286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 Чтение художественной литературы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Развивать умения слушать произвед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мордовского фольклора; отвечать на простейш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вопросы воспитателя.( 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колыбельные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« Спят в реч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рыбки», « Баю-баю , иднязе»; 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прибаутки «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На краю се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домик стоит», « Ой, катоня, катоня» ;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пестушка 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« Стяк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тяка, цёраняй» ; 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личка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 « Пиземня , тук пяконя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Рисунок 5" descr="book10.gif"/>
          <p:cNvPicPr/>
          <p:nvPr/>
        </p:nvPicPr>
        <p:blipFill>
          <a:blip r:embed="rId1"/>
          <a:stretch/>
        </p:blipFill>
        <p:spPr>
          <a:xfrm>
            <a:off x="6143760" y="5000760"/>
            <a:ext cx="1785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бразовательная область «Художественно – эстетическое воспитание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направлена на ознакомление с мордовской народ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игрушкой (птичкой-свистулькой, стилизован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игрушкой-матрешко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Рисунок 3" descr="V25ANI.GIF"/>
          <p:cNvPicPr/>
          <p:nvPr/>
        </p:nvPicPr>
        <p:blipFill>
          <a:blip r:embed="rId1"/>
          <a:stretch/>
        </p:blipFill>
        <p:spPr>
          <a:xfrm>
            <a:off x="6286680" y="428616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Музык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включает ознакомление с мордовским музыкальны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фольклором и музыкальными произведениям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(слушание , исполнение песенок , элементар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музыкально - ритмичных движений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Рисунок 3" descr="lines23.gif"/>
          <p:cNvPicPr/>
          <p:nvPr/>
        </p:nvPicPr>
        <p:blipFill>
          <a:blip r:embed="rId1"/>
          <a:stretch/>
        </p:blipFill>
        <p:spPr>
          <a:xfrm>
            <a:off x="285840" y="5715000"/>
            <a:ext cx="85010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торая младшая групп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Содержимое 4" descr="Изображение 237.jpg"/>
          <p:cNvPicPr/>
          <p:nvPr/>
        </p:nvPicPr>
        <p:blipFill>
          <a:blip r:embed="rId1"/>
          <a:stretch/>
        </p:blipFill>
        <p:spPr>
          <a:xfrm>
            <a:off x="457200" y="2214720"/>
            <a:ext cx="4038480" cy="384624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5" descr="Изображение 220.jpg"/>
          <p:cNvPicPr/>
          <p:nvPr/>
        </p:nvPicPr>
        <p:blipFill>
          <a:blip r:embed="rId2"/>
          <a:stretch/>
        </p:blipFill>
        <p:spPr>
          <a:xfrm>
            <a:off x="4648320" y="2214720"/>
            <a:ext cx="4038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 Физическая культур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ознакомить с мордовскими подвижными игр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Развивать стремление играть в подвижные игры 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ростым содержанием , несложными движения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Развивать умения играть в несложные игры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пособствующие совершенствованию основ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движений ( ходьба, бег, бросание , катание). Игры 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ходьбой и бегом : « В зайчиков»( Нумолнэсэ 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эрз., Нумолнякс –мокш.); « В белочек» ( Урнэсэ - эрз.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Урняса- мокш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 Чтение художественной литературы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родолжать знакомить с мордовским фольклором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(сказками, потешками, прибауткам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Колыбельные песни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« А баву, баву, баву…», «Ба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Баюшки», ;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потешка  «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Тьфу, тьфу, цёряня..»;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прибаут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« Пачкалга , пачкалг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Рисунок 3" descr="an13.gif"/>
          <p:cNvPicPr/>
          <p:nvPr/>
        </p:nvPicPr>
        <p:blipFill>
          <a:blip r:embed="rId1"/>
          <a:stretch/>
        </p:blipFill>
        <p:spPr>
          <a:xfrm>
            <a:off x="214200" y="5286240"/>
            <a:ext cx="86439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Музык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ознакомить с русскими народными песн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различных жанров: колыбельной , пестушкой 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отешкой, прибауткой, закличкой, игровой и плясов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есней ; учить эмоционально отзываться на них. Учи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овершать несложные движения , характеризующ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ерсонажа при исполнении народной пес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Рисунок 3" descr="35M3.gif"/>
          <p:cNvPicPr/>
          <p:nvPr/>
        </p:nvPicPr>
        <p:blipFill>
          <a:blip r:embed="rId1"/>
          <a:stretch/>
        </p:blipFill>
        <p:spPr>
          <a:xfrm>
            <a:off x="6858000" y="5214960"/>
            <a:ext cx="12142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едняяя групп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одержимое 4" descr="100_1437.jpg"/>
          <p:cNvPicPr/>
          <p:nvPr/>
        </p:nvPicPr>
        <p:blipFill>
          <a:blip r:embed="rId1"/>
          <a:stretch/>
        </p:blipFill>
        <p:spPr>
          <a:xfrm>
            <a:off x="457200" y="1857240"/>
            <a:ext cx="4038480" cy="450072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DSC_0068.jpg"/>
          <p:cNvPicPr/>
          <p:nvPr/>
        </p:nvPicPr>
        <p:blipFill>
          <a:blip r:embed="rId2"/>
          <a:stretch/>
        </p:blipFill>
        <p:spPr>
          <a:xfrm>
            <a:off x="4648320" y="1857240"/>
            <a:ext cx="4038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ИНТЕГРАЦИЯ ОБРАЗОВАТЕЛЬНЫХ ОБЛАСТЕЙ</a:t>
            </a:r>
            <a:br>
              <a:rPr sz="4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Региональное содержание дошкольного образования может быть реализовано во всех образовательных областях, при этом необходимо учитывать как интеграцию самих образовательных областей, так и интеграцию регионального содержания с обязательной частью программы и направлением работы дошкольного учрежд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 Здоровье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Продолжать знакомить с мордовскими подвижны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играми « В волков»( «Верьгизнэсэ» – эрз., «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Върьгазкс» – мокш.), « Шаравага-варага», «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журавлей»( « Каргинесэ» – эрз., « Каргокс» - мокш.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« В петушка»( « Атякшкесэ»- эрз., « Атякшекс» – мокш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Рисунок 3" descr="4446.jpg"/>
          <p:cNvPicPr/>
          <p:nvPr/>
        </p:nvPicPr>
        <p:blipFill>
          <a:blip r:embed="rId1"/>
          <a:stretch/>
        </p:blipFill>
        <p:spPr>
          <a:xfrm>
            <a:off x="214200" y="5143680"/>
            <a:ext cx="87156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«Физическая культур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Игры усложняются. Закрепляются старые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изучаются новые иг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Продолжать знакомить с мордовскими играми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развивающими двигательную активност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физические качества - ловкость, быстрот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пространственную ориентиров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Рисунок 4" descr="36_2_25.gif"/>
          <p:cNvPicPr/>
          <p:nvPr/>
        </p:nvPicPr>
        <p:blipFill>
          <a:blip r:embed="rId1"/>
          <a:stretch/>
        </p:blipFill>
        <p:spPr>
          <a:xfrm>
            <a:off x="6929280" y="485784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аршая групп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4" descr="3133511.gif"/>
          <p:cNvPicPr/>
          <p:nvPr/>
        </p:nvPicPr>
        <p:blipFill>
          <a:blip r:embed="rId1"/>
          <a:stretch/>
        </p:blipFill>
        <p:spPr>
          <a:xfrm>
            <a:off x="457200" y="1928880"/>
            <a:ext cx="4038480" cy="442908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5" descr="P1040477.JPG"/>
          <p:cNvPicPr/>
          <p:nvPr/>
        </p:nvPicPr>
        <p:blipFill>
          <a:blip r:embed="rId2"/>
          <a:stretch/>
        </p:blipFill>
        <p:spPr>
          <a:xfrm>
            <a:off x="4648320" y="1928880"/>
            <a:ext cx="403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 Здоровье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Приучать детей самостоятельно организовы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мордовские игры « Салки»( « Варинес понгома»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эрз., «Варяняс повома» - мокш.), « Кулюкушки», «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Горшочки( « Чакшкинесэ»- эрз., « Сяканяса»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мокш.), « В ножки» ( « Пильгинесэ» – эрз.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«Пильгонякс» – мокш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Рисунок 5" descr="summero3.jpg"/>
          <p:cNvPicPr/>
          <p:nvPr/>
        </p:nvPicPr>
        <p:blipFill>
          <a:blip r:embed="rId1"/>
          <a:stretch/>
        </p:blipFill>
        <p:spPr>
          <a:xfrm>
            <a:off x="5643720" y="4357800"/>
            <a:ext cx="3357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4009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В горшочки( « Чакшкинесэ»- эрз., « Сяканяса» – мокш.)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Содержимое 7" descr="P1040488.JPG"/>
          <p:cNvPicPr/>
          <p:nvPr/>
        </p:nvPicPr>
        <p:blipFill>
          <a:blip r:embed="rId1"/>
          <a:stretch/>
        </p:blipFill>
        <p:spPr>
          <a:xfrm>
            <a:off x="500040" y="178596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«Физическая культур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Продолжать формировать умение самостоятель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организовывать знакомые мордовские подвижны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игры, проявляя инициативу и творче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Рисунок 3" descr="gerb.jpg"/>
          <p:cNvPicPr/>
          <p:nvPr/>
        </p:nvPicPr>
        <p:blipFill>
          <a:blip r:embed="rId1"/>
          <a:stretch/>
        </p:blipFill>
        <p:spPr>
          <a:xfrm>
            <a:off x="3357720" y="4572000"/>
            <a:ext cx="2071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Подготовительная к школе групп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Содержимое 6" descr="100_1438.jpg"/>
          <p:cNvPicPr/>
          <p:nvPr/>
        </p:nvPicPr>
        <p:blipFill>
          <a:blip r:embed="rId1"/>
          <a:stretch/>
        </p:blipFill>
        <p:spPr>
          <a:xfrm>
            <a:off x="457200" y="1928880"/>
            <a:ext cx="4038480" cy="442908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9" descr="100_1449.jpg"/>
          <p:cNvPicPr/>
          <p:nvPr/>
        </p:nvPicPr>
        <p:blipFill>
          <a:blip r:embed="rId2"/>
          <a:stretch/>
        </p:blipFill>
        <p:spPr>
          <a:xfrm>
            <a:off x="4648320" y="1928880"/>
            <a:ext cx="403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 Здоровье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Обеспечить оптимальную двигательную акти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детей в течении всего дня, используя мордовск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подвижные игры  « В ключи»( « Панжоминесэ»- эрз.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« Панжемаса» - мокш.), « В платки» ( « Пацинесэ»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эрз., « Руцяняса»- мокш.), « Палочка- стучалочка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( « Палкат- стукамкат- эрз., « Палканят-чакаманя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мокш.); учить выполнять ритмические движения по\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мотивам мордовских танце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Содержимое 4" descr="DSCN3634.JPG"/>
          <p:cNvPicPr/>
          <p:nvPr/>
        </p:nvPicPr>
        <p:blipFill>
          <a:blip r:embed="rId1"/>
          <a:stretch/>
        </p:blipFill>
        <p:spPr>
          <a:xfrm>
            <a:off x="457200" y="178596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5" descr="100_1390.jpg"/>
          <p:cNvPicPr/>
          <p:nvPr/>
        </p:nvPicPr>
        <p:blipFill>
          <a:blip r:embed="rId2"/>
          <a:stretch/>
        </p:blipFill>
        <p:spPr>
          <a:xfrm>
            <a:off x="4648320" y="178596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Таким образом, в основе регионального аспек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содержания дошкольного образования леж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принцип интеграции, предполагающ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взаимосвязь и взаимодействие образовательн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област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Рисунок 3" descr="vimpel.png"/>
          <p:cNvPicPr/>
          <p:nvPr/>
        </p:nvPicPr>
        <p:blipFill>
          <a:blip r:embed="rId1"/>
          <a:stretch/>
        </p:blipFill>
        <p:spPr>
          <a:xfrm>
            <a:off x="2928960" y="4643280"/>
            <a:ext cx="26431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Ознакомление с мордовскими подвижными играми може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использоваться в образовательных областях «Физическа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культура», « Здоровье», «Познание», «Коммуникация»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«Социализация» и пр. Так, например, интеграция подвижных игр с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образовательной областью «Коммуникация» проявляется в том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что они побуждают детей к общению в процессе обсужд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правил, выбора ведущих (или водящих), распределения ролей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разделения на команды. Кроме того, многие подвижные игр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включают такие правила, как ведение диалога («В платки»)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специальные стихи, проговариваемые хором («Раю-раю»). Такж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мордовские подвижные игры развивают произвольность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поведения, способствуют усвоению моральных нор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3" descr="DIPLOMA.WMF"/>
          <p:cNvPicPr/>
          <p:nvPr/>
        </p:nvPicPr>
        <p:blipFill>
          <a:blip r:embed="rId1"/>
          <a:stretch/>
        </p:blipFill>
        <p:spPr>
          <a:xfrm>
            <a:off x="642960" y="1000080"/>
            <a:ext cx="7786800" cy="585792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1928880" y="27147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Ознакомление с устным народным творчеством и детск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мордовской литературой не только раскрывает соответственну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образовательную область «Чтение художественной литературы», по пр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постановке педагогом соответствующих задач интегрируется 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образовательной областью «Здоровье». Например, акцентирова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внимания на национальных героях-богатырях с хоро­шо развиты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физическими качествами формирует идеал физи­чески развитог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дорового человека, которому все удается, то есть формиру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ценностное отношение к здоровью и к физи­ческой культуре. Интеграц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с образовательной областью </a:t>
            </a:r>
            <a:r>
              <a:rPr b="0" i="1" lang="ru-RU" sz="2000" spc="-1" strike="noStrike">
                <a:solidFill>
                  <a:srgbClr val="04617b"/>
                </a:solidFill>
                <a:latin typeface="Calibri"/>
              </a:rPr>
              <a:t>«Социализация»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проявляется в том, чт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устное народное творчество, особенно сказки, пробуждают интерес 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быту, труду, искусству людей разных национальностей. К героям сказок 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детей пробуж­дается уважение к народу, их создавшему. Загадки 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пословицы расширяют представления об условиях жизни, ценностях 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быте люд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288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Ознакомление со способами предков заботиться о свое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здоровье, вести здоровый образ жизни, соблюд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определенных гигиенических правил (выраженных в пословицах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поговорках, художественной литературе, в произведения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изобразительного искусства) пробуждает познавательны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интерес в области оздоровительных технологий (образовательна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область«Здоровье»). Ознакомление с природой, географически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положением, населенными пунктами, государственно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символикой, с достопримечательностями родного города (села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поселка) и республики («Социализация»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182520" y="1139760"/>
            <a:ext cx="8583480" cy="25671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" descr="4446.jpg"/>
          <p:cNvPicPr/>
          <p:nvPr/>
        </p:nvPicPr>
        <p:blipFill>
          <a:blip r:embed="rId2"/>
          <a:stretch/>
        </p:blipFill>
        <p:spPr>
          <a:xfrm>
            <a:off x="357120" y="4572000"/>
            <a:ext cx="8501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вая младшая групп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5" descr="S7300304.JPG"/>
          <p:cNvPicPr/>
          <p:nvPr/>
        </p:nvPicPr>
        <p:blipFill>
          <a:blip r:embed="rId1"/>
          <a:stretch/>
        </p:blipFill>
        <p:spPr>
          <a:xfrm>
            <a:off x="4648320" y="2000160"/>
            <a:ext cx="4038480" cy="392904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7" descr="S7300354.JPG"/>
          <p:cNvPicPr/>
          <p:nvPr/>
        </p:nvPicPr>
        <p:blipFill>
          <a:blip r:embed="rId2"/>
          <a:stretch/>
        </p:blipFill>
        <p:spPr>
          <a:xfrm>
            <a:off x="457200" y="2000160"/>
            <a:ext cx="4038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40096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бразовательная область « Здоровье» </a:t>
            </a:r>
            <a:br>
              <a:rPr sz="54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ть начальные представления о здоров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бразе жизни посредством использования фольклора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(колыбельная «Баю-баю, иднязе», потешка « Ай , ацици, ацици…» , пестушка « Стяка, стяка, цёраняй»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Использование музыкального фольклора (колыбельных , потешек, пестушек, прибауток, сказок) при проведении режимных моментов и при индивидуальном общении педагога и ребен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Рисунок 3" descr="r2.gif"/>
          <p:cNvPicPr/>
          <p:nvPr/>
        </p:nvPicPr>
        <p:blipFill>
          <a:blip r:embed="rId1"/>
          <a:stretch/>
        </p:blipFill>
        <p:spPr>
          <a:xfrm>
            <a:off x="6072120" y="5143680"/>
            <a:ext cx="2714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4" descr="S7300008.JPG"/>
          <p:cNvPicPr/>
          <p:nvPr/>
        </p:nvPicPr>
        <p:blipFill>
          <a:blip r:embed="rId1"/>
          <a:stretch/>
        </p:blipFill>
        <p:spPr>
          <a:xfrm>
            <a:off x="500040" y="1857240"/>
            <a:ext cx="4038480" cy="450072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5" descr="S7300003.JPG"/>
          <p:cNvPicPr/>
          <p:nvPr/>
        </p:nvPicPr>
        <p:blipFill>
          <a:blip r:embed="rId2"/>
          <a:stretch/>
        </p:blipFill>
        <p:spPr>
          <a:xfrm>
            <a:off x="4786200" y="1857240"/>
            <a:ext cx="392904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7:12:09Z</dcterms:created>
  <dc:creator>VL</dc:creator>
  <dc:description/>
  <dc:language>en-US</dc:language>
  <cp:lastModifiedBy>Dennis</cp:lastModifiedBy>
  <dcterms:modified xsi:type="dcterms:W3CDTF">2013-04-07T05:45:35Z</dcterms:modified>
  <cp:revision>36</cp:revision>
  <dc:subject/>
  <dc:title>Интеграция образовательных областей по приобщению детей к народной мордовской игровой культуре в примерном региональном модуле программы ДО « Мы в Мордовии живем!»</dc:title>
</cp:coreProperties>
</file>