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B40-66BC-461F-B804-322712F0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FCD-42D1-4CD0-A80E-28A61516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FDE-C452-41CB-B39A-17FD9235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16B-5097-41BD-9EF6-206CBE0C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8843-2A4A-435B-9B9A-F3332628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082F-B2C3-48DC-8834-A3082044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4319-596B-4C53-8BBC-1D09AEB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A049-4638-44B8-A6C9-08D366A7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77B-0C46-470F-BE1F-AF37DD7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464E-6E71-49EA-9959-2B2795D6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43D0-5E82-48A7-A95F-18E1D52B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82A-6B99-4765-81E5-A5187E01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46CE-9093-4BBF-92FE-FE9BD1B9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54B4-84C8-4D75-9D73-AEE3F07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A503-01E0-40B5-8D04-1A56C2D3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28C6-E9ED-4CD1-8608-3508D9E9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ECFF-4482-4CBC-AF84-B65CCC27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FF9-59BB-47FA-AAC6-D6E521CC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48A-A359-410F-88B9-706737B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452-FAC3-48F4-90EC-B5AC8FC0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5C9-BCDF-405F-BAAA-35AC4C36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077-4C1C-49BA-A55F-6F08446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8F4-A570-4097-B155-FB441F3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16F-1D6A-438E-9EB5-76A0419B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F256-B21B-48DA-BDBC-19165F6BD9A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EB0C-38C4-4215-85A4-0703B1E2AAF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569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ahoma"/>
              </a:rPr>
              <a:t>Овеянные славою флаг наш и герб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Классный ча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ahoma"/>
              </a:rPr>
              <a:t>СИМВОЛЫ РОССИ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Федеральный Конституционный закон о Государственном гимн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Принят Государственной Дум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8 декабря 2000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Одобрен Советом Феде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20 декабря 2000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Подписан Президентом РФ В.В.Пути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25 декабря 2000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Первое официальное исполнение Государственного гимна России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30 декабря 2000 г.</a:t>
            </a: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 на Государственном приёме в Большом Кремлёвском дворц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36240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Овеянные славою наш флаг и герб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В себя вобрали прошлое страны.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На флаге все: народа кровь, и неба цвет,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И благородство нежной белизны.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На гербе гордо воспарил орел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С эмблемой вечною защитника Руси.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Он вместе пять столетий с ней прошел,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Он и сейчас с ней, полный сил !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Русь защитил Георгий Победитель,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Не зря из пепла и руин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Поднялся новый Храм-Спаситель,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ahoma"/>
              </a:rPr>
              <a:t>Святой российский исполи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507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Символы государства имеют свою собственную историю. В своём развитии они прошли долгий путь, в них был заложен глубокий смысл, их создателями двигали прекрасные и добрые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. Без их почитания, без знания их истории, без понимания заложенного в них смысла невозможно социальное и личностное становление юного гражданина Росси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65360" y="3716280"/>
            <a:ext cx="57150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Государственный герб Российской Федерации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ринят Государственной Думой 20 декабря 2000г. Президентом В.В.Путиным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53708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Российский фла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Государственному флагу, как государственной святыне, отдаются высшие государственные почести. Его достоинство подлежит защите по всему миру, оскорбление флага расценивается как оскорбление чести нации и государ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Флаг РФ фото, Флаг России, российский флаг фото"/>
          <p:cNvPicPr/>
          <p:nvPr/>
        </p:nvPicPr>
        <p:blipFill>
          <a:blip r:embed="rId1"/>
          <a:stretch/>
        </p:blipFill>
        <p:spPr>
          <a:xfrm>
            <a:off x="5165640" y="1766880"/>
            <a:ext cx="3421080" cy="4172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3040" y="1790640"/>
            <a:ext cx="3612960" cy="466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73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В 1705 г. бело-сине-красный флаг указом Петра I был назван </a:t>
            </a:r>
            <a:br>
              <a:rPr sz="1800"/>
            </a:b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«… торговым коммерческих и промышленных российских судов флагом» и использовался в таком назначении до 1917 г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22 августа - День государственного флага Росси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Флаг России - символ крепкого государства."/>
          <p:cNvPicPr/>
          <p:nvPr/>
        </p:nvPicPr>
        <p:blipFill>
          <a:blip r:embed="rId1"/>
          <a:stretch/>
        </p:blipFill>
        <p:spPr>
          <a:xfrm>
            <a:off x="1547640" y="2852640"/>
            <a:ext cx="6409080" cy="338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46562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лый цвет символизирует мир, чистоту, непорочность и совершен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Синий цвет символизирует небо, целомудрие, верность, духовность, ве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Красный символизирует энергию, силу и кровь, пролитую за Отечеств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00360" cy="309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Гимн – символ стран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В отличии от гербов и флагов, которые были символами государства ешё в глубокой древности, гимны как государственные символы появились сравнительно недав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Гимн – слово греческого происхождения и означ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« торжественная, славящая песнь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745080" cy="417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56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45:47Z</dcterms:created>
  <dc:creator>FuckYouBill</dc:creator>
  <dc:description/>
  <dc:language>en-US</dc:language>
  <cp:lastModifiedBy>Чирков</cp:lastModifiedBy>
  <dcterms:modified xsi:type="dcterms:W3CDTF">2010-12-07T16:56:35Z</dcterms:modified>
  <cp:revision>12</cp:revision>
  <dc:subject/>
  <dc:title>Слайд 1</dc:title>
</cp:coreProperties>
</file>