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62BAB2-B643-4C6C-819D-E5A64FF34FA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198D2-F4B9-42A2-9E51-7C37A1CA05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76D03-08B0-4859-8F6D-DBC1607579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8F726E-4539-47C8-B92F-E6EF5D42C0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E8548-6339-4FD4-9B1F-57BBB8DA4CD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CE1EB-A901-4C1D-9179-C0B3C3402E7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B919F-1CC1-4721-A0B1-D298AF691A9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B55F4-22E2-4010-9718-2963E1D8BD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A85025-B9F2-46CE-A3DD-1D8EA2A0766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3480" cy="40068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2D52-485D-4EE7-A8C0-4BEDF3783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A0C-8510-426D-8660-7BB5324A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1AA-83CC-46E7-9375-ED4267314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40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6440" y="19792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40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6440" y="4583880"/>
            <a:ext cx="285012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1C0E-4156-4363-8378-39ABCB11E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9C01-9537-412B-8A5C-0A4099803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456E-8412-441B-80BA-71DF3EE1B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0661-DA2B-41D2-843E-8A88B5F5E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2B12-B997-4011-A688-62F0E223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994F-FE6A-41ED-A6A1-5586E229C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041D-2508-4617-A7E1-5F7DD0C2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6360" y="45838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02A3-0039-48F8-B62E-B8D8138F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6360" y="1979280"/>
            <a:ext cx="43196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4583880"/>
            <a:ext cx="885204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2722-56AD-458B-8626-E71A3B30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28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12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6080" y="6562440"/>
            <a:ext cx="31924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35360" y="6562440"/>
            <a:ext cx="2344680" cy="51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B796F-678A-4B93-A50C-FC5AA0BB1FD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18920" y="971280"/>
            <a:ext cx="9070920" cy="313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Comic Sans MS"/>
              </a:rPr>
              <a:t>Интегрированный урок русского языка и истории</a:t>
            </a:r>
            <a:br>
              <a:rPr sz="3200"/>
            </a:br>
            <a:br>
              <a:rPr sz="3200"/>
            </a:br>
            <a:r>
              <a:rPr b="0" lang="ru-RU" sz="4400" spc="-1" strike="noStrike">
                <a:solidFill>
                  <a:srgbClr val="280099"/>
                </a:solidFill>
                <a:latin typeface="Comic Sans MS"/>
              </a:rPr>
              <a:t>Тема: Исторический репортаж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527280" y="4284360"/>
            <a:ext cx="5904000" cy="23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43080" indent="0" algn="r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80099"/>
                </a:solidFill>
                <a:latin typeface="Comic Sans MS"/>
              </a:rPr>
              <a:t>Учитель русского языка и литературы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r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80099"/>
                </a:solidFill>
                <a:latin typeface="Comic Sans MS"/>
              </a:rPr>
              <a:t>МАОУ СОШ № 19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r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80099"/>
                </a:solidFill>
                <a:latin typeface="Comic Sans MS"/>
              </a:rPr>
              <a:t> </a:t>
            </a:r>
            <a:r>
              <a:rPr b="0" lang="ru-RU" sz="2200" spc="-1" strike="noStrike">
                <a:solidFill>
                  <a:srgbClr val="280099"/>
                </a:solidFill>
                <a:latin typeface="Comic Sans MS"/>
              </a:rPr>
              <a:t>Назарова Е.А. 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r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80099"/>
                </a:solidFill>
                <a:latin typeface="Comic Sans MS"/>
              </a:rPr>
              <a:t>Учитель истории МАОУ СОШ № 19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r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80099"/>
                </a:solidFill>
                <a:latin typeface="Comic Sans MS"/>
              </a:rPr>
              <a:t>Ерофеева Е.А., 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r">
              <a:lnSpc>
                <a:spcPct val="117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280099"/>
                </a:solidFill>
                <a:latin typeface="Comic Sans MS"/>
              </a:rPr>
              <a:t>Г. Димитровград, Ульяновская область, 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800360" y="4500720"/>
            <a:ext cx="1179360" cy="142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1280" y="324000"/>
            <a:ext cx="9068040" cy="11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280099"/>
                </a:solidFill>
                <a:latin typeface="Arial"/>
              </a:rPr>
              <a:t>Пример фрагмента центральной части репортажа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720360" y="2124000"/>
            <a:ext cx="8852040" cy="4842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80"/>
                </a:solidFill>
                <a:latin typeface="Arial"/>
              </a:rPr>
              <a:t>Дворяне  С. Трубецкой, братья А. И М. Бестужевы, П. Каховский, наверно предварительно проведя агитацию среди солдат, пришли на Сенатскую площадь с Московским, Гренадерским полками и Гвардейским морским экипажем , с целью помешать переприсяге императора, а возможно и его свержения с престола. Толпа кричала: «Конституцию». Полиция пыталась разогнать солдат и «чернь». 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76360" y="394920"/>
            <a:ext cx="89964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80099"/>
                </a:solidFill>
                <a:latin typeface="Arial"/>
              </a:rPr>
              <a:t>Концовка репортажа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6360" y="971280"/>
            <a:ext cx="8997840" cy="6264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В 3 часа стало темнеть. Николай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отдал приказ стрелять картечью по «черни», которая усеяла крышу Сената и соседних домов. На первый залп картечью восставшие отвечали ружейным огнём, но потом под градом картечи ряды дрогнули, заколебались - началось бегство, падали раненые и убитые. Царские пушки стреляли по толпе. Толпы восставших солдат бросились на невский лёд. Михаил Бестужев попытался на льду Невы вновь построить солдат в боевой порядок и идти в наступление. Войска построились. Но ядра ударялись о лёд - лёд раскалывался, многие тонули. Попытка Бестужева не удалась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К ночи всё было кончено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Это событие привело меня в глубочайшее изумление. Дворяне – опора государства и Его императорского величества государя Российского посмело предпринять попытку бунта. Они не только задумали, но и организовали выступление против самодержавия с оружием в руках</a:t>
            </a:r>
            <a:r>
              <a:rPr b="0" lang="ru-RU" sz="2000" spc="-1" strike="noStrike">
                <a:solidFill>
                  <a:srgbClr val="00008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466200"/>
            <a:ext cx="5689440" cy="186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280099"/>
                </a:solidFill>
                <a:latin typeface="Arial"/>
              </a:rPr>
              <a:t>Вопросы для окончания репортажа</a:t>
            </a:r>
            <a:endParaRPr b="0" lang="en-US" sz="36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29800" y="3492000"/>
            <a:ext cx="8853480" cy="1871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Чего нам ждать дальше?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Было ли это выступление единичным или у него будут последователи и последствия?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7399440" y="68436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9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27280" y="539280"/>
            <a:ext cx="49687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280099"/>
                </a:solidFill>
                <a:latin typeface="Arial"/>
              </a:rPr>
              <a:t>Домашнее задание</a:t>
            </a:r>
            <a:endParaRPr b="0" lang="en-US" sz="40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7488360" y="755640"/>
            <a:ext cx="1412640" cy="1521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60720" y="2842920"/>
            <a:ext cx="6262560" cy="3097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Параграф 41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Написать репортаж о восстании декабристов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Выполнить упражнение 366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80099"/>
                </a:solidFill>
                <a:latin typeface="Arial"/>
              </a:rPr>
              <a:t>Использованные материалы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47280" y="1618920"/>
            <a:ext cx="885204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80"/>
                </a:solidFill>
                <a:latin typeface="Arial"/>
              </a:rPr>
              <a:t>1. 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Русский язык: 8 класс/ М.М. Разумовская, С.И. Львова, В.И. Капинос; под ред. М.М. Разумовской, П.А. Леканта. – М.: Дрофа, 2006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2. Влодавская Е.А. Поурочные разработки по русскому языку: 8 класс: к учебнику М.М. Разумовской и др. «Русский язык. 8 класс». – М.: Издательство «Экзамен», 2007. – Урок № 31 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3. Данилов А.А., Косулина Л.Г. История России, XIX век. Учебник для 8 класса. – М.: 2009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Картинки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ttp://familyfriendlycommunity.ca/node/2282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2.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ttp://www.rulex.ru/portret/31-134.jpg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3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http://anvictory.org/wp-content/uploads/2012/11/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николай-1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jpg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39480" indent="-3394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720360" y="395280"/>
            <a:ext cx="8852040" cy="657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4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ttp://ote4estvo.ru/uploads/1322824528_06s1750.jpg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3333cc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http://vestnik-lesnoy.ru/wp-content/uploads/2011/09/exclamation-point.gif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6.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ttp://bibliomaniya.blogspot.ru/2010/10/blog-post.html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7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ttp://rusmirzp.com/2012/10/25/category/history/3916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8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ttp://wiki.iteach.ru/images/2/2c/61926583_1280045981_senat.jpg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9.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ttp://www.agitclub.ru/museum/decabrist/decfoto1/vosstan600a.jpg</a:t>
            </a: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10.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ttp://ruscenter.ru/i/aa.gif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11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720072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80099"/>
                </a:solidFill>
                <a:latin typeface="Arial"/>
              </a:rPr>
              <a:t>Жанры публицистического стиля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720360" y="1979280"/>
            <a:ext cx="885204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Заметка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Фельетон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Рецензия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Очерк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Интервью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57200" indent="-457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7993080" y="611280"/>
            <a:ext cx="14670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7058160" cy="18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80099"/>
                </a:solidFill>
                <a:latin typeface="Arial"/>
              </a:rPr>
              <a:t>Словарно-семантическая работа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727280" y="2368440"/>
            <a:ext cx="5834160" cy="405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Репортаж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англ.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repor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рапорт, сообщение;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сообщать, передавать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7993080" y="658800"/>
            <a:ext cx="1589040" cy="17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2"/>
          <a:stretch/>
        </p:blipFill>
        <p:spPr>
          <a:xfrm>
            <a:off x="696960" y="985680"/>
            <a:ext cx="2143080" cy="21434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"/>
          <p:cNvPicPr/>
          <p:nvPr/>
        </p:nvPicPr>
        <p:blipFill>
          <a:blip r:embed="rId3"/>
          <a:stretch/>
        </p:blipFill>
        <p:spPr>
          <a:xfrm>
            <a:off x="3960720" y="858960"/>
            <a:ext cx="2158920" cy="2227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4"/>
          <a:stretch/>
        </p:blipFill>
        <p:spPr>
          <a:xfrm>
            <a:off x="792000" y="3681360"/>
            <a:ext cx="2390760" cy="2662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5"/>
          <a:stretch/>
        </p:blipFill>
        <p:spPr>
          <a:xfrm>
            <a:off x="6624720" y="2763720"/>
            <a:ext cx="2747880" cy="338796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1"/>
          <p:cNvSpPr/>
          <p:nvPr/>
        </p:nvSpPr>
        <p:spPr>
          <a:xfrm>
            <a:off x="1108080" y="3259080"/>
            <a:ext cx="1366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14 декабр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Прямоугольник 2"/>
          <p:cNvSpPr/>
          <p:nvPr/>
        </p:nvSpPr>
        <p:spPr>
          <a:xfrm>
            <a:off x="4534920" y="3505320"/>
            <a:ext cx="12855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Петербур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Прямоугольник 3"/>
          <p:cNvSpPr/>
          <p:nvPr/>
        </p:nvSpPr>
        <p:spPr>
          <a:xfrm>
            <a:off x="1129680" y="6402240"/>
            <a:ext cx="1944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князь Трубецк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7243560" y="6343560"/>
            <a:ext cx="1971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31640" indent="-3222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Николай 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4400" spc="-1" strike="noStrike">
                <a:solidFill>
                  <a:srgbClr val="280099"/>
                </a:solidFill>
                <a:latin typeface="Arial"/>
              </a:rPr>
              <a:t>Восстание Декабристов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67" name="Picture 5" descr=""/>
          <p:cNvPicPr/>
          <p:nvPr/>
        </p:nvPicPr>
        <p:blipFill>
          <a:blip r:embed="rId1"/>
          <a:stretch/>
        </p:blipFill>
        <p:spPr>
          <a:xfrm>
            <a:off x="1944720" y="1670040"/>
            <a:ext cx="627696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80099"/>
                </a:solidFill>
                <a:latin typeface="Arial"/>
              </a:rPr>
              <a:t>Зачин репортажа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20360" y="197964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14 декабря 1825 год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Петербург, Сенатская площадь,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Николай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, Переприсяга, толпа «черни», морозный день, выстрелы, событие, смерть Александра 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I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, император, М. Милорадович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280099"/>
                </a:solidFill>
                <a:latin typeface="Arial"/>
              </a:rPr>
              <a:t>Пример зачина</a:t>
            </a:r>
            <a:endParaRPr b="0" lang="en-US" sz="44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76000" y="1908000"/>
            <a:ext cx="8854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80"/>
                </a:solidFill>
                <a:latin typeface="Arial"/>
              </a:rPr>
              <a:t>Господа! Позавчера 14 декабря сего года на Сенатской площади нашей столицы были слышны возгласы: «Конституцию!» В центре Петербурга гремели выстрелы. Генерал-губернатор Милорадович, герой Отечественной войны, был смертельно ранен  пулей дворянина.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430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640" y="466560"/>
            <a:ext cx="9142560" cy="865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280099"/>
                </a:solidFill>
                <a:latin typeface="Arial"/>
              </a:rPr>
              <a:t>Центральная часть репортажа</a:t>
            </a:r>
            <a:endParaRPr b="0" lang="en-US" sz="4000" spc="-1" strike="noStrike">
              <a:solidFill>
                <a:srgbClr val="280099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647640" y="1332000"/>
            <a:ext cx="4645080" cy="309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5210280" y="4429080"/>
            <a:ext cx="4495680" cy="25718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"/>
          <p:cNvPicPr/>
          <p:nvPr/>
        </p:nvPicPr>
        <p:blipFill>
          <a:blip r:embed="rId4"/>
          <a:stretch/>
        </p:blipFill>
        <p:spPr>
          <a:xfrm>
            <a:off x="5446800" y="1368360"/>
            <a:ext cx="4022640" cy="2909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69480" cy="88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280099"/>
                </a:solidFill>
                <a:latin typeface="Arial"/>
              </a:rPr>
              <a:t>Опорные слова для написания центральной части репортажа:</a:t>
            </a:r>
            <a:endParaRPr b="0" lang="en-US" sz="3200" spc="-1" strike="noStrike">
              <a:solidFill>
                <a:srgbClr val="28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20360" y="1187280"/>
            <a:ext cx="8853480" cy="5780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Смерть Александра, 14 декабря 1825 год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Петербург, Сенатская площадь,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Переприсяга Николаю </a:t>
            </a:r>
            <a:r>
              <a:rPr b="0" lang="en-US" sz="2400" spc="-1" strike="noStrike">
                <a:solidFill>
                  <a:srgbClr val="22228b"/>
                </a:solidFill>
                <a:latin typeface="Arial"/>
              </a:rPr>
              <a:t>I</a:t>
            </a: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Толпа «черни», морозный день, выстрелы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С. Трубецкой, братья А. И М. Бестужевы, П. Каховский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22228b"/>
                </a:solidFill>
                <a:latin typeface="Arial"/>
              </a:rPr>
              <a:t>Московский полк, Гренадерский полк, матросы Гвардейского экипажа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Цели восставших, Требования толпы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80"/>
                </a:solidFill>
                <a:latin typeface="Arial"/>
              </a:rPr>
              <a:t>Реакция со стороны властей, полиция, Ранение М.  Милорадовича, П. Каховский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106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30200"/>
                <a:tab algn="l" pos="534960"/>
                <a:tab algn="l" pos="984240"/>
                <a:tab algn="l" pos="1433520"/>
                <a:tab algn="l" pos="1882800"/>
                <a:tab algn="l" pos="2332080"/>
                <a:tab algn="l" pos="2781360"/>
                <a:tab algn="l" pos="3230640"/>
                <a:tab algn="l" pos="3679920"/>
                <a:tab algn="l" pos="4129200"/>
                <a:tab algn="l" pos="4578480"/>
                <a:tab algn="l" pos="5027760"/>
                <a:tab algn="l" pos="5477040"/>
                <a:tab algn="l" pos="5925960"/>
                <a:tab algn="l" pos="6375240"/>
                <a:tab algn="l" pos="6824520"/>
                <a:tab algn="l" pos="7273800"/>
                <a:tab algn="l" pos="7723080"/>
                <a:tab algn="l" pos="8172360"/>
                <a:tab algn="l" pos="8621640"/>
                <a:tab algn="l" pos="90709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0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0" dur="500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05:39:41Z</dcterms:created>
  <dc:creator>Kapay07</dc:creator>
  <dc:description/>
  <dc:language>en-US</dc:language>
  <cp:lastModifiedBy>Kapay07</cp:lastModifiedBy>
  <dcterms:modified xsi:type="dcterms:W3CDTF">2013-01-13T15:51:50Z</dcterms:modified>
  <cp:revision>18</cp:revision>
  <dc:subject/>
  <dc:title>Интегрированный урок русского языка и истории  Тема: Исторический репортаж</dc:title>
</cp:coreProperties>
</file>