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EDE-A414-4D3E-847C-A9614A20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768-729B-4467-A4C2-C154584D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52A-91AC-4950-BCA8-3BACB706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104-3F7B-43CC-81CF-26C2FA36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AB7F-9284-4F73-801A-C70B37D5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3C6A-4048-4511-AA38-BC63063C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2A43-8F4E-461E-AFF7-247FF440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7073-BBE8-47A3-B112-6F658B54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A3FB-3819-4B5A-BE4F-C2C747A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25E5-7580-4359-9C97-1ED3679E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48C5-D616-4CC5-86C0-8A7240CA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453-0349-4E3A-B6D2-1C2EDFA4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D067-4DE1-4103-B388-24B087B7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154B-805B-4F6D-96D2-CA5D678F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9464-A0A5-421A-994C-DA5DFF61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C934-D136-466C-B715-6E7EA0CC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BA29-C8D3-46B8-8324-006999C0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0DF-0AE5-4E97-B76E-DF7CC5B5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B50-E162-46C0-AE87-D0636FA6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6C7-90D1-4158-A345-4ECE263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A01-D08C-48D1-A644-0CF05AD5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F54-CC9F-412E-A29B-99A1FD8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EC2-E572-437A-8080-4DB394D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9C9-07F6-44FC-A8A2-8441FB7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AB63-053A-46F5-BD52-645DA34BA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779C-218E-4384-ADB2-12C6E6E39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Ма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вает утро так туман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вает тёмным день, как н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промелькнёт в сознань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а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 сумеет мне помоч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разу солнце ярче све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вспомнишь мил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хорошо, что есть на све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аг тепла и доброты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42670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ой так хочется под веч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говорить с тобой в тиш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мимолётны наши встре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 всё спешим, спеш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ши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знаю: жизнь прожить непрос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об одном мечта мо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 никогда не видеть слё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воих глазах, люби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Владими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машнее  зад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685800"/>
            <a:ext cx="81532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. 12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6 предложения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ли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 – 11 предложе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дивидуальное задание на карто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3-11-25T19:51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