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6FC1-1014-4481-8087-B68054DA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9A2D-5D09-4E16-B04D-46584530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1B0-D89C-4E5F-AA71-056DE49F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FCE5-427A-442D-A9A8-4D10948A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FDB5-FC26-4BE5-82DD-21D6B261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CD66-05AF-44F1-A78F-9EFAD7B2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7531-611C-4E40-8CC9-1E944082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155D-2045-45A4-85CB-5C623DFE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ACD7-38FB-4892-A962-C2335CF7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83AA-14DB-4176-B396-63B651B5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1F59-2D75-4C0D-A13F-7E1D0953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EADB-D286-4D90-ADED-C2705E4C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5908-A63E-4026-8DEA-89D34E70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CA08-5EBF-4A2A-9F1C-9FCF1C6D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7DC1-173F-4E22-A7BB-F45572B3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C1C5-E931-49EE-8B5B-C888222F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E223-7BFC-4A82-BA6A-4F78E506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0BD-FF58-4051-B506-7F8AB9E6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9C7C-294F-4429-8B2F-E83AA261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04E-1DBF-4A57-BE27-90607D36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E5C7-502F-4574-B1AE-7DEFD959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9DC8-15CD-4579-B9E7-735F8E94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E4E8-4266-4547-843C-96AB119D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5D18-1163-442F-9405-D4A00EFC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B7E2-69AE-43A9-A6DB-EA49B37987C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976E-C41B-47B6-B3FE-F3A5C66C5DA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5"/>
          <p:cNvSpPr txBox="1"/>
          <p:nvPr/>
        </p:nvSpPr>
        <p:spPr>
          <a:xfrm>
            <a:off x="762120" y="152280"/>
            <a:ext cx="69339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ология</a:t>
            </a:r>
            <a:endParaRPr b="0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итического </a:t>
            </a:r>
            <a:endParaRPr b="0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ышления</a:t>
            </a:r>
            <a:endParaRPr b="0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Picture 4" descr="IMG_2180"/>
          <p:cNvPicPr/>
          <p:nvPr/>
        </p:nvPicPr>
        <p:blipFill>
          <a:blip r:embed="rId1"/>
          <a:stretch/>
        </p:blipFill>
        <p:spPr>
          <a:xfrm>
            <a:off x="1905120" y="2666880"/>
            <a:ext cx="527832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9"/>
          <p:cNvSpPr/>
          <p:nvPr/>
        </p:nvSpPr>
        <p:spPr>
          <a:xfrm>
            <a:off x="4876920" y="1143000"/>
            <a:ext cx="4267080" cy="5715000"/>
          </a:xfrm>
          <a:prstGeom prst="upArrowCallout">
            <a:avLst>
              <a:gd name="adj1" fmla="val 25002"/>
              <a:gd name="adj2" fmla="val 25000"/>
              <a:gd name="adj3" fmla="val 22322"/>
              <a:gd name="adj4" fmla="val 666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0" y="1143000"/>
            <a:ext cx="4343400" cy="5715000"/>
          </a:xfrm>
          <a:prstGeom prst="upArrowCallout">
            <a:avLst>
              <a:gd name="adj1" fmla="val 25002"/>
              <a:gd name="adj2" fmla="val 25000"/>
              <a:gd name="adj3" fmla="val 21930"/>
              <a:gd name="adj4" fmla="val 666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3124080"/>
            <a:ext cx="41911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агает опорный текст по тем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ует процессы чтения, обсуждения, понимания, дискусс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яет групповой динамико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ивает мотивацию и це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 работать сообщ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4876920" y="2971800"/>
            <a:ext cx="426708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ЧЕНИ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ется в процессы чтения, обсуждения, дискусс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групповом взаимодейств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крепляет и делает коррекцию своих целе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ушает, задает вопросы, пишет, выделяет главные моменты в новой информац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ся работать сообщ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53966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смысл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9"/>
          <p:cNvSpPr/>
          <p:nvPr/>
        </p:nvSpPr>
        <p:spPr>
          <a:xfrm>
            <a:off x="4572000" y="609480"/>
            <a:ext cx="4572000" cy="6248520"/>
          </a:xfrm>
          <a:prstGeom prst="upArrowCallout">
            <a:avLst>
              <a:gd name="adj1" fmla="val 25002"/>
              <a:gd name="adj2" fmla="val 25000"/>
              <a:gd name="adj3" fmla="val 22778"/>
              <a:gd name="adj4" fmla="val 666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0" y="609480"/>
            <a:ext cx="4343400" cy="6248520"/>
          </a:xfrm>
          <a:prstGeom prst="upArrowCallout">
            <a:avLst>
              <a:gd name="adj1" fmla="val 25002"/>
              <a:gd name="adj2" fmla="val 25000"/>
              <a:gd name="adj3" fmla="val 23977"/>
              <a:gd name="adj4" fmla="val 666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28600" y="2819520"/>
            <a:ext cx="40384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вляет подведением итог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вит новые вопросы и задачи на будущ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ивает деятельность ученик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572000" y="2743200"/>
            <a:ext cx="45720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ЧЕНИ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ммирует в групповой работе весь изученный материа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ет вопросы на будущ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ает самооценку своей деятельност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53966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53966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Основные методические приемы развития критического мышл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Oval 7"/>
          <p:cNvSpPr/>
          <p:nvPr/>
        </p:nvSpPr>
        <p:spPr>
          <a:xfrm>
            <a:off x="152280" y="3809880"/>
            <a:ext cx="2667240" cy="1059120"/>
          </a:xfrm>
          <a:prstGeom prst="ellipse">
            <a:avLst/>
          </a:prstGeom>
          <a:gradFill rotWithShape="0">
            <a:gsLst>
              <a:gs pos="0">
                <a:srgbClr val="ccff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«Кластеры» (1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Oval 8"/>
          <p:cNvSpPr/>
          <p:nvPr/>
        </p:nvSpPr>
        <p:spPr>
          <a:xfrm>
            <a:off x="2514600" y="1219320"/>
            <a:ext cx="2819520" cy="1058760"/>
          </a:xfrm>
          <a:prstGeom prst="ellipse">
            <a:avLst/>
          </a:prstGeom>
          <a:gradFill rotWithShape="0">
            <a:gsLst>
              <a:gs pos="0">
                <a:srgbClr val="ccff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зговой штур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Oval 9"/>
          <p:cNvSpPr/>
          <p:nvPr/>
        </p:nvSpPr>
        <p:spPr>
          <a:xfrm>
            <a:off x="2514600" y="2514600"/>
            <a:ext cx="3657600" cy="1600200"/>
          </a:xfrm>
          <a:prstGeom prst="ellipse">
            <a:avLst/>
          </a:prstGeom>
          <a:gradFill rotWithShape="0">
            <a:gsLst>
              <a:gs pos="0">
                <a:srgbClr val="ccff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ерепутанные логическ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цепоч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Oval 11"/>
          <p:cNvSpPr/>
          <p:nvPr/>
        </p:nvSpPr>
        <p:spPr>
          <a:xfrm>
            <a:off x="6019920" y="5570640"/>
            <a:ext cx="3124080" cy="1287360"/>
          </a:xfrm>
          <a:prstGeom prst="ellipse">
            <a:avLst/>
          </a:prstGeom>
          <a:gradFill rotWithShape="0">
            <a:gsLst>
              <a:gs pos="0">
                <a:srgbClr val="ccff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екция с остановкам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Oval 12"/>
          <p:cNvSpPr/>
          <p:nvPr/>
        </p:nvSpPr>
        <p:spPr>
          <a:xfrm>
            <a:off x="5486400" y="3581280"/>
            <a:ext cx="3657600" cy="1440000"/>
          </a:xfrm>
          <a:prstGeom prst="ellipse">
            <a:avLst/>
          </a:prstGeom>
          <a:gradFill rotWithShape="0">
            <a:gsLst>
              <a:gs pos="0">
                <a:srgbClr val="ccff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Графические организаторы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ластеры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Oval 13"/>
          <p:cNvSpPr/>
          <p:nvPr/>
        </p:nvSpPr>
        <p:spPr>
          <a:xfrm>
            <a:off x="5486400" y="1295280"/>
            <a:ext cx="3657600" cy="1440000"/>
          </a:xfrm>
          <a:prstGeom prst="ellipse">
            <a:avLst/>
          </a:prstGeom>
          <a:gradFill rotWithShape="0">
            <a:gsLst>
              <a:gs pos="0">
                <a:srgbClr val="ccff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«Инсерт»  («Условные значки»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Oval 14"/>
          <p:cNvSpPr/>
          <p:nvPr/>
        </p:nvSpPr>
        <p:spPr>
          <a:xfrm>
            <a:off x="0" y="1219320"/>
            <a:ext cx="1981080" cy="914400"/>
          </a:xfrm>
          <a:prstGeom prst="ellipse">
            <a:avLst/>
          </a:prstGeom>
          <a:gradFill rotWithShape="0">
            <a:gsLst>
              <a:gs pos="0">
                <a:srgbClr val="ccff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инкве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Oval 15"/>
          <p:cNvSpPr/>
          <p:nvPr/>
        </p:nvSpPr>
        <p:spPr>
          <a:xfrm>
            <a:off x="0" y="2362320"/>
            <a:ext cx="2590920" cy="838080"/>
          </a:xfrm>
          <a:prstGeom prst="ellipse">
            <a:avLst/>
          </a:prstGeom>
          <a:gradFill rotWithShape="0">
            <a:gsLst>
              <a:gs pos="0">
                <a:srgbClr val="ccff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лючевые слов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0" y="5105520"/>
            <a:ext cx="3657600" cy="1752480"/>
          </a:xfrm>
          <a:prstGeom prst="ellipse">
            <a:avLst/>
          </a:prstGeom>
          <a:gradFill rotWithShape="0">
            <a:gsLst>
              <a:gs pos="0">
                <a:srgbClr val="ccff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1080" y="5334120"/>
            <a:ext cx="351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аблицы: «Знаю – Узнал –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Хочу узнать –  (ЗУХ)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609480" y="114300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interactive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амоактивизирующ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not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диалогова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«</a:t>
            </a:r>
            <a:r>
              <a:rPr b="1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– уже зна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system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истемная размет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– ново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effective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ля эффективно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– думал инач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read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тения 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– есть вопрос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thinking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змыш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2057400" y="1143000"/>
            <a:ext cx="0" cy="27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4495680" y="1066680"/>
            <a:ext cx="0" cy="27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53966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«Инсерт»  («Условные значки»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725400" y="1658880"/>
          <a:ext cx="7693200" cy="3610080"/>
        </p:xfrm>
        <a:graphic>
          <a:graphicData uri="http://schemas.openxmlformats.org/drawingml/2006/table">
            <a:tbl>
              <a:tblPr/>
              <a:tblGrid>
                <a:gridCol w="2078280"/>
                <a:gridCol w="56149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нач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лючевые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–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Text Box 57"/>
          <p:cNvSpPr/>
          <p:nvPr/>
        </p:nvSpPr>
        <p:spPr>
          <a:xfrm>
            <a:off x="0" y="228600"/>
            <a:ext cx="9144000" cy="3682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53966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тегия «Инсерт»  («Условные значки»)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0" y="129528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ение смысловых единиц текста и их графическое оформление в определенном порядке в виде грозд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ажно в тексте, с которым работаешь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ить главную смысловую единицу в виде ключевого слова или словосочетания (тема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ить связанные с ключевым словом смысловые единицы (категорий информации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кретизировать категории мнениями и фактами, которые содержаться в осваиваемой информац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5" name="Group 18"/>
          <p:cNvGrpSpPr/>
          <p:nvPr/>
        </p:nvGrpSpPr>
        <p:grpSpPr>
          <a:xfrm>
            <a:off x="5943600" y="2743200"/>
            <a:ext cx="2519280" cy="1655640"/>
            <a:chOff x="5943600" y="2743200"/>
            <a:chExt cx="2519280" cy="1655640"/>
          </a:xfrm>
        </p:grpSpPr>
        <p:sp>
          <p:nvSpPr>
            <p:cNvPr id="206" name="Oval 19"/>
            <p:cNvSpPr/>
            <p:nvPr/>
          </p:nvSpPr>
          <p:spPr>
            <a:xfrm>
              <a:off x="5943600" y="2814480"/>
              <a:ext cx="647640" cy="576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Oval 20"/>
            <p:cNvSpPr/>
            <p:nvPr/>
          </p:nvSpPr>
          <p:spPr>
            <a:xfrm>
              <a:off x="6951600" y="2959200"/>
              <a:ext cx="647640" cy="57600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Oval 21"/>
            <p:cNvSpPr/>
            <p:nvPr/>
          </p:nvSpPr>
          <p:spPr>
            <a:xfrm>
              <a:off x="7815240" y="2743200"/>
              <a:ext cx="647640" cy="576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Oval 22"/>
            <p:cNvSpPr/>
            <p:nvPr/>
          </p:nvSpPr>
          <p:spPr>
            <a:xfrm>
              <a:off x="6087960" y="3679920"/>
              <a:ext cx="647640" cy="57600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Oval 23"/>
            <p:cNvSpPr/>
            <p:nvPr/>
          </p:nvSpPr>
          <p:spPr>
            <a:xfrm>
              <a:off x="7167600" y="3822840"/>
              <a:ext cx="647640" cy="57600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Oval 24"/>
            <p:cNvSpPr/>
            <p:nvPr/>
          </p:nvSpPr>
          <p:spPr>
            <a:xfrm>
              <a:off x="7815240" y="3390840"/>
              <a:ext cx="647640" cy="576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25"/>
            <p:cNvSpPr/>
            <p:nvPr/>
          </p:nvSpPr>
          <p:spPr>
            <a:xfrm>
              <a:off x="6303960" y="3390840"/>
              <a:ext cx="71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26"/>
            <p:cNvSpPr/>
            <p:nvPr/>
          </p:nvSpPr>
          <p:spPr>
            <a:xfrm>
              <a:off x="6591240" y="3103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Line 27"/>
            <p:cNvSpPr/>
            <p:nvPr/>
          </p:nvSpPr>
          <p:spPr>
            <a:xfrm flipV="1">
              <a:off x="7599240" y="310320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Line 28"/>
            <p:cNvSpPr/>
            <p:nvPr/>
          </p:nvSpPr>
          <p:spPr>
            <a:xfrm>
              <a:off x="7599240" y="3390840"/>
              <a:ext cx="289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Line 29"/>
            <p:cNvSpPr/>
            <p:nvPr/>
          </p:nvSpPr>
          <p:spPr>
            <a:xfrm>
              <a:off x="7383240" y="3535200"/>
              <a:ext cx="7164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7" name="Group 30"/>
          <p:cNvGrpSpPr/>
          <p:nvPr/>
        </p:nvGrpSpPr>
        <p:grpSpPr>
          <a:xfrm>
            <a:off x="2666880" y="4768920"/>
            <a:ext cx="5832360" cy="2088360"/>
            <a:chOff x="2666880" y="4768920"/>
            <a:chExt cx="5832360" cy="2088360"/>
          </a:xfrm>
        </p:grpSpPr>
        <p:sp>
          <p:nvSpPr>
            <p:cNvPr id="218" name="Rectangle 31"/>
            <p:cNvSpPr/>
            <p:nvPr/>
          </p:nvSpPr>
          <p:spPr>
            <a:xfrm>
              <a:off x="5043240" y="4768920"/>
              <a:ext cx="1295280" cy="3600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Line 32"/>
            <p:cNvSpPr/>
            <p:nvPr/>
          </p:nvSpPr>
          <p:spPr>
            <a:xfrm flipH="1">
              <a:off x="4684320" y="5128920"/>
              <a:ext cx="935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Line 33"/>
            <p:cNvSpPr/>
            <p:nvPr/>
          </p:nvSpPr>
          <p:spPr>
            <a:xfrm>
              <a:off x="5619600" y="5128920"/>
              <a:ext cx="1152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1" name="Group 34"/>
            <p:cNvGrpSpPr/>
            <p:nvPr/>
          </p:nvGrpSpPr>
          <p:grpSpPr>
            <a:xfrm>
              <a:off x="2666880" y="5560920"/>
              <a:ext cx="5832360" cy="1296360"/>
              <a:chOff x="2666880" y="5560920"/>
              <a:chExt cx="5832360" cy="1296360"/>
            </a:xfrm>
          </p:grpSpPr>
          <p:sp>
            <p:nvSpPr>
              <p:cNvPr id="222" name="Rectangle 35"/>
              <p:cNvSpPr/>
              <p:nvPr/>
            </p:nvSpPr>
            <p:spPr>
              <a:xfrm>
                <a:off x="6340320" y="5560920"/>
                <a:ext cx="1295280" cy="360000"/>
              </a:xfrm>
              <a:prstGeom prst="rect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" name="Rectangle 36"/>
              <p:cNvSpPr/>
              <p:nvPr/>
            </p:nvSpPr>
            <p:spPr>
              <a:xfrm>
                <a:off x="3892320" y="5560920"/>
                <a:ext cx="1295280" cy="360000"/>
              </a:xfrm>
              <a:prstGeom prst="rect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Rectangle 37"/>
              <p:cNvSpPr/>
              <p:nvPr/>
            </p:nvSpPr>
            <p:spPr>
              <a:xfrm>
                <a:off x="7203960" y="6208200"/>
                <a:ext cx="1295280" cy="360000"/>
              </a:xfrm>
              <a:prstGeom prst="rect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" name="Rectangle 38"/>
              <p:cNvSpPr/>
              <p:nvPr/>
            </p:nvSpPr>
            <p:spPr>
              <a:xfrm>
                <a:off x="5474880" y="6208200"/>
                <a:ext cx="1295640" cy="360000"/>
              </a:xfrm>
              <a:prstGeom prst="rect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" name="Rectangle 39"/>
              <p:cNvSpPr/>
              <p:nvPr/>
            </p:nvSpPr>
            <p:spPr>
              <a:xfrm>
                <a:off x="2666880" y="6497280"/>
                <a:ext cx="1295280" cy="360000"/>
              </a:xfrm>
              <a:prstGeom prst="rect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" name="Line 40"/>
              <p:cNvSpPr/>
              <p:nvPr/>
            </p:nvSpPr>
            <p:spPr>
              <a:xfrm flipH="1">
                <a:off x="6266880" y="5920920"/>
                <a:ext cx="649080" cy="2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Line 41"/>
              <p:cNvSpPr/>
              <p:nvPr/>
            </p:nvSpPr>
            <p:spPr>
              <a:xfrm>
                <a:off x="7203960" y="5920920"/>
                <a:ext cx="504720" cy="2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Line 42"/>
              <p:cNvSpPr/>
              <p:nvPr/>
            </p:nvSpPr>
            <p:spPr>
              <a:xfrm flipH="1">
                <a:off x="3387600" y="5920920"/>
                <a:ext cx="100800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30" name="Text Box 43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53966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рафические организаторы: «Кластеры» (1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5"/>
          <p:cNvSpPr/>
          <p:nvPr/>
        </p:nvSpPr>
        <p:spPr>
          <a:xfrm>
            <a:off x="383040" y="151920"/>
            <a:ext cx="325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ем «Фишбоун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1981080" y="3349440"/>
            <a:ext cx="5714280" cy="3331080"/>
            <a:chOff x="1981080" y="3349440"/>
            <a:chExt cx="5714280" cy="3331080"/>
          </a:xfrm>
        </p:grpSpPr>
        <p:grpSp>
          <p:nvGrpSpPr>
            <p:cNvPr id="233" name="Group 13"/>
            <p:cNvGrpSpPr/>
            <p:nvPr/>
          </p:nvGrpSpPr>
          <p:grpSpPr>
            <a:xfrm>
              <a:off x="1981080" y="4167720"/>
              <a:ext cx="5714280" cy="1670040"/>
              <a:chOff x="1981080" y="4167720"/>
              <a:chExt cx="5714280" cy="1670040"/>
            </a:xfrm>
          </p:grpSpPr>
          <p:sp>
            <p:nvSpPr>
              <p:cNvPr id="234" name="Oval 24"/>
              <p:cNvSpPr/>
              <p:nvPr/>
            </p:nvSpPr>
            <p:spPr>
              <a:xfrm>
                <a:off x="1981080" y="4307400"/>
                <a:ext cx="2057040" cy="139068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Rectangle 23"/>
              <p:cNvSpPr/>
              <p:nvPr/>
            </p:nvSpPr>
            <p:spPr>
              <a:xfrm>
                <a:off x="4038120" y="4863240"/>
                <a:ext cx="2514600" cy="1396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Line 22"/>
              <p:cNvSpPr/>
              <p:nvPr/>
            </p:nvSpPr>
            <p:spPr>
              <a:xfrm flipV="1">
                <a:off x="4381560" y="4167720"/>
                <a:ext cx="685440" cy="69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Line 21"/>
              <p:cNvSpPr/>
              <p:nvPr/>
            </p:nvSpPr>
            <p:spPr>
              <a:xfrm flipV="1">
                <a:off x="5067000" y="4307400"/>
                <a:ext cx="457200" cy="5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Line 20"/>
              <p:cNvSpPr/>
              <p:nvPr/>
            </p:nvSpPr>
            <p:spPr>
              <a:xfrm flipV="1">
                <a:off x="5524560" y="4167720"/>
                <a:ext cx="685440" cy="69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Line 19"/>
              <p:cNvSpPr/>
              <p:nvPr/>
            </p:nvSpPr>
            <p:spPr>
              <a:xfrm flipV="1">
                <a:off x="6210360" y="4307400"/>
                <a:ext cx="456480" cy="5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Line 18"/>
              <p:cNvSpPr/>
              <p:nvPr/>
            </p:nvSpPr>
            <p:spPr>
              <a:xfrm>
                <a:off x="4381560" y="5003280"/>
                <a:ext cx="457200" cy="83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Line 17"/>
              <p:cNvSpPr/>
              <p:nvPr/>
            </p:nvSpPr>
            <p:spPr>
              <a:xfrm>
                <a:off x="5067000" y="5003280"/>
                <a:ext cx="457200" cy="83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Line 16"/>
              <p:cNvSpPr/>
              <p:nvPr/>
            </p:nvSpPr>
            <p:spPr>
              <a:xfrm>
                <a:off x="5524560" y="5003280"/>
                <a:ext cx="457920" cy="83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Line 15"/>
              <p:cNvSpPr/>
              <p:nvPr/>
            </p:nvSpPr>
            <p:spPr>
              <a:xfrm>
                <a:off x="6210360" y="5003280"/>
                <a:ext cx="457200" cy="83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AutoShape 14"/>
              <p:cNvSpPr/>
              <p:nvPr/>
            </p:nvSpPr>
            <p:spPr>
              <a:xfrm rot="5400000">
                <a:off x="6427440" y="4431960"/>
                <a:ext cx="1392480" cy="1143000"/>
              </a:xfrm>
              <a:custGeom>
                <a:avLst/>
                <a:gdLst>
                  <a:gd name="textAreaLeft" fmla="*/ 290520 w 1392480"/>
                  <a:gd name="textAreaRight" fmla="*/ 1101960 w 1392480"/>
                  <a:gd name="textAreaTop" fmla="*/ 237960 h 1143000"/>
                  <a:gd name="textAreaBottom" fmla="*/ 90504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5" name="AutoShape 12"/>
            <p:cNvSpPr/>
            <p:nvPr/>
          </p:nvSpPr>
          <p:spPr>
            <a:xfrm rot="19849200">
              <a:off x="6147360" y="5632200"/>
              <a:ext cx="1088280" cy="58428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AutoShape 11"/>
            <p:cNvSpPr/>
            <p:nvPr/>
          </p:nvSpPr>
          <p:spPr>
            <a:xfrm rot="20602200">
              <a:off x="4513320" y="3602160"/>
              <a:ext cx="1269720" cy="70236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AutoShape 10"/>
            <p:cNvSpPr/>
            <p:nvPr/>
          </p:nvSpPr>
          <p:spPr>
            <a:xfrm rot="20602200">
              <a:off x="5522400" y="3505320"/>
              <a:ext cx="1179360" cy="61884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AutoShape 9"/>
            <p:cNvSpPr/>
            <p:nvPr/>
          </p:nvSpPr>
          <p:spPr>
            <a:xfrm rot="877800">
              <a:off x="2706120" y="5485680"/>
              <a:ext cx="2049120" cy="91836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 rot="20602200">
              <a:off x="3250800" y="3732120"/>
              <a:ext cx="1640520" cy="66780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AutoShape 7"/>
            <p:cNvSpPr/>
            <p:nvPr/>
          </p:nvSpPr>
          <p:spPr>
            <a:xfrm rot="20602200">
              <a:off x="4054320" y="5654160"/>
              <a:ext cx="1542240" cy="70236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AutoShape 6"/>
            <p:cNvSpPr/>
            <p:nvPr/>
          </p:nvSpPr>
          <p:spPr>
            <a:xfrm rot="20602200">
              <a:off x="5079960" y="5759280"/>
              <a:ext cx="1526040" cy="71748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AutoShape 5"/>
            <p:cNvSpPr/>
            <p:nvPr/>
          </p:nvSpPr>
          <p:spPr>
            <a:xfrm rot="20602200">
              <a:off x="6153840" y="3898800"/>
              <a:ext cx="1266480" cy="61884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3" name="Rectangle 36"/>
          <p:cNvSpPr/>
          <p:nvPr/>
        </p:nvSpPr>
        <p:spPr>
          <a:xfrm>
            <a:off x="6480" y="1292760"/>
            <a:ext cx="924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ол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опрос темы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ние косточ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новные понятия темы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ние косточ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уть понятий,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хво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твет на вопрос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и должны быть краткими, представлять собо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евые слова  или фразы, отражающие су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4" name="Group 37"/>
          <p:cNvGrpSpPr/>
          <p:nvPr/>
        </p:nvGrpSpPr>
        <p:grpSpPr>
          <a:xfrm>
            <a:off x="4191120" y="228600"/>
            <a:ext cx="3352680" cy="852480"/>
            <a:chOff x="4191120" y="228600"/>
            <a:chExt cx="3352680" cy="852480"/>
          </a:xfrm>
        </p:grpSpPr>
        <p:sp>
          <p:nvSpPr>
            <p:cNvPr id="255" name="AutoShape 38"/>
            <p:cNvSpPr/>
            <p:nvPr/>
          </p:nvSpPr>
          <p:spPr>
            <a:xfrm>
              <a:off x="4191120" y="228600"/>
              <a:ext cx="335268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Line 39"/>
            <p:cNvSpPr/>
            <p:nvPr/>
          </p:nvSpPr>
          <p:spPr>
            <a:xfrm flipV="1">
              <a:off x="4610160" y="654120"/>
              <a:ext cx="20955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Line 40"/>
            <p:cNvSpPr/>
            <p:nvPr/>
          </p:nvSpPr>
          <p:spPr>
            <a:xfrm>
              <a:off x="6706080" y="369360"/>
              <a:ext cx="0" cy="56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Line 41"/>
            <p:cNvSpPr/>
            <p:nvPr/>
          </p:nvSpPr>
          <p:spPr>
            <a:xfrm>
              <a:off x="6706080" y="369360"/>
              <a:ext cx="41832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Line 42"/>
            <p:cNvSpPr/>
            <p:nvPr/>
          </p:nvSpPr>
          <p:spPr>
            <a:xfrm flipH="1">
              <a:off x="6706080" y="654120"/>
              <a:ext cx="41832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Line 43"/>
            <p:cNvSpPr/>
            <p:nvPr/>
          </p:nvSpPr>
          <p:spPr>
            <a:xfrm>
              <a:off x="6007320" y="369360"/>
              <a:ext cx="27936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Line 44"/>
            <p:cNvSpPr/>
            <p:nvPr/>
          </p:nvSpPr>
          <p:spPr>
            <a:xfrm>
              <a:off x="5447880" y="369360"/>
              <a:ext cx="27936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45"/>
            <p:cNvSpPr/>
            <p:nvPr/>
          </p:nvSpPr>
          <p:spPr>
            <a:xfrm flipH="1" flipV="1">
              <a:off x="4889880" y="369360"/>
              <a:ext cx="27936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Line 46"/>
            <p:cNvSpPr/>
            <p:nvPr/>
          </p:nvSpPr>
          <p:spPr>
            <a:xfrm flipH="1">
              <a:off x="6007320" y="654120"/>
              <a:ext cx="27936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Line 47"/>
            <p:cNvSpPr/>
            <p:nvPr/>
          </p:nvSpPr>
          <p:spPr>
            <a:xfrm flipH="1">
              <a:off x="5447880" y="654120"/>
              <a:ext cx="27936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Line 48"/>
            <p:cNvSpPr/>
            <p:nvPr/>
          </p:nvSpPr>
          <p:spPr>
            <a:xfrm flipH="1">
              <a:off x="4889880" y="654120"/>
              <a:ext cx="27936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7"/>
          <p:cNvGrpSpPr/>
          <p:nvPr/>
        </p:nvGrpSpPr>
        <p:grpSpPr>
          <a:xfrm>
            <a:off x="838080" y="1905120"/>
            <a:ext cx="6348600" cy="4394160"/>
            <a:chOff x="838080" y="1905120"/>
            <a:chExt cx="6348600" cy="4394160"/>
          </a:xfrm>
        </p:grpSpPr>
        <p:sp>
          <p:nvSpPr>
            <p:cNvPr id="267" name="Oval 8"/>
            <p:cNvSpPr/>
            <p:nvPr/>
          </p:nvSpPr>
          <p:spPr>
            <a:xfrm>
              <a:off x="3200400" y="3675240"/>
              <a:ext cx="1476360" cy="7570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лючевое слово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Oval 9"/>
            <p:cNvSpPr/>
            <p:nvPr/>
          </p:nvSpPr>
          <p:spPr>
            <a:xfrm>
              <a:off x="1281240" y="2614680"/>
              <a:ext cx="1771560" cy="4539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я 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Oval 10"/>
            <p:cNvSpPr/>
            <p:nvPr/>
          </p:nvSpPr>
          <p:spPr>
            <a:xfrm>
              <a:off x="1281240" y="5038920"/>
              <a:ext cx="1771560" cy="455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я 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Oval 11"/>
            <p:cNvSpPr/>
            <p:nvPr/>
          </p:nvSpPr>
          <p:spPr>
            <a:xfrm>
              <a:off x="4824360" y="5038920"/>
              <a:ext cx="1771920" cy="455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я 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Oval 12"/>
            <p:cNvSpPr/>
            <p:nvPr/>
          </p:nvSpPr>
          <p:spPr>
            <a:xfrm>
              <a:off x="4529160" y="2614680"/>
              <a:ext cx="1771560" cy="4539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атегория 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Oval 13"/>
            <p:cNvSpPr/>
            <p:nvPr/>
          </p:nvSpPr>
          <p:spPr>
            <a:xfrm>
              <a:off x="1133640" y="3268800"/>
              <a:ext cx="442800" cy="453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Oval 14"/>
            <p:cNvSpPr/>
            <p:nvPr/>
          </p:nvSpPr>
          <p:spPr>
            <a:xfrm>
              <a:off x="838080" y="3875400"/>
              <a:ext cx="443160" cy="453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Oval 15"/>
            <p:cNvSpPr/>
            <p:nvPr/>
          </p:nvSpPr>
          <p:spPr>
            <a:xfrm>
              <a:off x="2597040" y="5769000"/>
              <a:ext cx="44316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Oval 16"/>
            <p:cNvSpPr/>
            <p:nvPr/>
          </p:nvSpPr>
          <p:spPr>
            <a:xfrm>
              <a:off x="1281240" y="5693040"/>
              <a:ext cx="442800" cy="455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Oval 17"/>
            <p:cNvSpPr/>
            <p:nvPr/>
          </p:nvSpPr>
          <p:spPr>
            <a:xfrm>
              <a:off x="3938760" y="5845320"/>
              <a:ext cx="442800" cy="453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Oval 18"/>
            <p:cNvSpPr/>
            <p:nvPr/>
          </p:nvSpPr>
          <p:spPr>
            <a:xfrm>
              <a:off x="4233960" y="5239080"/>
              <a:ext cx="442800" cy="453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Oval 19"/>
            <p:cNvSpPr/>
            <p:nvPr/>
          </p:nvSpPr>
          <p:spPr>
            <a:xfrm>
              <a:off x="5710320" y="5845320"/>
              <a:ext cx="442800" cy="453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20"/>
            <p:cNvSpPr/>
            <p:nvPr/>
          </p:nvSpPr>
          <p:spPr>
            <a:xfrm>
              <a:off x="6743880" y="2965680"/>
              <a:ext cx="442800" cy="453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Oval 21"/>
            <p:cNvSpPr/>
            <p:nvPr/>
          </p:nvSpPr>
          <p:spPr>
            <a:xfrm>
              <a:off x="3495600" y="2814840"/>
              <a:ext cx="443160" cy="453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Oval 22"/>
            <p:cNvSpPr/>
            <p:nvPr/>
          </p:nvSpPr>
          <p:spPr>
            <a:xfrm>
              <a:off x="3938760" y="2208240"/>
              <a:ext cx="442800" cy="454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Oval 23"/>
            <p:cNvSpPr/>
            <p:nvPr/>
          </p:nvSpPr>
          <p:spPr>
            <a:xfrm>
              <a:off x="6005520" y="1905120"/>
              <a:ext cx="442800" cy="453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Oval 24"/>
            <p:cNvSpPr/>
            <p:nvPr/>
          </p:nvSpPr>
          <p:spPr>
            <a:xfrm>
              <a:off x="3200400" y="2359080"/>
              <a:ext cx="442800" cy="455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Line 25"/>
            <p:cNvSpPr/>
            <p:nvPr/>
          </p:nvSpPr>
          <p:spPr>
            <a:xfrm>
              <a:off x="2905200" y="2965680"/>
              <a:ext cx="738000" cy="7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Line 26"/>
            <p:cNvSpPr/>
            <p:nvPr/>
          </p:nvSpPr>
          <p:spPr>
            <a:xfrm flipH="1">
              <a:off x="4233960" y="2965680"/>
              <a:ext cx="442800" cy="7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>
              <a:off x="4529160" y="4329360"/>
              <a:ext cx="885960" cy="7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Line 28"/>
            <p:cNvSpPr/>
            <p:nvPr/>
          </p:nvSpPr>
          <p:spPr>
            <a:xfrm flipH="1">
              <a:off x="2610000" y="4329360"/>
              <a:ext cx="885600" cy="7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Line 29"/>
            <p:cNvSpPr/>
            <p:nvPr/>
          </p:nvSpPr>
          <p:spPr>
            <a:xfrm flipH="1">
              <a:off x="1428840" y="2965680"/>
              <a:ext cx="14760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Line 30"/>
            <p:cNvSpPr/>
            <p:nvPr/>
          </p:nvSpPr>
          <p:spPr>
            <a:xfrm flipH="1">
              <a:off x="1133640" y="3722760"/>
              <a:ext cx="147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Line 31"/>
            <p:cNvSpPr/>
            <p:nvPr/>
          </p:nvSpPr>
          <p:spPr>
            <a:xfrm flipV="1">
              <a:off x="2905200" y="2511360"/>
              <a:ext cx="29520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Line 32"/>
            <p:cNvSpPr/>
            <p:nvPr/>
          </p:nvSpPr>
          <p:spPr>
            <a:xfrm>
              <a:off x="3052800" y="2814840"/>
              <a:ext cx="44280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Line 33"/>
            <p:cNvSpPr/>
            <p:nvPr/>
          </p:nvSpPr>
          <p:spPr>
            <a:xfrm>
              <a:off x="4381560" y="2511720"/>
              <a:ext cx="29520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34"/>
            <p:cNvSpPr/>
            <p:nvPr/>
          </p:nvSpPr>
          <p:spPr>
            <a:xfrm flipH="1">
              <a:off x="6005520" y="2359080"/>
              <a:ext cx="14760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Line 35"/>
            <p:cNvSpPr/>
            <p:nvPr/>
          </p:nvSpPr>
          <p:spPr>
            <a:xfrm flipH="1" flipV="1">
              <a:off x="6300360" y="2965320"/>
              <a:ext cx="4431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Line 36"/>
            <p:cNvSpPr/>
            <p:nvPr/>
          </p:nvSpPr>
          <p:spPr>
            <a:xfrm flipH="1">
              <a:off x="1405080" y="5415120"/>
              <a:ext cx="14760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Line 37"/>
            <p:cNvSpPr/>
            <p:nvPr/>
          </p:nvSpPr>
          <p:spPr>
            <a:xfrm flipV="1">
              <a:off x="4676760" y="5239080"/>
              <a:ext cx="147600" cy="15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Line 38"/>
            <p:cNvSpPr/>
            <p:nvPr/>
          </p:nvSpPr>
          <p:spPr>
            <a:xfrm flipV="1">
              <a:off x="4233960" y="5692680"/>
              <a:ext cx="147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Line 39"/>
            <p:cNvSpPr/>
            <p:nvPr/>
          </p:nvSpPr>
          <p:spPr>
            <a:xfrm>
              <a:off x="5932440" y="552960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Line 40"/>
            <p:cNvSpPr/>
            <p:nvPr/>
          </p:nvSpPr>
          <p:spPr>
            <a:xfrm>
              <a:off x="2610000" y="5484960"/>
              <a:ext cx="14760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0" name="Text Box 4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53966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рафические организаторы: «Кластеры» (2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Рисунок 6" descr="http://ppf.udsu.ru/homepages/belih/Psy/clip_image002.gif"/>
          <p:cNvPicPr/>
          <p:nvPr/>
        </p:nvPicPr>
        <p:blipFill>
          <a:blip r:embed="rId1"/>
          <a:stretch/>
        </p:blipFill>
        <p:spPr>
          <a:xfrm>
            <a:off x="380880" y="1382760"/>
            <a:ext cx="8610840" cy="46735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6"/>
          <p:cNvSpPr/>
          <p:nvPr/>
        </p:nvSpPr>
        <p:spPr>
          <a:xfrm>
            <a:off x="1069920" y="303840"/>
            <a:ext cx="60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ис. 1. Кластер. Тема: Электрический ток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152280" y="1371600"/>
            <a:ext cx="8991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еник записывает в тетради все, что ему известно по проблем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мен информацией в парах или группа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уппы по кругу называют сведения, фак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ь записывает все на доск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язывание в логические цепи, исправление ошибок по мере усвоения новой информ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53966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Корзина (идей, понятий, имен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3962520"/>
            <a:ext cx="883764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ша задача, как педагогов, заключае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том, чтобы дать детям навыки и умения мыслить критически для решения проблем и принятия решен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457200"/>
            <a:ext cx="883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ятельностный метод обуч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од обучения, при котором ребенок не получает знания в готовом виде, а добывает их сам в процессе собственной учебно-познавательной деятельност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5"/>
          <p:cNvSpPr/>
          <p:nvPr/>
        </p:nvSpPr>
        <p:spPr>
          <a:xfrm>
            <a:off x="838080" y="1066680"/>
            <a:ext cx="754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банка идей, возможных решений проблемы. Принимаются любые предложения. Критика и комментирование не допускают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ллективное обсуждение. Найти рациональное в любом из предложений, попытаться совместить их в цело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бор наиболее перспективных решений, учитывая имеющиеся ресурсы (этот этап может быть отсрочен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53966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зговой штур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5"/>
          <p:cNvSpPr/>
          <p:nvPr/>
        </p:nvSpPr>
        <p:spPr>
          <a:xfrm>
            <a:off x="304920" y="1143000"/>
            <a:ext cx="845820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екция читается «дозировано»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ле каждой смысловой части делае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тановка, идет обсуждение проблемног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проса, поиск коллективного ответа н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ой вопрос или выполняется группов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ли индивидуальное задани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53966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Лекция с остановка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5"/>
          <p:cNvSpPr/>
          <p:nvPr/>
        </p:nvSpPr>
        <p:spPr>
          <a:xfrm>
            <a:off x="0" y="106668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отдельных листах выписываются 5-6 фраз, связанных логически, перетасовываются и предъявляются ученикам. В тексте обязательно должно скрываться какое-то глубинное противоречие. Предлагается восстановить порядо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вится бинарный вопрос «да» или «нет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53966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ерепутанные логические цепоч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0" y="609480"/>
            <a:ext cx="8915400" cy="50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кст или материал делится на несколько смысловых фрагмент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 ученики делятся на несколько рабочих групп (не больше 7 человек в группе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уются экспертные группы по одному ученику от каждой рабочей групп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ждая экспертная группа работает над своим фрагментом (сначала индивидуально, потом обсуждаю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ники возвращаются в рабочие группы и обучают остальных своей части материал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ппа вырабатывает общие представления о проблеме и докладывает их остальным групп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53966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Зигзаг (пил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5"/>
          <p:cNvSpPr/>
          <p:nvPr/>
        </p:nvSpPr>
        <p:spPr>
          <a:xfrm>
            <a:off x="152280" y="1295280"/>
            <a:ext cx="883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ь выбирает из текста 4-5 ключевых слова и выписывает их на дос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еники в парах дают толкование слов и высказывают предположения, как они буду применяться в новом контекс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работе с текстом проверяется правильность предположений и новая трактов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0" y="228600"/>
            <a:ext cx="9144000" cy="94716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53966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Ключевые сло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"/>
          <p:cNvSpPr/>
          <p:nvPr/>
        </p:nvSpPr>
        <p:spPr>
          <a:xfrm>
            <a:off x="1680120" y="228600"/>
            <a:ext cx="56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аблицы: «Знаю – Узнал - Хочу узнать –  (ЗУХ)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762120"/>
          <a:ext cx="7693200" cy="215244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215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мы знаем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мы узнал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мы хотим узнать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457200" y="2971800"/>
          <a:ext cx="7704000" cy="2736720"/>
        </p:xfrm>
        <a:graphic>
          <a:graphicData uri="http://schemas.openxmlformats.org/drawingml/2006/table">
            <a:tbl>
              <a:tblPr/>
              <a:tblGrid>
                <a:gridCol w="3887640"/>
                <a:gridCol w="3816360"/>
              </a:tblGrid>
              <a:tr h="274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тегории информации, которыми мы намерены пользов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Главные слов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информации, из которых мы получили/намерены получить информац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Откуда узнал(ю)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152280" y="990720"/>
            <a:ext cx="8991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ила написания синквей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дно слово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Существительное или местоимение, обозначающее предмет, о котором идет реч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Два слова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Прилагательные или причастия, описывающие признаки и свойства выбранного предме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Три слова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лаголы, описывающие совершаемые предметом или объектом действ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Фраза из четырех слов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ыражает личное отношение автора к предмету или объек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дно слово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Характеризует суть предмета или объек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53966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инкв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4"/>
          <p:cNvSpPr/>
          <p:nvPr/>
        </p:nvSpPr>
        <p:spPr>
          <a:xfrm>
            <a:off x="1219320" y="990720"/>
            <a:ext cx="647676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Прием «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Те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Легкие, тяжел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Всплывают, плавают, тону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На них действуют си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лава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2"/>
          <p:cNvSpPr/>
          <p:nvPr/>
        </p:nvSpPr>
        <p:spPr>
          <a:xfrm>
            <a:off x="2743200" y="3733920"/>
            <a:ext cx="5715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к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ьный, опасны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ушает, губит, пугае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людайте правила по технике безопасност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3f60"/>
                </a:solidFill>
                <a:latin typeface="Times New Roman"/>
              </a:rPr>
              <a:t>Трагед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Rectangle 34"/>
          <p:cNvSpPr/>
          <p:nvPr/>
        </p:nvSpPr>
        <p:spPr>
          <a:xfrm>
            <a:off x="1293840" y="201600"/>
            <a:ext cx="562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Тема. Действие электрического тока на человек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37"/>
          <p:cNvSpPr/>
          <p:nvPr/>
        </p:nvSpPr>
        <p:spPr>
          <a:xfrm>
            <a:off x="380880" y="8380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к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авленный, быстрый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3f60"/>
                </a:solidFill>
                <a:latin typeface="Times New Roman"/>
              </a:rPr>
              <a:t>Помогает, лечит, освещае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 так необходим людям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е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304920" y="304920"/>
            <a:ext cx="883908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итическое мышл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способность анализировать информацию с позиции логики и личностно-психологического подхода с тем, чтобы применять полученные результаты, как к стандартным, так и нестандартным ситуациям, вопросам и проблема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итическое мышл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способность ставить новые вопросы, вырабатывать разнообразные аргументы, принимать независимые продуманные реш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b8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6"/>
          <p:cNvSpPr/>
          <p:nvPr/>
        </p:nvSpPr>
        <p:spPr>
          <a:xfrm>
            <a:off x="0" y="1295280"/>
            <a:ext cx="91440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являть любознательн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овать исследовательские метод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вить перед собой вопрос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уществлять планомерный поиск отве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крывать причины и последствия фак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мнение в общепринятых истина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работка точки зрения и способность отстоять ее логическими довода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имание к аргументам оппонента и их логическое осмысл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WordArt 7"/>
          <p:cNvSpPr txBox="1"/>
          <p:nvPr/>
        </p:nvSpPr>
        <p:spPr>
          <a:xfrm>
            <a:off x="914400" y="380880"/>
            <a:ext cx="70102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умать критически это:</a:t>
            </a:r>
            <a:endParaRPr b="0" lang="en-US" sz="1800" spc="1" strike="noStrike">
              <a:ln w="19080">
                <a:solidFill>
                  <a:srgbClr val="cc99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2286000" y="9144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0" y="152280"/>
            <a:ext cx="9144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ханизм технологии развития КМ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3126240" y="990720"/>
            <a:ext cx="25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Три фазы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0" y="5537160"/>
            <a:ext cx="9144000" cy="131292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53966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0" y="3886200"/>
            <a:ext cx="9144000" cy="131292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53966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Осмысление новой информа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0" y="2209680"/>
            <a:ext cx="9144000" cy="131292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53966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ыз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537840" y="534960"/>
            <a:ext cx="694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Базовая модель технологии критическог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ышл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1447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 стадия имеет две цели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ерва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осуществление нескольких видов 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-первых обучаемый активно участвует в в вызов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ого, что он уже знает о данной тематик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3505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тора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цель – активизация обучаемог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ние – активная , а не пассивная деятельн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53966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 ВЫЗ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0" y="106668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 та стадия, на которой обучаемый вступает в контакт с новой информацией. Этот контакт может принимать форму чтения текста, просмотра фильма , прослушивания выступлений или выполнения опытов. Это также стадия обучения, во время которой преподаватели оказывают наименьшее влияние на обучаемог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53966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  ОСМЫСЛ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1066680"/>
            <a:ext cx="9144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время этой стадии учащиеся закрепляю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вые знания и активно пересматривают свои представл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енно на  этой стадии учащиеся делают новые знания свои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53966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 РЕФЛЕКС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3"/>
          <p:cNvSpPr/>
          <p:nvPr/>
        </p:nvSpPr>
        <p:spPr>
          <a:xfrm>
            <a:off x="0" y="1295280"/>
            <a:ext cx="4267080" cy="5562720"/>
          </a:xfrm>
          <a:prstGeom prst="upArrowCallout">
            <a:avLst>
              <a:gd name="adj1" fmla="val 25002"/>
              <a:gd name="adj2" fmla="val 25000"/>
              <a:gd name="adj3" fmla="val 21727"/>
              <a:gd name="adj4" fmla="val 666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4724280" y="1295280"/>
            <a:ext cx="4419720" cy="5562720"/>
          </a:xfrm>
          <a:prstGeom prst="upArrowCallout">
            <a:avLst>
              <a:gd name="adj1" fmla="val 25002"/>
              <a:gd name="adj2" fmla="val 25000"/>
              <a:gd name="adj3" fmla="val 20977"/>
              <a:gd name="adj4" fmla="val 666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3352680"/>
            <a:ext cx="41148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ЧИТЕЛ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оцирует учен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ет вопрос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ет ситуацию актуализации опыта учен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ует мотивацию учени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724280" y="3352680"/>
            <a:ext cx="441972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ЧЕНИ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чает на провокаци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поминает все, что знает по данной тем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улирует первые гипотез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яется в своих мотивах и целя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53966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ыз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15 класс</cp:lastModifiedBy>
  <dcterms:modified xsi:type="dcterms:W3CDTF">2014-01-06T07:40:12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