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4.png" ContentType="image/png"/>
  <Override PartName="/ppt/media/image21.png" ContentType="image/png"/>
  <Override PartName="/ppt/media/image27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20.png" ContentType="image/png"/>
  <Override PartName="/ppt/media/image7.jpeg" ContentType="image/jpeg"/>
  <Override PartName="/ppt/media/image5.jpeg" ContentType="image/jpeg"/>
  <Override PartName="/ppt/media/image12.png" ContentType="image/png"/>
  <Override PartName="/ppt/media/image23.png" ContentType="image/png"/>
  <Override PartName="/ppt/media/image13.jpeg" ContentType="image/jpeg"/>
  <Override PartName="/ppt/media/arrow.wav" ContentType="audio/x-wav"/>
  <Override PartName="/ppt/media/image29.jpeg" ContentType="image/jpeg"/>
  <Override PartName="/ppt/media/image30.png" ContentType="image/png"/>
  <Override PartName="/ppt/media/image8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E4F1-1132-4EE4-89B4-EEEE1381B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F3C2-5C11-4FAC-9BCD-5CA4D54F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FF1C-35A6-4E2F-A436-28181629D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53B0-3572-4B85-A819-322DE0157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DFA8-0F55-4076-AC1B-C8B98AE2F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07E6-6D97-40DC-9F06-E00DB995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3DF1-8EAC-408C-9975-9D36442B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17CAA-BFF3-44E0-A9C6-199B6162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DDF5D-61C2-4182-A676-68E7E11D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0913-FCF7-48E2-BFDC-D1B366A5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5DBF-27FC-44B5-A977-5FEED7EC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7C7F-DE9C-4331-8B7D-46DE1AA8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544A-E4C0-4F64-A4BB-E36C896E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2CCE-1391-4310-9445-801A1EC2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5754-AD45-43DA-ADD3-7F6ECF542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FF663-AD8D-4709-B5C7-6B3B8EC45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598A-45EB-40F6-8CE5-F4E6626D5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14C39-8388-4B20-A4E7-1A78E88C2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87B09-267D-4584-A1A6-F3AF5C2A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DC3CE-561D-4960-B99A-6ACCA374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67429-2687-4323-AD82-D4B36667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1757D-17F7-4985-88B5-F8CDC2AB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BCC8-667E-46C8-AA6B-FC55AEA3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B53F6-0082-4721-A72A-0CEA6A00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038F3-8779-4001-9827-9E2E3294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7DB17-EC4C-485B-964F-71871BA3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8D75E-0E68-4058-BCA0-39A3B973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EC9F0-A749-4D0B-AF58-B7339436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4C64A-CAFD-4DF2-9825-4FA8AE6BC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B58AB-06FD-444D-AA13-603F22729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47FDE-44FF-4AD8-8A20-18A6014EC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FC401-00DF-4A60-AC6F-CA6199F4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78E4C-7039-4F3A-8F25-67F8701D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7FB0-157B-4C0E-A7BC-68855A8F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56E6D-C00B-4F45-B86A-728CE260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4DFC2-B699-40BE-83BF-E150D103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3394A-CBAD-4E66-A5B7-63E7F580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29E24-42FE-4506-97A5-784A982F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7FEB9-8A5F-4F6E-90B9-72F720FE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B3C24-47C7-498E-867F-90E4CB86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59A40-A4CD-4374-8B3A-DD6B9FF4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5AF59-8E27-44F4-9F75-DE28B1CF2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11A76-B818-4C29-A908-A1D8021ED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96022-28AF-4067-BAA0-282EA93C3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6478-0DF0-4E5F-B274-2790E3C3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C9E53-CF7B-4A32-9E41-1DCE08AE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02EBB-C9F7-49A1-A05D-C9D44590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36B96-06CC-4D0E-99F6-7D5DCB58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5FD10-492D-42B8-9BE2-6C30C480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C1324-F76F-4EE1-8B81-674C4180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3155B-03B1-4526-9E83-69D31F05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EB1D6-BFE0-4D7A-ADEE-5E1A5C83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FCCB6-E221-4255-B1F8-10F44F2A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43986-F875-4E9F-AEF7-20E1135D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CDF63-8251-4E90-A406-0505AC448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1FDD-3BFB-4FE6-AF0D-FD46F67B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27301-20D6-4B9B-BB25-613E4B686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24EE-7486-4637-920B-D2354DC2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4300-FD32-468D-B305-7CAAAAB9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839A-9E5C-4346-B1F6-500E32E4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3FC0-E3EE-4672-AEF0-CDC06629478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1D02-84EB-44DA-9775-94D809603DF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Прямоугольник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Прямоугольник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9098-FC36-4E6C-AD70-D2E2220ABD5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C987-1E16-4DB4-99A4-A00536F4DA9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F7CB-DA4D-4543-9F1F-ABEA8B55A21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696464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826560" y="522360"/>
            <a:ext cx="6629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0" name="Прямоугольник 3" descr=""/>
          <p:cNvPicPr/>
          <p:nvPr/>
        </p:nvPicPr>
        <p:blipFill>
          <a:blip r:embed="rId1"/>
          <a:stretch/>
        </p:blipFill>
        <p:spPr>
          <a:xfrm>
            <a:off x="396720" y="353880"/>
            <a:ext cx="8309160" cy="227988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4" descr=""/>
          <p:cNvPicPr/>
          <p:nvPr/>
        </p:nvPicPr>
        <p:blipFill>
          <a:blip r:embed="rId2"/>
          <a:stretch/>
        </p:blipFill>
        <p:spPr>
          <a:xfrm>
            <a:off x="684360" y="522360"/>
            <a:ext cx="1531800" cy="268596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5" descr=""/>
          <p:cNvPicPr/>
          <p:nvPr/>
        </p:nvPicPr>
        <p:blipFill>
          <a:blip r:embed="rId3"/>
          <a:stretch/>
        </p:blipFill>
        <p:spPr>
          <a:xfrm>
            <a:off x="7397640" y="360360"/>
            <a:ext cx="1305000" cy="284796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6" descr=""/>
          <p:cNvPicPr/>
          <p:nvPr/>
        </p:nvPicPr>
        <p:blipFill>
          <a:blip r:embed="rId4"/>
          <a:stretch/>
        </p:blipFill>
        <p:spPr>
          <a:xfrm>
            <a:off x="498600" y="5014800"/>
            <a:ext cx="1930320" cy="155592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7" descr=""/>
          <p:cNvPicPr/>
          <p:nvPr/>
        </p:nvPicPr>
        <p:blipFill>
          <a:blip r:embed="rId5"/>
          <a:stretch/>
        </p:blipFill>
        <p:spPr>
          <a:xfrm>
            <a:off x="1463760" y="3292560"/>
            <a:ext cx="1412640" cy="172224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8" descr=""/>
          <p:cNvPicPr/>
          <p:nvPr/>
        </p:nvPicPr>
        <p:blipFill>
          <a:blip r:embed="rId6"/>
          <a:stretch/>
        </p:blipFill>
        <p:spPr>
          <a:xfrm>
            <a:off x="6099120" y="4152960"/>
            <a:ext cx="3176640" cy="2227320"/>
          </a:xfrm>
          <a:prstGeom prst="rect">
            <a:avLst/>
          </a:prstGeom>
          <a:ln w="0">
            <a:noFill/>
          </a:ln>
        </p:spPr>
      </p:pic>
      <p:pic>
        <p:nvPicPr>
          <p:cNvPr id="236" name="Рисунок 9" descr=""/>
          <p:cNvPicPr/>
          <p:nvPr/>
        </p:nvPicPr>
        <p:blipFill>
          <a:blip r:embed="rId7"/>
          <a:stretch/>
        </p:blipFill>
        <p:spPr>
          <a:xfrm>
            <a:off x="2951280" y="2365200"/>
            <a:ext cx="363060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32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224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225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63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63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33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99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76" name="Прямоугольник 3" descr=""/>
          <p:cNvPicPr/>
          <p:nvPr/>
        </p:nvPicPr>
        <p:blipFill>
          <a:blip r:embed="rId1"/>
          <a:stretch/>
        </p:blipFill>
        <p:spPr>
          <a:xfrm>
            <a:off x="1206360" y="19080"/>
            <a:ext cx="6724800" cy="145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7" name=""/>
          <p:cNvGraphicFramePr/>
          <p:nvPr/>
        </p:nvGraphicFramePr>
        <p:xfrm>
          <a:off x="2484360" y="1557360"/>
          <a:ext cx="4775400" cy="4911840"/>
        </p:xfrm>
        <a:graphic>
          <a:graphicData uri="http://schemas.openxmlformats.org/drawingml/2006/table">
            <a:tbl>
              <a:tblPr/>
              <a:tblGrid>
                <a:gridCol w="596880"/>
                <a:gridCol w="596880"/>
                <a:gridCol w="596880"/>
                <a:gridCol w="596880"/>
                <a:gridCol w="596880"/>
                <a:gridCol w="597240"/>
                <a:gridCol w="596880"/>
                <a:gridCol w="596880"/>
              </a:tblGrid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00000" y="2286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ске написана  сегодняшняя дата, верно?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1/1011/1111101101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9" name="Прямоугольник 3" descr=""/>
          <p:cNvPicPr/>
          <p:nvPr/>
        </p:nvPicPr>
        <p:blipFill>
          <a:blip r:embed="rId1"/>
          <a:stretch/>
        </p:blipFill>
        <p:spPr>
          <a:xfrm>
            <a:off x="628560" y="304920"/>
            <a:ext cx="7624800" cy="227952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4" descr=""/>
          <p:cNvPicPr/>
          <p:nvPr/>
        </p:nvPicPr>
        <p:blipFill>
          <a:blip r:embed="rId2"/>
          <a:stretch/>
        </p:blipFill>
        <p:spPr>
          <a:xfrm>
            <a:off x="6632640" y="3306600"/>
            <a:ext cx="141264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9" descr=""/>
          <p:cNvPicPr/>
          <p:nvPr/>
        </p:nvPicPr>
        <p:blipFill>
          <a:blip r:embed="rId1"/>
          <a:stretch/>
        </p:blipFill>
        <p:spPr>
          <a:xfrm rot="1243200">
            <a:off x="6032160" y="719280"/>
            <a:ext cx="2676600" cy="14144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00000" y="1789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фруйте новую тему  нашего урока (таблица кодировки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ndows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чебник стр. 22)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  206 196 200 208 206 194 192 205 200 197 32 208 192 209 210 208 206  194 206 201 32  195 208 192  212 200 202  200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4" name="Прямоугольник 3" descr=""/>
          <p:cNvPicPr/>
          <p:nvPr/>
        </p:nvPicPr>
        <p:blipFill>
          <a:blip r:embed="rId2"/>
          <a:stretch/>
        </p:blipFill>
        <p:spPr>
          <a:xfrm>
            <a:off x="457200" y="-128520"/>
            <a:ext cx="746748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Рисунок 5" descr=""/>
          <p:cNvPicPr/>
          <p:nvPr/>
        </p:nvPicPr>
        <p:blipFill>
          <a:blip r:embed="rId1"/>
          <a:stretch/>
        </p:blipFill>
        <p:spPr>
          <a:xfrm>
            <a:off x="6156360" y="2800440"/>
            <a:ext cx="1200240" cy="178092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4" descr=""/>
          <p:cNvPicPr/>
          <p:nvPr/>
        </p:nvPicPr>
        <p:blipFill>
          <a:blip r:embed="rId2"/>
          <a:stretch/>
        </p:blipFill>
        <p:spPr>
          <a:xfrm>
            <a:off x="250920" y="193680"/>
            <a:ext cx="3246480" cy="221472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50560" y="1817640"/>
            <a:ext cx="8893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овательностью нулей и единиц можно закодировать  и графическую информацию. Существует 2 способа: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ровый  и векторный.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2126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ческое изображение можно разбить на: крошечные фрагменты- пиксели.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2126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 каждого пикселя кодируется двоичным числом. Такой способ-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ровый.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9" name="Прямоугольник 3" descr=""/>
          <p:cNvPicPr/>
          <p:nvPr/>
        </p:nvPicPr>
        <p:blipFill>
          <a:blip r:embed="rId3"/>
          <a:stretch/>
        </p:blipFill>
        <p:spPr>
          <a:xfrm>
            <a:off x="249120" y="109440"/>
            <a:ext cx="921888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51" name="Прямоугольник 6" descr=""/>
          <p:cNvPicPr/>
          <p:nvPr/>
        </p:nvPicPr>
        <p:blipFill>
          <a:blip r:embed="rId1"/>
          <a:stretch/>
        </p:blipFill>
        <p:spPr>
          <a:xfrm>
            <a:off x="317520" y="-115920"/>
            <a:ext cx="8442360" cy="2279520"/>
          </a:xfrm>
          <a:prstGeom prst="rect">
            <a:avLst/>
          </a:prstGeom>
          <a:ln w="0">
            <a:noFill/>
          </a:ln>
        </p:spPr>
      </p:pic>
      <p:pic>
        <p:nvPicPr>
          <p:cNvPr id="252" name="Прямоугольник 7" descr=""/>
          <p:cNvPicPr/>
          <p:nvPr/>
        </p:nvPicPr>
        <p:blipFill>
          <a:blip r:embed="rId2"/>
          <a:stretch/>
        </p:blipFill>
        <p:spPr>
          <a:xfrm>
            <a:off x="4286160" y="5383080"/>
            <a:ext cx="5186520" cy="12304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"/>
          <p:cNvPicPr/>
          <p:nvPr/>
        </p:nvPicPr>
        <p:blipFill>
          <a:blip r:embed="rId3"/>
          <a:stretch/>
        </p:blipFill>
        <p:spPr>
          <a:xfrm>
            <a:off x="4546440" y="1901880"/>
            <a:ext cx="3727440" cy="3236760"/>
          </a:xfrm>
          <a:prstGeom prst="rect">
            <a:avLst/>
          </a:prstGeom>
          <a:ln w="38160">
            <a:solidFill>
              <a:srgbClr val="003399"/>
            </a:solidFill>
            <a:miter/>
          </a:ln>
        </p:spPr>
      </p:pic>
      <p:sp>
        <p:nvSpPr>
          <p:cNvPr id="254" name="Text Box 4"/>
          <p:cNvSpPr/>
          <p:nvPr/>
        </p:nvSpPr>
        <p:spPr>
          <a:xfrm>
            <a:off x="1116000" y="1809720"/>
            <a:ext cx="3176640" cy="48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000000000011100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00000100000110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00001100000011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11111100000011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01101100000011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11111100000011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11111111111110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111111011111110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001100011000110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000000011000110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000000111001110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000000111001110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Прямоугольник 3" descr=""/>
          <p:cNvPicPr/>
          <p:nvPr/>
        </p:nvPicPr>
        <p:blipFill>
          <a:blip r:embed="rId1"/>
          <a:stretch/>
        </p:blipFill>
        <p:spPr>
          <a:xfrm>
            <a:off x="944640" y="-36360"/>
            <a:ext cx="8199360" cy="14572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8" descr=""/>
          <p:cNvPicPr/>
          <p:nvPr/>
        </p:nvPicPr>
        <p:blipFill>
          <a:blip r:embed="rId2"/>
          <a:stretch/>
        </p:blipFill>
        <p:spPr>
          <a:xfrm>
            <a:off x="684360" y="2276640"/>
            <a:ext cx="6392880" cy="40003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7" descr=""/>
          <p:cNvPicPr/>
          <p:nvPr/>
        </p:nvPicPr>
        <p:blipFill>
          <a:blip r:embed="rId3"/>
          <a:stretch/>
        </p:blipFill>
        <p:spPr>
          <a:xfrm>
            <a:off x="6467400" y="4581360"/>
            <a:ext cx="1743120" cy="1905120"/>
          </a:xfrm>
          <a:prstGeom prst="rect">
            <a:avLst/>
          </a:prstGeom>
          <a:ln w="0">
            <a:noFill/>
          </a:ln>
        </p:spPr>
      </p:pic>
      <p:sp>
        <p:nvSpPr>
          <p:cNvPr id="258" name="TextBox 7"/>
          <p:cNvSpPr/>
          <p:nvPr/>
        </p:nvSpPr>
        <p:spPr>
          <a:xfrm flipH="1">
            <a:off x="684360" y="1058760"/>
            <a:ext cx="82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пиксель имеет цвет. Цвета пронумеровать и перевести в двоичный код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cxnSp>
        <p:nvCxnSpPr>
          <p:cNvPr id="259" name="Прямая со стрелкой 9"/>
          <p:cNvCxnSpPr/>
          <p:nvPr/>
        </p:nvCxnSpPr>
        <p:spPr>
          <a:xfrm flipH="1">
            <a:off x="7076880" y="2276640"/>
            <a:ext cx="5198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0" name="TextBox 10"/>
          <p:cNvSpPr/>
          <p:nvPr/>
        </p:nvSpPr>
        <p:spPr>
          <a:xfrm>
            <a:off x="7446960" y="2319480"/>
            <a:ext cx="15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ксель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99640" y="19886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овая палитра современных компьютеров (более 16 млн. цветов) поучается путем смешения трех цветов: красного, синего и зеленого.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2" name="Прямоугольник 3" descr=""/>
          <p:cNvPicPr/>
          <p:nvPr/>
        </p:nvPicPr>
        <p:blipFill>
          <a:blip r:embed="rId1"/>
          <a:stretch/>
        </p:blipFill>
        <p:spPr>
          <a:xfrm>
            <a:off x="1517760" y="165240"/>
            <a:ext cx="6114960" cy="145548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5" descr=""/>
          <p:cNvPicPr/>
          <p:nvPr/>
        </p:nvPicPr>
        <p:blipFill>
          <a:blip r:embed="rId2"/>
          <a:srcRect l="0" t="20711" r="0" b="0"/>
          <a:stretch/>
        </p:blipFill>
        <p:spPr>
          <a:xfrm>
            <a:off x="1258920" y="3244680"/>
            <a:ext cx="518472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17320" y="2276280"/>
            <a:ext cx="71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дактор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int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е команду 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итра-изменить палитр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крывшемся окне щелкните на кнопку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 цвет.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ите таблицу в учебнике стр25</a:t>
            </a:r>
            <a:endParaRPr b="0" lang="en-US" sz="32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65" name="Прямоугольник 3" descr=""/>
          <p:cNvPicPr/>
          <p:nvPr/>
        </p:nvPicPr>
        <p:blipFill>
          <a:blip r:embed="rId1"/>
          <a:stretch/>
        </p:blipFill>
        <p:spPr>
          <a:xfrm>
            <a:off x="1523880" y="-171360"/>
            <a:ext cx="6072480" cy="14572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6" descr=""/>
          <p:cNvPicPr/>
          <p:nvPr/>
        </p:nvPicPr>
        <p:blipFill>
          <a:blip r:embed="rId2"/>
          <a:stretch/>
        </p:blipFill>
        <p:spPr>
          <a:xfrm>
            <a:off x="1116000" y="3429000"/>
            <a:ext cx="427500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Рисунок 5" descr=""/>
          <p:cNvPicPr/>
          <p:nvPr/>
        </p:nvPicPr>
        <p:blipFill>
          <a:blip r:embed="rId1"/>
          <a:stretch/>
        </p:blipFill>
        <p:spPr>
          <a:xfrm>
            <a:off x="312840" y="4484520"/>
            <a:ext cx="1224000" cy="17654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971640" y="1163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устить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in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ь рисунок (Мои документы \6 класс\раскраски)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ь команду (вид-масштаб-другой)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ь команду( вид-масштаб – показать сетку)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рисунок раскрасить, один перекрасить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70" name="Прямоугольник 3" descr=""/>
          <p:cNvPicPr/>
          <p:nvPr/>
        </p:nvPicPr>
        <p:blipFill>
          <a:blip r:embed="rId2"/>
          <a:stretch/>
        </p:blipFill>
        <p:spPr>
          <a:xfrm>
            <a:off x="1895400" y="92160"/>
            <a:ext cx="6462720" cy="145548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4" descr=""/>
          <p:cNvPicPr/>
          <p:nvPr/>
        </p:nvPicPr>
        <p:blipFill>
          <a:blip r:embed="rId3"/>
          <a:stretch/>
        </p:blipFill>
        <p:spPr>
          <a:xfrm>
            <a:off x="7093080" y="449748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6" descr=""/>
          <p:cNvPicPr/>
          <p:nvPr/>
        </p:nvPicPr>
        <p:blipFill>
          <a:blip r:embed="rId4"/>
          <a:stretch/>
        </p:blipFill>
        <p:spPr>
          <a:xfrm>
            <a:off x="7121520" y="1155600"/>
            <a:ext cx="1876320" cy="142884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7" descr=""/>
          <p:cNvPicPr/>
          <p:nvPr/>
        </p:nvPicPr>
        <p:blipFill>
          <a:blip r:embed="rId5"/>
          <a:stretch/>
        </p:blipFill>
        <p:spPr>
          <a:xfrm>
            <a:off x="3562200" y="5135400"/>
            <a:ext cx="2233800" cy="15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9T13:41:16Z</dcterms:created>
  <dc:creator>Андрей</dc:creator>
  <dc:description/>
  <dc:language>en-US</dc:language>
  <cp:lastModifiedBy>Андрей</cp:lastModifiedBy>
  <dcterms:modified xsi:type="dcterms:W3CDTF">2012-11-09T16:28:04Z</dcterms:modified>
  <cp:revision>11</cp:revision>
  <dc:subject/>
  <dc:title>Презентация PowerPoint</dc:title>
</cp:coreProperties>
</file>