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8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98B71-9E67-43A6-8FAF-6A9F5E90B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BBD32-338C-4C4B-9454-FA7DFC2A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A782B-BE93-4613-B129-55066F61F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E01DE-B0FE-4965-95AD-D773BF4E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C5342-50A2-4115-99F5-2809F5A9E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75AAF-899B-484F-B544-3C218444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C6627-98BA-4380-A290-6FE8217B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CC0EA-134D-46E3-9504-4A7E70DE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58765-4190-4719-92B8-439BE270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E54FB-5B8B-4BFC-B8FB-A23EEF4C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4CCC2-929A-4F73-B2AA-3A584FC6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C6FCE-A0E2-4884-B9E4-B647FC10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B70B9-18A4-4A9C-8013-7D5D19FE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B3A80-D976-4484-ABD2-9633FFAE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B722F-43DE-4000-81E4-3A3A08B0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45064-95E4-45DC-A0B2-F04193E6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5ED72-5CAF-4E85-AB72-280941060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F744D-8DEA-4CE0-83CA-9AEC40B5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7EADA-3E7C-4DAC-A485-D57F0968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59429-D018-4D1A-A438-5C9815E5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2EBF2-EC76-4E36-94E9-697491CA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2CDD3-FAAC-4BB6-911D-979E8992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8A963-14B9-476C-BD48-DA2C6D9C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3B962-F652-44AB-958C-36CDED72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FF1F-7E03-43B6-9CBA-AC1087C171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BE5F-A76A-46C6-A3EB-99DDFE6A8D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Английские колонии в Северной Америке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Д/З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23, читать, вопросы 1,3,4, переск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схема1"/>
          <p:cNvPicPr/>
          <p:nvPr/>
        </p:nvPicPr>
        <p:blipFill>
          <a:blip r:embed="rId1"/>
          <a:stretch/>
        </p:blipFill>
        <p:spPr>
          <a:xfrm>
            <a:off x="468360" y="260280"/>
            <a:ext cx="8209080" cy="60278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1552320" y="1413000"/>
            <a:ext cx="199728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минист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583600" y="1341360"/>
            <a:ext cx="140904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ссамбл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7383240" y="1341360"/>
            <a:ext cx="82548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469800" y="4724280"/>
            <a:ext cx="90144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258920" y="4460760"/>
            <a:ext cx="174132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ните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6806160" y="1700280"/>
            <a:ext cx="96084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жня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7095240" y="4724280"/>
            <a:ext cx="131616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1" descr="ag00317_"/>
          <p:cNvPicPr/>
          <p:nvPr/>
        </p:nvPicPr>
        <p:blipFill>
          <a:blip r:embed="rId2"/>
          <a:stretch/>
        </p:blipFill>
        <p:spPr>
          <a:xfrm>
            <a:off x="0" y="0"/>
            <a:ext cx="12873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Причины конфликта метрополии с колониям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6" name="Picture 3" descr="Рисунок1"/>
          <p:cNvPicPr/>
          <p:nvPr/>
        </p:nvPicPr>
        <p:blipFill>
          <a:blip r:embed="rId1"/>
          <a:stretch/>
        </p:blipFill>
        <p:spPr>
          <a:xfrm>
            <a:off x="684360" y="1557360"/>
            <a:ext cx="3597120" cy="43927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00120" y="1790280"/>
            <a:ext cx="38149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читайте страниц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12-21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йдите причины борьбы и объясните эту картин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762480" y="6093000"/>
            <a:ext cx="3475440" cy="459720"/>
          </a:xfrm>
          <a:prstGeom prst="rect">
            <a:avLst/>
          </a:prstGeom>
          <a:noFill/>
          <a:ln cap="sq"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т-гербовому сбору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ag00317_"/>
          <p:cNvPicPr/>
          <p:nvPr/>
        </p:nvPicPr>
        <p:blipFill>
          <a:blip r:embed="rId2"/>
          <a:stretch/>
        </p:blipFill>
        <p:spPr>
          <a:xfrm>
            <a:off x="0" y="0"/>
            <a:ext cx="12873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Сделайте выводы: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1428840" y="4572000"/>
            <a:ext cx="2786040" cy="207972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142" name="Picture 3" descr="Рисунок1"/>
          <p:cNvPicPr/>
          <p:nvPr/>
        </p:nvPicPr>
        <p:blipFill>
          <a:blip r:embed="rId2"/>
          <a:stretch/>
        </p:blipFill>
        <p:spPr>
          <a:xfrm>
            <a:off x="1500120" y="1857240"/>
            <a:ext cx="1947960" cy="23781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143" name="Picture 3" descr="1"/>
          <p:cNvPicPr/>
          <p:nvPr/>
        </p:nvPicPr>
        <p:blipFill>
          <a:blip r:embed="rId3"/>
          <a:stretch/>
        </p:blipFill>
        <p:spPr>
          <a:xfrm>
            <a:off x="4786200" y="1928880"/>
            <a:ext cx="3714840" cy="23032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144" name="Схема 9" descr=""/>
          <p:cNvPicPr/>
          <p:nvPr/>
        </p:nvPicPr>
        <p:blipFill>
          <a:blip r:embed="rId4"/>
          <a:stretch/>
        </p:blipFill>
        <p:spPr>
          <a:xfrm>
            <a:off x="4681440" y="4541760"/>
            <a:ext cx="3926160" cy="2103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ag00317_"/>
          <p:cNvPicPr/>
          <p:nvPr/>
        </p:nvPicPr>
        <p:blipFill>
          <a:blip r:embed="rId5"/>
          <a:stretch/>
        </p:blipFill>
        <p:spPr>
          <a:xfrm>
            <a:off x="0" y="0"/>
            <a:ext cx="12873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3" dur="2000" fill="hold"/>
                                        <p:tgtEl>
                                          <p:spTgt spid="1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7848720" cy="520560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5"/>
          <p:cNvSpPr/>
          <p:nvPr/>
        </p:nvSpPr>
        <p:spPr>
          <a:xfrm flipH="1">
            <a:off x="4211640" y="2492280"/>
            <a:ext cx="71280" cy="74880"/>
          </a:xfrm>
          <a:custGeom>
            <a:avLst/>
            <a:gdLst>
              <a:gd name="textAreaLeft" fmla="*/ 16200 w 71280"/>
              <a:gd name="textAreaRight" fmla="*/ 55080 w 71280"/>
              <a:gd name="textAreaTop" fmla="*/ 16920 h 74880"/>
              <a:gd name="textAreaBottom" fmla="*/ 57960 h 74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 flipH="1">
            <a:off x="2484360" y="2565360"/>
            <a:ext cx="172728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2"/>
          <a:stretch/>
        </p:blipFill>
        <p:spPr>
          <a:xfrm>
            <a:off x="2340000" y="907920"/>
            <a:ext cx="2066760" cy="1543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8"/>
          <p:cNvSpPr/>
          <p:nvPr/>
        </p:nvSpPr>
        <p:spPr>
          <a:xfrm>
            <a:off x="2454840" y="83664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620,«Мэйфлауэ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9"/>
          <p:cNvSpPr/>
          <p:nvPr/>
        </p:nvSpPr>
        <p:spPr>
          <a:xfrm>
            <a:off x="5003640" y="1268280"/>
            <a:ext cx="4140360" cy="4753080"/>
          </a:xfrm>
          <a:prstGeom prst="verticalScroll">
            <a:avLst>
              <a:gd name="adj" fmla="val 12500"/>
            </a:avLst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5508720" y="1844640"/>
            <a:ext cx="302400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то эти странники       (пилигримы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колько их бы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чему они покинули родин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ово значение этого событ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1"/>
          <p:cNvSpPr/>
          <p:nvPr/>
        </p:nvSpPr>
        <p:spPr>
          <a:xfrm>
            <a:off x="2700360" y="2565360"/>
            <a:ext cx="216000" cy="216000"/>
          </a:xfrm>
          <a:custGeom>
            <a:avLst/>
            <a:gdLst>
              <a:gd name="textAreaLeft" fmla="*/ 49320 w 216000"/>
              <a:gd name="textAreaRight" fmla="*/ 166680 w 216000"/>
              <a:gd name="textAreaTop" fmla="*/ 49320 h 216000"/>
              <a:gd name="textAreaBottom" fmla="*/ 1666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2" descr="ag00317_"/>
          <p:cNvPicPr/>
          <p:nvPr/>
        </p:nvPicPr>
        <p:blipFill>
          <a:blip r:embed="rId3"/>
          <a:stretch/>
        </p:blipFill>
        <p:spPr>
          <a:xfrm>
            <a:off x="0" y="0"/>
            <a:ext cx="860400" cy="110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9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Текст с ошибками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1744560"/>
            <a:ext cx="8540640" cy="51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произошло в 1920 году. Французский корабль «Эйприлфлауэр» направился к берегам Южной Америки. На нём в колонию Виргинию направилась группа из 1002 пуритан. Почему они покинули родину? Причины у каждого были свои, но их объединяла вера и надежда начать новую жизнь. Полагаясь на волю Господа, странники сошли на берег. Именно здесь была основана первая французская колония. День высадки переселенцев отмечается теперь как праздник – День отцов-пурит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ag00317_"/>
          <p:cNvPicPr/>
          <p:nvPr/>
        </p:nvPicPr>
        <p:blipFill>
          <a:blip r:embed="rId1"/>
          <a:stretch/>
        </p:blipFill>
        <p:spPr>
          <a:xfrm>
            <a:off x="0" y="0"/>
            <a:ext cx="12873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Первые колонисты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11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нглийские пуритане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11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тестанты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11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зземельные крестьяне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11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Беспокойные бедняки»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11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ступни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ag00029_"/>
          <p:cNvPicPr/>
          <p:nvPr/>
        </p:nvPicPr>
        <p:blipFill>
          <a:blip r:embed="rId1"/>
          <a:stretch/>
        </p:blipFill>
        <p:spPr>
          <a:xfrm>
            <a:off x="108000" y="260280"/>
            <a:ext cx="1873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Запишите дату: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1620 год – в Северной Америке высадились первые колонисты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ag00029_"/>
          <p:cNvPicPr/>
          <p:nvPr/>
        </p:nvPicPr>
        <p:blipFill>
          <a:blip r:embed="rId1"/>
          <a:stretch/>
        </p:blipFill>
        <p:spPr>
          <a:xfrm>
            <a:off x="108000" y="0"/>
            <a:ext cx="1873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Образование колоний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3" name="Picture 3" descr="1"/>
          <p:cNvPicPr/>
          <p:nvPr/>
        </p:nvPicPr>
        <p:blipFill>
          <a:blip r:embed="rId1"/>
          <a:stretch/>
        </p:blipFill>
        <p:spPr>
          <a:xfrm>
            <a:off x="1835280" y="1557360"/>
            <a:ext cx="6265800" cy="49672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             </a:t>
            </a: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Колониальное общество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ермер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принимател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емные работник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лантаторы-рабовладельц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Законтрактованные слуги»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гры-раб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ag00029_"/>
          <p:cNvPicPr/>
          <p:nvPr/>
        </p:nvPicPr>
        <p:blipFill>
          <a:blip r:embed="rId1"/>
          <a:stretch/>
        </p:blipFill>
        <p:spPr>
          <a:xfrm>
            <a:off x="179280" y="189000"/>
            <a:ext cx="187344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             </a:t>
            </a: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Управление колониям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8" name="Схема 6" descr=""/>
          <p:cNvPicPr/>
          <p:nvPr/>
        </p:nvPicPr>
        <p:blipFill>
          <a:blip r:embed="rId1"/>
          <a:stretch/>
        </p:blipFill>
        <p:spPr>
          <a:xfrm>
            <a:off x="378000" y="1536840"/>
            <a:ext cx="8461080" cy="4943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ag00317_"/>
          <p:cNvPicPr/>
          <p:nvPr/>
        </p:nvPicPr>
        <p:blipFill>
          <a:blip r:embed="rId2"/>
          <a:stretch/>
        </p:blipFill>
        <p:spPr>
          <a:xfrm>
            <a:off x="0" y="0"/>
            <a:ext cx="105732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             </a:t>
            </a: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Управление колониям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21" name="Diagram 3"/>
          <p:cNvGrpSpPr/>
          <p:nvPr/>
        </p:nvGrpSpPr>
        <p:grpSpPr>
          <a:xfrm>
            <a:off x="805320" y="1879920"/>
            <a:ext cx="7642440" cy="4197960"/>
            <a:chOff x="805320" y="1879920"/>
            <a:chExt cx="7642440" cy="4197960"/>
          </a:xfrm>
        </p:grpSpPr>
        <p:sp>
          <p:nvSpPr>
            <p:cNvPr id="122" name="_s1028"/>
            <p:cNvSpPr/>
            <p:nvPr/>
          </p:nvSpPr>
          <p:spPr>
            <a:xfrm flipV="1">
              <a:off x="805320" y="4677840"/>
              <a:ext cx="7642440" cy="1399320"/>
            </a:xfrm>
            <a:custGeom>
              <a:avLst/>
              <a:gdLst>
                <a:gd name="textAreaLeft" fmla="*/ 1326600 w 7642440"/>
                <a:gd name="textAreaRight" fmla="*/ 6315840 w 7642440"/>
                <a:gd name="textAreaTop" fmla="*/ 242640 h 1399320"/>
                <a:gd name="textAreaBottom" fmla="*/ 1156320 h 139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Колониаль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ассамбле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29"/>
            <p:cNvSpPr/>
            <p:nvPr/>
          </p:nvSpPr>
          <p:spPr>
            <a:xfrm flipV="1">
              <a:off x="2080440" y="3278880"/>
              <a:ext cx="5093280" cy="1399320"/>
            </a:xfrm>
            <a:custGeom>
              <a:avLst/>
              <a:gdLst>
                <a:gd name="textAreaLeft" fmla="*/ 1119960 w 5093280"/>
                <a:gd name="textAreaRight" fmla="*/ 3973320 w 5093280"/>
                <a:gd name="textAreaTop" fmla="*/ 307440 h 1399320"/>
                <a:gd name="textAreaBottom" fmla="*/ 1091520 h 139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Губернато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30"/>
            <p:cNvSpPr/>
            <p:nvPr/>
          </p:nvSpPr>
          <p:spPr>
            <a:xfrm flipV="1">
              <a:off x="3352320" y="1879560"/>
              <a:ext cx="2549160" cy="1399320"/>
            </a:xfrm>
            <a:custGeom>
              <a:avLst/>
              <a:gdLst>
                <a:gd name="textAreaLeft" fmla="*/ 914400 w 2549160"/>
                <a:gd name="textAreaRight" fmla="*/ 1634760 w 2549160"/>
                <a:gd name="textAreaTop" fmla="*/ 501840 h 1399320"/>
                <a:gd name="textAreaBottom" fmla="*/ 897120 h 139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Arial"/>
                </a:rPr>
                <a:t>Корол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Arial"/>
                </a:rPr>
                <a:t>Англи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Picture 8" descr="ag00029_"/>
          <p:cNvPicPr/>
          <p:nvPr/>
        </p:nvPicPr>
        <p:blipFill>
          <a:blip r:embed="rId1"/>
          <a:stretch/>
        </p:blipFill>
        <p:spPr>
          <a:xfrm>
            <a:off x="250920" y="260280"/>
            <a:ext cx="1873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2:08:10Z</dcterms:created>
  <dc:creator>Гульнара</dc:creator>
  <dc:description/>
  <dc:language>en-US</dc:language>
  <cp:lastModifiedBy>sol</cp:lastModifiedBy>
  <dcterms:modified xsi:type="dcterms:W3CDTF">2013-03-18T18:22:16Z</dcterms:modified>
  <cp:revision>18</cp:revision>
  <dc:subject/>
  <dc:title>Понятие «Новой истори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81049</vt:lpwstr>
  </property>
</Properties>
</file>