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1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E9BC-5097-4925-825F-CB180FC340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8DFF-3137-492C-AD7B-79ED244C8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70E0-BA5F-4DDA-B054-EA132D9A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2DF-196E-4BB6-BB64-3F7EA3B2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281-449E-4AC3-98CB-7A3B1AAD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BE4-7AFB-481A-B239-65C7DD85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60E7-49AC-4033-BCCB-C405A4D51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466C9-688C-40BD-A6C0-09B52F3B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231C-0A78-4FC9-85C2-C86737E6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7D5A-607C-40DC-80BC-E60E7769E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AF4E-BA56-4CAF-BF15-31BA37E7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A102-60EE-4F1D-8C12-1952754F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8943-A7C9-4019-97FA-3C1A3FF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2EA2-1688-48DB-94B3-F5EFB463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9B95-586A-4550-B4F4-0DD9FBDA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C3BA-35F3-4BAE-B1C6-BDCF72B3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F96A-6C65-4935-8B74-76E21940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6D91-3A87-45CA-B234-F2F0AB59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2013-AB76-4BB7-8321-30D86F5A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7F9-1531-4C38-91C9-E4DC6E39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7B65-1AF5-40CB-B9A2-9C8ADB43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F52-05E5-4CFB-AFD7-1A143DF0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3079-0571-4065-A7F8-5BEB9CBF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CA06-E81F-4EC3-9E87-8F79A0FD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A41-6F10-4E78-A8AF-FF2B00E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1DEF-B4EA-4173-B3B7-3F1DE259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1091-42E9-4386-A567-19117ABA6F2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DED9-8F8C-4FCD-B9D5-E5349C840D3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pedsovet.su/load/321-5-2" TargetMode="External"/><Relationship Id="rId2" Type="http://schemas.openxmlformats.org/officeDocument/2006/relationships/hyperlink" Target="http://pedsovet.su/load/321-5-2" TargetMode="External"/><Relationship Id="rId3" Type="http://schemas.openxmlformats.org/officeDocument/2006/relationships/hyperlink" Target="http://pedsovet.su/_ld/265/05581137.jpg" TargetMode="External"/><Relationship Id="rId4" Type="http://schemas.openxmlformats.org/officeDocument/2006/relationships/hyperlink" Target="http://pedsovet.su/_ld/265/05581137.jpg" TargetMode="External"/><Relationship Id="rId5" Type="http://schemas.openxmlformats.org/officeDocument/2006/relationships/hyperlink" Target="http://pedsovet.su/_ld/265/05581137.jpg" TargetMode="External"/><Relationship Id="rId6" Type="http://schemas.openxmlformats.org/officeDocument/2006/relationships/hyperlink" Target="http://pedsovet.su/_ld/265/05581137.jpg" TargetMode="External"/><Relationship Id="rId7" Type="http://schemas.openxmlformats.org/officeDocument/2006/relationships/hyperlink" Target="http://pedsovet.su/_ld/265/05581137.jpg" TargetMode="External"/><Relationship Id="rId8" Type="http://schemas.openxmlformats.org/officeDocument/2006/relationships/hyperlink" Target="http://pedsovet.su/_ld/265/05581137.jpg" TargetMode="External"/><Relationship Id="rId9" Type="http://schemas.openxmlformats.org/officeDocument/2006/relationships/hyperlink" Target="http://s004.radikal.ru/i207/1201/b9/786b666a2cc4.jpg" TargetMode="External"/><Relationship Id="rId10" Type="http://schemas.openxmlformats.org/officeDocument/2006/relationships/hyperlink" Target="http://s004.radikal.ru/i207/1201/b9/786b666a2cc4.jpg" TargetMode="External"/><Relationship Id="rId11" Type="http://schemas.openxmlformats.org/officeDocument/2006/relationships/hyperlink" Target="http://pedsovet.su/_ld/274/91268165.jpg" TargetMode="External"/><Relationship Id="rId12" Type="http://schemas.openxmlformats.org/officeDocument/2006/relationships/hyperlink" Target="http://nkozlov.ru/upload/images/1011/1011081005430.png" TargetMode="External"/><Relationship Id="rId13" Type="http://schemas.openxmlformats.org/officeDocument/2006/relationships/hyperlink" Target="http://read.ru/images/illustrations/1269949668232131680.jpg" TargetMode="External"/><Relationship Id="rId14" Type="http://schemas.openxmlformats.org/officeDocument/2006/relationships/hyperlink" Target="http://cs11151.userapi.com/u11953024/-14/x_3415d6fc.jpg" TargetMode="External"/><Relationship Id="rId15" Type="http://schemas.openxmlformats.org/officeDocument/2006/relationships/hyperlink" Target="http://postupivuz.ru/img/liliana/1265725384_big.jpg" TargetMode="External"/><Relationship Id="rId16" Type="http://schemas.openxmlformats.org/officeDocument/2006/relationships/hyperlink" Target="http://vsyako-razno.ru/uploads/posts/2012-06/1338745277_DOBRO-I-ZLO_vsyako-razno.ru.jpg" TargetMode="External"/><Relationship Id="rId1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Содержимое 3" descr="Рисунок12.png"/>
          <p:cNvPicPr/>
          <p:nvPr/>
        </p:nvPicPr>
        <p:blipFill>
          <a:blip r:embed="rId1"/>
          <a:srcRect l="1514" t="0" r="2272" b="2557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900000" y="2133720"/>
            <a:ext cx="777744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Классный час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latin typeface="Arial"/>
              </a:rPr>
              <a:t>в 3 классе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latin typeface="Arial"/>
              <a:ea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00720" y="4292640"/>
            <a:ext cx="33112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всеева Оксана Павловна</a:t>
            </a:r>
            <a:endParaRPr b="0" i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БОУ СОШ №1</a:t>
            </a:r>
            <a:endParaRPr b="0" i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. о. Чапаевск</a:t>
            </a:r>
            <a:endParaRPr b="0" i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марская область</a:t>
            </a:r>
            <a:endParaRPr b="0" i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3" name="" descr="&amp;Fcy;&amp;ocy;&amp;ncy; (&amp;shcy;&amp;acy;&amp;bcy;&amp;lcy;&amp;ocy;&amp;ncy;) &amp;pcy;&amp;rcy;&amp;iecy;&amp;zcy;&amp;iecy;&amp;ncy;&amp;tcy;&amp;acy;&amp;tscy;&amp;icy;&amp;icy; &quot;&amp;Rcy;&amp;ocy;&amp;zcy;&amp;ocy;&amp;vcy;&amp;ycy;&amp;j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395280" y="404640"/>
            <a:ext cx="8569440" cy="413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"Секретное поручение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556000" y="1052640"/>
            <a:ext cx="40957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85440" y="152280"/>
            <a:ext cx="7342200" cy="64454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6"/>
          <p:cNvPicPr/>
          <p:nvPr/>
        </p:nvPicPr>
        <p:blipFill>
          <a:blip r:embed="rId2"/>
          <a:stretch/>
        </p:blipFill>
        <p:spPr>
          <a:xfrm>
            <a:off x="0" y="46080"/>
            <a:ext cx="7812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68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62136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51920"/>
            <a:ext cx="77756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«Если ты хочешь, чтобы вокруг тебя были хорошие, добрые люди, попробуй относиться к ним внимательно, ласково, вежливо - увидишь, что все станет лучше. Все в жизни зависит от тебя самого, поверь мне…»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                  М. Горьк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6312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Использованные источники:</a:t>
            </a:r>
            <a:br>
              <a:rPr sz="2000"/>
            </a:b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://pedsovet.su/load/321-5-2</a:t>
            </a: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http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://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edsovet.su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/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_ld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/265/05581137.jpg</a:t>
            </a: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http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://s004.radikal.ru/i207/1201/b9/786b666a2cc4.jpg</a:t>
            </a: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</a:rPr>
              <a:t>http://fantasyflash.ru/anime/sweet/image/sw203.gif</a:t>
            </a: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http://pedsovet.su/_ld/274/91268165.jpg</a:t>
            </a: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http://nkozlov.ru/upload/images/1011/1011081005430.png</a:t>
            </a: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http://read.ru/images/illustrations/1269949668232131680.jpg</a:t>
            </a: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http://cs11151.userapi.com/u11953024/-14/x_3415d6fc.jpg</a:t>
            </a: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http://postupivuz.ru/img/liliana/1265725384_big.jpg</a:t>
            </a:r>
            <a:br>
              <a:rPr sz="2000"/>
            </a:br>
            <a:r>
              <a:rPr b="0" lang="ru-RU" sz="20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http://vsyako-razno.ru/uploads/posts/2012-06/1338745277_DOBRO-I-ZLO_vsyako-razno.ru.jpg</a:t>
            </a:r>
            <a:br>
              <a:rPr sz="2000"/>
            </a:b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http://pedsovet.su/_ld/266/26896667.jp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 flipV="1" rot="10800000">
            <a:off x="2484000" y="5875920"/>
            <a:ext cx="3527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6" descr="F:\Фоны\фон звездочки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21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9" descr="C:\Users\1\Pictures\фон 3.jpg"/>
          <p:cNvPicPr/>
          <p:nvPr/>
        </p:nvPicPr>
        <p:blipFill>
          <a:blip r:embed="rId2"/>
          <a:stretch/>
        </p:blipFill>
        <p:spPr>
          <a:xfrm>
            <a:off x="-190440" y="-209520"/>
            <a:ext cx="9526680" cy="7277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8" descr="F:\Фоны\фон звездочки.gif"/>
          <p:cNvPicPr/>
          <p:nvPr/>
        </p:nvPicPr>
        <p:blipFill>
          <a:blip r:embed="rId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0" y="-27000"/>
          <a:ext cx="8964720" cy="7112160"/>
        </p:xfrm>
        <a:graphic>
          <a:graphicData uri="http://schemas.openxmlformats.org/drawingml/2006/table">
            <a:tbl>
              <a:tblPr/>
              <a:tblGrid>
                <a:gridCol w="933480"/>
                <a:gridCol w="1052640"/>
                <a:gridCol w="925200"/>
                <a:gridCol w="1001880"/>
                <a:gridCol w="1123920"/>
                <a:gridCol w="3927600"/>
              </a:tblGrid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КЛЮ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ТЕ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А  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Б   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В  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Г   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9,17,6,26,10,2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  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Е  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Ё  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Ж 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З    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И  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Й  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К  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Л  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  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 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О  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0,3,16,18,10,2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  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Р    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  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  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У  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Ф    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Х  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Ц   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Ч  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Ш   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Щ 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Ъ   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, 16, 2, 18, 16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Ы 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Ь    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Э 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Ю 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Я  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7165800" y="-942840"/>
            <a:ext cx="8018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b200"/>
              </a:solidFill>
              <a:latin typeface="Times New Roman"/>
              <a:ea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5402160"/>
            <a:ext cx="7696080" cy="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7440" bIns="374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Содержимое 3" descr="Рисунок12.png"/>
          <p:cNvPicPr/>
          <p:nvPr/>
        </p:nvPicPr>
        <p:blipFill>
          <a:blip r:embed="rId1"/>
          <a:srcRect l="1514" t="0" r="2272" b="2557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1908000" y="981000"/>
            <a:ext cx="5185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ешите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340000" y="2852640"/>
            <a:ext cx="468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вори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340000" y="4437000"/>
            <a:ext cx="46083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бро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4360" y="2396880"/>
            <a:ext cx="8135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Доброт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есть отзывчивость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ушевное расположение к людя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тремление делать добро другим.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. И. Оже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2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2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2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0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2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2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2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40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2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2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2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4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2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2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2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&amp;SHcy;&amp;acy;&amp;bcy;&amp;lcy;&amp;ocy;&amp;ncy; (&amp;fcy;&amp;ocy;&amp;ncy;) &amp;pcy;&amp;rcy;&amp;iecy;&amp;zcy;&amp;iecy;&amp;ncy;&amp;tcy;&amp;acy;&amp;tscy;&amp;icy;&amp;icy; &quot;&amp;Zcy;&amp;iecy;&amp;lcy;&amp;iecy;&amp;ncy;&amp;ycy;&amp;j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1291000">
            <a:off x="523800" y="995040"/>
            <a:ext cx="10283760" cy="43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>
                    <a:alpha val="60000"/>
                  </a:srgbClr>
                </a:solidFill>
                <a:latin typeface="Arial"/>
              </a:rPr>
              <a:t>АУКЦИОН        ДОБРОТ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>
                  <a:alpha val="60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8920" y="509760"/>
            <a:ext cx="7273800" cy="53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равила доброты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омогать слабым,больным,маленьким,попавшим в бе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вершать хорошие дела просто так, из хороших побу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Любить людей знакомых и незнакомы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изывать  окружающих к хорошим взаимоотношения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удь вежливым в словах,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грубить, даже если серд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Уметь управлять своими поступками, жел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щать  ошибки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жадни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завид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Не погибни во мне добро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&amp;SHcy;&amp;acy;&amp;bcy;&amp;lcy;&amp;ocy;&amp;ncy; (&amp;fcy;&amp;ocy;&amp;ncy;) &amp;pcy;&amp;rcy;&amp;iecy;&amp;zcy;&amp;iecy;&amp;ncy;&amp;tcy;&amp;acy;&amp;tscy;&amp;icy;&amp;icy; &quot;&amp;YAcy;&amp;rcy;&amp;kcy;&amp;ocy;-&amp;zcy;&amp;iecy;&amp;lcy;&amp;iecy;&amp;ncy;&amp;ycy;&amp;j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 rot="21086400">
            <a:off x="1186920" y="1196640"/>
            <a:ext cx="6697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8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ляна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008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808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обрых Дел</a:t>
            </a:r>
            <a:endParaRPr b="0" lang="en-US" sz="1800" spc="1" strike="noStrike">
              <a:ln w="19080">
                <a:solidFill>
                  <a:srgbClr val="000099"/>
                </a:solidFill>
                <a:miter/>
              </a:ln>
              <a:solidFill>
                <a:srgbClr val="00808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&amp;Rcy;&amp;acy;&amp;mcy;&amp;kcy;&amp;acy; (&amp;shcy;&amp;acy;&amp;bcy;&amp;lcy;&amp;ocy;&amp;ncy;) &amp;dcy;&amp;lcy;&amp;yacy; &amp;pcy;&amp;rcy;&amp;iecy;&amp;zcy;&amp;iecy;&amp;ncy;&amp;tcy;&amp;acy;&amp;tscy;&amp;icy;&amp;icy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179280" y="189000"/>
            <a:ext cx="8964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руг напомнил мне вчера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77960" y="1197000"/>
            <a:ext cx="41371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&amp;SHcy;&amp;acy;&amp;bcy;&amp;lcy;&amp;ocy;&amp;ncy; (&amp;fcy;&amp;ocy;&amp;ncy;) &amp;pcy;&amp;rcy;&amp;iecy;&amp;zcy;&amp;iecy;&amp;ncy;&amp;tcy;&amp;acy;&amp;tscy;&amp;icy;&amp;icy; &quot;&amp;Rcy;&amp;acy;&amp;mcy;&amp;kcy;&amp;acy;&quot;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&amp;acy;&amp;ncy;&amp;icy;&amp;mcy;&amp;acy;&amp;shcy;&amp;kcy;&amp;icy;"/>
          <p:cNvPicPr/>
          <p:nvPr/>
        </p:nvPicPr>
        <p:blipFill>
          <a:blip r:embed="rId2"/>
          <a:stretch/>
        </p:blipFill>
        <p:spPr>
          <a:xfrm>
            <a:off x="3436920" y="907920"/>
            <a:ext cx="2241720" cy="5113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 rot="21164400">
            <a:off x="417240" y="4718160"/>
            <a:ext cx="8281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50000">
                      <a:srgbClr val="0000ff"/>
                    </a:gs>
                    <a:gs pos="100000">
                      <a:srgbClr val="9400ed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й воздушный шарик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50000">
                    <a:srgbClr val="0000ff"/>
                  </a:gs>
                  <a:gs pos="100000">
                    <a:srgbClr val="9400ed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6T12:20:14Z</dcterms:created>
  <dc:creator>Admin</dc:creator>
  <dc:description/>
  <dc:language>en-US</dc:language>
  <cp:lastModifiedBy>Admin</cp:lastModifiedBy>
  <dcterms:modified xsi:type="dcterms:W3CDTF">2012-07-17T06:29:49Z</dcterms:modified>
  <cp:revision>8</cp:revision>
  <dc:subject/>
  <dc:title>http://pedsovet.su/load/321-5-2</dc:title>
</cp:coreProperties>
</file>