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E71-9726-4BC9-AE29-2A91E65E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900-55C8-4477-B00F-1337FB93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3A3-F3B0-482F-B2C7-385709B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0C0-02B8-42E7-A8AE-4A9AF311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F06-DE4A-4355-ADA8-E9850229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0A6-11ED-417A-A83B-FC881BCE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1AD-432B-488B-854B-349C1B28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6893-1529-43EC-B0EB-E8BB33CF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8EE-33FD-4E20-9DAC-C973470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A16-D0B6-41B7-ABE1-61D165DB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BD8-4D23-45BB-9163-611A2C8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537-330F-4CDA-8901-2D21D01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ECA-0F41-4736-97CC-E6569C9FF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slide" Target="slide23.xm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23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422880" y="2357280"/>
            <a:ext cx="495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Чудеса из природ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матер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944280" y="785880"/>
            <a:ext cx="74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Georgia"/>
              </a:rPr>
              <a:t>МСОУ школа № 10</a:t>
            </a:r>
            <a:r>
              <a:rPr b="1" lang="en-US" sz="1800" spc="-1" strike="noStrike">
                <a:solidFill>
                  <a:srgbClr val="376092"/>
                </a:solidFill>
                <a:latin typeface="Georgia"/>
              </a:rPr>
              <a:t> VIII </a:t>
            </a:r>
            <a:r>
              <a:rPr b="1" lang="ru-RU" sz="1800" spc="-1" strike="noStrike">
                <a:solidFill>
                  <a:srgbClr val="376092"/>
                </a:solidFill>
                <a:latin typeface="Georgia"/>
              </a:rPr>
              <a:t>вида г. Ступино Москов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110120" y="507204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Georgia"/>
              </a:rPr>
              <a:t>Касатин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сканирование0002.jpg"/>
          <p:cNvPicPr/>
          <p:nvPr/>
        </p:nvPicPr>
        <p:blipFill>
          <a:blip r:embed="rId1"/>
          <a:stretch/>
        </p:blipFill>
        <p:spPr>
          <a:xfrm>
            <a:off x="857160" y="1714680"/>
            <a:ext cx="2494080" cy="392904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сканирование0004.jpg"/>
          <p:cNvPicPr/>
          <p:nvPr/>
        </p:nvPicPr>
        <p:blipFill>
          <a:blip r:embed="rId1"/>
          <a:stretch/>
        </p:blipFill>
        <p:spPr>
          <a:xfrm>
            <a:off x="2357280" y="1143000"/>
            <a:ext cx="4218120" cy="23572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Прямоугольник 4"/>
          <p:cNvSpPr/>
          <p:nvPr/>
        </p:nvSpPr>
        <p:spPr>
          <a:xfrm>
            <a:off x="1214280" y="378612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Для изготовления корзинки необходимо проплести 10 поперечных и 10 продольных стоек из рогоза. 10 отрезков рогоза положить вдоль стола, как можно ближе друг к другу. Продольные стебли прижать деревянной линейкой, отогнуть через один и вложить под них поперечный отрезок стеб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сканирование0004.jpg"/>
          <p:cNvPicPr/>
          <p:nvPr/>
        </p:nvPicPr>
        <p:blipFill>
          <a:blip r:embed="rId1"/>
          <a:stretch/>
        </p:blipFill>
        <p:spPr>
          <a:xfrm>
            <a:off x="928800" y="928800"/>
            <a:ext cx="2928960" cy="264456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6" name="Прямоугольник 4"/>
          <p:cNvSpPr/>
          <p:nvPr/>
        </p:nvSpPr>
        <p:spPr>
          <a:xfrm>
            <a:off x="4071960" y="1071720"/>
            <a:ext cx="4286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Затем поменять местами продольные стебли: отогнутые прижать к столу, передвинув линейку, а лежащие на столе отогнуть. Проложить второй поперечный стебе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Группа 6"/>
          <p:cNvGrpSpPr/>
          <p:nvPr/>
        </p:nvGrpSpPr>
        <p:grpSpPr>
          <a:xfrm>
            <a:off x="642960" y="3499920"/>
            <a:ext cx="7358040" cy="2627640"/>
            <a:chOff x="642960" y="3499920"/>
            <a:chExt cx="7358040" cy="2627640"/>
          </a:xfrm>
        </p:grpSpPr>
        <p:pic>
          <p:nvPicPr>
            <p:cNvPr id="88" name="Рисунок 5" descr="сканирование0004.jpg"/>
            <p:cNvPicPr/>
            <p:nvPr/>
          </p:nvPicPr>
          <p:blipFill>
            <a:blip r:embed="rId2"/>
            <a:stretch/>
          </p:blipFill>
          <p:spPr>
            <a:xfrm rot="10800000">
              <a:off x="5286600" y="3499920"/>
              <a:ext cx="2714400" cy="262764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89" name="Прямоугольник 7"/>
            <p:cNvSpPr/>
            <p:nvPr/>
          </p:nvSpPr>
          <p:spPr>
            <a:xfrm>
              <a:off x="642960" y="4214880"/>
              <a:ext cx="4357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Так продолжать, пока не получится плетение «в клеточку» необходимого размера. Готовое полотно высушить под прессом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сканирование0005.jpg"/>
          <p:cNvPicPr/>
          <p:nvPr/>
        </p:nvPicPr>
        <p:blipFill>
          <a:blip r:embed="rId1"/>
          <a:stretch/>
        </p:blipFill>
        <p:spPr>
          <a:xfrm>
            <a:off x="785880" y="1500120"/>
            <a:ext cx="3286080" cy="38941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1" name="Прямоугольник 4"/>
          <p:cNvSpPr/>
          <p:nvPr/>
        </p:nvSpPr>
        <p:spPr>
          <a:xfrm>
            <a:off x="4500720" y="1785960"/>
            <a:ext cx="364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а шаблон корзинки из картона приклеить полото из рогоза, вырезать корзи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 нижней части будущей картины термоклеем приклеить корзину с ручкой из жгута. В местах соединения фона и рамы приклеить жгут из сит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сканирование0005.jpg"/>
          <p:cNvPicPr/>
          <p:nvPr/>
        </p:nvPicPr>
        <p:blipFill>
          <a:blip r:embed="rId1"/>
          <a:stretch/>
        </p:blipFill>
        <p:spPr>
          <a:xfrm>
            <a:off x="5357880" y="1285920"/>
            <a:ext cx="2714400" cy="415116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3" name="Прямоугольник 4"/>
          <p:cNvSpPr/>
          <p:nvPr/>
        </p:nvSpPr>
        <p:spPr>
          <a:xfrm>
            <a:off x="785880" y="207180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 соответствии с эскизом разместить и закрепить подготовленные элементы композиции на осно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Прямоугольный треугольник 3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95" name="Прямоуголь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2"/>
          <p:cNvSpPr/>
          <p:nvPr/>
        </p:nvSpPr>
        <p:spPr>
          <a:xfrm>
            <a:off x="3630960" y="85716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Жили - бы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785880" y="1428840"/>
            <a:ext cx="4214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Жили – были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Этими словами начинаются почти все сказки. Сказки, которые рассказывала нам мама. Сказки, которые мы рассказываем своим дет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ы можем придумать свою историю – о гостеприимном доме, который хранит тепло очага и улыбки дружной семьи. Пригласите к сотрудничеству друзей, которые помогут заселить деревенский домик любимыми персонаж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5" descr="сканирование0002.jpg"/>
          <p:cNvPicPr/>
          <p:nvPr/>
        </p:nvPicPr>
        <p:blipFill>
          <a:blip r:embed="rId1"/>
          <a:stretch/>
        </p:blipFill>
        <p:spPr>
          <a:xfrm>
            <a:off x="5214960" y="1500120"/>
            <a:ext cx="2857320" cy="45007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800640" y="1500120"/>
            <a:ext cx="36975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Однолетние прутья и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ланка с отверст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(шаблон для плете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го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укурузные лист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ухоцв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олосья пше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ерец горь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авровый ли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емена  фас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лоска тк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ерамические горшо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5643720" y="1643040"/>
            <a:ext cx="2428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Шпаг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 или сека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лей П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ермок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усач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лоскогуб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сканирование0006.jpg"/>
          <p:cNvPicPr/>
          <p:nvPr/>
        </p:nvPicPr>
        <p:blipFill>
          <a:blip r:embed="rId1"/>
          <a:stretch/>
        </p:blipFill>
        <p:spPr>
          <a:xfrm>
            <a:off x="857160" y="1214280"/>
            <a:ext cx="3565440" cy="342900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Прямоугольник 7"/>
          <p:cNvSpPr/>
          <p:nvPr/>
        </p:nvSpPr>
        <p:spPr>
          <a:xfrm>
            <a:off x="4572000" y="1285920"/>
            <a:ext cx="3857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Домик можно сплести с помощью простейшего приспособления. В дощечке толщиной 15 мм по прямой линии просверлить 9 отверстий диаметром 3 – 4 мм на расстоянии 25 мм друг от друга. В них вставить комлями соответствующего размера прутья высотой 400 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сканирование0006.jpg"/>
          <p:cNvPicPr/>
          <p:nvPr/>
        </p:nvPicPr>
        <p:blipFill>
          <a:blip r:embed="rId1"/>
          <a:stretch/>
        </p:blipFill>
        <p:spPr>
          <a:xfrm>
            <a:off x="1000080" y="928800"/>
            <a:ext cx="2387520" cy="25714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7" name="Прямоугольник 7"/>
          <p:cNvSpPr/>
          <p:nvPr/>
        </p:nvSpPr>
        <p:spPr>
          <a:xfrm>
            <a:off x="3714840" y="107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ад дощечкой – шаблоном проплести тонкими прутьями через один стояк 10 рядов. Так в старину плели плет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5"/>
          <p:cNvGrpSpPr/>
          <p:nvPr/>
        </p:nvGrpSpPr>
        <p:grpSpPr>
          <a:xfrm>
            <a:off x="714240" y="3357720"/>
            <a:ext cx="7358040" cy="2566080"/>
            <a:chOff x="714240" y="3357720"/>
            <a:chExt cx="7358040" cy="2566080"/>
          </a:xfrm>
        </p:grpSpPr>
        <p:pic>
          <p:nvPicPr>
            <p:cNvPr id="109" name="Рисунок 3" descr="сканирование0006.jpg"/>
            <p:cNvPicPr/>
            <p:nvPr/>
          </p:nvPicPr>
          <p:blipFill>
            <a:blip r:embed="rId2"/>
            <a:stretch/>
          </p:blipFill>
          <p:spPr>
            <a:xfrm>
              <a:off x="5715000" y="3357720"/>
              <a:ext cx="2357280" cy="253836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10" name="Прямоугольник 8"/>
            <p:cNvSpPr/>
            <p:nvPr/>
          </p:nvSpPr>
          <p:spPr>
            <a:xfrm>
              <a:off x="714240" y="4000320"/>
              <a:ext cx="4714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Отступить слева от стояка, а справа один, продолжить плести домик. Чтобы выплести проём для окна, следует оплести слева 3 стойки и справа – 2. Так сплести 20 рядов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5" descr="сканирование0006.jpg"/>
          <p:cNvPicPr/>
          <p:nvPr/>
        </p:nvPicPr>
        <p:blipFill>
          <a:blip r:embed="rId1"/>
          <a:stretch/>
        </p:blipFill>
        <p:spPr>
          <a:xfrm>
            <a:off x="5429160" y="3857760"/>
            <a:ext cx="1928880" cy="18079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2" name="Рисунок 6" descr="сканирование0006.jpg"/>
          <p:cNvPicPr/>
          <p:nvPr/>
        </p:nvPicPr>
        <p:blipFill>
          <a:blip r:embed="rId2"/>
          <a:stretch/>
        </p:blipFill>
        <p:spPr>
          <a:xfrm>
            <a:off x="1000080" y="1071720"/>
            <a:ext cx="3000600" cy="43210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Прямоугольник 7"/>
          <p:cNvSpPr/>
          <p:nvPr/>
        </p:nvSpPr>
        <p:spPr>
          <a:xfrm>
            <a:off x="4000680" y="1714680"/>
            <a:ext cx="43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ледующие 10 рядов плетения над проёмом завершат наш д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сканирование0007.jpg"/>
          <p:cNvPicPr/>
          <p:nvPr/>
        </p:nvPicPr>
        <p:blipFill>
          <a:blip r:embed="rId1"/>
          <a:stretch/>
        </p:blipFill>
        <p:spPr>
          <a:xfrm>
            <a:off x="1143000" y="857160"/>
            <a:ext cx="2143080" cy="34480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3357720" y="107172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Оставшиеся стойки в местах изгиба обжать круглогубцами и связать вместе, формируя крышу. Над плетнём стойки укорот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Группа 7"/>
          <p:cNvGrpSpPr/>
          <p:nvPr/>
        </p:nvGrpSpPr>
        <p:grpSpPr>
          <a:xfrm>
            <a:off x="928800" y="3857760"/>
            <a:ext cx="7061040" cy="2000160"/>
            <a:chOff x="928800" y="3857760"/>
            <a:chExt cx="7061040" cy="2000160"/>
          </a:xfrm>
        </p:grpSpPr>
        <p:pic>
          <p:nvPicPr>
            <p:cNvPr id="117" name="Рисунок 3" descr="сканирование0007.jpg"/>
            <p:cNvPicPr/>
            <p:nvPr/>
          </p:nvPicPr>
          <p:blipFill>
            <a:blip r:embed="rId2"/>
            <a:stretch/>
          </p:blipFill>
          <p:spPr>
            <a:xfrm>
              <a:off x="5357880" y="3857760"/>
              <a:ext cx="2631960" cy="200016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18" name="Прямоугольник 6"/>
            <p:cNvSpPr/>
            <p:nvPr/>
          </p:nvSpPr>
          <p:spPr>
            <a:xfrm>
              <a:off x="928800" y="4500720"/>
              <a:ext cx="457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Крышу выполнить из расчёсанного рогоза, связанного пучком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969280" y="92880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Выберите  ур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2" descr="сканирование000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1643040"/>
            <a:ext cx="1357200" cy="20764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7" name="Рисунок 3" descr="сканирование000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14840" y="1643040"/>
            <a:ext cx="1500120" cy="21430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8" name="Рисунок 4" descr="сканирование0011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72120" y="4214880"/>
            <a:ext cx="1576440" cy="16048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9" name="Группа 5"/>
          <p:cNvGrpSpPr/>
          <p:nvPr/>
        </p:nvGrpSpPr>
        <p:grpSpPr>
          <a:xfrm>
            <a:off x="3286080" y="4001040"/>
            <a:ext cx="2207160" cy="2021400"/>
            <a:chOff x="3286080" y="4001040"/>
            <a:chExt cx="2207160" cy="2021400"/>
          </a:xfrm>
        </p:grpSpPr>
        <p:pic>
          <p:nvPicPr>
            <p:cNvPr id="50" name="Рисунок 6" descr="сканирование0012.jpg"/>
            <p:cNvPicPr/>
            <p:nvPr/>
          </p:nvPicPr>
          <p:blipFill>
            <a:blip r:embed="rId7"/>
            <a:stretch/>
          </p:blipFill>
          <p:spPr>
            <a:xfrm rot="2988000">
              <a:off x="4032360" y="3868560"/>
              <a:ext cx="714600" cy="2286000"/>
            </a:xfrm>
            <a:prstGeom prst="rect">
              <a:avLst/>
            </a:prstGeom>
            <a:ln w="9360">
              <a:solidFill>
                <a:srgbClr val="558ed5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51" name="Прямоугольник 7"/>
            <p:cNvSpPr/>
            <p:nvPr/>
          </p:nvSpPr>
          <p:spPr>
            <a:xfrm rot="2988000">
              <a:off x="3612240" y="4876560"/>
              <a:ext cx="172440" cy="72720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Рисунок 8" descr="сканирование0015.jpg"/>
          <p:cNvPicPr/>
          <p:nvPr/>
        </p:nvPicPr>
        <p:blipFill>
          <a:blip r:embed="rId8"/>
          <a:stretch/>
        </p:blipFill>
        <p:spPr>
          <a:xfrm>
            <a:off x="1214280" y="4143240"/>
            <a:ext cx="1571760" cy="157176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Рисунок 9" descr="сканирование0019.jpg"/>
          <p:cNvPicPr/>
          <p:nvPr/>
        </p:nvPicPr>
        <p:blipFill>
          <a:blip r:embed="rId9"/>
          <a:stretch/>
        </p:blipFill>
        <p:spPr>
          <a:xfrm>
            <a:off x="6143760" y="1571760"/>
            <a:ext cx="1500120" cy="221436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2" descr="сканирование0007.jpg"/>
          <p:cNvPicPr/>
          <p:nvPr/>
        </p:nvPicPr>
        <p:blipFill>
          <a:blip r:embed="rId1"/>
          <a:stretch/>
        </p:blipFill>
        <p:spPr>
          <a:xfrm>
            <a:off x="1000080" y="1000080"/>
            <a:ext cx="2071800" cy="22366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0" name="Прямоугольник 5"/>
          <p:cNvSpPr/>
          <p:nvPr/>
        </p:nvSpPr>
        <p:spPr>
          <a:xfrm>
            <a:off x="3357720" y="114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озможен другой вариант крыши. В этом случае она будет состоять из нескольких ярусов, наложенных друг на др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7"/>
          <p:cNvGrpSpPr/>
          <p:nvPr/>
        </p:nvGrpSpPr>
        <p:grpSpPr>
          <a:xfrm>
            <a:off x="714240" y="3071880"/>
            <a:ext cx="7215480" cy="2982960"/>
            <a:chOff x="714240" y="3071880"/>
            <a:chExt cx="7215480" cy="2982960"/>
          </a:xfrm>
        </p:grpSpPr>
        <p:pic>
          <p:nvPicPr>
            <p:cNvPr id="122" name="Рисунок 4" descr="сканирование0007.jpg"/>
            <p:cNvPicPr/>
            <p:nvPr/>
          </p:nvPicPr>
          <p:blipFill>
            <a:blip r:embed="rId2"/>
            <a:stretch/>
          </p:blipFill>
          <p:spPr>
            <a:xfrm>
              <a:off x="5857920" y="3071880"/>
              <a:ext cx="2071800" cy="298296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23" name="Прямоугольник 6"/>
            <p:cNvSpPr/>
            <p:nvPr/>
          </p:nvSpPr>
          <p:spPr>
            <a:xfrm>
              <a:off x="714240" y="4572000"/>
              <a:ext cx="457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Соединить плетение с крышей и оставить для просушки, не извлекая изделие из шаблона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сканирование0008.jpg"/>
          <p:cNvPicPr/>
          <p:nvPr/>
        </p:nvPicPr>
        <p:blipFill>
          <a:blip r:embed="rId1"/>
          <a:stretch/>
        </p:blipFill>
        <p:spPr>
          <a:xfrm>
            <a:off x="1000080" y="1214280"/>
            <a:ext cx="2381400" cy="35719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5" name="Прямоугольник 3"/>
          <p:cNvSpPr/>
          <p:nvPr/>
        </p:nvSpPr>
        <p:spPr>
          <a:xfrm>
            <a:off x="3643200" y="1000080"/>
            <a:ext cx="4714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ка плетень подсыхает, модно заняться фигур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ыполнить фигурки помогут шаблоны, приготовленные заране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аскрасить и расположить их на домике можно воспользовавшись фотографией либо на своё усмотр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олёное тесто: 2 части муки, 2 части мелкой соли, 1 часть в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4071960" y="1357200"/>
            <a:ext cx="407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оединить все части композиции можно с помощью термопистолета или клея П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4" descr="сканирование0002.jpg"/>
          <p:cNvPicPr/>
          <p:nvPr/>
        </p:nvPicPr>
        <p:blipFill>
          <a:blip r:embed="rId1"/>
          <a:stretch/>
        </p:blipFill>
        <p:spPr>
          <a:xfrm>
            <a:off x="1214280" y="1214280"/>
            <a:ext cx="2857680" cy="45007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28" name="Прямоугольный треугольник 5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129" name="Прямоугольный треугольник 5" descr=""/>
            <p:cNvPicPr/>
            <p:nvPr/>
          </p:nvPicPr>
          <p:blipFill>
            <a:blip r:embed="rId2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747160" y="7858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Сплетение аром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85880" y="1643040"/>
            <a:ext cx="4000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олько представьте – вы приходите домой и погружаетесь в восхитительный аромат корицы, аниса, гвоздики! Нежные пряные запахи навевают добрые, приятные воспоминания, создают в доме атмосферу волшеб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Рисунок 5" descr="сканирование0011.jpg"/>
          <p:cNvPicPr/>
          <p:nvPr/>
        </p:nvPicPr>
        <p:blipFill>
          <a:blip r:embed="rId1"/>
          <a:stretch/>
        </p:blipFill>
        <p:spPr>
          <a:xfrm>
            <a:off x="4929120" y="1714680"/>
            <a:ext cx="3225960" cy="32860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829800" y="1500120"/>
            <a:ext cx="33840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ольцо из лимонн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итай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етки лав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алочки кор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Звёздочки ан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Горький пер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олосья пше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Декоративный шн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Ёлочные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5357880" y="1643040"/>
            <a:ext cx="2714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Флористическая провол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Шпаг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онкая нить золотистого ц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уса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екат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2" descr="сканирование0009.jpg"/>
          <p:cNvPicPr/>
          <p:nvPr/>
        </p:nvPicPr>
        <p:blipFill>
          <a:blip r:embed="rId1"/>
          <a:stretch/>
        </p:blipFill>
        <p:spPr>
          <a:xfrm>
            <a:off x="857160" y="928800"/>
            <a:ext cx="3300480" cy="250020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9" name="Прямоугольник 5"/>
          <p:cNvSpPr/>
          <p:nvPr/>
        </p:nvSpPr>
        <p:spPr>
          <a:xfrm>
            <a:off x="4000680" y="1214280"/>
            <a:ext cx="435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плести кольцо из лозы лимоника, винограда или ивы. Для этого взять пучок прутьев и завязать их в простой узе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Группа 7"/>
          <p:cNvGrpSpPr/>
          <p:nvPr/>
        </p:nvGrpSpPr>
        <p:grpSpPr>
          <a:xfrm>
            <a:off x="1000080" y="3714840"/>
            <a:ext cx="7272360" cy="2214360"/>
            <a:chOff x="1000080" y="3714840"/>
            <a:chExt cx="7272360" cy="2214360"/>
          </a:xfrm>
        </p:grpSpPr>
        <p:pic>
          <p:nvPicPr>
            <p:cNvPr id="141" name="Рисунок 3" descr="сканирование0009.jpg"/>
            <p:cNvPicPr/>
            <p:nvPr/>
          </p:nvPicPr>
          <p:blipFill>
            <a:blip r:embed="rId2"/>
            <a:stretch/>
          </p:blipFill>
          <p:spPr>
            <a:xfrm>
              <a:off x="4687200" y="3714840"/>
              <a:ext cx="3585240" cy="221436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42" name="Прямоугольник 6"/>
            <p:cNvSpPr/>
            <p:nvPr/>
          </p:nvSpPr>
          <p:spPr>
            <a:xfrm>
              <a:off x="1000080" y="4071960"/>
              <a:ext cx="3428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Затянуть узел настолько, чтобы образовалось кольцо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сканирование0009.jpg"/>
          <p:cNvPicPr/>
          <p:nvPr/>
        </p:nvPicPr>
        <p:blipFill>
          <a:blip r:embed="rId1"/>
          <a:stretch/>
        </p:blipFill>
        <p:spPr>
          <a:xfrm>
            <a:off x="1000080" y="1000080"/>
            <a:ext cx="2428920" cy="235764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4" name="Прямоугольник 2"/>
          <p:cNvSpPr/>
          <p:nvPr/>
        </p:nvSpPr>
        <p:spPr>
          <a:xfrm>
            <a:off x="3929040" y="1143000"/>
            <a:ext cx="4286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Оплести кольцо сначала одним, а  затем – в другом направлении – другим концом прутьев. Когда кольцо подсохнет, подрезать кон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Группа 7"/>
          <p:cNvGrpSpPr/>
          <p:nvPr/>
        </p:nvGrpSpPr>
        <p:grpSpPr>
          <a:xfrm>
            <a:off x="714240" y="3571920"/>
            <a:ext cx="7286760" cy="2286000"/>
            <a:chOff x="714240" y="3571920"/>
            <a:chExt cx="7286760" cy="2286000"/>
          </a:xfrm>
        </p:grpSpPr>
        <p:grpSp>
          <p:nvGrpSpPr>
            <p:cNvPr id="146" name="Группа 5"/>
            <p:cNvGrpSpPr/>
            <p:nvPr/>
          </p:nvGrpSpPr>
          <p:grpSpPr>
            <a:xfrm>
              <a:off x="4857840" y="3571920"/>
              <a:ext cx="3143160" cy="2286000"/>
              <a:chOff x="4857840" y="3571920"/>
              <a:chExt cx="3143160" cy="2286000"/>
            </a:xfrm>
          </p:grpSpPr>
          <p:pic>
            <p:nvPicPr>
              <p:cNvPr id="147" name="Рисунок 3" descr="сканирование0010.jpg"/>
              <p:cNvPicPr/>
              <p:nvPr/>
            </p:nvPicPr>
            <p:blipFill>
              <a:blip r:embed="rId2"/>
              <a:stretch/>
            </p:blipFill>
            <p:spPr>
              <a:xfrm>
                <a:off x="4857840" y="3571920"/>
                <a:ext cx="3143160" cy="2286000"/>
              </a:xfrm>
              <a:prstGeom prst="rect">
                <a:avLst/>
              </a:prstGeom>
              <a:ln w="28440">
                <a:solidFill>
                  <a:srgbClr val="1f497d"/>
                </a:solidFill>
                <a:miter/>
              </a:ln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</p:spPr>
          </p:pic>
          <p:sp>
            <p:nvSpPr>
              <p:cNvPr id="148" name="Прямоугольник 4"/>
              <p:cNvSpPr/>
              <p:nvPr/>
            </p:nvSpPr>
            <p:spPr>
              <a:xfrm>
                <a:off x="7429680" y="5143680"/>
                <a:ext cx="571320" cy="714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" name="Прямоугольник 6"/>
            <p:cNvSpPr/>
            <p:nvPr/>
          </p:nvSpPr>
          <p:spPr>
            <a:xfrm>
              <a:off x="714240" y="3571920"/>
              <a:ext cx="40719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Красные перчинки с хвостиками собрать по 5-7 штук и флористической проволокой закрепить на кольце. В середину перчиков поместить небольшой ёлочный шарик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2" descr="сканирование0010.jpg"/>
          <p:cNvPicPr/>
          <p:nvPr/>
        </p:nvPicPr>
        <p:blipFill>
          <a:blip r:embed="rId1"/>
          <a:stretch/>
        </p:blipFill>
        <p:spPr>
          <a:xfrm>
            <a:off x="857160" y="928800"/>
            <a:ext cx="2793960" cy="314316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1" name="Прямоугольник 3"/>
          <p:cNvSpPr/>
          <p:nvPr/>
        </p:nvSpPr>
        <p:spPr>
          <a:xfrm>
            <a:off x="3786120" y="92880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вязать букетики из свежих веточек лавра и последовательно прикрепить их к кольцу. Вязанки коричных палочек привязать золотистым шнуром. Украсить их звёздочками аниса, перевязанного золотистой нить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Группа 6"/>
          <p:cNvGrpSpPr/>
          <p:nvPr/>
        </p:nvGrpSpPr>
        <p:grpSpPr>
          <a:xfrm>
            <a:off x="1143000" y="3857760"/>
            <a:ext cx="6461280" cy="2288880"/>
            <a:chOff x="1143000" y="3857760"/>
            <a:chExt cx="6461280" cy="2288880"/>
          </a:xfrm>
        </p:grpSpPr>
        <p:pic>
          <p:nvPicPr>
            <p:cNvPr id="153" name="Рисунок 4" descr="сканирование0011.jpg"/>
            <p:cNvPicPr/>
            <p:nvPr/>
          </p:nvPicPr>
          <p:blipFill>
            <a:blip r:embed="rId2"/>
            <a:stretch/>
          </p:blipFill>
          <p:spPr>
            <a:xfrm>
              <a:off x="5357880" y="3857760"/>
              <a:ext cx="2246400" cy="228888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54" name="Прямоугольник 5"/>
            <p:cNvSpPr/>
            <p:nvPr/>
          </p:nvSpPr>
          <p:spPr>
            <a:xfrm>
              <a:off x="1143000" y="4786560"/>
              <a:ext cx="378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Ароматный венок готов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Прямоугольный треугольник 7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156" name="Прямоугольный треугольник 7" descr=""/>
            <p:cNvPicPr/>
            <p:nvPr/>
          </p:nvPicPr>
          <p:blipFill>
            <a:blip r:embed="rId3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2789640" y="785880"/>
            <a:ext cx="42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Коса – девичья  кра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928800" y="1714680"/>
            <a:ext cx="4000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аждая женщина умеет плести косу. Даже если у неё модная стрижка. Роскошная нарядная коса всегда была символом счастья и благополуч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Группа 7"/>
          <p:cNvGrpSpPr/>
          <p:nvPr/>
        </p:nvGrpSpPr>
        <p:grpSpPr>
          <a:xfrm>
            <a:off x="5429160" y="1357200"/>
            <a:ext cx="1714680" cy="4714920"/>
            <a:chOff x="5429160" y="1357200"/>
            <a:chExt cx="1714680" cy="4714920"/>
          </a:xfrm>
        </p:grpSpPr>
        <p:pic>
          <p:nvPicPr>
            <p:cNvPr id="161" name="Рисунок 4" descr="сканирование0012.jpg"/>
            <p:cNvPicPr/>
            <p:nvPr/>
          </p:nvPicPr>
          <p:blipFill>
            <a:blip r:embed="rId1"/>
            <a:stretch/>
          </p:blipFill>
          <p:spPr>
            <a:xfrm>
              <a:off x="5429160" y="1357200"/>
              <a:ext cx="1714680" cy="4714920"/>
            </a:xfrm>
            <a:prstGeom prst="rect">
              <a:avLst/>
            </a:prstGeom>
            <a:ln w="9360">
              <a:solidFill>
                <a:srgbClr val="558ed5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62" name="Прямоугольник 6"/>
            <p:cNvSpPr/>
            <p:nvPr/>
          </p:nvSpPr>
          <p:spPr>
            <a:xfrm>
              <a:off x="5429160" y="4357800"/>
              <a:ext cx="414360" cy="1500120"/>
            </a:xfrm>
            <a:prstGeom prst="rect">
              <a:avLst/>
            </a:prstGeom>
            <a:solidFill>
              <a:srgbClr val="dce6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797760" y="1714680"/>
            <a:ext cx="3013200" cy="22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го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истья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Цветы гелихриз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Цветы пиж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о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5357880" y="16430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ермоклей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асчё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3589560" y="8571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Рома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85880" y="1643040"/>
            <a:ext cx="4214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машки – это маленькие солнышки, которые трогательно улыбаются нам летним днём. Как часто  мы доверяем им свои секреты и, срывая лепестки, гадаем: «Любит, не любит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делаем из семян букет цветов. Похожих на полевые ромашки. Он будет радовать нас в любую погоду весной, осенью, летом и зим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сканирование0005.jpg"/>
          <p:cNvPicPr/>
          <p:nvPr/>
        </p:nvPicPr>
        <p:blipFill>
          <a:blip r:embed="rId1"/>
          <a:stretch/>
        </p:blipFill>
        <p:spPr>
          <a:xfrm>
            <a:off x="5286240" y="1714680"/>
            <a:ext cx="2643480" cy="40417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2" descr="сканирование0013.jpg"/>
          <p:cNvPicPr/>
          <p:nvPr/>
        </p:nvPicPr>
        <p:blipFill>
          <a:blip r:embed="rId1"/>
          <a:stretch/>
        </p:blipFill>
        <p:spPr>
          <a:xfrm>
            <a:off x="1285920" y="857160"/>
            <a:ext cx="1571760" cy="238464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8" name="Прямоугольник 4"/>
          <p:cNvSpPr/>
          <p:nvPr/>
        </p:nvSpPr>
        <p:spPr>
          <a:xfrm>
            <a:off x="3571920" y="10000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плести косу из пучка расчёсанного рогоза, закрепив его на неподвижной основе (спинке стула). К готовой косе привязать петельку и повесить для прос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Группа 6"/>
          <p:cNvGrpSpPr/>
          <p:nvPr/>
        </p:nvGrpSpPr>
        <p:grpSpPr>
          <a:xfrm>
            <a:off x="714240" y="3429000"/>
            <a:ext cx="7574040" cy="2838240"/>
            <a:chOff x="714240" y="3429000"/>
            <a:chExt cx="7574040" cy="2838240"/>
          </a:xfrm>
        </p:grpSpPr>
        <p:pic>
          <p:nvPicPr>
            <p:cNvPr id="170" name="Рисунок 3" descr="сканирование0013.jpg"/>
            <p:cNvPicPr/>
            <p:nvPr/>
          </p:nvPicPr>
          <p:blipFill>
            <a:blip r:embed="rId2"/>
            <a:stretch/>
          </p:blipFill>
          <p:spPr>
            <a:xfrm>
              <a:off x="5357160" y="4071960"/>
              <a:ext cx="2931120" cy="1714680"/>
            </a:xfrm>
            <a:prstGeom prst="rect">
              <a:avLst/>
            </a:prstGeom>
            <a:ln w="28440">
              <a:solidFill>
                <a:srgbClr val="376092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71" name="Прямоугольник 5"/>
            <p:cNvSpPr/>
            <p:nvPr/>
          </p:nvSpPr>
          <p:spPr>
            <a:xfrm>
              <a:off x="714240" y="3429000"/>
              <a:ext cx="45716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Из листьев кукурузы завязать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7 бантиков. Из цветков гелихризума, пижмы и мха составить маленькие букетики и прочно связать их как можно ближе к головкам цветов.  Стебли обрезать под перевязкой. Разложить для просушки головками вверх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2" descr="сканирование0014.jpg"/>
          <p:cNvPicPr/>
          <p:nvPr/>
        </p:nvPicPr>
        <p:blipFill>
          <a:blip r:embed="rId1"/>
          <a:stretch/>
        </p:blipFill>
        <p:spPr>
          <a:xfrm>
            <a:off x="1000080" y="928800"/>
            <a:ext cx="1828800" cy="457200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3" name="Рисунок 3" descr="сканирование0014.jpg"/>
          <p:cNvPicPr/>
          <p:nvPr/>
        </p:nvPicPr>
        <p:blipFill>
          <a:blip r:embed="rId2"/>
          <a:stretch/>
        </p:blipFill>
        <p:spPr>
          <a:xfrm>
            <a:off x="2643120" y="3071880"/>
            <a:ext cx="1785960" cy="307188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4" name="Прямоугольник 4"/>
          <p:cNvSpPr/>
          <p:nvPr/>
        </p:nvSpPr>
        <p:spPr>
          <a:xfrm>
            <a:off x="3286080" y="12859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 косе привязать бантики на равном расстоянии друг от друга. В центр бантиков приклеить букет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Прямоугольный треугольник 5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176" name="Прямоугольный треугольник 5" descr=""/>
            <p:cNvPicPr/>
            <p:nvPr/>
          </p:nvPicPr>
          <p:blipFill>
            <a:blip r:embed="rId3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2829960" y="78588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Птица - счасть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714240" y="1357200"/>
            <a:ext cx="4000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Чем больше мы дарим счастья другим, тем больше его становится у нас. Распахнём свои сердца навстречу творчеству и впустим в свою жизнь волшебную птицу. Прикосновением своих рук мы переплетём чудесные запахи весны и волшебную силу любви. У каждого получится своя, неповторимая птица счаст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Рисунок 7" descr="сканирование0015.jpg"/>
          <p:cNvPicPr/>
          <p:nvPr/>
        </p:nvPicPr>
        <p:blipFill>
          <a:blip r:embed="rId1"/>
          <a:stretch/>
        </p:blipFill>
        <p:spPr>
          <a:xfrm>
            <a:off x="5000760" y="1571760"/>
            <a:ext cx="3146400" cy="271440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785880" y="1714680"/>
            <a:ext cx="407196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левые цветы: по 3 пучка - душиц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- песчани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- пижм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- тысячелистник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- полы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истья рог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етёлки камы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5357880" y="1643040"/>
            <a:ext cx="27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Шпаг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1" descr="сканирование0016.jpg"/>
          <p:cNvPicPr/>
          <p:nvPr/>
        </p:nvPicPr>
        <p:blipFill>
          <a:blip r:embed="rId1"/>
          <a:stretch/>
        </p:blipFill>
        <p:spPr>
          <a:xfrm>
            <a:off x="928800" y="1071720"/>
            <a:ext cx="2214360" cy="300024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6" name="Прямоугольник 3"/>
          <p:cNvSpPr/>
          <p:nvPr/>
        </p:nvSpPr>
        <p:spPr>
          <a:xfrm>
            <a:off x="3643200" y="1071720"/>
            <a:ext cx="45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Для туловища птицы взя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6 – 8 метёлок камыша, плотно связать посередине шпагатом. Со стороны хвоста птицы метёлки развернуть веером, закрепить стебли, оплетая рогоз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рылья выполнить аналогично. Затем выложить их в одну линию навстречу друг другу внахлёст и связ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уловище и крылья сложить крестовиной и скрепить между собой рогозом, поочерёдно обматывая её по часовой стрел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сканирование0016.jpg"/>
          <p:cNvPicPr/>
          <p:nvPr/>
        </p:nvPicPr>
        <p:blipFill>
          <a:blip r:embed="rId1"/>
          <a:stretch/>
        </p:blipFill>
        <p:spPr>
          <a:xfrm>
            <a:off x="928800" y="928800"/>
            <a:ext cx="3643200" cy="242892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88" name="Прямоугольник 2"/>
          <p:cNvSpPr/>
          <p:nvPr/>
        </p:nvSpPr>
        <p:spPr>
          <a:xfrm>
            <a:off x="4786200" y="11430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формировать клюв птицы, подрезав стеб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Группа 5"/>
          <p:cNvGrpSpPr/>
          <p:nvPr/>
        </p:nvGrpSpPr>
        <p:grpSpPr>
          <a:xfrm>
            <a:off x="785880" y="3929040"/>
            <a:ext cx="7358040" cy="2071800"/>
            <a:chOff x="785880" y="3929040"/>
            <a:chExt cx="7358040" cy="2071800"/>
          </a:xfrm>
        </p:grpSpPr>
        <p:pic>
          <p:nvPicPr>
            <p:cNvPr id="190" name="Рисунок 3" descr="сканирование0017.jpg"/>
            <p:cNvPicPr/>
            <p:nvPr/>
          </p:nvPicPr>
          <p:blipFill>
            <a:blip r:embed="rId2"/>
            <a:stretch/>
          </p:blipFill>
          <p:spPr>
            <a:xfrm>
              <a:off x="4357800" y="3929040"/>
              <a:ext cx="3786120" cy="2071800"/>
            </a:xfrm>
            <a:prstGeom prst="rect">
              <a:avLst/>
            </a:prstGeom>
            <a:ln w="28440">
              <a:solidFill>
                <a:srgbClr val="376092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191" name="Прямоугольник 4"/>
            <p:cNvSpPr/>
            <p:nvPr/>
          </p:nvSpPr>
          <p:spPr>
            <a:xfrm>
              <a:off x="785880" y="4286160"/>
              <a:ext cx="3429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Оформить небольшим букетиком голову птицы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2" descr="сканирование0017.jpg"/>
          <p:cNvPicPr/>
          <p:nvPr/>
        </p:nvPicPr>
        <p:blipFill>
          <a:blip r:embed="rId1"/>
          <a:stretch/>
        </p:blipFill>
        <p:spPr>
          <a:xfrm>
            <a:off x="857160" y="1000080"/>
            <a:ext cx="3500640" cy="321480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93" name="Прямоугольник 3"/>
          <p:cNvSpPr/>
          <p:nvPr/>
        </p:nvSpPr>
        <p:spPr>
          <a:xfrm>
            <a:off x="4500720" y="928800"/>
            <a:ext cx="3857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оставить 3 букета, подобрав по цвету, сложив слоями. Первый – полынь, следующий – песчаник, дальше – душица, тысячелистник, пижма. Можно подобрать другое сочетание цветов. Букеты аккуратно привязать к каркасу рогоз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1857240" y="4714920"/>
            <a:ext cx="50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Georgia"/>
              </a:rPr>
              <a:t>Птица счастья в дом впорхнула, и своим крылом взмахну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Georgia"/>
              </a:rPr>
              <a:t>Сразу в доме радость, см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Georgia"/>
              </a:rPr>
              <a:t>И во всех делах успех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Прямоугольный треугольник 5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196" name="Прямоугольный треугольник 5" descr=""/>
            <p:cNvPicPr/>
            <p:nvPr/>
          </p:nvPicPr>
          <p:blipFill>
            <a:blip r:embed="rId2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2818440" y="785880"/>
            <a:ext cx="30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Ёлки - метёл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714240" y="1357200"/>
            <a:ext cx="4000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вый год – это трепетное воспоминание детства и новогодняя ёлка. Ведь именно под неё Дед Мороз кладёт подарки. Но так жалко ради своего удовольствия губить живую красавицу! Проявив немного терпения и фантазии, создадим стильную ёлку – метёлку. Ваш дом наполнится праздничным настро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4" descr="сканирование0002.jpg"/>
          <p:cNvPicPr/>
          <p:nvPr/>
        </p:nvPicPr>
        <p:blipFill>
          <a:blip r:embed="rId1"/>
          <a:stretch/>
        </p:blipFill>
        <p:spPr>
          <a:xfrm>
            <a:off x="5214960" y="1214280"/>
            <a:ext cx="2500200" cy="473400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785880" y="1714680"/>
            <a:ext cx="40719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го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ружки из початков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Бантики из листьев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тручка акации бе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Жёл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Шишки листвен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осточки перс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расные я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5357880" y="1643040"/>
            <a:ext cx="271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Шпаг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ермок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асчё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4" descr="сканирование0018.jpg"/>
          <p:cNvPicPr/>
          <p:nvPr/>
        </p:nvPicPr>
        <p:blipFill>
          <a:blip r:embed="rId1"/>
          <a:stretch/>
        </p:blipFill>
        <p:spPr>
          <a:xfrm>
            <a:off x="928800" y="1071720"/>
            <a:ext cx="2381040" cy="357156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6" name="Прямоугольник 6"/>
          <p:cNvSpPr/>
          <p:nvPr/>
        </p:nvSpPr>
        <p:spPr>
          <a:xfrm>
            <a:off x="3429000" y="1214280"/>
            <a:ext cx="4929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дготовленный рогоз нарезать на одинаковые отрезки, тщательно расчесать металлической расчёской и разделить на 4 пучка. Для стволика будущей ёлочки взять палочку или отрезок с нижней части рогоза. Первый пучок рогоза стянуть посередине шпагатом вместе со стволи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885680" y="78588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819000" y="1500120"/>
            <a:ext cx="33501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го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и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истья барви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истья лав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ружочки кукуру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оробочки м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емена м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емена ты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Фасоль цвет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Стручки акации бе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рылышки ясе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Орешки ли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елкие шиш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5643720" y="1643040"/>
            <a:ext cx="2428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о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ам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Лист ДВ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Мешков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лей П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Термок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Кисть для кле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516920" y="78588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Georgia"/>
              </a:rPr>
              <a:t>и  инструме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сканирование0018.jpg"/>
          <p:cNvPicPr/>
          <p:nvPr/>
        </p:nvPicPr>
        <p:blipFill>
          <a:blip r:embed="rId1"/>
          <a:stretch/>
        </p:blipFill>
        <p:spPr>
          <a:xfrm>
            <a:off x="1143000" y="857160"/>
            <a:ext cx="2000160" cy="290196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08" name="Прямоугольник 2"/>
          <p:cNvSpPr/>
          <p:nvPr/>
        </p:nvSpPr>
        <p:spPr>
          <a:xfrm>
            <a:off x="3500280" y="107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Рогоз с верхней части пучка опустить вниз, формируя первый ярус ёлки. Верхушку перевязать шпага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Группа 5"/>
          <p:cNvGrpSpPr/>
          <p:nvPr/>
        </p:nvGrpSpPr>
        <p:grpSpPr>
          <a:xfrm>
            <a:off x="1214280" y="2928960"/>
            <a:ext cx="6786720" cy="2928960"/>
            <a:chOff x="1214280" y="2928960"/>
            <a:chExt cx="6786720" cy="2928960"/>
          </a:xfrm>
        </p:grpSpPr>
        <p:pic>
          <p:nvPicPr>
            <p:cNvPr id="210" name="Рисунок 3" descr="сканирование0018.jpg"/>
            <p:cNvPicPr/>
            <p:nvPr/>
          </p:nvPicPr>
          <p:blipFill>
            <a:blip r:embed="rId2"/>
            <a:stretch/>
          </p:blipFill>
          <p:spPr>
            <a:xfrm>
              <a:off x="6143760" y="2928960"/>
              <a:ext cx="1857240" cy="2928960"/>
            </a:xfrm>
            <a:prstGeom prst="rect">
              <a:avLst/>
            </a:prstGeom>
            <a:ln w="28440">
              <a:solidFill>
                <a:srgbClr val="376092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211" name="Прямоугольник 4"/>
            <p:cNvSpPr/>
            <p:nvPr/>
          </p:nvSpPr>
          <p:spPr>
            <a:xfrm>
              <a:off x="1214280" y="4214880"/>
              <a:ext cx="4572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Второй и третий ярусы выполнить так же, как и первый, отступив немного вверх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2" descr="сканирование0019.jpg"/>
          <p:cNvPicPr/>
          <p:nvPr/>
        </p:nvPicPr>
        <p:blipFill>
          <a:blip r:embed="rId1"/>
          <a:stretch/>
        </p:blipFill>
        <p:spPr>
          <a:xfrm>
            <a:off x="1071720" y="928800"/>
            <a:ext cx="1714320" cy="250020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3" name="Прямоугольник 3"/>
          <p:cNvSpPr/>
          <p:nvPr/>
        </p:nvSpPr>
        <p:spPr>
          <a:xfrm>
            <a:off x="3571920" y="1071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Четвёртый пучок разрезать пополам и привязать к верхушке ствола, формируя четвёртый яру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Группа 6"/>
          <p:cNvGrpSpPr/>
          <p:nvPr/>
        </p:nvGrpSpPr>
        <p:grpSpPr>
          <a:xfrm>
            <a:off x="1000080" y="2857680"/>
            <a:ext cx="6858000" cy="3071520"/>
            <a:chOff x="1000080" y="2857680"/>
            <a:chExt cx="6858000" cy="3071520"/>
          </a:xfrm>
        </p:grpSpPr>
        <p:sp>
          <p:nvSpPr>
            <p:cNvPr id="215" name="Прямоугольник 4"/>
            <p:cNvSpPr/>
            <p:nvPr/>
          </p:nvSpPr>
          <p:spPr>
            <a:xfrm>
              <a:off x="1000080" y="45007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Заострить верхушку, подрезав её ножом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6" name="Рисунок 5" descr="сканирование0019.jpg"/>
            <p:cNvPicPr/>
            <p:nvPr/>
          </p:nvPicPr>
          <p:blipFill>
            <a:blip r:embed="rId2"/>
            <a:stretch/>
          </p:blipFill>
          <p:spPr>
            <a:xfrm>
              <a:off x="6072120" y="2857680"/>
              <a:ext cx="1785960" cy="3071520"/>
            </a:xfrm>
            <a:prstGeom prst="rect">
              <a:avLst/>
            </a:prstGeom>
            <a:ln w="28440">
              <a:solidFill>
                <a:srgbClr val="376092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3" descr="сканирование0019.jpg"/>
          <p:cNvPicPr/>
          <p:nvPr/>
        </p:nvPicPr>
        <p:blipFill>
          <a:blip r:embed="rId1"/>
          <a:stretch/>
        </p:blipFill>
        <p:spPr>
          <a:xfrm>
            <a:off x="1000080" y="928800"/>
            <a:ext cx="2071800" cy="322236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8" name="Прямоугольник 4"/>
          <p:cNvSpPr/>
          <p:nvPr/>
        </p:nvSpPr>
        <p:spPr>
          <a:xfrm>
            <a:off x="3214800" y="1143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дравнять края, придавая форму ёлки. Привязать петельку и повесить для просуш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785880" y="44290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Украсить готовую ёлочку кукурузными колечками и бантиками, стручками акации, прикрепив их термокле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ерхушку оформить звез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Прямоугольный треугольник 6"/>
          <p:cNvGrpSpPr/>
          <p:nvPr/>
        </p:nvGrpSpPr>
        <p:grpSpPr>
          <a:xfrm>
            <a:off x="7796160" y="5462640"/>
            <a:ext cx="1262160" cy="1309680"/>
            <a:chOff x="7796160" y="5462640"/>
            <a:chExt cx="1262160" cy="1309680"/>
          </a:xfrm>
        </p:grpSpPr>
        <p:pic>
          <p:nvPicPr>
            <p:cNvPr id="221" name="Прямоугольный треугольник 6" descr=""/>
            <p:cNvPicPr/>
            <p:nvPr/>
          </p:nvPicPr>
          <p:blipFill>
            <a:blip r:embed="rId2"/>
            <a:stretch/>
          </p:blipFill>
          <p:spPr>
            <a:xfrm>
              <a:off x="7796160" y="5462640"/>
              <a:ext cx="1262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6200000">
              <a:off x="8415360" y="6109920"/>
              <a:ext cx="60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Рисунок 7" descr="сканирование0002.jpg"/>
          <p:cNvPicPr/>
          <p:nvPr/>
        </p:nvPicPr>
        <p:blipFill>
          <a:blip r:embed="rId3"/>
          <a:stretch/>
        </p:blipFill>
        <p:spPr>
          <a:xfrm>
            <a:off x="5786280" y="2928960"/>
            <a:ext cx="2214720" cy="3151080"/>
          </a:xfrm>
          <a:prstGeom prst="rect">
            <a:avLst/>
          </a:prstGeom>
          <a:ln w="28440">
            <a:solidFill>
              <a:srgbClr val="37609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2489400" y="78588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Georgia"/>
              </a:rPr>
              <a:t>Использованные ресур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850320" y="1285920"/>
            <a:ext cx="75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7375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Georgia"/>
              </a:rPr>
              <a:t>Хоменко В., Никитюк Г. «Аппликации, картины и панн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Georgia"/>
              </a:rPr>
              <a:t>из природных материалов»,  Белгород: ООО «Книжный кл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Georgia"/>
              </a:rPr>
              <a:t>«Клуб семейного досуга»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4071960" y="1000080"/>
            <a:ext cx="400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Взять лист ДВП нужного размера. Нанести на него слой клея. Приклеить мешковину, разглаживая от середины к кра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сканирование0001.jpg"/>
          <p:cNvPicPr/>
          <p:nvPr/>
        </p:nvPicPr>
        <p:blipFill>
          <a:blip r:embed="rId1"/>
          <a:stretch/>
        </p:blipFill>
        <p:spPr>
          <a:xfrm>
            <a:off x="1143000" y="1000080"/>
            <a:ext cx="2286000" cy="271476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3" name="Группа 7"/>
          <p:cNvGrpSpPr/>
          <p:nvPr/>
        </p:nvGrpSpPr>
        <p:grpSpPr>
          <a:xfrm>
            <a:off x="928800" y="3143160"/>
            <a:ext cx="6786360" cy="2830680"/>
            <a:chOff x="928800" y="3143160"/>
            <a:chExt cx="6786360" cy="2830680"/>
          </a:xfrm>
        </p:grpSpPr>
        <p:pic>
          <p:nvPicPr>
            <p:cNvPr id="64" name="Рисунок 5" descr="сканирование0001.jpg"/>
            <p:cNvPicPr/>
            <p:nvPr/>
          </p:nvPicPr>
          <p:blipFill>
            <a:blip r:embed="rId2"/>
            <a:stretch/>
          </p:blipFill>
          <p:spPr>
            <a:xfrm>
              <a:off x="5429160" y="3143160"/>
              <a:ext cx="2286000" cy="283068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65" name="Прямоугольник 6"/>
            <p:cNvSpPr/>
            <p:nvPr/>
          </p:nvSpPr>
          <p:spPr>
            <a:xfrm>
              <a:off x="928800" y="4357800"/>
              <a:ext cx="3786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Обрезать края мешковины, выступающие за край основы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4143240" y="1143000"/>
            <a:ext cx="37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одготовленную основу вставить в рам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сканирование0001.jpg"/>
          <p:cNvPicPr/>
          <p:nvPr/>
        </p:nvPicPr>
        <p:blipFill>
          <a:blip r:embed="rId1"/>
          <a:stretch/>
        </p:blipFill>
        <p:spPr>
          <a:xfrm>
            <a:off x="1071720" y="928800"/>
            <a:ext cx="2286000" cy="300024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8" name="Группа 6"/>
          <p:cNvGrpSpPr/>
          <p:nvPr/>
        </p:nvGrpSpPr>
        <p:grpSpPr>
          <a:xfrm>
            <a:off x="1285920" y="2999880"/>
            <a:ext cx="6419520" cy="2971800"/>
            <a:chOff x="1285920" y="2999880"/>
            <a:chExt cx="6419520" cy="2971800"/>
          </a:xfrm>
        </p:grpSpPr>
        <p:pic>
          <p:nvPicPr>
            <p:cNvPr id="69" name="Рисунок 4" descr="сканирование0002.jpg"/>
            <p:cNvPicPr/>
            <p:nvPr/>
          </p:nvPicPr>
          <p:blipFill>
            <a:blip r:embed="rId2"/>
            <a:stretch/>
          </p:blipFill>
          <p:spPr>
            <a:xfrm rot="10800000">
              <a:off x="5643720" y="2999880"/>
              <a:ext cx="2061720" cy="297180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70" name="Прямоугольник 5"/>
            <p:cNvSpPr/>
            <p:nvPr/>
          </p:nvSpPr>
          <p:spPr>
            <a:xfrm>
              <a:off x="1285920" y="4429080"/>
              <a:ext cx="392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Скатать шарики из воска и воткнуть в них крылатки ясеня – астры готовы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сканирование0002.jpg"/>
          <p:cNvPicPr/>
          <p:nvPr/>
        </p:nvPicPr>
        <p:blipFill>
          <a:blip r:embed="rId1"/>
          <a:stretch/>
        </p:blipFill>
        <p:spPr>
          <a:xfrm>
            <a:off x="1000080" y="857160"/>
            <a:ext cx="1928880" cy="265428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2" name="Прямоугольник 4"/>
          <p:cNvSpPr/>
          <p:nvPr/>
        </p:nvSpPr>
        <p:spPr>
          <a:xfrm>
            <a:off x="3857760" y="1071720"/>
            <a:ext cx="400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На маленькие кружочки наклеить по 6 семян тыквы в виде лепестков ромашки, в серединку вклеить фасо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Группа 6"/>
          <p:cNvGrpSpPr/>
          <p:nvPr/>
        </p:nvGrpSpPr>
        <p:grpSpPr>
          <a:xfrm>
            <a:off x="928800" y="2857320"/>
            <a:ext cx="7143480" cy="3319200"/>
            <a:chOff x="928800" y="2857320"/>
            <a:chExt cx="7143480" cy="3319200"/>
          </a:xfrm>
        </p:grpSpPr>
        <p:pic>
          <p:nvPicPr>
            <p:cNvPr id="74" name="Рисунок 3" descr="сканирование0002.jpg"/>
            <p:cNvPicPr/>
            <p:nvPr/>
          </p:nvPicPr>
          <p:blipFill>
            <a:blip r:embed="rId2"/>
            <a:stretch/>
          </p:blipFill>
          <p:spPr>
            <a:xfrm rot="10800000">
              <a:off x="5786280" y="2857320"/>
              <a:ext cx="2286000" cy="316332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75" name="Прямоугольник 5"/>
            <p:cNvSpPr/>
            <p:nvPr/>
          </p:nvSpPr>
          <p:spPr>
            <a:xfrm>
              <a:off x="928800" y="3643200"/>
              <a:ext cx="457200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Цветы мальвы выполнить из кружочков кукурузы, сердцевина которых смазана клеем ПВА и щедро посыпана маком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Совет: разрезать на кружочки спелый початок нужно, пока он не высох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сканирование0003.jpg"/>
          <p:cNvPicPr/>
          <p:nvPr/>
        </p:nvPicPr>
        <p:blipFill>
          <a:blip r:embed="rId1"/>
          <a:stretch/>
        </p:blipFill>
        <p:spPr>
          <a:xfrm>
            <a:off x="1143000" y="1285920"/>
            <a:ext cx="2813040" cy="450036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7" name="Прямоугольник 2"/>
          <p:cNvSpPr/>
          <p:nvPr/>
        </p:nvSpPr>
        <p:spPr>
          <a:xfrm>
            <a:off x="4214880" y="1928880"/>
            <a:ext cx="3857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Для изготовления корзинки необходимо сплести жгут. Взять 4 стебля ситника или рогоза, сложить парами, толстый конец к тонкому. Привязать к неподвижной основе (спинке стул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сканирование0003.jpg"/>
          <p:cNvPicPr/>
          <p:nvPr/>
        </p:nvPicPr>
        <p:blipFill>
          <a:blip r:embed="rId1"/>
          <a:stretch/>
        </p:blipFill>
        <p:spPr>
          <a:xfrm>
            <a:off x="785880" y="1285920"/>
            <a:ext cx="3333600" cy="1714320"/>
          </a:xfrm>
          <a:prstGeom prst="rect">
            <a:avLst/>
          </a:prstGeom>
          <a:ln w="28440">
            <a:solidFill>
              <a:srgbClr val="4f81bd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9" name="Прямоугольник 3"/>
          <p:cNvSpPr/>
          <p:nvPr/>
        </p:nvSpPr>
        <p:spPr>
          <a:xfrm>
            <a:off x="4214880" y="1000080"/>
            <a:ext cx="4214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Georgia"/>
              </a:rPr>
              <a:t>Пучок в правой руке скрутить, сделав 2-3 оборота по часовой стрелке. Переложить пучки из руки в руку и снова скрутить пучок, находящийся в правой ру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Группа 5"/>
          <p:cNvGrpSpPr/>
          <p:nvPr/>
        </p:nvGrpSpPr>
        <p:grpSpPr>
          <a:xfrm>
            <a:off x="857160" y="3857760"/>
            <a:ext cx="7572600" cy="1755720"/>
            <a:chOff x="857160" y="3857760"/>
            <a:chExt cx="7572600" cy="1755720"/>
          </a:xfrm>
        </p:grpSpPr>
        <p:pic>
          <p:nvPicPr>
            <p:cNvPr id="81" name="Рисунок 2" descr="сканирование0003.jpg"/>
            <p:cNvPicPr/>
            <p:nvPr/>
          </p:nvPicPr>
          <p:blipFill>
            <a:blip r:embed="rId2"/>
            <a:stretch/>
          </p:blipFill>
          <p:spPr>
            <a:xfrm>
              <a:off x="857160" y="3857760"/>
              <a:ext cx="3143160" cy="1755720"/>
            </a:xfrm>
            <a:prstGeom prst="rect">
              <a:avLst/>
            </a:prstGeom>
            <a:ln w="28440">
              <a:solidFill>
                <a:srgbClr val="4f81bd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sp>
          <p:nvSpPr>
            <p:cNvPr id="82" name="Прямоугольник 4"/>
            <p:cNvSpPr/>
            <p:nvPr/>
          </p:nvSpPr>
          <p:spPr>
            <a:xfrm>
              <a:off x="4286160" y="3857760"/>
              <a:ext cx="41436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Georgia"/>
                </a:rPr>
                <a:t>Так продолжать скручивать и менять местами пучки пока не получится жгут необходимой длины. Край закрепить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9:27:49Z</dcterms:created>
  <dc:creator>Admin</dc:creator>
  <dc:description/>
  <dc:language>en-US</dc:language>
  <cp:lastModifiedBy>Admin</cp:lastModifiedBy>
  <dcterms:modified xsi:type="dcterms:W3CDTF">2011-02-19T08:03:42Z</dcterms:modified>
  <cp:revision>35</cp:revision>
  <dc:subject/>
  <dc:title>Слайд 1</dc:title>
</cp:coreProperties>
</file>