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png" ContentType="image/png"/>
  <Override PartName="/ppt/media/image1.jpeg" ContentType="image/jpeg"/>
  <Override PartName="/ppt/media/image27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gif" ContentType="image/gif"/>
  <Override PartName="/ppt/media/image16.jpeg" ContentType="image/jpeg"/>
  <Override PartName="/ppt/media/image22.png" ContentType="image/pn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23.gif" ContentType="image/gif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B6B-B0AB-4361-92CE-0AB4EE96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77F-F666-4A9D-9028-15007915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2F5-5A2A-4D74-B960-F91B197E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C61-AF87-4F92-8981-1D3092A2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FB1-8D82-419E-9E9E-A6F45C0C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6F3-7EA4-47EF-8F37-F082D7FB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B40-DDC4-4617-BF25-88A61526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256-F37B-4C25-B7B6-4A0169A2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DBF-FF1B-4AB7-923E-8EBED7D6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09D-3114-4D81-B837-9232FC54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646-08E1-444D-AA57-8E901861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A2B-2724-44E3-BE3F-D84B7101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6B0F-1EF4-47ED-B1B5-022D1B9D4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6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6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6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6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6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6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6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image" Target="../media/image4.jpeg"/><Relationship Id="rId5" Type="http://schemas.openxmlformats.org/officeDocument/2006/relationships/slide" Target="slide8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jpeg"/><Relationship Id="rId3" Type="http://schemas.openxmlformats.org/officeDocument/2006/relationships/slide" Target="slide9.xml"/><Relationship Id="rId4" Type="http://schemas.openxmlformats.org/officeDocument/2006/relationships/image" Target="../media/image7.png"/><Relationship Id="rId5" Type="http://schemas.openxmlformats.org/officeDocument/2006/relationships/slide" Target="slide9.xm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9.xm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2.jpeg"/><Relationship Id="rId3" Type="http://schemas.openxmlformats.org/officeDocument/2006/relationships/slide" Target="slide9.xml"/><Relationship Id="rId4" Type="http://schemas.openxmlformats.org/officeDocument/2006/relationships/image" Target="../media/image13.jpeg"/><Relationship Id="rId5" Type="http://schemas.openxmlformats.org/officeDocument/2006/relationships/slide" Target="slide9.xm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file:///tmp/home/.config/libreoffice/4/user/gallery/MS900069737%5B1%5D.wav" TargetMode="External"/><Relationship Id="rId3" Type="http://schemas.microsoft.com/office/2007/relationships/media" Target="file:///tmp/home/.config/libreoffice/4/user/gallery/MS900069737%5B1%5D.wav" TargetMode="External"/><Relationship Id="rId4" Type="http://schemas.openxmlformats.org/officeDocument/2006/relationships/image" Target="../media/image22.png"/><Relationship Id="rId5" Type="http://schemas.openxmlformats.org/officeDocument/2006/relationships/image" Target="../media/image26.png"/><Relationship Id="rId6" Type="http://schemas.openxmlformats.org/officeDocument/2006/relationships/image" Target="../media/image25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4479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Виктори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3276720"/>
            <a:ext cx="5562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доросли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2565360" cy="4318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2362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6858000" y="5029200"/>
            <a:ext cx="719280" cy="7542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54200"/>
              <a:gd name="textAreaBottom" fmla="*/ 707760 h 754200"/>
            </a:gdLst>
            <a:ahLst/>
            <a:rect l="textAreaLeft" t="textAreaTop" r="textAreaRight" b="textAreaBottom"/>
            <a:pathLst>
              <a:path w="21600" h="22648">
                <a:moveTo>
                  <a:pt x="0" y="0"/>
                </a:moveTo>
                <a:lnTo>
                  <a:pt x="21600" y="0"/>
                </a:lnTo>
                <a:lnTo>
                  <a:pt x="21600" y="22648"/>
                </a:lnTo>
                <a:lnTo>
                  <a:pt x="0" y="22648"/>
                </a:lnTo>
                <a:close/>
              </a:path>
              <a:path fill="lightenLess" w="21600" h="22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8">
                <a:moveTo>
                  <a:pt x="21600" y="0"/>
                </a:moveTo>
                <a:lnTo>
                  <a:pt x="21600" y="22648"/>
                </a:lnTo>
                <a:lnTo>
                  <a:pt x="20200" y="21248"/>
                </a:lnTo>
                <a:lnTo>
                  <a:pt x="20200" y="1400"/>
                </a:lnTo>
                <a:close/>
              </a:path>
              <a:path fill="darkenLess" w="21600" h="22648">
                <a:moveTo>
                  <a:pt x="21600" y="22648"/>
                </a:moveTo>
                <a:lnTo>
                  <a:pt x="0" y="22648"/>
                </a:lnTo>
                <a:lnTo>
                  <a:pt x="1400" y="21248"/>
                </a:lnTo>
                <a:lnTo>
                  <a:pt x="20200" y="21248"/>
                </a:lnTo>
                <a:close/>
              </a:path>
              <a:path fill="lighten" w="21600" h="22648">
                <a:moveTo>
                  <a:pt x="0" y="22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8"/>
                </a:lnTo>
                <a:close/>
              </a:path>
              <a:path fill="darken" w="21600" h="22648">
                <a:moveTo>
                  <a:pt x="3794" y="4318"/>
                </a:moveTo>
                <a:lnTo>
                  <a:pt x="17806" y="11324"/>
                </a:lnTo>
                <a:lnTo>
                  <a:pt x="3794" y="1833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4745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745"/>
                            </p:stCondLst>
                            <p:childTnLst>
                              <p:par>
                                <p:cTn id="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6858000" y="5029200"/>
            <a:ext cx="719280" cy="7542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54200"/>
              <a:gd name="textAreaBottom" fmla="*/ 707760 h 754200"/>
            </a:gdLst>
            <a:ahLst/>
            <a:rect l="textAreaLeft" t="textAreaTop" r="textAreaRight" b="textAreaBottom"/>
            <a:pathLst>
              <a:path w="21600" h="22648">
                <a:moveTo>
                  <a:pt x="0" y="0"/>
                </a:moveTo>
                <a:lnTo>
                  <a:pt x="21600" y="0"/>
                </a:lnTo>
                <a:lnTo>
                  <a:pt x="21600" y="22648"/>
                </a:lnTo>
                <a:lnTo>
                  <a:pt x="0" y="22648"/>
                </a:lnTo>
                <a:close/>
              </a:path>
              <a:path fill="lightenLess" w="21600" h="22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8">
                <a:moveTo>
                  <a:pt x="21600" y="0"/>
                </a:moveTo>
                <a:lnTo>
                  <a:pt x="21600" y="22648"/>
                </a:lnTo>
                <a:lnTo>
                  <a:pt x="20200" y="21248"/>
                </a:lnTo>
                <a:lnTo>
                  <a:pt x="20200" y="1400"/>
                </a:lnTo>
                <a:close/>
              </a:path>
              <a:path fill="darkenLess" w="21600" h="22648">
                <a:moveTo>
                  <a:pt x="21600" y="22648"/>
                </a:moveTo>
                <a:lnTo>
                  <a:pt x="0" y="22648"/>
                </a:lnTo>
                <a:lnTo>
                  <a:pt x="1400" y="21248"/>
                </a:lnTo>
                <a:lnTo>
                  <a:pt x="20200" y="21248"/>
                </a:lnTo>
                <a:close/>
              </a:path>
              <a:path fill="lighten" w="21600" h="22648">
                <a:moveTo>
                  <a:pt x="0" y="22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8"/>
                </a:lnTo>
                <a:close/>
              </a:path>
              <a:path fill="darken" w="21600" h="22648">
                <a:moveTo>
                  <a:pt x="3794" y="4318"/>
                </a:moveTo>
                <a:lnTo>
                  <a:pt x="17806" y="11324"/>
                </a:lnTo>
                <a:lnTo>
                  <a:pt x="3794" y="1833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74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745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6858000" y="5029200"/>
            <a:ext cx="719280" cy="7542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54200"/>
              <a:gd name="textAreaBottom" fmla="*/ 707760 h 754200"/>
            </a:gdLst>
            <a:ahLst/>
            <a:rect l="textAreaLeft" t="textAreaTop" r="textAreaRight" b="textAreaBottom"/>
            <a:pathLst>
              <a:path w="21600" h="22648">
                <a:moveTo>
                  <a:pt x="0" y="0"/>
                </a:moveTo>
                <a:lnTo>
                  <a:pt x="21600" y="0"/>
                </a:lnTo>
                <a:lnTo>
                  <a:pt x="21600" y="22648"/>
                </a:lnTo>
                <a:lnTo>
                  <a:pt x="0" y="22648"/>
                </a:lnTo>
                <a:close/>
              </a:path>
              <a:path fill="lightenLess" w="21600" h="22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8">
                <a:moveTo>
                  <a:pt x="21600" y="0"/>
                </a:moveTo>
                <a:lnTo>
                  <a:pt x="21600" y="22648"/>
                </a:lnTo>
                <a:lnTo>
                  <a:pt x="20200" y="21248"/>
                </a:lnTo>
                <a:lnTo>
                  <a:pt x="20200" y="1400"/>
                </a:lnTo>
                <a:close/>
              </a:path>
              <a:path fill="darkenLess" w="21600" h="22648">
                <a:moveTo>
                  <a:pt x="21600" y="22648"/>
                </a:moveTo>
                <a:lnTo>
                  <a:pt x="0" y="22648"/>
                </a:lnTo>
                <a:lnTo>
                  <a:pt x="1400" y="21248"/>
                </a:lnTo>
                <a:lnTo>
                  <a:pt x="20200" y="21248"/>
                </a:lnTo>
                <a:close/>
              </a:path>
              <a:path fill="lighten" w="21600" h="22648">
                <a:moveTo>
                  <a:pt x="0" y="22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8"/>
                </a:lnTo>
                <a:close/>
              </a:path>
              <a:path fill="darken" w="21600" h="22648">
                <a:moveTo>
                  <a:pt x="3794" y="4318"/>
                </a:moveTo>
                <a:lnTo>
                  <a:pt x="17806" y="11324"/>
                </a:lnTo>
                <a:lnTo>
                  <a:pt x="3794" y="1833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474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745"/>
                            </p:stCondLst>
                            <p:childTnLst>
                              <p:par>
                                <p:cTn id="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5" action="ppaction://hlinksldjump"/>
          </p:cNvPr>
          <p:cNvSpPr/>
          <p:nvPr/>
        </p:nvSpPr>
        <p:spPr>
          <a:xfrm>
            <a:off x="6858000" y="5029200"/>
            <a:ext cx="719280" cy="7542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54200"/>
              <a:gd name="textAreaBottom" fmla="*/ 707760 h 754200"/>
            </a:gdLst>
            <a:ahLst/>
            <a:rect l="textAreaLeft" t="textAreaTop" r="textAreaRight" b="textAreaBottom"/>
            <a:pathLst>
              <a:path w="21600" h="22648">
                <a:moveTo>
                  <a:pt x="0" y="0"/>
                </a:moveTo>
                <a:lnTo>
                  <a:pt x="21600" y="0"/>
                </a:lnTo>
                <a:lnTo>
                  <a:pt x="21600" y="22648"/>
                </a:lnTo>
                <a:lnTo>
                  <a:pt x="0" y="22648"/>
                </a:lnTo>
                <a:close/>
              </a:path>
              <a:path fill="lightenLess" w="21600" h="22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8">
                <a:moveTo>
                  <a:pt x="21600" y="0"/>
                </a:moveTo>
                <a:lnTo>
                  <a:pt x="21600" y="22648"/>
                </a:lnTo>
                <a:lnTo>
                  <a:pt x="20200" y="21248"/>
                </a:lnTo>
                <a:lnTo>
                  <a:pt x="20200" y="1400"/>
                </a:lnTo>
                <a:close/>
              </a:path>
              <a:path fill="darkenLess" w="21600" h="22648">
                <a:moveTo>
                  <a:pt x="21600" y="22648"/>
                </a:moveTo>
                <a:lnTo>
                  <a:pt x="0" y="22648"/>
                </a:lnTo>
                <a:lnTo>
                  <a:pt x="1400" y="21248"/>
                </a:lnTo>
                <a:lnTo>
                  <a:pt x="20200" y="21248"/>
                </a:lnTo>
                <a:close/>
              </a:path>
              <a:path fill="lighten" w="21600" h="22648">
                <a:moveTo>
                  <a:pt x="0" y="22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8"/>
                </a:lnTo>
                <a:close/>
              </a:path>
              <a:path fill="darken" w="21600" h="22648">
                <a:moveTo>
                  <a:pt x="3794" y="4318"/>
                </a:moveTo>
                <a:lnTo>
                  <a:pt x="17806" y="11324"/>
                </a:lnTo>
                <a:lnTo>
                  <a:pt x="3794" y="1833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474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745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0" y="5029200"/>
            <a:ext cx="719280" cy="7542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54200"/>
              <a:gd name="textAreaBottom" fmla="*/ 707760 h 754200"/>
            </a:gdLst>
            <a:ahLst/>
            <a:rect l="textAreaLeft" t="textAreaTop" r="textAreaRight" b="textAreaBottom"/>
            <a:pathLst>
              <a:path w="21600" h="22648">
                <a:moveTo>
                  <a:pt x="0" y="0"/>
                </a:moveTo>
                <a:lnTo>
                  <a:pt x="21600" y="0"/>
                </a:lnTo>
                <a:lnTo>
                  <a:pt x="21600" y="22648"/>
                </a:lnTo>
                <a:lnTo>
                  <a:pt x="0" y="22648"/>
                </a:lnTo>
                <a:close/>
              </a:path>
              <a:path fill="lightenLess" w="21600" h="22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8">
                <a:moveTo>
                  <a:pt x="21600" y="0"/>
                </a:moveTo>
                <a:lnTo>
                  <a:pt x="21600" y="22648"/>
                </a:lnTo>
                <a:lnTo>
                  <a:pt x="20200" y="21248"/>
                </a:lnTo>
                <a:lnTo>
                  <a:pt x="20200" y="1400"/>
                </a:lnTo>
                <a:close/>
              </a:path>
              <a:path fill="darkenLess" w="21600" h="22648">
                <a:moveTo>
                  <a:pt x="21600" y="22648"/>
                </a:moveTo>
                <a:lnTo>
                  <a:pt x="0" y="22648"/>
                </a:lnTo>
                <a:lnTo>
                  <a:pt x="1400" y="21248"/>
                </a:lnTo>
                <a:lnTo>
                  <a:pt x="20200" y="21248"/>
                </a:lnTo>
                <a:close/>
              </a:path>
              <a:path fill="lighten" w="21600" h="22648">
                <a:moveTo>
                  <a:pt x="0" y="22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8"/>
                </a:lnTo>
                <a:close/>
              </a:path>
              <a:path fill="darken" w="21600" h="22648">
                <a:moveTo>
                  <a:pt x="3794" y="4318"/>
                </a:moveTo>
                <a:lnTo>
                  <a:pt x="17806" y="11324"/>
                </a:lnTo>
                <a:lnTo>
                  <a:pt x="3794" y="1833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474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745"/>
                            </p:stCondLst>
                            <p:childTnLst>
                              <p:par>
                                <p:cTn id="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0" y="5029200"/>
            <a:ext cx="719280" cy="7542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54200"/>
              <a:gd name="textAreaBottom" fmla="*/ 707760 h 754200"/>
            </a:gdLst>
            <a:ahLst/>
            <a:rect l="textAreaLeft" t="textAreaTop" r="textAreaRight" b="textAreaBottom"/>
            <a:pathLst>
              <a:path w="21600" h="22648">
                <a:moveTo>
                  <a:pt x="0" y="0"/>
                </a:moveTo>
                <a:lnTo>
                  <a:pt x="21600" y="0"/>
                </a:lnTo>
                <a:lnTo>
                  <a:pt x="21600" y="22648"/>
                </a:lnTo>
                <a:lnTo>
                  <a:pt x="0" y="22648"/>
                </a:lnTo>
                <a:close/>
              </a:path>
              <a:path fill="lightenLess" w="21600" h="22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8">
                <a:moveTo>
                  <a:pt x="21600" y="0"/>
                </a:moveTo>
                <a:lnTo>
                  <a:pt x="21600" y="22648"/>
                </a:lnTo>
                <a:lnTo>
                  <a:pt x="20200" y="21248"/>
                </a:lnTo>
                <a:lnTo>
                  <a:pt x="20200" y="1400"/>
                </a:lnTo>
                <a:close/>
              </a:path>
              <a:path fill="darkenLess" w="21600" h="22648">
                <a:moveTo>
                  <a:pt x="21600" y="22648"/>
                </a:moveTo>
                <a:lnTo>
                  <a:pt x="0" y="22648"/>
                </a:lnTo>
                <a:lnTo>
                  <a:pt x="1400" y="21248"/>
                </a:lnTo>
                <a:lnTo>
                  <a:pt x="20200" y="21248"/>
                </a:lnTo>
                <a:close/>
              </a:path>
              <a:path fill="lighten" w="21600" h="22648">
                <a:moveTo>
                  <a:pt x="0" y="22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8"/>
                </a:lnTo>
                <a:close/>
              </a:path>
              <a:path fill="darken" w="21600" h="22648">
                <a:moveTo>
                  <a:pt x="3794" y="4318"/>
                </a:moveTo>
                <a:lnTo>
                  <a:pt x="17806" y="11324"/>
                </a:lnTo>
                <a:lnTo>
                  <a:pt x="3794" y="1833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74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745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0" y="5029200"/>
            <a:ext cx="719280" cy="7542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54200"/>
              <a:gd name="textAreaBottom" fmla="*/ 707760 h 754200"/>
            </a:gdLst>
            <a:ahLst/>
            <a:rect l="textAreaLeft" t="textAreaTop" r="textAreaRight" b="textAreaBottom"/>
            <a:pathLst>
              <a:path w="21600" h="22648">
                <a:moveTo>
                  <a:pt x="0" y="0"/>
                </a:moveTo>
                <a:lnTo>
                  <a:pt x="21600" y="0"/>
                </a:lnTo>
                <a:lnTo>
                  <a:pt x="21600" y="22648"/>
                </a:lnTo>
                <a:lnTo>
                  <a:pt x="0" y="22648"/>
                </a:lnTo>
                <a:close/>
              </a:path>
              <a:path fill="lightenLess" w="21600" h="22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8">
                <a:moveTo>
                  <a:pt x="21600" y="0"/>
                </a:moveTo>
                <a:lnTo>
                  <a:pt x="21600" y="22648"/>
                </a:lnTo>
                <a:lnTo>
                  <a:pt x="20200" y="21248"/>
                </a:lnTo>
                <a:lnTo>
                  <a:pt x="20200" y="1400"/>
                </a:lnTo>
                <a:close/>
              </a:path>
              <a:path fill="darkenLess" w="21600" h="22648">
                <a:moveTo>
                  <a:pt x="21600" y="22648"/>
                </a:moveTo>
                <a:lnTo>
                  <a:pt x="0" y="22648"/>
                </a:lnTo>
                <a:lnTo>
                  <a:pt x="1400" y="21248"/>
                </a:lnTo>
                <a:lnTo>
                  <a:pt x="20200" y="21248"/>
                </a:lnTo>
                <a:close/>
              </a:path>
              <a:path fill="lighten" w="21600" h="22648">
                <a:moveTo>
                  <a:pt x="0" y="22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8"/>
                </a:lnTo>
                <a:close/>
              </a:path>
              <a:path fill="darken" w="21600" h="22648">
                <a:moveTo>
                  <a:pt x="3794" y="4318"/>
                </a:moveTo>
                <a:lnTo>
                  <a:pt x="17806" y="11324"/>
                </a:lnTo>
                <a:lnTo>
                  <a:pt x="3794" y="1833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74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745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81080" y="2133720"/>
            <a:ext cx="518184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ец!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МБОУ ДОД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«Станция юных натуралис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ополнительная 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«Микробиология для школьни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ема: «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оросли, их стро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иологические особенност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втор: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дагог дополнительного образования Заярнова О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алехард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йдите водоросль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1143000"/>
            <a:ext cx="3047760" cy="286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943600" y="3581280"/>
            <a:ext cx="27622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30481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евище есть у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1676520"/>
            <a:ext cx="2819520" cy="44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43200" y="388620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9480" y="1523880"/>
            <a:ext cx="22384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ламидомонада это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14300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2559000">
            <a:off x="5638680" y="1752120"/>
            <a:ext cx="2476800" cy="2571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71800" y="3886200"/>
            <a:ext cx="3124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лорелла эт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1295280"/>
            <a:ext cx="297180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05520" y="1295280"/>
            <a:ext cx="3047760" cy="243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124080" y="3962520"/>
            <a:ext cx="2819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ые древние растения на Земле это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2743200" cy="2438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352680" y="3657600"/>
            <a:ext cx="24386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Черная борода» это 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40388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289548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7" action="ppaction://hlinksldjump"/>
          </p:cNvPr>
          <p:cNvSpPr/>
          <p:nvPr/>
        </p:nvSpPr>
        <p:spPr>
          <a:xfrm>
            <a:off x="6858000" y="5029200"/>
            <a:ext cx="719280" cy="7542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54200"/>
              <a:gd name="textAreaBottom" fmla="*/ 707760 h 754200"/>
            </a:gdLst>
            <a:ahLst/>
            <a:rect l="textAreaLeft" t="textAreaTop" r="textAreaRight" b="textAreaBottom"/>
            <a:pathLst>
              <a:path w="21600" h="22648">
                <a:moveTo>
                  <a:pt x="0" y="0"/>
                </a:moveTo>
                <a:lnTo>
                  <a:pt x="21600" y="0"/>
                </a:lnTo>
                <a:lnTo>
                  <a:pt x="21600" y="22648"/>
                </a:lnTo>
                <a:lnTo>
                  <a:pt x="0" y="22648"/>
                </a:lnTo>
                <a:close/>
              </a:path>
              <a:path fill="lightenLess" w="21600" h="22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8">
                <a:moveTo>
                  <a:pt x="21600" y="0"/>
                </a:moveTo>
                <a:lnTo>
                  <a:pt x="21600" y="22648"/>
                </a:lnTo>
                <a:lnTo>
                  <a:pt x="20200" y="21248"/>
                </a:lnTo>
                <a:lnTo>
                  <a:pt x="20200" y="1400"/>
                </a:lnTo>
                <a:close/>
              </a:path>
              <a:path fill="darkenLess" w="21600" h="22648">
                <a:moveTo>
                  <a:pt x="21600" y="22648"/>
                </a:moveTo>
                <a:lnTo>
                  <a:pt x="0" y="22648"/>
                </a:lnTo>
                <a:lnTo>
                  <a:pt x="1400" y="21248"/>
                </a:lnTo>
                <a:lnTo>
                  <a:pt x="20200" y="21248"/>
                </a:lnTo>
                <a:close/>
              </a:path>
              <a:path fill="lighten" w="21600" h="22648">
                <a:moveTo>
                  <a:pt x="0" y="22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8"/>
                </a:lnTo>
                <a:close/>
              </a:path>
              <a:path fill="darken" w="21600" h="22648">
                <a:moveTo>
                  <a:pt x="3794" y="4318"/>
                </a:moveTo>
                <a:lnTo>
                  <a:pt x="17806" y="11324"/>
                </a:lnTo>
                <a:lnTo>
                  <a:pt x="3794" y="1833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74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745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40360" y="1641600"/>
            <a:ext cx="1217520" cy="1139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916360" y="364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96360" y="508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59636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rot="19542600">
            <a:off x="2473200" y="2101680"/>
            <a:ext cx="1106640" cy="1121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 rot="1800000">
            <a:off x="6005520" y="214164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1981080" y="50292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22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223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49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3:43:31Z</dcterms:created>
  <dc:creator>Ольга</dc:creator>
  <dc:description/>
  <dc:language>en-US</dc:language>
  <cp:lastModifiedBy>Ольга</cp:lastModifiedBy>
  <dcterms:modified xsi:type="dcterms:W3CDTF">2013-01-02T16:41:1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