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92ED-04A5-4812-BC20-948F4836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215E-396A-45BE-9EBC-B27C31EB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76A5-4F98-4A78-8820-6E834AB1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834D-C742-4ECC-BDA5-7557375A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6DBE-086C-485D-917E-3D419A91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94B3-83B8-4FDF-880F-6001CB29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790A-DA90-4D13-A3FA-819D52A3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8D70-4A24-46B4-9569-0DF0331D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F06-F9A5-4CA1-B5B8-C605E372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1A94-E40E-454B-A4E8-20765041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F024-D518-4342-A27E-D328CD20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ADE4-0C5E-4E28-B41C-347D5901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FECD-1B23-4981-A153-222EDDB0FD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920" y="2130120"/>
            <a:ext cx="5214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c0504d"/>
                </a:solidFill>
                <a:latin typeface="Calibri"/>
                <a:ea typeface="Aharoni"/>
              </a:rPr>
              <a:t>В</a:t>
            </a:r>
            <a:r>
              <a:rPr b="0" lang="ru-RU" sz="7200" spc="-1" strike="noStrike">
                <a:solidFill>
                  <a:srgbClr val="c0504d"/>
                </a:solidFill>
                <a:latin typeface="Calibri"/>
              </a:rPr>
              <a:t>ит</a:t>
            </a:r>
            <a:r>
              <a:rPr b="0" i="1" lang="ru-RU" sz="9600" spc="-1" strike="noStrike">
                <a:solidFill>
                  <a:srgbClr val="c0504d"/>
                </a:solidFill>
                <a:latin typeface="Calibri"/>
              </a:rPr>
              <a:t>А</a:t>
            </a:r>
            <a:r>
              <a:rPr b="0" lang="ru-RU" sz="7200" spc="-1" strike="noStrike">
                <a:solidFill>
                  <a:srgbClr val="c0504d"/>
                </a:solidFill>
                <a:latin typeface="Calibri"/>
              </a:rPr>
              <a:t>ми</a:t>
            </a:r>
            <a:r>
              <a:rPr b="0" i="1" lang="ru-RU" sz="9600" spc="-1" strike="noStrike">
                <a:solidFill>
                  <a:srgbClr val="c0504d"/>
                </a:solidFill>
                <a:latin typeface="Calibri"/>
              </a:rPr>
              <a:t>Н</a:t>
            </a:r>
            <a:r>
              <a:rPr b="0" lang="ru-RU" sz="7200" spc="-1" strike="noStrike">
                <a:solidFill>
                  <a:srgbClr val="c0504d"/>
                </a:solidFill>
                <a:latin typeface="Calibri"/>
              </a:rPr>
              <a:t>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42840" y="3928680"/>
            <a:ext cx="500076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Презентацию подготовила учитель биологии высшей квалификационной категории Юмагулова А.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428840" y="857160"/>
            <a:ext cx="678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БОУ «Средняя общеобразовательная школа № 3 г. Красноармейска Саратовской област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643200" y="578628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12-2013 уч.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5" descr="vitamin1.jpg"/>
          <p:cNvPicPr/>
          <p:nvPr/>
        </p:nvPicPr>
        <p:blipFill>
          <a:blip r:embed="rId1"/>
          <a:stretch/>
        </p:blipFill>
        <p:spPr>
          <a:xfrm>
            <a:off x="285840" y="1785960"/>
            <a:ext cx="35719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Витамин С (</a:t>
            </a:r>
            <a:r>
              <a:rPr b="1" lang="ru-RU" sz="4000" spc="-1" strike="noStrike">
                <a:solidFill>
                  <a:srgbClr val="e46c0a"/>
                </a:solidFill>
                <a:latin typeface="Calibri"/>
              </a:rPr>
              <a:t>аскорбиновая кислота</a:t>
            </a: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Цинга.gif"/>
          <p:cNvPicPr/>
          <p:nvPr/>
        </p:nvPicPr>
        <p:blipFill>
          <a:blip r:embed="rId1"/>
          <a:stretch/>
        </p:blipFill>
        <p:spPr>
          <a:xfrm>
            <a:off x="642960" y="1428840"/>
            <a:ext cx="757224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Витамин </a:t>
            </a: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D</a:t>
            </a: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(</a:t>
            </a: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кальциферол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2011_01_09_ruba.jpg"/>
          <p:cNvPicPr/>
          <p:nvPr/>
        </p:nvPicPr>
        <p:blipFill>
          <a:blip r:embed="rId1"/>
          <a:stretch/>
        </p:blipFill>
        <p:spPr>
          <a:xfrm>
            <a:off x="0" y="4357800"/>
            <a:ext cx="2214720" cy="20286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20100126-151206-2.jpg"/>
          <p:cNvPicPr/>
          <p:nvPr/>
        </p:nvPicPr>
        <p:blipFill>
          <a:blip r:embed="rId2"/>
          <a:stretch/>
        </p:blipFill>
        <p:spPr>
          <a:xfrm>
            <a:off x="1714680" y="1285920"/>
            <a:ext cx="7215120" cy="50720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6" descr="vitamin.jpg"/>
          <p:cNvPicPr/>
          <p:nvPr/>
        </p:nvPicPr>
        <p:blipFill>
          <a:blip r:embed="rId3"/>
          <a:stretch/>
        </p:blipFill>
        <p:spPr>
          <a:xfrm>
            <a:off x="142920" y="357120"/>
            <a:ext cx="1785960" cy="1928880"/>
          </a:xfrm>
          <a:prstGeom prst="rect">
            <a:avLst/>
          </a:prstGeom>
          <a:ln w="0">
            <a:noFill/>
          </a:ln>
        </p:spPr>
      </p:pic>
      <p:sp>
        <p:nvSpPr>
          <p:cNvPr id="77" name="TextBox 7"/>
          <p:cNvSpPr/>
          <p:nvPr/>
        </p:nvSpPr>
        <p:spPr>
          <a:xfrm>
            <a:off x="214200" y="2357280"/>
            <a:ext cx="147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 мг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Витамин </a:t>
            </a: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D</a:t>
            </a: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(</a:t>
            </a: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кальциферол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571680" y="1214280"/>
            <a:ext cx="83581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Витамин А </a:t>
            </a: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(</a:t>
            </a: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ретинол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4" descr="2011_01_09_ruba.jpg"/>
          <p:cNvPicPr/>
          <p:nvPr/>
        </p:nvPicPr>
        <p:blipFill>
          <a:blip r:embed="rId1"/>
          <a:stretch/>
        </p:blipFill>
        <p:spPr>
          <a:xfrm>
            <a:off x="6429240" y="3714840"/>
            <a:ext cx="2571840" cy="249552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2928960" y="171468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9 мг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6" descr="images (4).jpg"/>
          <p:cNvPicPr/>
          <p:nvPr/>
        </p:nvPicPr>
        <p:blipFill>
          <a:blip r:embed="rId2"/>
          <a:stretch/>
        </p:blipFill>
        <p:spPr>
          <a:xfrm>
            <a:off x="142920" y="1214280"/>
            <a:ext cx="2857320" cy="25624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7" descr="images (2).jpg"/>
          <p:cNvPicPr/>
          <p:nvPr/>
        </p:nvPicPr>
        <p:blipFill>
          <a:blip r:embed="rId3"/>
          <a:stretch/>
        </p:blipFill>
        <p:spPr>
          <a:xfrm>
            <a:off x="214200" y="3929040"/>
            <a:ext cx="2786040" cy="23576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images (3).jpg"/>
          <p:cNvPicPr/>
          <p:nvPr/>
        </p:nvPicPr>
        <p:blipFill>
          <a:blip r:embed="rId4"/>
          <a:stretch/>
        </p:blipFill>
        <p:spPr>
          <a:xfrm>
            <a:off x="5857920" y="1214280"/>
            <a:ext cx="3143160" cy="21434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9" descr="загруженное.jpg"/>
          <p:cNvPicPr/>
          <p:nvPr/>
        </p:nvPicPr>
        <p:blipFill>
          <a:blip r:embed="rId5"/>
          <a:stretch/>
        </p:blipFill>
        <p:spPr>
          <a:xfrm>
            <a:off x="3286080" y="3500280"/>
            <a:ext cx="285768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Витамин А </a:t>
            </a: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(</a:t>
            </a: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ретинол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3" descr="20091301131401.jpg"/>
          <p:cNvPicPr/>
          <p:nvPr/>
        </p:nvPicPr>
        <p:blipFill>
          <a:blip r:embed="rId1"/>
          <a:stretch/>
        </p:blipFill>
        <p:spPr>
          <a:xfrm>
            <a:off x="3929040" y="2000160"/>
            <a:ext cx="4929120" cy="21430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article297.jpg"/>
          <p:cNvPicPr/>
          <p:nvPr/>
        </p:nvPicPr>
        <p:blipFill>
          <a:blip r:embed="rId2"/>
          <a:stretch/>
        </p:blipFill>
        <p:spPr>
          <a:xfrm>
            <a:off x="214200" y="1285920"/>
            <a:ext cx="3143520" cy="357192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214200" y="507204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достаток витамина А вызывает отставание детей в рост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4071960" y="4572000"/>
            <a:ext cx="49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достаток витамина А вызывает нарушение сумеречного и ночного зр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Витамины группы 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4" descr="vitamin-b.jpg"/>
          <p:cNvPicPr/>
          <p:nvPr/>
        </p:nvPicPr>
        <p:blipFill>
          <a:blip r:embed="rId1"/>
          <a:stretch/>
        </p:blipFill>
        <p:spPr>
          <a:xfrm>
            <a:off x="0" y="3429000"/>
            <a:ext cx="4476600" cy="293544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3" descr="0009-017-Vitamin-RR.jpg"/>
          <p:cNvPicPr/>
          <p:nvPr/>
        </p:nvPicPr>
        <p:blipFill>
          <a:blip r:embed="rId2"/>
          <a:stretch/>
        </p:blipFill>
        <p:spPr>
          <a:xfrm>
            <a:off x="4915080" y="4071960"/>
            <a:ext cx="4228920" cy="23572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6" descr="images (5).jpg"/>
          <p:cNvPicPr/>
          <p:nvPr/>
        </p:nvPicPr>
        <p:blipFill>
          <a:blip r:embed="rId3"/>
          <a:stretch/>
        </p:blipFill>
        <p:spPr>
          <a:xfrm>
            <a:off x="4714920" y="1214280"/>
            <a:ext cx="4214880" cy="278136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500040" y="1643040"/>
            <a:ext cx="397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3,5 мг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Витамины группы 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4" descr="beriberi.jpg"/>
          <p:cNvPicPr/>
          <p:nvPr/>
        </p:nvPicPr>
        <p:blipFill>
          <a:blip r:embed="rId1"/>
          <a:stretch/>
        </p:blipFill>
        <p:spPr>
          <a:xfrm>
            <a:off x="714240" y="1428840"/>
            <a:ext cx="2857680" cy="44290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5" descr="mb4_086.jpeg"/>
          <p:cNvPicPr/>
          <p:nvPr/>
        </p:nvPicPr>
        <p:blipFill>
          <a:blip r:embed="rId2"/>
          <a:stretch/>
        </p:blipFill>
        <p:spPr>
          <a:xfrm>
            <a:off x="3929040" y="1357200"/>
            <a:ext cx="4857840" cy="23576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3857760" y="421488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тсутствии в пище витамина В 1  возникает заболева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ери – бер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оковы), приводящее к параличу конечностей и часто заканчивающееся смерть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ческая работ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Определение витамина С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ите исследование по инструктивной карточ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людение запишите в таблиц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делайте вывод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00040" y="2286000"/>
          <a:ext cx="8001000" cy="3375000"/>
        </p:xfrm>
        <a:graphic>
          <a:graphicData uri="http://schemas.openxmlformats.org/drawingml/2006/table">
            <a:tbl>
              <a:tblPr/>
              <a:tblGrid>
                <a:gridCol w="4071960"/>
                <a:gridCol w="392904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то дел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то наблюд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Добавляю к соку свежего лимона раствор крахмального клейстера с йодом (синяя окраска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Опыт с рассолом квашеной капус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Опыт с яблочным сок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Опыт с нагретым сок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4" name="TextBox 5"/>
          <p:cNvSpPr/>
          <p:nvPr/>
        </p:nvSpPr>
        <p:spPr>
          <a:xfrm>
            <a:off x="4643280" y="307188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53735"/>
                </a:solidFill>
                <a:latin typeface="Calibri"/>
              </a:rPr>
              <a:t>Наблюдаю обесцвечивание раствора,  что говорит о наличии витамина С в лимо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000080" y="5715000"/>
            <a:ext cx="757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53735"/>
                </a:solidFill>
                <a:latin typeface="Calibri"/>
              </a:rPr>
              <a:t>                                        </a:t>
            </a:r>
            <a:r>
              <a:rPr b="1" i="1" lang="ru-RU" sz="2000" spc="-1" strike="noStrike">
                <a:solidFill>
                  <a:srgbClr val="953735"/>
                </a:solidFill>
                <a:latin typeface="Calibri"/>
              </a:rPr>
              <a:t>в свежих овощах и фруктах содержится витамин С, при тепловой обработке он разрушает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4786200" y="407196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53735"/>
                </a:solidFill>
                <a:latin typeface="Calibri"/>
              </a:rPr>
              <a:t>Обесцвечивание раств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4786200" y="4643280"/>
            <a:ext cx="30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53735"/>
                </a:solidFill>
                <a:latin typeface="Calibri"/>
              </a:rPr>
              <a:t>Обесцвечивание раств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4714920" y="521496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53735"/>
                </a:solidFill>
                <a:latin typeface="Calibri"/>
              </a:rPr>
              <a:t>Окраска раствора не изменяе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Как сохранить витамины при приготовлении пищи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Содержимое 3" descr="1334038280_news11111.jpg"/>
          <p:cNvPicPr/>
          <p:nvPr/>
        </p:nvPicPr>
        <p:blipFill>
          <a:blip r:embed="rId1"/>
          <a:stretch/>
        </p:blipFill>
        <p:spPr>
          <a:xfrm>
            <a:off x="1500120" y="2214720"/>
            <a:ext cx="612144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Calibri"/>
              </a:rPr>
              <a:t>Вещества, приводящие к разрушению витаминов и минералов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таминов А, группы В, кальция, цинка, калия, маг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 витаминов А, С, Е, селен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феин 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таминов В, РР, снижает содержание железа, калия, цинк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спири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витаминов группы В, С, А, кальция, кал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тибиотик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витаминов группы В, железа, кальция, маг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нотворные средств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витаминов А, Д, Е, В12, сильно снижают уровень кальц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6" descr="house-question-1_21146425.jpg"/>
          <p:cNvPicPr/>
          <p:nvPr/>
        </p:nvPicPr>
        <p:blipFill>
          <a:blip r:embed="rId1"/>
          <a:stretch/>
        </p:blipFill>
        <p:spPr>
          <a:xfrm>
            <a:off x="3143160" y="1571760"/>
            <a:ext cx="2857680" cy="4572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807"/>
                </a:solidFill>
                <a:latin typeface="Calibri"/>
              </a:rPr>
              <a:t>Высказывания о витаминах:</a:t>
            </a:r>
            <a:br>
              <a:rPr sz="4400"/>
            </a:b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предрассудки или фак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57120" y="171432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тамины есть только в овощах и фрукт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м больше съешь витаминов, тем будешь крепче и здорове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ериод инфекционных заболеваний нужно есть больше витамина 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тамины нужно принимать только зимой и весн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достаток витаминов может привести к серьезным заболевани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3" descr="1329906062_f2.jpg"/>
          <p:cNvPicPr/>
          <p:nvPr/>
        </p:nvPicPr>
        <p:blipFill>
          <a:blip r:embed="rId1"/>
          <a:stretch/>
        </p:blipFill>
        <p:spPr>
          <a:xfrm>
            <a:off x="6072120" y="3571920"/>
            <a:ext cx="3071880" cy="27860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807"/>
                </a:solidFill>
                <a:latin typeface="Calibri"/>
              </a:rPr>
              <a:t>Высказывания о витаминах:</a:t>
            </a:r>
            <a:br>
              <a:rPr sz="4400"/>
            </a:b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предрассудки или фак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тамины есть только в овощах и фрукт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м больше съешь витаминов, тем будешь крепче и здорове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ериод инфекционных заболеваний нужно есть больше витамина 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тамины нужно принимать тольк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имой и весн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достаток витаминов может приве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серьезным заболевани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Рисунок 5" descr="загруженное.jpg"/>
          <p:cNvPicPr/>
          <p:nvPr/>
        </p:nvPicPr>
        <p:blipFill>
          <a:blip r:embed="rId2"/>
          <a:stretch/>
        </p:blipFill>
        <p:spPr>
          <a:xfrm>
            <a:off x="428760" y="1428840"/>
            <a:ext cx="371448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ПРАВИЛА питания и поведения человека, способствующие полному обеспечению организма витамин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Содержимое 3" descr="vitamini.gif"/>
          <p:cNvPicPr/>
          <p:nvPr/>
        </p:nvPicPr>
        <p:blipFill>
          <a:blip r:embed="rId1"/>
          <a:stretch/>
        </p:blipFill>
        <p:spPr>
          <a:xfrm>
            <a:off x="0" y="142920"/>
            <a:ext cx="2571840" cy="23209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428760" y="2000160"/>
            <a:ext cx="8143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1. Пища должна быть разнообразной, свежей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правильно приготовленн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933c"/>
                </a:solidFill>
                <a:latin typeface="Calibri"/>
              </a:rPr>
              <a:t>2. Больше включать в рацион свежие овощи и фрук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8ed5"/>
                </a:solidFill>
                <a:latin typeface="Calibri"/>
              </a:rPr>
              <a:t>3. Больше времени гулять на свежем воздухе, принимать солнеч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8ed5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558ed5"/>
                </a:solidFill>
                <a:latin typeface="Calibri"/>
              </a:rPr>
              <a:t>ван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52a"/>
                </a:solidFill>
                <a:latin typeface="Calibri"/>
              </a:rPr>
              <a:t>4. Вести здоровый образ жизни, отказаться от курения, приема алкогол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4a452a"/>
                </a:solidFill>
                <a:latin typeface="Calibri"/>
              </a:rPr>
              <a:t>умеренно употреблять чай и коф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Calibri"/>
              </a:rPr>
              <a:t>5. Принимать лекарственные препара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953735"/>
                </a:solidFill>
                <a:latin typeface="Calibri"/>
              </a:rPr>
              <a:t>только по рекомендации врач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6. Регулярно принимать готовые витами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препараты по совету врач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04a7b"/>
                </a:solidFill>
                <a:latin typeface="Calibri"/>
              </a:rPr>
              <a:t>7. Не злоупотреблять витамин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5" descr="ecb448b110.jpg"/>
          <p:cNvPicPr/>
          <p:nvPr/>
        </p:nvPicPr>
        <p:blipFill>
          <a:blip r:embed="rId2"/>
          <a:stretch/>
        </p:blipFill>
        <p:spPr>
          <a:xfrm>
            <a:off x="5524560" y="4000680"/>
            <a:ext cx="36194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ить параграф 38 «Витамины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уя дополнительную литературу, подготовить сообщения о витаминах РР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пользуемые 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злова И.С., Щербакова Ю.В. Занимательная биология на уроках. – М: Глобус, 201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севич И.Н. и др. Биология. 6-11 классы. Урок в современной школе. - Волгоград: Учитель, 20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тографии, рисунки к презентации.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google.ru/search?q=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тинки+витамины&amp;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3" descr="sdds-1.jpg"/>
          <p:cNvPicPr/>
          <p:nvPr/>
        </p:nvPicPr>
        <p:blipFill>
          <a:blip r:embed="rId1"/>
          <a:stretch/>
        </p:blipFill>
        <p:spPr>
          <a:xfrm>
            <a:off x="571680" y="1143000"/>
            <a:ext cx="8072280" cy="5214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Calibri"/>
              </a:rPr>
              <a:t>БУДЬТЕ ЗДОРОВЫ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яснить, какова роль витаминов в организме человека, в каких продуктах содержатся, какие заболевания развиваются при отсутствии витами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Из истории открытия витами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3357720" cy="41432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6"/>
          <p:cNvSpPr/>
          <p:nvPr/>
        </p:nvSpPr>
        <p:spPr>
          <a:xfrm>
            <a:off x="3929040" y="1357200"/>
            <a:ext cx="5000760" cy="49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чины заболеваний, связанных с неполноценным питанием, первым открыл русский   ученый – вра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иколай Иванович Луни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881 году он произвел опыты над двумя группами мышей и сделал вывод, что в пище есть еще какое-то незаменимое вещество, необходимое для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Из истории открытия витами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200px-Casimir_Funk_01.jpg"/>
          <p:cNvPicPr/>
          <p:nvPr/>
        </p:nvPicPr>
        <p:blipFill>
          <a:blip r:embed="rId1"/>
          <a:stretch/>
        </p:blipFill>
        <p:spPr>
          <a:xfrm>
            <a:off x="357120" y="1643040"/>
            <a:ext cx="2928960" cy="421488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3857760" y="1714680"/>
            <a:ext cx="4857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912 году  польский ученый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зимир Функ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ложил назвать эти вещества  ВИТАМИНА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от лат. «ВИТА» – жизнь, «АМИН» - содержащий азот), а болезни, вызванные их недостатками , - АВИТАМИНОЗ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ВИТАМИНЫ 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это органическ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веществ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необходимые д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образования ферментов и други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биологически активных вещест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Они способствуют протеканию процессов обме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вещест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Водорастворимые – В, 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Жирорастворимые – А, 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D</a:t>
            </a: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, Е, 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images (1).jpg"/>
          <p:cNvPicPr/>
          <p:nvPr/>
        </p:nvPicPr>
        <p:blipFill>
          <a:blip r:embed="rId1"/>
          <a:stretch/>
        </p:blipFill>
        <p:spPr>
          <a:xfrm>
            <a:off x="4286160" y="142920"/>
            <a:ext cx="46436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Заболе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"/>
          <p:cNvPicPr/>
          <p:nvPr/>
        </p:nvPicPr>
        <p:blipFill>
          <a:blip r:embed="rId1"/>
          <a:stretch/>
        </p:blipFill>
        <p:spPr>
          <a:xfrm>
            <a:off x="353880" y="1542960"/>
            <a:ext cx="83520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олните таблицу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Характеристика витаминов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58040" cy="4186080"/>
        </p:xfrm>
        <a:graphic>
          <a:graphicData uri="http://schemas.openxmlformats.org/drawingml/2006/table">
            <a:tbl>
              <a:tblPr/>
              <a:tblGrid>
                <a:gridCol w="2065320"/>
                <a:gridCol w="2063880"/>
                <a:gridCol w="2065320"/>
                <a:gridCol w="2063520"/>
              </a:tblGrid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та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уточная потреб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м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точники витам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явления авитамин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7" descr="vitaminy.jpg"/>
          <p:cNvPicPr/>
          <p:nvPr/>
        </p:nvPicPr>
        <p:blipFill>
          <a:blip r:embed="rId1"/>
          <a:stretch/>
        </p:blipFill>
        <p:spPr>
          <a:xfrm>
            <a:off x="3143160" y="1143000"/>
            <a:ext cx="2928960" cy="2428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Витамин С (</a:t>
            </a:r>
            <a:r>
              <a:rPr b="1" lang="ru-RU" sz="4000" spc="-1" strike="noStrike">
                <a:solidFill>
                  <a:srgbClr val="e46c0a"/>
                </a:solidFill>
                <a:latin typeface="Calibri"/>
              </a:rPr>
              <a:t>аскорбиновая кислота</a:t>
            </a: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4" descr="celebnye-svojstva-shipovnika.jpg"/>
          <p:cNvPicPr/>
          <p:nvPr/>
        </p:nvPicPr>
        <p:blipFill>
          <a:blip r:embed="rId2"/>
          <a:stretch/>
        </p:blipFill>
        <p:spPr>
          <a:xfrm>
            <a:off x="785880" y="4143240"/>
            <a:ext cx="3286080" cy="240516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2786040" y="271476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 мг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5" descr="80144852_2222299_72971956_1301768183_kapusta.jpg"/>
          <p:cNvPicPr/>
          <p:nvPr/>
        </p:nvPicPr>
        <p:blipFill>
          <a:blip r:embed="rId3"/>
          <a:stretch/>
        </p:blipFill>
        <p:spPr>
          <a:xfrm>
            <a:off x="4929120" y="4143240"/>
            <a:ext cx="3571920" cy="2357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6" descr="Pinus_sylvestris_branch.jpg"/>
          <p:cNvPicPr/>
          <p:nvPr/>
        </p:nvPicPr>
        <p:blipFill>
          <a:blip r:embed="rId4"/>
          <a:stretch/>
        </p:blipFill>
        <p:spPr>
          <a:xfrm>
            <a:off x="214200" y="1428840"/>
            <a:ext cx="2714760" cy="21272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622-300x180.jpg"/>
          <p:cNvPicPr/>
          <p:nvPr/>
        </p:nvPicPr>
        <p:blipFill>
          <a:blip r:embed="rId5"/>
          <a:stretch/>
        </p:blipFill>
        <p:spPr>
          <a:xfrm>
            <a:off x="6286680" y="1428840"/>
            <a:ext cx="26431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10:17:08Z</dcterms:created>
  <dc:creator>Катенок</dc:creator>
  <dc:description/>
  <dc:language>en-US</dc:language>
  <cp:lastModifiedBy>Руслан</cp:lastModifiedBy>
  <dcterms:modified xsi:type="dcterms:W3CDTF">2013-01-27T19:03:29Z</dcterms:modified>
  <cp:revision>77</cp:revision>
  <dc:subject/>
  <dc:title>Презентация PowerPoint</dc:title>
</cp:coreProperties>
</file>