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A97-9EC8-4769-B955-E617ACED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DD5-2718-44C2-9F2F-DB3DE23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5F94F-9627-4DD6-B49A-79FC26B6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89333-B043-4069-84E8-FDE8141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0FDA-E33B-4578-9655-2B1B4EA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0595A-D616-45C3-847B-A5DE9F4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C5800-B5B8-4AD1-A60F-A30DD50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81446-F509-4AEF-84A3-5DADF31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C7E0C-72A6-48B8-ABF2-1ECA70B5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6A6A8-9CB2-48AB-90BF-D21AF173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88BA-636F-4A2F-8D83-5AF36E74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26885-5E09-46DB-A59A-377FBFC0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EE2-F661-4CA2-BAC7-EBA1CF9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A76D8-B0A5-4F39-9887-C42FE373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C37D7-7C5B-4228-9968-7E3FC087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F509-E4DC-4579-85BC-35B37A3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F129A-0C24-4CD5-A7FB-110C9B5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76C4D-AEE3-4FCF-A504-5331690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2EAA0-3625-4735-A8E1-3FDB48D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24ABC-3CFC-4755-A2DA-40FF91B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C2E3A-4817-4751-B063-838FFAA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AD566-F87F-4F81-A23F-07A8C3E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6B17-19F5-4068-8CFE-C114A4B9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B7D-ACCB-4512-B951-8C4FB857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0EE70-7052-43C6-A62C-04D98584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78E2-47CC-47D1-A978-1162862E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509B-233A-4FAA-8A79-1918FCFE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28C10-B66E-4C52-9D55-A2785DB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0FA6-0781-4A39-8BBF-A69F5196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8D9C-F130-41D7-98F6-664266E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7E19A-FCBE-4BC8-8446-436ACF84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EA195-9453-4132-886A-474B7B5A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3C369-D5A8-4826-A770-8B2126D0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10284-FC59-4451-90E0-D894718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710-22E9-4FF0-8200-F0AAE5E8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7471-E23E-42A8-B71A-7EEEBD1E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8DCEC-EEE8-47FB-8603-2663CD22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A6C3D-A0A3-43F6-8C72-087ACBD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45203-A254-4DA7-B40A-B2D9385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51E4E-8A02-49B6-B335-DBADE4A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4749F-6FCB-43BC-A5F5-0342FF9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35806-81CF-43CD-A721-9144D39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A2BC-460A-4D5A-9ED0-0FE42F7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F37C3-F1D4-4690-8610-369888D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DD18D-9540-401F-8A92-B0A2B50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2A48-EA2D-4A04-BCD9-4F317DC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E1927-424F-424E-AAB8-0134B479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409DD-0A4A-4BF5-890D-D8DB6161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96E18-AFD1-4F2A-B492-5340D87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6B151-A02A-45B6-B4C2-2F530E27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38CF2-2C96-4C15-A93E-BEB7E703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01F54-8709-4103-B2D8-ADFB66F6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B5D19-F5F0-4661-BA87-0D9186A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A3DAA-D1DB-4546-BC6F-7D53AABD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B72AF-A68A-4A12-A18A-8945B3F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DF7BA-8778-4C9B-A090-9F8084F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875-27C8-4D68-8D9A-E1EB978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E07CA-549C-4994-B0D7-9756E54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03D0D-A569-4826-8C60-8825482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4764C-954E-4897-A816-7B107D5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1C867-F758-4611-A2FA-3E1E1FA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3127B-E58A-44C4-AC80-8A9A12C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A8180-074A-4834-99C3-86CA1984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6EF80-D170-4B6B-8FEB-452FC123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14B2A-1EB3-4449-8D43-63371474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72DEA-C722-4D1A-91BA-519D0F5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1B0C8-5D2D-425C-8428-DEF4115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DF0F-4D3E-4D6E-8F55-06CA222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6114F-5F50-4515-B1B0-368132FE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6AF5A-83BC-4412-9CE0-F7CE426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6ED2F-6FF7-4C05-8B37-21F0689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EED44-52F3-48E8-BFE2-4C0AC70F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8FC98-1A40-456B-B8E5-DE58C08C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95CD1-DC9A-4DAB-AE43-4C8174E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1FA9B-7237-4D4F-856D-46EC7EF2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D7F26-4C4C-4D03-BB8D-26D64B90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3072E-8206-489C-9D06-6923A144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6CEB8-4C1B-42EC-8D50-2ACECDFA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247-3640-4BA0-8FD0-E8A389B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119B1-A79A-409E-BDEE-8F3E02E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E5A7C-C624-434F-83E1-E299759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69608-6C71-47FB-B702-268F7724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D9E33-55E5-4BA3-B729-68A585B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6BC31-50CC-4797-A1D3-F8E36E40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E10FD-47A7-4F42-9F11-3EC384D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B1C6B-9729-4470-838A-596F743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F59D7-D73B-403D-A101-40A0D82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0005F-7927-408C-91D4-DAA6D2E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42303-F94A-488C-9EEE-E24ACD9A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A73-F30C-4D9D-B718-FFC5E1DD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E69DE-63B1-496D-BD9D-61C7248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B99DA-97A8-4A76-AF85-AB76363B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9974A-C36A-4BDE-B225-9EF94B7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6763F-D4B5-4D2B-9638-9C54D0C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63504-4B5F-4EEE-ACC2-1129AF1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92C71-A081-4841-B709-7402635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9D19A-30AE-4326-ADED-DEAAB722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03842-6BDD-4F1A-AE8A-F4B40A6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54D47-6496-497B-BA70-182F172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3C475-E6D4-462A-87F7-F9158CF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BF3D-2C65-4662-B440-5AFAA4B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AC9B2-9DA7-4CCF-A58F-04EF7559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CEEEA-1A90-4878-A028-E553836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6C35D-7C62-412F-82C8-E571A789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52EE3-9895-468E-8E76-D915CBBA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0FFD0-9776-405B-AB32-7ECD2E4B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A0727-A88E-45AC-B417-90D1C01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C6A9C-447E-4855-90BC-986C770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FAAA6-677D-476C-92D9-2CF3736F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42B37-E780-4A64-9DF4-13CB813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0B33F-F2DF-4BAF-859D-DF70AC6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802-3591-448B-9DD1-01E1E71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C4A8-9E0D-47B2-BC21-CB9DCB4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3DEC9-52F0-4D6E-985C-83DC634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80DCA-A008-4824-8BDD-D35DDBC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24BDB-3370-4DD6-9925-739F8AA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1BC9F-02DA-426B-8955-5D3BAC94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1E80F-CD5E-487B-9E39-CE9176F0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92091-A70A-4F23-8D87-ED52BECF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D039C-B425-4F58-A892-38202167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CC43A-BB53-444F-BCD9-E265D651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0E064-2497-4201-AAA8-E49C0D6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1689F-EEE5-4942-8840-DC8471B2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28EB-5D06-4B0D-9E03-CA9A6F0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F61FC-99D3-4C7E-8C06-D2F70133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AE17F-3B5B-4D04-888C-7509659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B8B05-6354-4538-83C8-CEB0F1B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D32D9-3518-42BE-9CD8-454ED37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12AD1-F3DC-4137-A6DE-9940B622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0D7AA-35AA-454D-A8D8-71A7E2AF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38F02-396E-49E9-8F86-BE077B33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EBBE4-CC9C-46A3-BF47-0DFEADF4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EE2F3-DBAB-46B1-BDE8-15F7FB0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3B678-9EC4-4426-82B9-A3068212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F0B-DEF6-42F9-AD24-8649D488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244D8-DF92-406C-9479-D4FE440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F74BF-7558-4AAA-8724-F59810E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94492-EA25-4B34-BBB7-27E575C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838D9-BFC7-47D5-8ED0-5F2C76F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3A20B-AE25-4113-A424-E4682D2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3C1AF-321F-4AD6-A3AB-735FD44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136DE-6BED-4704-937A-A83632C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4613B-A635-4B0F-B43E-2A9DF1D1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9BB72-E388-4A82-8353-8BF85A02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7F73A-B90A-48BD-9185-B32E8602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434-12E9-4B6B-88DA-F24721A8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A9828-5F6E-43C0-A53F-367798F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AB1CE-1C25-42FE-8B34-D46B2FBC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B09A4-DA76-4869-9F8C-5A4D0631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2F075-597B-436B-A386-E602EAD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9DF0C-B67B-4452-B21C-788E519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5CE14-C29E-412A-94E4-66DD569F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83E55-2DC9-43F7-B5EA-1E263B6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2E019-8CA3-4345-B854-F8F5D46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1829C7-77EA-4EBF-ADC4-DBD3377C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2A4E8-24C9-4483-8D74-94D2BFBE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744-A488-43FC-83B0-47DCD0DF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63941-F425-48F3-8CA8-4CE7CE1F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5A43D-5431-457D-8A85-ECE94450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BD7A4-50DF-49BC-817A-1C2647E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30A9C-A051-4079-A227-A2BDC70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7A730-0B02-49B2-A45E-285A9CD6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3183B-7E3C-4519-9DB6-2AAB5B8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796B2-2C29-459A-9FBE-EACF537E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0EC39-686B-4748-A3C1-23AD12B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4E42C-60DA-4F29-BE32-C55DC809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85B4E-39C4-4794-9CCE-2CC9D93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010B-4E85-45CD-9DD8-3A03A492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9D695-9573-43E6-A603-DEEC1946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A44D5-0D33-4B44-B813-8927033D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F11D2-1597-4C8E-A4D2-C1894F77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55B69C-14B5-4851-AA4A-7EB98B36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D5AD4F-B11B-4DDA-9D8E-58C4E5E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2F298-7F17-46FC-B441-F6CED96A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86A0D7-CC7F-4A71-9E17-5267720C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23F28-D3E3-4B98-8D47-41E3DE53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8D16C-5945-4276-84B4-E671A3B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1AD3B6-8DA1-4C05-9152-745CE6F3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A93F-067B-4C59-81FD-9E83E1D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01CD2-BEC2-42A8-BE22-04DCFB0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6C600-6FBE-4E74-9ED2-55D29A8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A5EF29-4474-4D50-9458-8BC7F0A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7E8C1-2B3A-43B9-ACD9-645665B3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CE2AF1-4C6B-4EB5-B75F-24E7FFE7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57719-6881-40A0-9F73-D8D528CA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5556C-830A-4F63-BC42-54D5A0D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E2B450-1C18-4BC3-846A-599A1F3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19A8E-9F15-4582-882F-43552B4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94480B-B0A1-4AAE-B17A-7C59EC3E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0BE2-0EF4-46FB-A6EA-23A3527C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A0477-3A84-4CCD-8865-402AE66E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3E910-EC8B-4B0B-BD8B-925A619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099FBA-99A5-4C72-A3DB-3792665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0626C-7992-46EA-881B-1405BCB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40151C-7DF4-4987-B066-0DA59808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24C12A-24F1-40D4-A335-5A2D5E41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544EB-96E1-4F74-8C7D-F24CE00E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64BF35-C170-4C4D-9C34-18D86D8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F662F2-83E3-44CC-955A-37F049EF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44B0F-95F1-4C6B-BFC1-125FCED2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42D2-2618-48FA-B949-E7AF5A7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6DFD82-BEF2-4F87-AD4A-4A38319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655B40-FC4B-4AFE-B6BF-16F59C9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5605BB-9B1B-46CB-ADF2-77F6273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54145-0968-4576-9507-762F17C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F3F5D-3E76-4A53-A035-1AA36A5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B6428-3E6F-4C28-962B-68F9BDE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F4688D-F6BC-4867-AFF4-57CAAD8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EAD8E3-3952-4876-ABE9-1988D0B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12A648-4E16-434E-8199-0B31C41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CF9C46-0AF7-40D7-B2BA-BF0180BA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6234-17D4-4EDE-A4C6-C117C4D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89CAD5-C75A-48E9-A6E2-F6D7B07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92381A-4675-4A90-9618-C01C5D0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08D10-F891-48B6-8259-C1475ECE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C646E1-9FEA-4E7B-A8A3-61CB6809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740044-18EE-480D-9A22-013B1852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4225C3-D30A-4602-BC64-14B4A6B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34C67F-F8D6-45CC-AC0B-A041D9B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C7A327-C7DA-4532-B8EF-319F932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544BAB-DAA4-4B1F-94DE-888A12B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D40BA9-85B3-45D7-AB30-610EF417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ACA-31C0-4953-A739-34B4F46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3C48-6E1D-4BC6-86BF-1BC4581C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991090-EBAB-45A3-A3FB-AB4141D1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2C2C5D-4774-4035-95CD-4E518100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E66368-A864-48BF-80E5-05910630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E311E8-F670-421F-8643-BCDC5240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AC993F-FFBD-461A-8F97-77D725A0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264D3D-40E4-455D-8554-198A1157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AA47F-7940-444C-8F3E-BCE711D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8852BD-A18E-480D-974C-EC3493E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E286C0-8B06-476D-83CB-0A59292C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D7895B-E9E7-4317-8670-FC08B47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1050A-7760-4E89-939F-A5C1C49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28070C-6E3B-4FD9-B6A8-93C09F00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B11A25-67BD-4222-A54A-80E37982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C1906-15B2-4795-9BEF-57CC596F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DF0A69-18A6-4D35-A87D-B0F9B78F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89DB38-F125-46CC-AF94-A8351921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5B55DB-07CD-4A87-B4BD-C61CA53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1FF44D-9B60-4924-B210-DC4A931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FA8330-A8B8-4FD3-85FB-B839372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E6C756-6B9A-4956-996F-125DE3F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C55185-8F19-4BB7-B3AE-089AF12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6EC6-4909-47C4-8C51-6E4FA88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BB348F-7F95-4F0C-B146-C05A51F5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E6D90-A222-4AEA-990C-6614599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B9C5A6-5AE2-4AFC-98CF-F4183D1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0CD2DD-635D-4A62-853E-22313B63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324308-83BC-431E-9ADF-8391A233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1AE208-87BA-4745-82F6-5F78ED8F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E7F8B4-F3B3-4B90-926D-A20CB3C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44FF51-C5AC-4286-98F9-8AF6CC2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FD96DD-9949-4078-9AAA-766771A6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3C0186-F824-4580-A6FA-73BE781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56E1-6455-4AB9-AEBC-8CBCFF3B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5DD44A-A897-4252-AAE4-4402B3C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0704DC-006D-4D75-9014-29E357A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67C7A-9CF7-4B7A-B1E1-45DE356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656088-8F30-4D0E-8C0B-4294141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310EB4-25FD-4162-AEED-A77FA34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4E4306-AA72-44F6-B648-43551841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91891D-87C3-4140-B090-A35A7A90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EC0DC7-C77B-46EE-A659-965C0F70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BA8808-7B2D-46BA-ABD4-C4D2F08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B6A9B5-30BA-4DEC-A9AC-6E301B6C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FC64-3E29-48EF-8E68-B18F7D54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FF92ED-3DDD-477B-B759-E0A94DC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462074-659B-4D46-98AD-26A02E5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5BCC37-20BF-4BD1-9A4B-0D45252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D40F31-9256-488E-B129-599629B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20D39-659E-4E78-A34A-9216B17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DFD980-3F98-4AA7-B73D-EE7D73D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15D2C7-DCFB-4C7D-B9E7-0672C3F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76E11A-2D76-428D-8192-1E6D6A60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7AE6E-0EC8-4F62-9C6E-B14EEB80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2016CC-B50A-46E4-83A3-0151468D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C601-CF7B-4C80-ACC4-AE162BA6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BEAC51-A078-46AF-8CAB-050D1E7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A940D7-20DB-48FE-8538-2DBD527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E92EBD-DA06-4204-B9FE-3A14AD42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A86EDE-7FBE-4C43-94D2-510470E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B4BC8C-3577-42D1-B0C9-F400BDE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3751B9-E1CD-41FE-9A2F-834BADF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BB2B1B-3679-4FB9-9589-A8F985C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6D78A6-72C3-4F29-8F34-DBB1F8C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1D059-A0F6-4598-B43C-0457A36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18F5EB-F992-48AC-90F2-9BCAD65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1A35-5E1D-4BED-B09A-CC7D4EF0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3531EC-FB47-4844-83E0-1418AF37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48188C-C901-4351-A192-9007034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7712F-905E-40F3-80B6-039894C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FB325-77C5-4E9A-835B-BCF2C0F5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3B2FDB-1A85-4080-AD1A-A8E29F9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2A02D0-98D9-44DE-A5B0-742DE8E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ED27FB-2928-4FC1-B80C-74DB726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BC19EC-A38C-4003-B15B-3E66AD1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4DC6EC-66AA-4EE2-9DFA-3D64660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6949FB-8821-4F1C-8A2E-410DA34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9977-F50E-4D57-AC95-9E9EC442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5A6A65-893E-42F1-908D-F971396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66AAF4-5DFC-48F6-954E-40A3410C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732850-FC1E-4932-8CEC-1A0CE271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BD2F3-495E-4C5F-9F2E-7CC5FEEA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F9D1CE-A469-4F74-BD62-D00E64A9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A14F24-1FAD-4BD5-B731-28DF088C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A4CB98-011C-44F5-B663-483B80F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B6EB89-E9B6-44C4-9A64-E5E5A571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7B3B12-19CA-4969-A1CA-92E021DF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93A71F-396D-41CA-9BA0-0FB8965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C121-C417-4A52-BF0A-726E64D7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C6E478-F789-4AAE-8926-8E9E383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603077-EC01-4FA8-A52C-8279A55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EDD660-EA70-41C5-B547-FAAEDD4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23D313-2967-414A-832D-8E4A4361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0D5C9E-08B4-411F-A646-506445D1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F4D228-2CA4-43A6-89E6-C4621BAD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897D31-4ED5-430C-88C5-A486713B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4D1DB1-0A98-46FC-B653-70432F7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DFDDFA-22C4-4A42-91C3-950B1F98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E7B991-E4D1-411B-A55E-421D67E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511C-2964-49E5-BC7C-2919278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AF8FFE-32D2-4F0E-B15A-7C3ABF72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47ACA4-C2D8-4D1B-B6C8-89EFB2A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92C07C-118F-461A-A77B-B485BD7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CB66A6-8C35-419A-8C30-83D1EF5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2CF7FE-DB9D-4B44-8B73-EB5FA1B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F1E89F-03B0-4E49-9142-13A3CA1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F61231-13C7-4232-9EA8-0C04AA3C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D90234-D91B-4B33-8C4B-DE13684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0BE883-CACB-48FA-9C9F-FB3C123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297022-6958-45AB-8F86-B178E3A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9F2-15F6-4092-93FD-71A86A5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0C25-A390-4C80-AE84-3A09C6A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DA1C96-A8D3-4700-9E88-321F5B3B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1CB418-68FE-4373-9200-2CBCB8B6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A2E513-B955-4CE1-B3E2-2F6081B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444255-2DF1-48A2-8A8E-8042211C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583B9E-B9EB-4B12-B41E-13922E3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99A2C6-B43D-4CEA-AB86-2AC8CBC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675589-B6F3-406F-90F8-4D1B79C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B03B50-3763-4CEA-AB2A-31DC40DD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6955EC-6DCE-482C-81F2-1FF0795D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7C4544-FB23-470C-95CC-B54F226C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CB94-0821-4BBD-BBF8-8F72578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B250E4-2BD5-466B-9495-F8D8FE64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6B876A-D1DC-4F2F-B726-B084DBD1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55BDB7-A4D3-4F3B-8603-11B3969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2C343B-924E-434A-905C-3411889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00FEB2-4416-4E8E-8B17-8FCE606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51F34B-1545-44FB-808A-29320B5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D0D3AE-88B1-4802-8819-150CC16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CEB9DC-C43E-444B-8C0B-2A089D1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36B930-CE4D-4550-8523-93ECC2B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BC1785-0AFF-49BA-ACEE-FF83361A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EE6A-E6AB-4097-8F53-535BD598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69258B-E983-4E06-A146-E1971358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30BC78-3005-4744-B826-59E70F60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8D9F01-7A24-4074-8CB5-322F93A5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33649E-81D6-458C-9249-76E79C3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A83CAD-9628-43C6-B815-8DE9BFFD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84B138-0822-46B0-B337-4279771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C2A80E-3C0B-4366-87CE-26E6B3E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846A90-43F5-4753-9B23-1E9465F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F8D8A9-6625-4513-AEE0-86CEEEC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B2BBE9-86EC-4826-8FEE-E6721F5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55CB-19B3-4A59-A528-F8483CA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784820-DAC3-4FA5-8DCA-78541E3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7811C6-466F-45EC-82DD-832EBA93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3BBF3C-484E-4BC4-9803-E2B983D1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218DFD-5B90-471F-B24E-1BD382B9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F8EDCC-E56D-4F47-8360-B08B61DB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BDD535-1205-4C75-B21A-6A2D586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93E31C-7192-4523-9587-66409FB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93ACE9-0EBF-4016-8B47-B6090BCA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6FE5A0-F0DF-438C-8039-CE5809E0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F5B418-7158-416C-8E23-2F9AC6C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9BE9-6A1D-4ACB-8367-5D5C747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8571DB-A09B-46B0-83B6-AF203B2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EA3055-46E2-4725-9683-516AB81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C799DF-0979-4525-B21C-57B15545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62F56C-468C-4EAC-A76F-D0EF7C2D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52AF3E-B854-4F90-A3D0-29A45E30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24DAC0-7E92-49FF-912B-E97B9B42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22F08B-BB3E-4029-89F0-7B02C490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3C8AEA-4D92-4448-A86F-8F073F6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454273-6C25-4449-9AC6-37F90273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5352CF-441F-4238-9F59-8933373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0118-3F4F-43CD-A7B9-37779F1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401F87-8CF5-4EA6-A54A-A20C4C1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AAE307-9622-4C6F-A894-577496D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C20200-D76F-4AD9-9433-DD1AA74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E6A43B-3B07-4FF5-BE99-420B058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B9242E-8D2B-4D2A-8E36-88594490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5E754-7ED2-41D1-BB68-E3D88FE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9B15E8-DA32-4FBE-B33A-18F021A8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A85674-A268-44DA-913B-1DDEE44A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AC26BA-27AB-4F7B-A63A-AECF94E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613963-267A-42F7-BEB0-C7F3E7BA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7581-D82C-4295-8ACC-05EEAC0F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F9DF96-B89B-4CF5-B651-FFA409D8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1A9EC1-3728-4BFA-A25C-3B4AAD2A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DD5160-FEA5-4625-A1CE-B1C7E79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50333E-088F-4C47-B280-388F6B3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EA4C5A-8286-48DB-9817-51ECF9D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F970B7-23EC-49C2-BC56-FA2C02A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318217-FB4F-4C8F-B7F7-9CD7529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571B76-05D3-426C-B1CC-7991DA56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080BE9-4B5C-49D2-81E0-CF72B0A6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CDB107-FFB4-457E-809A-71014419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0B19-F799-41D7-A516-AF06E440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CDD0D6-454F-42B8-9097-E9DCF49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04C9CE-FF91-4332-B2B4-ED4F756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D44101-579C-4A02-8545-4721BC2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28354C-5F9B-4FC4-B0F6-598DB13E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27B630-C3C1-4A0F-A5B5-C03354A5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4490C1-CEB9-4141-B874-6E4CFF7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27A620-F135-4C4D-8BB0-3639BE12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9EDF43-B76F-4D54-9833-A62D333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32AB5F-AB9B-494B-8CFF-CF2F5694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932596-99F8-4A5C-AFF6-E0A43A30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34E7-FBF0-450F-9899-E0B9DE07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0A88F5-EDBC-4993-99F8-E1E0E7D8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5F5A85-8EBB-46A5-AE96-C427825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CE3BFC-8F1B-422D-B36D-555DBB93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BA4D5A-1C6C-48C3-88E3-28A1E4E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0172BE-FB56-4495-A6DE-C9F3B9B5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4AE957-9127-40DE-9912-FCC3725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66F46A-1A93-4CFE-9AD5-73EB32DC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C1910B-F48C-4805-8FBC-5137501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B85957-5EE4-47EB-A3D3-120DA530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B82CCD-2C63-4C6E-AA3C-2457CD6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6DC8-C9EF-4688-9CC5-2D797FFB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CAC470-F95F-49F3-8530-68D6C7FE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5A92DB-94C8-46D0-BCB3-D6DBC35D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4AE9CA-CFD3-468B-A5B6-F855A553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87C6E3-BD15-413F-BB65-E9291408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31D435-7358-4CAB-9698-3BA0559F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36B424-9BB7-42DA-B386-9F7260F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C22AA6-8E81-44CD-A8CB-6782DFF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544A39-8B4C-4B76-923F-9E46F099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A38A26-015C-4A69-BA6D-0B356A58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7ED7A6-9B62-4E81-B550-4015C9D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DBD-A1F1-4AB4-A817-73F962C2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01054-3269-4E7C-912E-90A9FECE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7D3012-5D57-43A4-9003-4D50DE0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E2D59F-EECC-4F66-8D56-7A28393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895BCF-F61B-4C30-A68F-53F0DB31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AA0597-AAE5-42C4-86CD-F23E8EA0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B58224-B9B5-45D1-9067-3401D8F9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4F50-DF42-4796-8CBA-975BCD4E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909B-3493-40AE-B9AB-950F85B0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FF45-A065-4F47-846B-650C7110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0E724-13D4-454B-AB7A-BB8A5316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98E39-7F21-4270-9511-AC4C390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963D1-1242-48DD-B13A-32F952D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0FD0-1415-4DA0-B718-08FB003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5BA1-A119-44F7-8D9B-56EB5C4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8C62-66FC-4D46-BB4E-88F8C97D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A80-C52F-4B83-A00E-632D8AD3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9337-FA1A-4442-9E8C-CA036A5E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ABF5-A074-4A67-9EA7-DEA5B182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01E82-365F-4939-BFC2-4613DC92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5FA4-8269-4162-A917-437810A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48A04-2101-4030-83A6-176F464B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D6B9-F7A5-451F-BB45-2B71F57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C976-7AD0-448A-8800-4C04364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97B8-65EA-461F-BC61-E05E5B70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059A-571F-4106-8AAD-D0A7283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9FE9E-8A8E-4993-9C4F-39F75D9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09F-A726-43A4-81ED-C2CA551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4AD3-B879-41E4-B3BF-7961FE5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E4A1-DDBD-40D6-A832-FC118AAF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33DA-98E2-4056-B20B-35AC6BB3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901A7-56AB-4161-9E04-96B45E0C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A4AD-CA52-4F2E-8E51-EE23B8B7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4E101-9AA4-483E-AE4B-42CD6B1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157C-AE97-4C7F-83F2-BF96954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C224-EC2F-4506-A8F1-89871C6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00A1-2FA8-43CD-BDEA-8883ABC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2E6E-BC5F-42AF-93C1-3191B55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636-39FF-4791-B30E-96693FF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F2251-D69F-401D-AEC1-B5C71DB6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6817-CF91-4A61-B4C1-3794AC2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C62B-0D3C-452C-B9A9-7947A6C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4CE5-5B72-4C95-8F1F-5EF9ED72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145F-AD35-4901-93D2-A55D4A9D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BEE2-89B4-4380-BBDE-46E59CB4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4C30F-DCCB-4F3E-8558-94D736A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2113-BA43-469B-925E-F366552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0FBAE-3C57-4098-A175-DF5DCF2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194B-FF4A-407A-BDCE-BE9C3711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5E0-B2BE-4B20-83B9-F1946D6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76F7-10F9-4133-9158-9A9F64D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C9F3-B4EE-45BD-B8E6-DB6C99D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4703-D3D5-4DAB-A0BD-F3C9BB6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CB159-EC3B-4905-8850-A2C9639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FBF4-D18D-49F3-A53B-CAFF45D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6411-51FE-40F1-9D31-FB35CE63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4C5C-0FD5-44AC-A9AC-3AD444F5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9A456-CCD1-4823-A42B-EF5097FE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1F9F5-8FEF-42CD-9862-7A0BC2C5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17F3-5DB3-48F5-BC57-E2E2067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EFD-2B2F-4D95-95AB-F7AD45D24F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067-99AD-47FD-8394-3BD11A977B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C96-CCBE-42E6-9244-B4FAE74947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51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A40C-337B-49CD-8CFA-C31C35557E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6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6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6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3A4-A3C2-4C8B-B382-043BA5343B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61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1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6AC-C99A-423D-B493-6399AAFDB2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F4B-95CC-453F-988D-C3F9FDCAA0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9DE-9B6E-4833-A8BF-EF89ACBF8B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FFDC-0A58-4D45-AB92-61043A2C81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78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78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143D-FC60-4871-BF81-04813BF879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3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3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3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3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83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3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1C9-E079-40A0-9A7B-AEFCA2D5D4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D739-C6C8-40BA-9FC7-D0BEF838B6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8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88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8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BC1E-D702-488B-BCD5-6C1881ACA4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E84-820B-4196-8320-540BB10B8E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1F1-A09F-489A-8241-039EFF0F08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FC47-A2E1-4676-99A9-1257123E7D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5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502-8269-408A-85F5-504A08C448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0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0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0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0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10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0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4D39-7679-4612-AA5A-746AA4BB9D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5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5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7E2-ACDD-4F2F-8A2E-1E61CD31C7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A24-6615-4721-9EFE-AE7792BF6B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915-E4C6-41C3-B54A-989A47317B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A88-3712-48FC-9949-B4B963D2FA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903-D580-4E2E-855F-1146C3DBF6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32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2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62E0-F608-4AAD-BD54-9986EA84AC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7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7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7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7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7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7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5FF-D826-4047-9649-1C3D28CC3C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2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2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42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940-0BB8-44C1-B9CE-AF3915F9A5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5AF-7A91-4F5A-B16C-01C6070C7C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16F-DC40-485A-A1C4-00F35485711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5E3-7340-4F07-8356-17E26FD14B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9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9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562E-5FEE-48A4-B35F-5EA2DD1A5E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4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64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4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4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64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4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084-DD37-4267-8041-BB74192042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9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69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4FF-B396-427E-A53B-EAFA910187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CC3-B631-42AE-B235-CFF3D018B4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7616-5F7E-4473-9E23-1F701C21B6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8A5-021B-4E35-8931-12B0378050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C26-63C1-45D7-8F73-7521DA54B1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86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86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1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1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1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57C-3FBD-4EFE-812C-01DAD6A681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5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2C9-2873-4B8A-B93D-DDFBBEBFF8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4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CC20-E432-457E-A579-A30407382A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9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9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9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9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9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9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73CA-ECDC-448A-A3BB-A5AA29C29C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343" name="Овал 15" descr=""/>
            <p:cNvPicPr/>
            <p:nvPr/>
          </p:nvPicPr>
          <p:blipFill>
            <a:blip r:embed="rId2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D953-713B-42C0-9DC1-582010EADA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90D-2824-474D-986C-3983D6FB8A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ФОРМИРОВАНИ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УНИВЕРСАЛЬНЫХ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УЧЕБНЫХ ДЕЙСТВИЙ </a:t>
            </a:r>
            <a:br>
              <a:rPr sz="54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2" name="Picture 7" descr="db823433aae2"/>
          <p:cNvPicPr/>
          <p:nvPr/>
        </p:nvPicPr>
        <p:blipFill>
          <a:blip r:embed="rId1"/>
          <a:stretch/>
        </p:blipFill>
        <p:spPr>
          <a:xfrm>
            <a:off x="571680" y="6072120"/>
            <a:ext cx="8207280" cy="647640"/>
          </a:xfrm>
          <a:prstGeom prst="rect">
            <a:avLst/>
          </a:prstGeom>
          <a:ln w="0">
            <a:noFill/>
          </a:ln>
        </p:spPr>
      </p:pic>
      <p:sp>
        <p:nvSpPr>
          <p:cNvPr id="1943" name="Содержимое 2"/>
          <p:cNvSpPr/>
          <p:nvPr/>
        </p:nvSpPr>
        <p:spPr>
          <a:xfrm>
            <a:off x="1928880" y="1785960"/>
            <a:ext cx="5429160" cy="450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озн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активно 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ладеющи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основами умения учиться, способный  к организации соб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любя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свой народ, 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уважа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и принимающий 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готовый</a:t>
            </a:r>
            <a:r>
              <a:rPr b="0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самостоятельно действовать и отвечать за свои поступки перед семьей и обществом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доброжелательны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, умеющий слушать и слышать собеседника, обосновывать  свою позицию, высказывать свое мнение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654c"/>
                </a:solidFill>
                <a:latin typeface="Corbel"/>
                <a:ea typeface="Times New Roman"/>
              </a:rPr>
              <a:t>выполняющ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правила здорового и безопасного для себя и окружающих образа жизни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(ФГОС НОО, стр.7, раздел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4" name="Заголовок 1"/>
          <p:cNvSpPr/>
          <p:nvPr/>
        </p:nvSpPr>
        <p:spPr>
          <a:xfrm>
            <a:off x="1285920" y="500040"/>
            <a:ext cx="7286760" cy="9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3200" spc="-1" strike="noStrike">
                <a:solidFill>
                  <a:srgbClr val="c0654c"/>
                </a:solidFill>
                <a:latin typeface="Corbel"/>
                <a:ea typeface="Times New Roman"/>
              </a:rPr>
              <a:t>«Портрет выпускника начальной школы»</a:t>
            </a:r>
            <a:br>
              <a:rPr sz="36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5" name="Рисунок 4" descr="Копия j0435841.wmf"/>
          <p:cNvPicPr/>
          <p:nvPr/>
        </p:nvPicPr>
        <p:blipFill>
          <a:blip r:embed="rId2"/>
          <a:stretch/>
        </p:blipFill>
        <p:spPr>
          <a:xfrm rot="21423000">
            <a:off x="244440" y="2257200"/>
            <a:ext cx="1800360" cy="4020840"/>
          </a:xfrm>
          <a:prstGeom prst="rect">
            <a:avLst/>
          </a:prstGeom>
          <a:ln w="0">
            <a:noFill/>
          </a:ln>
        </p:spPr>
      </p:pic>
      <p:pic>
        <p:nvPicPr>
          <p:cNvPr id="1946" name="Рисунок 5" descr="Копия j0435773.wmf"/>
          <p:cNvPicPr/>
          <p:nvPr/>
        </p:nvPicPr>
        <p:blipFill>
          <a:blip r:embed="rId3"/>
          <a:stretch/>
        </p:blipFill>
        <p:spPr>
          <a:xfrm rot="206400">
            <a:off x="7489800" y="2828880"/>
            <a:ext cx="15541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42640" y="512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rbel"/>
              </a:rPr>
              <a:t>Универсальные учебные действия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0" name="Скругленный прямоугольник 4"/>
          <p:cNvSpPr/>
          <p:nvPr/>
        </p:nvSpPr>
        <p:spPr>
          <a:xfrm>
            <a:off x="1214280" y="2357280"/>
            <a:ext cx="3643560" cy="400068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000680"/>
              <a:gd name="textAreaBottom" fmla="*/ 3822840 h 4000680"/>
            </a:gdLst>
            <a:ahLst/>
            <a:rect l="textAreaLeft" t="textAreaTop" r="textAreaRight" b="textAreaBottom"/>
            <a:pathLst>
              <a:path w="21600" h="23717">
                <a:moveTo>
                  <a:pt x="3600" y="0"/>
                </a:moveTo>
                <a:arcTo wR="3600" hR="3600" stAng="16200000" swAng="-5400000"/>
                <a:lnTo>
                  <a:pt x="0" y="20117"/>
                </a:lnTo>
                <a:arcTo wR="3600" hR="3600" stAng="10800000" swAng="-5400000"/>
                <a:lnTo>
                  <a:pt x="18000" y="23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rbel"/>
              </a:rPr>
              <a:t>в широком значении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ение учиться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1" name="Скругленный прямоугольник 5"/>
          <p:cNvSpPr/>
          <p:nvPr/>
        </p:nvSpPr>
        <p:spPr>
          <a:xfrm>
            <a:off x="1071720" y="500040"/>
            <a:ext cx="800100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2" name="Скругленный прямоугольник 6"/>
          <p:cNvSpPr/>
          <p:nvPr/>
        </p:nvSpPr>
        <p:spPr>
          <a:xfrm>
            <a:off x="5143680" y="2357280"/>
            <a:ext cx="3714480" cy="40006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4000680"/>
              <a:gd name="textAreaBottom" fmla="*/ 3819600 h 400068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rbel"/>
              </a:rPr>
              <a:t>в узком значени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3" name="Прямая соединительная линия 8"/>
          <p:cNvSpPr/>
          <p:nvPr/>
        </p:nvSpPr>
        <p:spPr>
          <a:xfrm flipH="1">
            <a:off x="3035160" y="1428840"/>
            <a:ext cx="2036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4" name="Прямая соединительная линия 9"/>
          <p:cNvSpPr/>
          <p:nvPr/>
        </p:nvSpPr>
        <p:spPr>
          <a:xfrm>
            <a:off x="5072040" y="1428840"/>
            <a:ext cx="1928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7715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Функции универсальных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:</a:t>
            </a:r>
            <a:br>
              <a:rPr sz="39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обеспечение возможносте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создание услов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гармоничного развития личности и её самореализации на основе готовности к непрерывному образованию;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ению успешного усвоения знаний, формирования умений, навыков и компетентностей в любой предметной области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Овал 6"/>
          <p:cNvSpPr/>
          <p:nvPr/>
        </p:nvSpPr>
        <p:spPr>
          <a:xfrm>
            <a:off x="6084720" y="3284640"/>
            <a:ext cx="28576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071440" y="71388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Виды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8" name="Овал 4"/>
          <p:cNvSpPr/>
          <p:nvPr/>
        </p:nvSpPr>
        <p:spPr>
          <a:xfrm>
            <a:off x="1571760" y="357120"/>
            <a:ext cx="678636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9" name="Овал 5"/>
          <p:cNvSpPr/>
          <p:nvPr/>
        </p:nvSpPr>
        <p:spPr>
          <a:xfrm>
            <a:off x="1187280" y="328464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0" name="Овал 7"/>
          <p:cNvSpPr/>
          <p:nvPr/>
        </p:nvSpPr>
        <p:spPr>
          <a:xfrm>
            <a:off x="2500200" y="4500720"/>
            <a:ext cx="2857680" cy="142848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1" name="Овал 8"/>
          <p:cNvSpPr/>
          <p:nvPr/>
        </p:nvSpPr>
        <p:spPr>
          <a:xfrm>
            <a:off x="4716360" y="4508640"/>
            <a:ext cx="2857680" cy="142848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2" name="Прямая соединительная линия 10"/>
          <p:cNvSpPr/>
          <p:nvPr/>
        </p:nvSpPr>
        <p:spPr>
          <a:xfrm flipH="1">
            <a:off x="3687840" y="2525760"/>
            <a:ext cx="127800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3" name="Прямая соединительная линия 12"/>
          <p:cNvSpPr/>
          <p:nvPr/>
        </p:nvSpPr>
        <p:spPr>
          <a:xfrm flipH="1">
            <a:off x="3929040" y="2525760"/>
            <a:ext cx="103680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4" name="Прямая соединительная линия 13"/>
          <p:cNvSpPr/>
          <p:nvPr/>
        </p:nvSpPr>
        <p:spPr>
          <a:xfrm>
            <a:off x="4965840" y="2525760"/>
            <a:ext cx="117936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5" name="Прямая соединительная линия 14"/>
          <p:cNvSpPr/>
          <p:nvPr/>
        </p:nvSpPr>
        <p:spPr>
          <a:xfrm>
            <a:off x="4965840" y="2525760"/>
            <a:ext cx="153648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Прямоугольник 58"/>
          <p:cNvSpPr/>
          <p:nvPr/>
        </p:nvSpPr>
        <p:spPr>
          <a:xfrm>
            <a:off x="6064200" y="3789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Прямоугольник 59"/>
          <p:cNvSpPr/>
          <p:nvPr/>
        </p:nvSpPr>
        <p:spPr>
          <a:xfrm>
            <a:off x="4936320" y="50846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8" name="Прямоугольник 60"/>
          <p:cNvSpPr/>
          <p:nvPr/>
        </p:nvSpPr>
        <p:spPr>
          <a:xfrm>
            <a:off x="2640240" y="5084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9" name="Прямоугольник 61"/>
          <p:cNvSpPr/>
          <p:nvPr/>
        </p:nvSpPr>
        <p:spPr>
          <a:xfrm>
            <a:off x="1632960" y="3789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Этапы формирования УУД </a:t>
            </a:r>
            <a:br>
              <a:rPr sz="2800"/>
            </a:b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одних и тех же действий на материале разных предмет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  <a:ea typeface="Arial"/>
              </a:rPr>
              <a:t>1 этап   «</a:t>
            </a: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Представление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* Выполнение учебного  действия по образцу, содержащему необходимый способ действ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Corbel"/>
                <a:ea typeface="Arial"/>
              </a:rPr>
              <a:t>2 этап   «</a:t>
            </a:r>
            <a:r>
              <a:rPr b="1" lang="ru-RU" sz="2800" spc="-1" strike="noStrike">
                <a:solidFill>
                  <a:srgbClr val="feb80a"/>
                </a:solidFill>
                <a:latin typeface="Corbel"/>
              </a:rPr>
              <a:t>Способ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*  Осуществление способа действия по прямому указанию на его название (назначение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0320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  <a:ea typeface="Arial"/>
              </a:rPr>
              <a:t>3 этап    « </a:t>
            </a: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Универсальное учебное действие 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*   Применение способа действия в контексте учебной задачи (цел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067520" cy="865080"/>
          </a:xfrm>
          <a:prstGeom prst="rect">
            <a:avLst/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умею и знаю как…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3" name="Прямоугольник 4"/>
          <p:cNvSpPr/>
          <p:nvPr/>
        </p:nvSpPr>
        <p:spPr>
          <a:xfrm>
            <a:off x="1409400" y="1557360"/>
            <a:ext cx="5004360" cy="5205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оставлять целое из частей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4" name="Прямоугольник 5"/>
          <p:cNvSpPr/>
          <p:nvPr/>
        </p:nvSpPr>
        <p:spPr>
          <a:xfrm>
            <a:off x="1315080" y="2346480"/>
            <a:ext cx="6755400" cy="5205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делать выводы на основе примеров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Прямоугольник 6"/>
          <p:cNvSpPr/>
          <p:nvPr/>
        </p:nvSpPr>
        <p:spPr>
          <a:xfrm>
            <a:off x="1284120" y="3213000"/>
            <a:ext cx="5880600" cy="5205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объединять примеры в групп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6" name="Прямоугольник 7"/>
          <p:cNvSpPr/>
          <p:nvPr/>
        </p:nvSpPr>
        <p:spPr>
          <a:xfrm>
            <a:off x="1384560" y="4076640"/>
            <a:ext cx="3660120" cy="5205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 работать в групп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7" name="Прямоугольник 8"/>
          <p:cNvSpPr/>
          <p:nvPr/>
        </p:nvSpPr>
        <p:spPr>
          <a:xfrm>
            <a:off x="1363320" y="5084640"/>
            <a:ext cx="4626360" cy="5205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 оценивать свою работу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6760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сформированности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х видов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иверсальных учебных действий:</a:t>
            </a:r>
            <a:r>
              <a:rPr b="0" lang="ru-RU" sz="3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3300"/>
            </a:br>
            <a:br>
              <a:rPr sz="39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200" spc="-1" strike="noStrike">
                <a:solidFill>
                  <a:srgbClr val="c0654c"/>
                </a:solidFill>
                <a:latin typeface="Corbel"/>
              </a:rPr>
              <a:t>показательность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конкретного вида универсальны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учебных действий для общей характеристики уровн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развития класс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200" spc="-1" strike="noStrike">
                <a:solidFill>
                  <a:srgbClr val="c0654c"/>
                </a:solidFill>
                <a:latin typeface="Corbel"/>
              </a:rPr>
              <a:t>учет системного характера</a:t>
            </a:r>
            <a:r>
              <a:rPr b="0" lang="ru-RU" sz="2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идов универсальны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учебных действи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200" spc="-1" strike="noStrike">
                <a:solidFill>
                  <a:srgbClr val="c0654c"/>
                </a:solidFill>
                <a:latin typeface="Corbel"/>
              </a:rPr>
              <a:t>учет</a:t>
            </a:r>
            <a:r>
              <a:rPr b="0" lang="ru-RU" sz="2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i="1" lang="ru-RU" sz="2200" spc="-1" strike="noStrike">
                <a:solidFill>
                  <a:srgbClr val="c0654c"/>
                </a:solidFill>
                <a:latin typeface="Corbel"/>
              </a:rPr>
              <a:t>возрастной специфики</a:t>
            </a:r>
            <a:r>
              <a:rPr b="0" lang="ru-RU" sz="2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идов универсальны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учебных действий;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i="1" lang="ru-RU" sz="2200" spc="-1" strike="noStrike">
                <a:solidFill>
                  <a:srgbClr val="c0654c"/>
                </a:solidFill>
                <a:latin typeface="Corbel"/>
              </a:rPr>
              <a:t>возможности объективирования</a:t>
            </a:r>
            <a:r>
              <a:rPr b="0" lang="ru-RU" sz="2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войств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универсальных учебных действий при решени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типовой задачи, их качественной и количествен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оценки.</a:t>
            </a:r>
            <a:br>
              <a:rPr sz="39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нципы работы по формированию УУД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0" name="Прямоугольник 2"/>
          <p:cNvSpPr/>
          <p:nvPr/>
        </p:nvSpPr>
        <p:spPr>
          <a:xfrm>
            <a:off x="1042920" y="836640"/>
            <a:ext cx="79218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ирование УУД является целенаправленным, системным процессом, который реализуется через все предметные области  и внеурочную деятель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данные стандартом УУД определяют акценты в отборе содержания, планировании  и организации  образовательного процесса с учетом возрастно-психологических особенностей обучающихс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хема работы над формированием конкретных УУД каждого вида указывается в тематическом планировании, технологических картах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ровень сформированности УУД оценивается в соответствии в выполнением требований к результатам освоения учебного процесса  по каждому предмет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едагогическое сопровождение этого процесса  осуществляется с помощью Универсального интегрированного Портфолио,  который является  процессуальным способом оценки достижений учащихся в развитии универсальных учебных действий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езультаты усвоения УУД формулируются для каждого класса и являются ориентиром при организации мониторинга их достижен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Прямоугольник 3"/>
          <p:cNvSpPr/>
          <p:nvPr/>
        </p:nvSpPr>
        <p:spPr>
          <a:xfrm>
            <a:off x="971640" y="9360"/>
            <a:ext cx="799308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  ДЛЯ ПРОВЕДЕНИЯ ДИАГНОСТИ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Лесенка» (1- 4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ценка школьной мотивации (1-2 класс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отивация учения и эмоционального отношения к                                             учению (А.Д. Андреев)( 3 -    4 класс.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Что такое хорошо и что такое плохо» (1-2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конченные предложения» (3-4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исование по точкам (1 класс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рректурная проба (2- 4 класс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айди отличия» - сравнение картинок (1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деление существенных признаков (2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Логические закономерности (3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следование словесно- логического мышления (4 класс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Узор под диктов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Рукавички»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Левая и правая стороны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Совместная  сортировка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Дорога к дому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45072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Кто прав?»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1:40:29Z</dcterms:created>
  <dc:creator>Швайка</dc:creator>
  <dc:description/>
  <dc:language>en-US</dc:language>
  <cp:lastModifiedBy>Алёна</cp:lastModifiedBy>
  <dcterms:modified xsi:type="dcterms:W3CDTF">2014-04-27T15:02:58Z</dcterms:modified>
  <cp:revision>10</cp:revision>
  <dc:subject/>
  <dc:title>ФОРМИРОВАНИЕ  УНИВЕРСАЛЬНЫХ  УЧЕБНЫХ ДЕЙСТВИЙ  И ИХ МЕСТО  В ОБРАЗОВАТЕЛЬНОЙ ПРОГРАММЕ ШКОЛЫ                                               </dc:title>
</cp:coreProperties>
</file>