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F228-3216-47C1-96B5-906FA243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1E54E-BEFE-4C23-A92B-CA2C340BA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8FD0-95EB-477A-AA29-F4C934A26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FEA0-E532-41DE-A1F8-CA0788833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21CAD-6BFA-4362-9D13-239E08E16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56A0A-BAA9-47C1-BB27-1578F31CD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FF9A-7DDF-41BA-8F9B-F61465E8B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698E-E50E-4333-AE60-1A18C4155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05B0C-6CB6-4235-9D38-B27DBDBA1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2043-C276-48F7-AC57-F1195FA00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27ECE-CACB-493B-BE95-4DF2FB89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DF4D-29DF-4300-8A5D-53ABBC2D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8695C-E1D2-4BD3-8E3A-DC3D6D3E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99048-D908-48A1-A4DE-12714B11B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FE559-0E20-44F0-B020-BB9BB1466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1C871-E2C3-437B-ADEB-75DB55080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CCC4-701C-457E-948D-E6F4D0C7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566E-7E87-4623-BA65-B438D273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5533-223B-46B9-8FBD-93297BB70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C07B5-C2E5-4F8F-B62C-F44E77D71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8F58-771B-4AAF-B42A-FD86CFF99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EA044-A6C4-4E4E-8409-6AD8B22E4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7F6E-BC16-4DB5-B64F-FB8FB4F9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26CD-A5C3-4421-86D5-39221C820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145C-8AE7-4541-8757-CDFD759FEBA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AD750-ED55-49F4-8AF8-09918D23A14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5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b7"/>
                </a:solidFill>
                <a:latin typeface="Arial Black"/>
              </a:rPr>
              <a:t>Как  образуются снежинки</a:t>
            </a: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42920" y="2781000"/>
            <a:ext cx="71294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Невидимые водяные пары поднимаются высоко в небо, где сильный холод. Там пары превращаются в крохотные кристаллики льда. Льдинки растут, увеличиваются их лучики, постепенно они становятся красивыми снежинкам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НЕЖИНКА ОЛЕДЕНЕЛ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НЕЖИНКА КРУПОВИДНАЯ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ВЫ ловили снежинки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Что происходит со снежинкой, когда она падает вам на руку или когда вы её близко рассматриваете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Снежинка тает. Можно утверждать, что снежинка- вода в твёрдом состоян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стается от снежинки лишь крохотная капелька воды. Снег на 95% состоит из воздух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94920" y="2707920"/>
            <a:ext cx="820908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Японский учёный Накая Укитиро первым создал классификацию снежинок( выделил 41 вид снежинок). Его именем назван единственный в мире музей снежинок , расположенный на острове Хоккайд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684000" y="620280"/>
            <a:ext cx="8002440" cy="166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b7"/>
                </a:solidFill>
                <a:latin typeface="Arial Black"/>
              </a:rPr>
              <a:t>Классификация твёрдых осадков была принята в 1951 году Международной Комиссией по Снегу и Льду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арктических и горных регионах розовый или даже красный снег – обычное явление. Его окрашивают живущие между кристаллов снега водоросл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69 году в Швеции выпал чёрный снег. Он впитал в себя из атмосферы копоть и промышленные загрязн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нег бывает только белы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нег бывает зелёным</a:t>
            </a: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 1955 году в штате Калифорния выпал зелёный фосфоресцирующий снег. Те кто рискнул его попробовать, вскоре скончались. У тех, кто брал в руки, появилась сыпь и кожный зуд. По сей день происхождение зелёных хлопьев остаётся тай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ФОРМА СНЕЖИНО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528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гда снежинки становятся достаточно тяжелыми, то они падают вниз. Снежинки имеют красивую форму. Нет и двух одинаковых! Учёные выделили 9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7 основных форм снежинок и дополнительные виды обледеневших осадков. Им дали интересные назва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ПЛАСТИНК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6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ВЕЗДА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(звёздчатые дендриты)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ОЛБИК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ИГЛ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ПУШИНКА</a:t>
            </a:r>
            <a:br>
              <a:rPr sz="3600"/>
            </a:b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(пространственные дендриты)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ЁЖ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или неправильные формы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Снежин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ЗАПОНКА или столбцы </a:t>
            </a:r>
            <a:br>
              <a:rPr sz="4000"/>
            </a:br>
            <a:r>
              <a:rPr b="1" lang="ru-RU" sz="4000" spc="-1" strike="noStrike">
                <a:solidFill>
                  <a:srgbClr val="ffffb7"/>
                </a:solidFill>
                <a:latin typeface="Arial Black"/>
              </a:rPr>
              <a:t>с наконечниками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09:53:37Z</dcterms:created>
  <dc:creator>Alex</dc:creator>
  <dc:description/>
  <dc:language>en-US</dc:language>
  <cp:lastModifiedBy>владимир</cp:lastModifiedBy>
  <dcterms:modified xsi:type="dcterms:W3CDTF">2010-03-18T10:46:52Z</dcterms:modified>
  <cp:revision>4</cp:revision>
  <dc:subject/>
  <dc:title>Как  образуются снежинки?</dc:title>
</cp:coreProperties>
</file>