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0A3D0-F35E-4B2C-B1D8-BF687921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8DD4-C8E0-4B69-99A4-9CC54265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9243-6F0E-43BC-80D5-C0A8C5FC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54EE9-9685-4B94-BDEA-FCF9D922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04B7-16DA-4CF6-BEA5-04EA2CE9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0905-A85F-4550-8233-17779AFC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045B-83BD-4C68-BDFA-4803543A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D539-90C0-4C7F-B490-8E60693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9809-5EF9-4B55-8270-14930A93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9C11-92E5-4478-992A-85581FC4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27F1-86B6-4365-A59D-22F02074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2A34-4CD1-411B-BD84-8D5EB707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4014-FF20-4CD6-9492-594944DA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9F8F-3143-442B-BFDB-01A49C2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5FEA-AC27-4514-83A6-73E63A1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0C7B-C3F9-4D08-8506-25F8CCD6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FAF-3138-4F9A-A272-AF87C5CD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70BAB-83A4-4059-9BCF-EAFE5778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67D8-852D-4B68-8F22-0835A2F0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94E76-49DA-40C4-BAA9-7895C02C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5169F-F11F-4531-A13D-51C6527F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D56C-DD3A-4431-9E14-0346765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4E94-943C-4073-917F-8B709250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0D61-C3B7-4077-96FD-9DD144B5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B4A-E63D-44A5-8792-8BB7091663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2e3f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2b4135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83d32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33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50000">
                  <a:srgbClr val="314b3d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334d3f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334d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83930"/>
                </a:gs>
                <a:gs pos="100000">
                  <a:srgbClr val="2133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3B4-C4F6-4CCA-8E2E-BC1B995E387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text=&#1083;&#1086;&#1093;&#1072;&#1085;&#1100;%20&#1092;&#1086;&#1090;&#1086;%20&#1082;&#1088;&#1077;&#1089;&#1090;&#1100;&#1103;&#1085;&#1089;&#1082;&#1072;&#1103;%20&#1091;&#1090;&#1074;&#1072;&#1088;&#1100;%20&#1092;&#1086;&#1090;&#1086;&amp;img_url=http://www.blagievesti.ru/uploads/posts/2011-04/13017388042416049.png&amp;pos=0&amp;rpt=simage&amp;stype=image&amp;lr=35&amp;noreask=1&amp;source=wiz&amp;uinfo=sw-1093-sh-614-ww-1079-wh-507-pd-1.25-wp-16x9_1366x76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pin=1&amp;img_url=http://s4.lot.aystatic.by/200x200/877/459/508/508459877_0_Lev_Tolstoy__Voyna_i_mir__Anna_Karenina__audioknigi_v_mp3.jpg&amp;uinfo=sw-1093-sh-614-ww-1079-wh-507-pd-1.25-wp-16x9_1366x768&amp;text=&#1087;&#1086;&#1088;&#1090;&#1088;&#1077;&#1090;%20&#1083;&#1100;&#1074;&#1072;%20%20&#1090;&#1086;&#1083;&#1089;&#1090;&#1086;&#1075;&#1086;&amp;noreask=1&amp;pos=21&amp;rpt=simage&amp;lr=35&amp;pin=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pics.top.rbc.ru/top_pics/uniora/94/1177412195_0994.250x200.jpeg&amp;uinfo=sw-1093-sh-614-ww-1079-wh-521-pd-1.25-wp-16x9_1366x768&amp;_=1415642579214&amp;viewport=wide&amp;p=2&amp;text=&#1087;&#1086;&#1088;&#1090;&#1088;&#1077;&#1090;%20&#1083;&#1100;&#1074;&#1072;%20%20&#1090;&#1086;&#1083;&#1089;&#1090;&#1086;&#1075;&#1086;%20&#1074;%20&#1103;&#1089;&#1085;&#1086;&#1081;%20&#1087;&#1086;&#1083;&#1103;&#1085;&#1077;&amp;noreask=1&amp;pos=72&amp;rpt=simage&amp;lr=35&amp;pin=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yandex.ru/images/search?source=wiz&amp;img_url=http://pechora.virtbox.ru/archlib/images/dd9/1821866.jpg&amp;uinfo=sw-1093-sh-614-ww-1079-wh-521-pd-1.25-wp-16x9_1366x768&amp;_=1415642625899&amp;viewport=wide&amp;p=3&amp;text=&#1087;&#1086;&#1088;&#1090;&#1088;&#1077;&#1090;%20&#1083;&#1100;&#1074;&#1072;%20%20&#1090;&#1086;&#1083;&#1089;&#1090;&#1086;&#1075;&#1086;%20&#1074;%20&#1103;&#1089;&#1085;&#1086;&#1081;%20&#1087;&#1086;&#1083;&#1103;&#1085;&#1077;&amp;noreask=1&amp;pos=108&amp;rpt=simage&amp;lr=35&amp;pin=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img.encyc.yandex.net/illustrations/bse/pictures/02551/182660-95x96_.jpg&amp;uinfo=sw-1093-sh-614-ww-1079-wh-507-pd-1.25-wp-16x9_1366x768-lt-866&amp;text=&#1087;&#1086;&#1088;&#1090;&#1088;&#1077;&#1090;%20&#1083;&#1100;&#1074;&#1072;%20%20&#1090;&#1086;&#1083;&#1089;&#1090;&#1086;&#1075;&#1086;%20&#1074;%20&#1103;&#1089;&#1085;&#1086;&#1081;%20&#1087;&#1086;&#1083;&#1103;&#1085;&#1077;&amp;noreask=1&amp;pos=19&amp;lr=35&amp;rpt=simage&amp;pin=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cs3.livemaster.ru/zhurnalfoto/c/5/7/130504014612.jpg&amp;uinfo=sw-1093-sh-614-ww-1079-wh-507-pd-1.25-wp-16x9_1366x768-lt-866&amp;text=&#1087;&#1086;&#1088;&#1090;&#1088;&#1077;&#1090;%20&#1083;&#1100;&#1074;&#1072;%20%20&#1090;&#1086;&#1083;&#1089;&#1090;&#1086;&#1075;&#1086;%20&#1074;%20&#1103;&#1089;&#1085;&#1086;&#1081;%20&#1087;&#1086;&#1083;&#1103;&#1085;&#1077;&amp;noreask=1&amp;pos=7&amp;lr=35&amp;rpt=simage&amp;pin=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yandex.ru/images/search?source=wiz&amp;img_url=http://www.proza.ru/pics/2014/03/31/1100.jpg&amp;uinfo=sw-1093-sh-614-ww-1079-wh-521-pd-1.25-wp-16x9_1366x768&amp;_=1415642514300&amp;viewport=wide&amp;p=1&amp;text=&#1087;&#1086;&#1088;&#1090;&#1088;&#1077;&#1090;%20&#1083;&#1100;&#1074;&#1072;%20%20&#1090;&#1086;&#1083;&#1089;&#1090;&#1086;&#1075;&#1086;%20&#1074;%20&#1103;&#1089;&#1085;&#1086;&#1081;%20&#1087;&#1086;&#1083;&#1103;&#1085;&#1077;&amp;noreask=1&amp;pos=49&amp;rpt=simage&amp;lr=35&amp;pin=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yandex.ru/images/search?source=wiz&amp;img_url=http://www.fresher.ru/manager_content/images2/neizvestnye-fakty-iz-zhizni-lva-nikolaevicha-tolstogo/big/3.jpg&amp;uinfo=sw-1093-sh-614-ww-1079-wh-507-pd-1.25-wp-16x9_1366x768-lt-866&amp;text=&#1087;&#1086;&#1088;&#1090;&#1088;&#1077;&#1090;%20&#1083;&#1100;&#1074;&#1072;%20%20&#1090;&#1086;&#1083;&#1089;&#1090;&#1086;&#1075;&#1086;%20&#1074;%20&#1103;&#1089;&#1085;&#1086;&#1081;%20&#1087;&#1086;&#1083;&#1103;&#1085;&#1077;&amp;noreask=1&amp;pos=14&amp;lr=35&amp;rpt=simage&amp;pin=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yandex.ru/images/search?source=wiz&amp;img_url=http://bse.sci-lib.com/a_pictures/05/16/297601418.jpg&amp;uinfo=sw-1093-sh-614-ww-1079-wh-521-pd-1.25-wp-16x9_1366x768&amp;_=1415642514300&amp;viewport=wide&amp;p=1&amp;text=&#1087;&#1086;&#1088;&#1090;&#1088;&#1077;&#1090;%20&#1083;&#1100;&#1074;&#1072;%20%20&#1090;&#1086;&#1083;&#1089;&#1090;&#1086;&#1075;&#1086;%20&#1074;%20&#1103;&#1089;&#1085;&#1086;&#1081;%20&#1087;&#1086;&#1083;&#1103;&#1085;&#1077;&amp;noreask=1&amp;pos=30&amp;rpt=simage&amp;lr=35&amp;pin=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text=&#1072;&#1079;&#1073;&#1091;&#1082;&#1072;%20&#1090;&#1086;&#1083;&#1089;&#1090;&#1086;&#1075;&#1086;&amp;img_url=http://lit.1september.ru/2005/17/4.jpg&amp;pos=1&amp;rpt=simage&amp;stype=image&amp;lr=35&amp;noreask=1&amp;source=wiz&amp;uinfo=sw-1093-sh-614-ww-1079-wh-507-pd-1.25-wp-16x9_1366x768-lt-296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yandex.ru/images/search?text=&#1072;&#1088;&#1080;&#1092;&#1084;&#1077;&#1090;&#1080;&#1082;&#1072;%20&#1090;&#1086;&#1083;&#1089;&#1090;&#1086;&#1075;&#1086;%20&#1082;&#1072;&#1088;&#1090;&#1080;&#1085;&#1082;&#1080;&amp;img_url=http://knigaed.ru/uploads/posts/2012-03/1330897866861arifmetika56.jpeg&amp;pos=4&amp;rpt=simage&amp;stype=image&amp;lr=35&amp;noreask=1&amp;source=wiz&amp;uinfo=sw-1093-sh-614-ww-1079-wh-507-pd-1.25-wp-16x9_1366x768-lt-287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yandex.ru/images/search?text=&#1072;&#1079;&#1073;&#1091;&#1082;&#1072;%20&#1090;&#1086;&#1083;&#1089;&#1090;&#1086;&#1075;&#1086;&amp;img_url=http://www.manwb.ru/pub/Pictures-Articles/2009/06/Tolstoy/azbuka.jpg&amp;pos=4&amp;rpt=simage&amp;stype=image&amp;lr=35&amp;noreask=1&amp;source=wiz&amp;uinfo=sw-1093-sh-614-ww-1079-wh-507-pd-1.25-wp-16x9_1366x768-lt-296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yandex.ru/images/search?text=&#1072;&#1079;&#1073;&#1091;&#1082;&#1072;%20&#1090;&#1086;&#1083;&#1089;&#1090;&#1086;&#1075;&#1086;&amp;img_url=http://my-shop.ru/_files/product/1/47/461860.jpg&amp;pos=2&amp;rpt=simage&amp;stype=image&amp;lr=35&amp;noreask=1&amp;source=wiz&amp;uinfo=sw-1093-sh-614-ww-1079-wh-507-pd-1.25-wp-16x9_1366x768-lt-296" TargetMode="External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yandex.ru/images/search?source=wiz&amp;img_url=http://pit.dirty.ru/dirty/1/2008/12/17/14458-185637-a4c0032bfdecbfb063ace3e39286eb3d.jpg&amp;uinfo=sw-1093-sh-614-ww-1079-wh-507-pd-1.25-wp-16x9_1366x768-lt-1883&amp;text=&#1082;&#1085;&#1080;&#1075;&#1080;%20&#1083;&#1100;&#1074;&#1072;%20&#1090;&#1086;&#1083;&#1089;&#1090;&#1086;&#1075;&#1086;%20&#1092;&#1086;&#1090;&#1086;&amp;noreask=1&amp;pos=17&amp;lr=35&amp;rpt=simage&amp;pin=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yandex.ru/images/search?text=&#1082;&#1085;&#1080;&#1075;&#1080;%20&#1083;&#1100;&#1074;&#1072;%20&#1090;&#1086;&#1083;&#1089;&#1090;&#1086;&#1075;&#1086;%20&#1092;&#1086;&#1090;&#1086;&amp;img_url=http://nkozlov.ru/upload/images/0706/0706191304480.jpg&amp;pos=0&amp;rpt=simage&amp;stype=image&amp;lr=35&amp;noreask=1&amp;source=wiz&amp;uinfo=sw-1093-sh-614-ww-1079-wh-507-pd-1.25-wp-16x9_1366x768-lt-188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yandex.ru/images/search?text=&#1082;&#1085;&#1080;&#1075;&#1080;%20&#1083;&#1100;&#1074;&#1072;%20&#1090;&#1086;&#1083;&#1089;&#1090;&#1086;&#1075;&#1086;%20&#1092;&#1086;&#1090;&#1086;&amp;img_url=http://img1.labirint.ru/books/294197/big.jpg&amp;pos=2&amp;rpt=simage&amp;stype=image&amp;lr=35&amp;noreask=1&amp;source=wiz&amp;uinfo=sw-1093-sh-614-ww-1079-wh-507-pd-1.25-wp-16x9_1366x768-lt-188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yandex.ru/images/search?text=&#1082;&#1085;&#1080;&#1075;&#1080;%20&#1083;&#1100;&#1074;&#1072;%20&#1090;&#1086;&#1083;&#1089;&#1090;&#1086;&#1075;&#1086;%20&#1092;&#1086;&#1090;&#1086;&amp;img_url=http://tululu.org/shots/10171.jpg&amp;pos=3&amp;rpt=simage&amp;stype=image&amp;lr=35&amp;noreask=1&amp;source=wiz&amp;uinfo=sw-1093-sh-614-ww-1079-wh-507-pd-1.25-wp-16x9_1366x768-lt-188" TargetMode="External"/><Relationship Id="rId8" Type="http://schemas.openxmlformats.org/officeDocument/2006/relationships/image" Target="../media/image16.jpeg"/><Relationship Id="rId9" Type="http://schemas.openxmlformats.org/officeDocument/2006/relationships/hyperlink" Target="http://yandex.ru/images/search?text=&#1082;&#1085;&#1080;&#1075;&#1080;%20&#1083;&#1100;&#1074;&#1072;%20&#1090;&#1086;&#1083;&#1089;&#1090;&#1086;&#1075;&#1086;%20&#1092;&#1086;&#1090;&#1086;&amp;img_url=http://www.kidmart.ru/files/images/zoom/c9/c99bb4e6-3eb6-4108-b103-e4d446bea1c0.jpg&amp;pos=4&amp;rpt=simage&amp;stype=image&amp;lr=35&amp;noreask=1&amp;source=wiz&amp;uinfo=sw-1093-sh-614-ww-1079-wh-507-pd-1.25-wp-16x9_1366x768-lt-188" TargetMode="External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16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зентация к уроку литературного чт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2 класс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графия Л.Н.Толстого для дет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ла учитель МБОУ СОШ №14 Шишкина Т.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3f1db"/>
                </a:solidFill>
                <a:latin typeface="Tahoma"/>
              </a:rPr>
              <a:t>Лохань – посуда для стирки белья, мытья посуды, разноски живой рыбы.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51" name="Рисунок 16" descr="http://im0-tub-ru.yandex.net/i?id=ca4fa5fe1890375bcf00cc8ba75ad83d-136-144&amp;n=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492280"/>
            <a:ext cx="3673440" cy="3246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7" descr="http://im0-tub-ru.yandex.net/i?id=e5dadc308535be9f29ced77f30905614-37-144&amp;n=24"/>
          <p:cNvPicPr/>
          <p:nvPr/>
        </p:nvPicPr>
        <p:blipFill>
          <a:blip r:embed="rId3"/>
          <a:stretch/>
        </p:blipFill>
        <p:spPr>
          <a:xfrm>
            <a:off x="4932360" y="2492280"/>
            <a:ext cx="3456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20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3f1db"/>
                </a:solidFill>
                <a:latin typeface="Tahoma"/>
              </a:rPr>
              <a:t>Лев Николаевич Толстой</a:t>
            </a:r>
            <a:br>
              <a:rPr sz="5400"/>
            </a:br>
            <a:r>
              <a:rPr b="1" lang="ru-RU" sz="5400" spc="-1" strike="noStrike">
                <a:solidFill>
                  <a:srgbClr val="d3f1db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d3f1db"/>
                </a:solidFill>
                <a:latin typeface="Tahoma"/>
              </a:rPr>
              <a:t>(1828-1910)</a:t>
            </a:r>
            <a:endParaRPr b="0" lang="en-US" sz="4000" spc="-1" strike="noStrike">
              <a:solidFill>
                <a:srgbClr val="d3f1db"/>
              </a:solidFill>
              <a:latin typeface="Tahoma"/>
            </a:endParaRPr>
          </a:p>
        </p:txBody>
      </p:sp>
      <p:pic>
        <p:nvPicPr>
          <p:cNvPr id="128" name="Рисунок 3" descr="http://im1-tub-ru.yandex.net/i?id=cd08edcce640e822e2bdedac15fc5cdd-102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1916280"/>
            <a:ext cx="554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в Николаевич родился и провёл большую часть жизни в деревеньке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Ясная Поляна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ь умерла, когда писателю не исполнилось и двух ле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емье было ещё 4 брата и сестра. Дети жили очень дружно.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10" descr="http://im2-tub-ru.yandex.net/i?id=7f14ba64ce1a3435b6f8f36155fd251c-63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060640"/>
            <a:ext cx="3168720" cy="19447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9" descr="http://im3-tub-ru.yandex.net/i?id=292105b0319aa57901d565331a4e78d3-01-144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2060640"/>
            <a:ext cx="3313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сю свою жизнь Лев Николаевич любил и уважал простых людей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 простыми людьми он работал вместе: пахал, сеял, колол и пилил дрова, хотя в этом не было необходимости, так как был он богатый человек-граф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Никому не отказывал в помощ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ля крестьянских детей Лев Николаевич открыл школу, в которой работал вместе со своими дочерьм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 школе изучались 12 предметов: чтение, письмо, грамматика, русская история, математика, рисование, беседы из естественных наук, черчение, пение, труд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4" descr="http://im2-tub-ru.yandex.net/i?id=6db781c862670ca8eee4936ef1d57a12-136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1916280"/>
            <a:ext cx="26654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6" descr="http://im2-tub-ru.yandex.net/i?id=2fb936c80e6917a12f6b6d76b849d4a2-46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http://im3-tub-ru.yandex.net/i?id=2f3bc18f747635f74355681a648a10dd-116-144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33360"/>
            <a:ext cx="36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http://im3-tub-ru.yandex.net/i?id=1096b29d63e4393a868662823517d89c-04-144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1280" y="3500280"/>
            <a:ext cx="367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http://im1-tub-ru.yandex.net/i?id=06f4ebfca3eddb896c3313ec90302fdb-70-144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4360" y="260280"/>
            <a:ext cx="3655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5068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в Николаевич сам писал для ребят учебные книжки: "Азбуку", "Арифметику", "Книги для чтения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книжки помогали детям познать мир, учили честности и добру. Рассказы из этих книг до сих пор читают де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Рисунок 19" descr="http://im0-tub-ru.yandex.net/i?id=05f48630810a318e28ac6e6165091da0-37-144&amp;n=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89000"/>
            <a:ext cx="1800360" cy="2303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2" descr="http://im0-tub-ru.yandex.net/i?id=00eed8f98a8516368119d2ed0f8e6439-128-144&amp;n=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93080" y="260280"/>
            <a:ext cx="1655640" cy="2232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0" descr="http://im0-tub-ru.yandex.net/i?id=44cb73ff0e3c7c85f5064b78ff8bf040-78-144&amp;n=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64000" y="2565360"/>
            <a:ext cx="237672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1" descr="http://im0-tub-ru.yandex.net/i?id=d9ae8be24780c975095810df06c5cb18-09-144&amp;n=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867280" y="4365720"/>
            <a:ext cx="20178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11" descr="http://im3-tub-ru.yandex.net/i?id=6773507e30476b422723d6cbef6ba49a-39-144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333360"/>
            <a:ext cx="2016000" cy="2951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2" descr="http://im0-tub-ru.yandex.net/i?id=81d7e277717cee6bc9eb824efc7a342f-129-144&amp;n=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3573360"/>
            <a:ext cx="1798920" cy="25923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3" descr="http://im0-tub-ru.yandex.net/i?id=17ebaf93e688240c8fca794c25060577-141-144&amp;n=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333360"/>
            <a:ext cx="1944720" cy="295128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4" descr="http://im0-tub-ru.yandex.net/i?id=027e5c4e55618a14874942e4db0c45d6-130-144&amp;n=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71640" y="333360"/>
            <a:ext cx="2087640" cy="29512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0-tub-ru.yandex.net/i?id=3b5ee0cffb9d9fbe11f8bcc65670a76c-27-144&amp;n=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08720" y="3645000"/>
            <a:ext cx="19429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8" descr="C:\Users\1\AppData\Local\Temp\Rar$DI09.898\tolstoi-pryzhok[1].png"/>
          <p:cNvPicPr/>
          <p:nvPr/>
        </p:nvPicPr>
        <p:blipFill>
          <a:blip r:embed="rId1"/>
          <a:stretch/>
        </p:blipFill>
        <p:spPr>
          <a:xfrm>
            <a:off x="2268360" y="549360"/>
            <a:ext cx="424836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0T18:40:38Z</dcterms:created>
  <dc:creator>Александр</dc:creator>
  <dc:description/>
  <dc:language>en-US</dc:language>
  <cp:lastModifiedBy>Танюша</cp:lastModifiedBy>
  <dcterms:modified xsi:type="dcterms:W3CDTF">2014-11-11T16:07:08Z</dcterms:modified>
  <cp:revision>9</cp:revision>
  <dc:subject/>
  <dc:title>Лев Николаевич Толстой (1828-1910)</dc:title>
</cp:coreProperties>
</file>