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38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image14.gif" ContentType="image/gif"/>
  <Override PartName="/ppt/media/image47.wmf" ContentType="image/x-wmf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0.gif" ContentType="image/gif"/>
  <Override PartName="/ppt/media/image35.jpeg" ContentType="image/jpeg"/>
  <Override PartName="/ppt/media/image5.jpeg" ContentType="image/jpeg"/>
  <Override PartName="/ppt/media/image48.wmf" ContentType="image/x-wmf"/>
  <Override PartName="/ppt/media/image37.jpeg" ContentType="image/jpeg"/>
  <Override PartName="/ppt/media/image12.jpeg" ContentType="image/jpeg"/>
  <Override PartName="/ppt/media/image10.gif" ContentType="image/gif"/>
  <Override PartName="/ppt/media/image39.jpeg" ContentType="image/jpeg"/>
  <Override PartName="/ppt/media/image41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9.wmf" ContentType="image/x-wmf"/>
  <Override PartName="/ppt/media/image8.wmf" ContentType="image/x-wmf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C3C-89F8-4DAE-B091-49E43A2A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D4F-C8B7-4F90-8333-422D6A2B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C75-0637-4C1A-8CB6-9083D136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F33-B123-433A-9A2F-DD11FC1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12E-A33A-457C-96E7-050B6C1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886-85EB-40C8-8F15-88D0C995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3190-680D-435D-84E0-D2AC09A5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A69-A345-4C6B-AFF6-B95FC09D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DE7-2D8C-43C2-9F69-F3660431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7094-31C2-4B70-8917-2C7C30BC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5BC-68F7-4D27-85FC-048D48A2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9FA-9882-4416-83B8-302C6E8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2360-EBA5-4717-92DF-DA63AB6C8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47.wm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4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gif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User\Desktop\картинки школа\sm_full.aspx.png"/>
          <p:cNvPicPr/>
          <p:nvPr/>
        </p:nvPicPr>
        <p:blipFill>
          <a:blip r:embed="rId1"/>
          <a:stretch/>
        </p:blipFill>
        <p:spPr>
          <a:xfrm>
            <a:off x="785880" y="264312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неклассное мероприятие "Азбука, прощай!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71920" y="3429000"/>
            <a:ext cx="4929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«Жилевская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вельева Валент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Отдых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"/>
          <p:cNvSpPr/>
          <p:nvPr/>
        </p:nvSpPr>
        <p:spPr>
          <a:xfrm>
            <a:off x="1476360" y="25092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0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Times New Roman"/>
              </a:rPr>
              <a:t>Ст. СОГЛ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-main-pic" descr="Картинка 93 из 2307"/>
          <p:cNvPicPr/>
          <p:nvPr/>
        </p:nvPicPr>
        <p:blipFill>
          <a:blip r:embed="rId1"/>
          <a:stretch/>
        </p:blipFill>
        <p:spPr>
          <a:xfrm>
            <a:off x="1619280" y="1557360"/>
            <a:ext cx="6264360" cy="50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Поигр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340000" y="26028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b50"/>
          <p:cNvPicPr/>
          <p:nvPr/>
        </p:nvPicPr>
        <p:blipFill>
          <a:blip r:embed="rId6"/>
          <a:stretch/>
        </p:blipFill>
        <p:spPr>
          <a:xfrm>
            <a:off x="6156360" y="4941720"/>
            <a:ext cx="10796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i-main-pic" descr="Картинка 587 из 2307"/>
          <p:cNvPicPr/>
          <p:nvPr/>
        </p:nvPicPr>
        <p:blipFill>
          <a:blip r:embed="rId1"/>
          <a:stretch/>
        </p:blipFill>
        <p:spPr>
          <a:xfrm>
            <a:off x="1547640" y="170028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т. УГАДАЙ-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i-main-pic" descr="Картинка 9 из 22388"/>
          <p:cNvPicPr/>
          <p:nvPr/>
        </p:nvPicPr>
        <p:blipFill>
          <a:blip r:embed="rId1"/>
          <a:stretch/>
        </p:blipFill>
        <p:spPr>
          <a:xfrm>
            <a:off x="414360" y="765000"/>
            <a:ext cx="3376440" cy="460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3_53_1"/>
          <p:cNvPicPr/>
          <p:nvPr/>
        </p:nvPicPr>
        <p:blipFill>
          <a:blip r:embed="rId2"/>
          <a:stretch/>
        </p:blipFill>
        <p:spPr>
          <a:xfrm>
            <a:off x="5219640" y="476280"/>
            <a:ext cx="3462480" cy="468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30577"/>
          <p:cNvPicPr/>
          <p:nvPr/>
        </p:nvPicPr>
        <p:blipFill>
          <a:blip r:embed="rId3"/>
          <a:stretch/>
        </p:blipFill>
        <p:spPr>
          <a:xfrm>
            <a:off x="1619280" y="1989000"/>
            <a:ext cx="6095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i-main-pic" descr="Картинка 38 из 12884"/>
          <p:cNvPicPr/>
          <p:nvPr/>
        </p:nvPicPr>
        <p:blipFill>
          <a:blip r:embed="rId1"/>
          <a:stretch/>
        </p:blipFill>
        <p:spPr>
          <a:xfrm>
            <a:off x="179280" y="189000"/>
            <a:ext cx="3946680" cy="453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0_2813d_919d9ccd_XL"/>
          <p:cNvPicPr/>
          <p:nvPr/>
        </p:nvPicPr>
        <p:blipFill>
          <a:blip r:embed="rId2"/>
          <a:stretch/>
        </p:blipFill>
        <p:spPr>
          <a:xfrm>
            <a:off x="4643280" y="11592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nlit-435"/>
          <p:cNvPicPr/>
          <p:nvPr/>
        </p:nvPicPr>
        <p:blipFill>
          <a:blip r:embed="rId3"/>
          <a:stretch/>
        </p:blipFill>
        <p:spPr>
          <a:xfrm>
            <a:off x="755640" y="1484280"/>
            <a:ext cx="3811680" cy="5156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gadkiy"/>
          <p:cNvPicPr/>
          <p:nvPr/>
        </p:nvPicPr>
        <p:blipFill>
          <a:blip r:embed="rId4"/>
          <a:stretch/>
        </p:blipFill>
        <p:spPr>
          <a:xfrm>
            <a:off x="2627280" y="1773360"/>
            <a:ext cx="60958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-main-pic" descr="Картинка 21 из 628"/>
          <p:cNvPicPr/>
          <p:nvPr/>
        </p:nvPicPr>
        <p:blipFill>
          <a:blip r:embed="rId1"/>
          <a:stretch/>
        </p:blipFill>
        <p:spPr>
          <a:xfrm>
            <a:off x="179280" y="260280"/>
            <a:ext cx="5067360" cy="266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342265933"/>
          <p:cNvPicPr/>
          <p:nvPr/>
        </p:nvPicPr>
        <p:blipFill>
          <a:blip r:embed="rId2"/>
          <a:stretch/>
        </p:blipFill>
        <p:spPr>
          <a:xfrm>
            <a:off x="5508720" y="90792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54511219510951691_img"/>
          <p:cNvPicPr/>
          <p:nvPr/>
        </p:nvPicPr>
        <p:blipFill>
          <a:blip r:embed="rId3"/>
          <a:stretch/>
        </p:blipFill>
        <p:spPr>
          <a:xfrm>
            <a:off x="1187280" y="2997360"/>
            <a:ext cx="296100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postoronnymv"/>
          <p:cNvPicPr/>
          <p:nvPr/>
        </p:nvPicPr>
        <p:blipFill>
          <a:blip r:embed="rId1"/>
          <a:stretch/>
        </p:blipFill>
        <p:spPr>
          <a:xfrm>
            <a:off x="4067280" y="115920"/>
            <a:ext cx="4968720" cy="3717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0_2813d_919d9ccd_XL"/>
          <p:cNvPicPr/>
          <p:nvPr/>
        </p:nvPicPr>
        <p:blipFill>
          <a:blip r:embed="rId2"/>
          <a:stretch/>
        </p:blipFill>
        <p:spPr>
          <a:xfrm>
            <a:off x="179280" y="1052640"/>
            <a:ext cx="3810240" cy="476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16217800_b91c82c3784a607664b6e64e6a0aa123"/>
          <p:cNvPicPr/>
          <p:nvPr/>
        </p:nvPicPr>
        <p:blipFill>
          <a:blip r:embed="rId3"/>
          <a:stretch/>
        </p:blipFill>
        <p:spPr>
          <a:xfrm>
            <a:off x="4500720" y="3573360"/>
            <a:ext cx="3639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b50"/>
          <p:cNvPicPr/>
          <p:nvPr/>
        </p:nvPicPr>
        <p:blipFill>
          <a:blip r:embed="rId1"/>
          <a:stretch/>
        </p:blipFill>
        <p:spPr>
          <a:xfrm>
            <a:off x="2987640" y="1844640"/>
            <a:ext cx="3097080" cy="2328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0"/>
          <p:cNvSpPr/>
          <p:nvPr/>
        </p:nvSpPr>
        <p:spPr>
          <a:xfrm>
            <a:off x="611280" y="115920"/>
            <a:ext cx="7786440" cy="18590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1979640" y="4724280"/>
            <a:ext cx="57531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eskneesCTT"/>
              </a:rPr>
              <a:t>Нас ждет 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eskneesCTT"/>
              <a:ea typeface="BeeskneesCT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0033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eeskneesCTT"/>
              </a:rPr>
              <a:t>река ПОИГРАЙ-КА</a:t>
            </a:r>
            <a:endParaRPr b="1" lang="en-US" sz="2400" spc="1" strike="noStrike">
              <a:ln w="9360">
                <a:solidFill>
                  <a:srgbClr val="990033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eeskneesCTT"/>
              <a:ea typeface="BeeskneesCT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9" descr="j0282866"/>
          <p:cNvPicPr/>
          <p:nvPr/>
        </p:nvPicPr>
        <p:blipFill>
          <a:blip r:embed="rId1"/>
          <a:stretch/>
        </p:blipFill>
        <p:spPr>
          <a:xfrm>
            <a:off x="0" y="19080"/>
            <a:ext cx="11485440" cy="6838920"/>
          </a:xfrm>
          <a:prstGeom prst="rect">
            <a:avLst/>
          </a:prstGeom>
          <a:ln w="0">
            <a:noFill/>
          </a:ln>
        </p:spPr>
      </p:pic>
      <p:pic>
        <p:nvPicPr>
          <p:cNvPr id="179" name="Фон_1.mid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Звуки природы - Шум реки в лесу.mp3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61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496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"/>
          <p:cNvSpPr/>
          <p:nvPr/>
        </p:nvSpPr>
        <p:spPr>
          <a:xfrm>
            <a:off x="5219640" y="6308640"/>
            <a:ext cx="3529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-main-pic" descr="Картинка 535 из 2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i-main-pic" descr="Картинка 145 из 2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2"/>
          <p:cNvSpPr txBox="1"/>
          <p:nvPr/>
        </p:nvSpPr>
        <p:spPr>
          <a:xfrm>
            <a:off x="2411280" y="907920"/>
            <a:ext cx="4465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Какой звук"</a:t>
            </a:r>
            <a:endParaRPr b="1" lang="en-US" sz="20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3"/>
          <p:cNvSpPr txBox="1"/>
          <p:nvPr/>
        </p:nvSpPr>
        <p:spPr>
          <a:xfrm>
            <a:off x="755640" y="549360"/>
            <a:ext cx="115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к'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3851280" y="2060640"/>
            <a:ext cx="115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у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WordArt 5"/>
          <p:cNvSpPr txBox="1"/>
          <p:nvPr/>
        </p:nvSpPr>
        <p:spPr>
          <a:xfrm>
            <a:off x="7380360" y="692280"/>
            <a:ext cx="115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л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WordArt 6"/>
          <p:cNvSpPr txBox="1"/>
          <p:nvPr/>
        </p:nvSpPr>
        <p:spPr>
          <a:xfrm>
            <a:off x="1547640" y="2421000"/>
            <a:ext cx="11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ы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6084720" y="2276640"/>
            <a:ext cx="11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й'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2843280" y="3789360"/>
            <a:ext cx="115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з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4932360" y="3789360"/>
            <a:ext cx="115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т'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395280" y="3716280"/>
            <a:ext cx="1152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о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WordArt 11"/>
          <p:cNvSpPr txBox="1"/>
          <p:nvPr/>
        </p:nvSpPr>
        <p:spPr>
          <a:xfrm>
            <a:off x="7308720" y="3716280"/>
            <a:ext cx="11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э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WordArt 12"/>
          <p:cNvSpPr txBox="1"/>
          <p:nvPr/>
        </p:nvSpPr>
        <p:spPr>
          <a:xfrm>
            <a:off x="1476360" y="5229360"/>
            <a:ext cx="1152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ж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3" name="WordArt 13"/>
          <p:cNvSpPr txBox="1"/>
          <p:nvPr/>
        </p:nvSpPr>
        <p:spPr>
          <a:xfrm>
            <a:off x="3995640" y="5300640"/>
            <a:ext cx="115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р'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" name="WordArt 14"/>
          <p:cNvSpPr txBox="1"/>
          <p:nvPr/>
        </p:nvSpPr>
        <p:spPr>
          <a:xfrm>
            <a:off x="6156360" y="5229360"/>
            <a:ext cx="115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г]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BeeskneesCTT"/>
              </a:rPr>
              <a:t>Игра "Путешествие в слово"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BeeskneesCTT"/>
              <a:ea typeface="BeeskneesCTT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611280" y="3500280"/>
            <a:ext cx="4608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АЗБУКА</a:t>
            </a:r>
            <a:endParaRPr b="1" lang="en-US" sz="2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7" name="i-main-pic" descr="Картинка 8 из 90683"/>
          <p:cNvPicPr/>
          <p:nvPr/>
        </p:nvPicPr>
        <p:blipFill>
          <a:blip r:embed="rId1"/>
          <a:stretch/>
        </p:blipFill>
        <p:spPr>
          <a:xfrm>
            <a:off x="5508720" y="2492280"/>
            <a:ext cx="2657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2"/>
          <p:cNvSpPr txBox="1"/>
          <p:nvPr/>
        </p:nvSpPr>
        <p:spPr>
          <a:xfrm>
            <a:off x="539640" y="620640"/>
            <a:ext cx="814716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stronCTT"/>
              </a:rPr>
              <a:t>Игра "Сколько слогов"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stronCTT"/>
              <a:ea typeface="AstronCTT"/>
            </a:endParaRPr>
          </a:p>
        </p:txBody>
      </p:sp>
      <p:sp>
        <p:nvSpPr>
          <p:cNvPr id="199" name="WordArt 3"/>
          <p:cNvSpPr txBox="1"/>
          <p:nvPr/>
        </p:nvSpPr>
        <p:spPr>
          <a:xfrm>
            <a:off x="755640" y="2492280"/>
            <a:ext cx="1009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2268360" y="314172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ЕЛОСИПЕ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Arc 5"/>
          <p:cNvSpPr/>
          <p:nvPr/>
        </p:nvSpPr>
        <p:spPr>
          <a:xfrm>
            <a:off x="612720" y="2992320"/>
            <a:ext cx="1222560" cy="220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6"/>
          <p:cNvSpPr/>
          <p:nvPr/>
        </p:nvSpPr>
        <p:spPr>
          <a:xfrm>
            <a:off x="2124000" y="3716280"/>
            <a:ext cx="716040" cy="1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7"/>
          <p:cNvSpPr/>
          <p:nvPr/>
        </p:nvSpPr>
        <p:spPr>
          <a:xfrm>
            <a:off x="2843280" y="3716280"/>
            <a:ext cx="57636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rc 8"/>
          <p:cNvSpPr/>
          <p:nvPr/>
        </p:nvSpPr>
        <p:spPr>
          <a:xfrm>
            <a:off x="3419640" y="3716280"/>
            <a:ext cx="715680" cy="1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9"/>
          <p:cNvSpPr/>
          <p:nvPr/>
        </p:nvSpPr>
        <p:spPr>
          <a:xfrm>
            <a:off x="4140360" y="3789360"/>
            <a:ext cx="93636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10"/>
          <p:cNvSpPr txBox="1"/>
          <p:nvPr/>
        </p:nvSpPr>
        <p:spPr>
          <a:xfrm>
            <a:off x="5508720" y="2276640"/>
            <a:ext cx="19429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ОНТИК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7" name="Arc 11"/>
          <p:cNvSpPr/>
          <p:nvPr/>
        </p:nvSpPr>
        <p:spPr>
          <a:xfrm>
            <a:off x="5508720" y="2852640"/>
            <a:ext cx="1008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12"/>
          <p:cNvSpPr/>
          <p:nvPr/>
        </p:nvSpPr>
        <p:spPr>
          <a:xfrm>
            <a:off x="6516720" y="2852640"/>
            <a:ext cx="1008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WordArt 13"/>
          <p:cNvSpPr txBox="1"/>
          <p:nvPr/>
        </p:nvSpPr>
        <p:spPr>
          <a:xfrm>
            <a:off x="900000" y="4797360"/>
            <a:ext cx="237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Н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0" name="Arc 14"/>
          <p:cNvSpPr/>
          <p:nvPr/>
        </p:nvSpPr>
        <p:spPr>
          <a:xfrm>
            <a:off x="826920" y="5445000"/>
            <a:ext cx="716040" cy="184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15"/>
          <p:cNvSpPr/>
          <p:nvPr/>
        </p:nvSpPr>
        <p:spPr>
          <a:xfrm>
            <a:off x="1547640" y="5373720"/>
            <a:ext cx="1079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rc 16"/>
          <p:cNvSpPr/>
          <p:nvPr/>
        </p:nvSpPr>
        <p:spPr>
          <a:xfrm>
            <a:off x="2627280" y="5373720"/>
            <a:ext cx="716040" cy="18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4500720" y="5013360"/>
            <a:ext cx="381636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ИБЛИОТЕК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4" name="Arc 18"/>
          <p:cNvSpPr/>
          <p:nvPr/>
        </p:nvSpPr>
        <p:spPr>
          <a:xfrm>
            <a:off x="4429080" y="5661000"/>
            <a:ext cx="78912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19"/>
          <p:cNvSpPr/>
          <p:nvPr/>
        </p:nvSpPr>
        <p:spPr>
          <a:xfrm>
            <a:off x="5248440" y="5589720"/>
            <a:ext cx="119520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rc 20"/>
          <p:cNvSpPr/>
          <p:nvPr/>
        </p:nvSpPr>
        <p:spPr>
          <a:xfrm>
            <a:off x="6443640" y="5589720"/>
            <a:ext cx="43344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rc 21"/>
          <p:cNvSpPr/>
          <p:nvPr/>
        </p:nvSpPr>
        <p:spPr>
          <a:xfrm>
            <a:off x="6877080" y="5589720"/>
            <a:ext cx="719280" cy="215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rc 22"/>
          <p:cNvSpPr/>
          <p:nvPr/>
        </p:nvSpPr>
        <p:spPr>
          <a:xfrm>
            <a:off x="7596360" y="5589720"/>
            <a:ext cx="792000" cy="144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2"/>
          <p:cNvSpPr txBox="1"/>
          <p:nvPr/>
        </p:nvSpPr>
        <p:spPr>
          <a:xfrm>
            <a:off x="900000" y="907920"/>
            <a:ext cx="11509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492360" y="2276640"/>
            <a:ext cx="158436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ж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221" name="WordArt 4"/>
          <p:cNvSpPr txBox="1"/>
          <p:nvPr/>
        </p:nvSpPr>
        <p:spPr>
          <a:xfrm>
            <a:off x="7093080" y="3213000"/>
            <a:ext cx="1224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1476360" y="407664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23" name="WordArt 6"/>
          <p:cNvSpPr txBox="1"/>
          <p:nvPr/>
        </p:nvSpPr>
        <p:spPr>
          <a:xfrm>
            <a:off x="6156360" y="836640"/>
            <a:ext cx="12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б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24" name="WordArt 7"/>
          <p:cNvSpPr txBox="1"/>
          <p:nvPr/>
        </p:nvSpPr>
        <p:spPr>
          <a:xfrm>
            <a:off x="4500720" y="4869000"/>
            <a:ext cx="128088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900000" y="907920"/>
            <a:ext cx="115092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р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3492360" y="2276640"/>
            <a:ext cx="158436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ж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093080" y="3213000"/>
            <a:ext cx="1224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28" name="WordArt 9"/>
          <p:cNvSpPr txBox="1"/>
          <p:nvPr/>
        </p:nvSpPr>
        <p:spPr>
          <a:xfrm>
            <a:off x="1476360" y="4076640"/>
            <a:ext cx="129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у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29" name="WordArt 10"/>
          <p:cNvSpPr txBox="1"/>
          <p:nvPr/>
        </p:nvSpPr>
        <p:spPr>
          <a:xfrm>
            <a:off x="6156360" y="836640"/>
            <a:ext cx="1224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б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230" name="WordArt 11"/>
          <p:cNvSpPr txBox="1"/>
          <p:nvPr/>
        </p:nvSpPr>
        <p:spPr>
          <a:xfrm>
            <a:off x="4500720" y="4869000"/>
            <a:ext cx="1280880" cy="113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а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56 0.03239 C -0.08437 0.03192 -0.09218 0.03239 -0.09982 0.03123 C -0.10243 0.03077 -0.10868 0.02591 -0.1125 0.02475 C -0.11701 0.02059 -0.12552 0.01805 -0.1309 0.01689 C -0.13715 0.01157 -0.13055 0.01643 -0.14149 0.01319 C -0.14826 0.01134 -0.15434 0.00717 -0.16093 0.00532 C -0.16597 0.00208 -0.1776 0.00023 -0.1776 0.00023 C -0.18524 -0.00416 -0.18732 -0.00393 -0.19704 -0.00509 C -0.21961 -0.01966 -0.25052 -0.02961 -0.27552 -0.03354 C -0.31527 -0.05066 -0.40121 -0.04233 -0.42118 -0.04256 C -0.44149 -0.04349 -0.46232 -0.0414 -0.48229 -0.04649 C -0.51059 -0.05366 -0.47361 -0.04765 -0.5019 -0.05158 C -0.50642 -0.05366 -0.50954 -0.05575 -0.5144 -0.05667 C -0.52013 -0.05945 -0.51822 -0.05875 -0.52795 -0.0606 C -0.53315 -0.06153 -0.54357 -0.06315 -0.54357 -0.06315 C -0.55138 -0.06592 -0.55972 -0.06592 -0.56788 -0.06708 C -0.57569 -0.06986 -0.58402 -0.07101 -0.59201 -0.07356 C -0.59513 -0.07448 -0.59965 -0.07726 -0.60277 -0.07749 C -0.61805 -0.07842 -0.63315 -0.07842 -0.64843 -0.07888 C -0.68472 -0.07842 -0.72673 -0.0997 -0.75711 -0.07356 C -0.75902 -0.06963 -0.75989 -0.06639 -0.76093 -0.06199 C -0.7585 -0.05112 -0.74409 -0.05551 -0.73663 -0.05551 E">
                                      <p:cBhvr>
                                        <p:cTn id="52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-0.0044 C 0.07379 -0.00579 0.07553 -0.00833 0.07848 -0.00972 C 0.08091 -0.01458 0.0823 -0.01435 0.08629 -0.0162 C 0.09445 -0.01504 0.1 -0.01296 0.10764 -0.01088 C 0.11112 -0.00787 0.11216 -0.00579 0.11355 -0.0007 C 0.1132 0.06361 0.12535 0.1529 0.10869 0.22438 C 0.10712 0.23779 0.10521 0.25167 0.10174 0.26463 C 0.10139 0.26717 0.10122 0.26972 0.10087 0.27226 C 0.10053 0.27434 0.09983 0.28105 0.09983 0.27874 C 0.09983 0.27573 0.10053 0.27272 0.10087 0.26972 C 0.11337 0.27573 0.11563 0.26393 0.10278 0.26324 C 0.09636 0.26278 0.08976 0.26324 0.08334 0.26324 E">
                                      <p:cBhvr>
                                        <p:cTn id="55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1018 C 0.06302 0.00972 0.08663 0.01018 0.11024 0.00902 C 0.11667 0.00879 0.12379 -0.00139 0.12865 -0.00671 C 0.14497 -0.02452 0.14705 -0.04395 0.15191 -0.07009 C 0.15313 -0.07657 0.15573 -0.08281 0.15677 -0.08929 C 0.15938 -0.10502 0.1599 -0.12121 0.16077 -0.13717 C 0.16042 -0.14781 0.16268 -0.16863 0.15677 -0.17997 C 0.15417 -0.19153 0.14705 -0.20102 0.13837 -0.20449 C 0.13872 -0.20102 0.13837 -0.19732 0.13941 -0.19408 C 0.14045 -0.19084 0.14445 -0.19246 0.14705 -0.19153 C 0.15834 -0.18783 0.15764 -0.18737 0.1724 -0.18644 C 0.17986 -0.18297 0.16945 -0.17627 0.16563 -0.17603 C 0.1559 -0.17557 0.14618 -0.17603 0.13646 -0.17603 E">
                                      <p:cBhvr>
                                        <p:cTn id="58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0.01388 C 0.05434 -0.01341 0.06145 -0.01318 0.06857 -0.01249 C 0.07968 -0.01133 0.08455 0.00047 0.0927 0.0081 C 0.09618 0.01481 0.09826 0.01943 0.09965 0.02753 C 0.10034 0.03146 0.10156 0.0391 0.10156 0.03933 C 0.10121 0.04442 0.10104 0.04951 0.10052 0.05483 C 0.09913 0.06847 0.08455 0.07009 0.07725 0.07148 C 0.0717 0.07403 0.06649 0.07564 0.06076 0.0768 C 0.05607 0.08258 0.0533 0.0842 0.05885 0.09739 C 0.05955 0.09901 0.06527 0.09878 0.06753 0.09878 E">
                                      <p:cBhvr>
                                        <p:cTn id="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94 0.12607 C 0.03559 0.13116 0.03612 0.13648 0.03507 0.14157 C 0.03368 0.14828 0.02639 0.15892 0.02136 0.161 C 0.01789 0.16424 0.01684 0.16609 0.01268 0.16748 C 0.00608 0.17188 -0.00017 0.17627 -0.00677 0.18044 C -0.0125 0.18807 -0.01909 0.19501 -0.02413 0.2038 C -0.02986 0.21375 -0.02552 0.20935 -0.03107 0.21398 C -0.03316 0.21837 -0.03871 0.22577 -0.03871 0.22601 C -0.03993 0.2304 -0.04218 0.23248 -0.04461 0.23618 C -0.04566 0.24081 -0.04774 0.2422 -0.04947 0.24636 C -0.05243 0.25353 -0.0552 0.25885 -0.0592 0.26464 C -0.06024 0.2688 -0.06406 0.2762 -0.06406 0.27643 C -0.06614 0.28522 -0.06684 0.29771 -0.0592 0.30072 C -0.0559 0.3035 -0.05625 0.30165 -0.05625 0.30465 E">
                                      <p:cBhvr>
                                        <p:cTn id="6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532 -0.01226 C 0.104 -0.0185 0.11407 -0.02221 0.12344 -0.02521 C 0.12865 -0.02683 0.13907 -0.03053 0.13907 -0.0303 C 0.14549 -0.03493 0.15278 -0.03516 0.15938 -0.03955 C 0.16441 -0.04973 0.16198 -0.065 0.16424 -0.07703 C 0.16615 -0.08674 0.16684 -0.09738 0.1691 -0.10687 C 0.17223 -0.12075 0.17691 -0.13463 0.18073 -0.14828 C 0.1842 -0.16054 0.18525 -0.17395 0.18941 -0.18575 C 0.18976 -0.18829 0.18993 -0.19084 0.19045 -0.19338 C 0.19098 -0.19639 0.19184 -0.1994 0.19236 -0.2024 C 0.1941 -0.21397 0.19427 -0.23294 0.19913 -0.24381 C 0.20035 -0.24659 0.20608 -0.25098 0.20695 -0.25168 C 0.20938 -0.25376 0.21268 -0.25653 0.21563 -0.25676 C 0.23177 -0.25746 0.24809 -0.25769 0.26424 -0.25815 C 0.26823 -0.26 0.26893 -0.26301 0.27205 -0.26579 C 0.27309 -0.26671 0.27726 -0.26717 0.27587 -0.26717 C 0.26875 -0.26717 0.2474 -0.26579 0.25452 -0.26579 C 0.26285 -0.26579 0.27136 -0.26671 0.27969 -0.26717 C 0.27934 -0.26856 0.27882 -0.27111 0.27882 -0.27088 E">
                                      <p:cBhvr>
                                        <p:cTn id="6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Поигр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2340000" y="26028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3" descr="b50"/>
          <p:cNvPicPr/>
          <p:nvPr/>
        </p:nvPicPr>
        <p:blipFill>
          <a:blip r:embed="rId6"/>
          <a:stretch/>
        </p:blipFill>
        <p:spPr>
          <a:xfrm>
            <a:off x="6156360" y="494172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4" descr="b50"/>
          <p:cNvPicPr/>
          <p:nvPr/>
        </p:nvPicPr>
        <p:blipFill>
          <a:blip r:embed="rId7"/>
          <a:stretch/>
        </p:blipFill>
        <p:spPr>
          <a:xfrm>
            <a:off x="7885080" y="407664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5" descr="b50"/>
          <p:cNvPicPr/>
          <p:nvPr/>
        </p:nvPicPr>
        <p:blipFill>
          <a:blip r:embed="rId8"/>
          <a:stretch/>
        </p:blipFill>
        <p:spPr>
          <a:xfrm>
            <a:off x="4427640" y="2924280"/>
            <a:ext cx="10792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i-main-pic" descr="Картинка 328 из 135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3"/>
          <p:cNvSpPr txBox="1"/>
          <p:nvPr/>
        </p:nvSpPr>
        <p:spPr>
          <a:xfrm>
            <a:off x="539640" y="476280"/>
            <a:ext cx="619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eeskneesCTT"/>
              </a:rPr>
              <a:t>Ст. ЗАГАДОЧНА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eeskneesCTT"/>
              <a:ea typeface="BeeskneesC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www.be63.ru/content/images/PLAKAZBUKA2-1_800.jpg"/>
          <p:cNvPicPr/>
          <p:nvPr/>
        </p:nvPicPr>
        <p:blipFill>
          <a:blip r:embed="rId1"/>
          <a:stretch/>
        </p:blipFill>
        <p:spPr>
          <a:xfrm>
            <a:off x="468360" y="476280"/>
            <a:ext cx="2628720" cy="3809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68ca4f7b569aec75a8662ac6bf7"/>
          <p:cNvPicPr/>
          <p:nvPr/>
        </p:nvPicPr>
        <p:blipFill>
          <a:blip r:embed="rId2"/>
          <a:stretch/>
        </p:blipFill>
        <p:spPr>
          <a:xfrm>
            <a:off x="3276720" y="2492280"/>
            <a:ext cx="5600520" cy="4152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DNUBmeFo9D"/>
          <p:cNvPicPr/>
          <p:nvPr/>
        </p:nvPicPr>
        <p:blipFill>
          <a:blip r:embed="rId3"/>
          <a:stretch/>
        </p:blipFill>
        <p:spPr>
          <a:xfrm>
            <a:off x="5003640" y="333360"/>
            <a:ext cx="1967040" cy="19940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26825626"/>
          <p:cNvPicPr/>
          <p:nvPr/>
        </p:nvPicPr>
        <p:blipFill>
          <a:blip r:embed="rId4"/>
          <a:stretch/>
        </p:blipFill>
        <p:spPr>
          <a:xfrm>
            <a:off x="468360" y="4365720"/>
            <a:ext cx="2627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1008"/>
          <p:cNvPicPr/>
          <p:nvPr/>
        </p:nvPicPr>
        <p:blipFill>
          <a:blip r:embed="rId1"/>
          <a:stretch/>
        </p:blipFill>
        <p:spPr>
          <a:xfrm>
            <a:off x="324000" y="260280"/>
            <a:ext cx="3255840" cy="38163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8"/>
          <p:cNvPicPr/>
          <p:nvPr/>
        </p:nvPicPr>
        <p:blipFill>
          <a:blip r:embed="rId2"/>
          <a:stretch/>
        </p:blipFill>
        <p:spPr>
          <a:xfrm>
            <a:off x="4788000" y="4221000"/>
            <a:ext cx="4032000" cy="2446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22775b4ce393t"/>
          <p:cNvPicPr/>
          <p:nvPr/>
        </p:nvPicPr>
        <p:blipFill>
          <a:blip r:embed="rId3"/>
          <a:stretch/>
        </p:blipFill>
        <p:spPr>
          <a:xfrm>
            <a:off x="4788000" y="476280"/>
            <a:ext cx="2279520" cy="3387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post-122-1276171176"/>
          <p:cNvPicPr/>
          <p:nvPr/>
        </p:nvPicPr>
        <p:blipFill>
          <a:blip r:embed="rId4"/>
          <a:stretch/>
        </p:blipFill>
        <p:spPr>
          <a:xfrm>
            <a:off x="1908000" y="3573360"/>
            <a:ext cx="251964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57200" y="274680"/>
            <a:ext cx="822960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990033"/>
                  </a:solidFill>
                  <a:miter/>
                </a:ln>
                <a:gradFill rotWithShape="0">
                  <a:gsLst>
                    <a:gs pos="0">
                      <a:srgbClr val="a50021"/>
                    </a:gs>
                    <a:gs pos="100000">
                      <a:srgbClr val="ff5050"/>
                    </a:gs>
                  </a:gsLst>
                  <a:lin ang="5400000"/>
                </a:gradFill>
                <a:latin typeface="BeeskneesCTT"/>
              </a:rPr>
              <a:t>АЗБУКА, ПРОЩАЙ!</a:t>
            </a:r>
            <a:endParaRPr b="1" lang="en-US" sz="2000" spc="1" strike="noStrike">
              <a:ln w="9360">
                <a:solidFill>
                  <a:srgbClr val="990033"/>
                </a:solidFill>
                <a:miter/>
              </a:ln>
              <a:gradFill rotWithShape="0">
                <a:gsLst>
                  <a:gs pos="0">
                    <a:srgbClr val="a50021"/>
                  </a:gs>
                  <a:gs pos="100000">
                    <a:srgbClr val="ff5050"/>
                  </a:gs>
                </a:gsLst>
                <a:lin ang="5400000"/>
              </a:gradFill>
              <a:latin typeface="BeeskneesCTT"/>
              <a:ea typeface="BeeskneesCTT"/>
            </a:endParaRPr>
          </a:p>
        </p:txBody>
      </p:sp>
      <p:pic>
        <p:nvPicPr>
          <p:cNvPr id="47" name="Picture 5" descr="deac"/>
          <p:cNvPicPr/>
          <p:nvPr/>
        </p:nvPicPr>
        <p:blipFill>
          <a:blip r:embed="rId1"/>
          <a:stretch/>
        </p:blipFill>
        <p:spPr>
          <a:xfrm>
            <a:off x="2484360" y="2060640"/>
            <a:ext cx="417348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Поигр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2340000" y="26028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3" descr="b50"/>
          <p:cNvPicPr/>
          <p:nvPr/>
        </p:nvPicPr>
        <p:blipFill>
          <a:blip r:embed="rId6"/>
          <a:stretch/>
        </p:blipFill>
        <p:spPr>
          <a:xfrm>
            <a:off x="6156360" y="494172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4" descr="b50"/>
          <p:cNvPicPr/>
          <p:nvPr/>
        </p:nvPicPr>
        <p:blipFill>
          <a:blip r:embed="rId7"/>
          <a:stretch/>
        </p:blipFill>
        <p:spPr>
          <a:xfrm>
            <a:off x="4427640" y="2924280"/>
            <a:ext cx="1079280" cy="811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5" descr="b50"/>
          <p:cNvPicPr/>
          <p:nvPr/>
        </p:nvPicPr>
        <p:blipFill>
          <a:blip r:embed="rId8"/>
          <a:stretch/>
        </p:blipFill>
        <p:spPr>
          <a:xfrm>
            <a:off x="179280" y="3068640"/>
            <a:ext cx="1079640" cy="81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5" descr="b50"/>
          <p:cNvPicPr/>
          <p:nvPr/>
        </p:nvPicPr>
        <p:blipFill>
          <a:blip r:embed="rId9"/>
          <a:stretch/>
        </p:blipFill>
        <p:spPr>
          <a:xfrm>
            <a:off x="7885080" y="3789360"/>
            <a:ext cx="107964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i-main-pic" descr="Картинка 15 из 2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WordArt 3"/>
          <p:cNvSpPr txBox="1"/>
          <p:nvPr/>
        </p:nvSpPr>
        <p:spPr>
          <a:xfrm>
            <a:off x="2195640" y="692280"/>
            <a:ext cx="655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. ЧИТАЛОЧКА</a:t>
            </a:r>
            <a:endParaRPr b="0" lang="en-US" sz="20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Поигр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2340000" y="26028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3" descr="b50"/>
          <p:cNvPicPr/>
          <p:nvPr/>
        </p:nvPicPr>
        <p:blipFill>
          <a:blip r:embed="rId6"/>
          <a:stretch/>
        </p:blipFill>
        <p:spPr>
          <a:xfrm>
            <a:off x="6156360" y="494172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4" descr="b50"/>
          <p:cNvPicPr/>
          <p:nvPr/>
        </p:nvPicPr>
        <p:blipFill>
          <a:blip r:embed="rId7"/>
          <a:stretch/>
        </p:blipFill>
        <p:spPr>
          <a:xfrm>
            <a:off x="7956720" y="371628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5" descr="b50"/>
          <p:cNvPicPr/>
          <p:nvPr/>
        </p:nvPicPr>
        <p:blipFill>
          <a:blip r:embed="rId8"/>
          <a:stretch/>
        </p:blipFill>
        <p:spPr>
          <a:xfrm>
            <a:off x="4427640" y="2924280"/>
            <a:ext cx="1079280" cy="8110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6" descr="b50"/>
          <p:cNvPicPr/>
          <p:nvPr/>
        </p:nvPicPr>
        <p:blipFill>
          <a:blip r:embed="rId9"/>
          <a:stretch/>
        </p:blipFill>
        <p:spPr>
          <a:xfrm>
            <a:off x="179280" y="2997360"/>
            <a:ext cx="1079640" cy="811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37" descr="b50"/>
          <p:cNvPicPr/>
          <p:nvPr/>
        </p:nvPicPr>
        <p:blipFill>
          <a:blip r:embed="rId10"/>
          <a:stretch/>
        </p:blipFill>
        <p:spPr>
          <a:xfrm>
            <a:off x="1042920" y="1341360"/>
            <a:ext cx="1079640" cy="8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i-main-pic" descr="Картинка 103 из 2307"/>
          <p:cNvPicPr/>
          <p:nvPr/>
        </p:nvPicPr>
        <p:blipFill>
          <a:blip r:embed="rId1"/>
          <a:stretch/>
        </p:blipFill>
        <p:spPr>
          <a:xfrm>
            <a:off x="1979640" y="1557360"/>
            <a:ext cx="5076720" cy="4976640"/>
          </a:xfrm>
          <a:prstGeom prst="rect">
            <a:avLst/>
          </a:prstGeom>
          <a:ln w="0">
            <a:noFill/>
          </a:ln>
        </p:spPr>
      </p:pic>
      <p:sp>
        <p:nvSpPr>
          <p:cNvPr id="349" name="WordArt 3"/>
          <p:cNvSpPr txBox="1"/>
          <p:nvPr/>
        </p:nvSpPr>
        <p:spPr>
          <a:xfrm>
            <a:off x="1476360" y="404640"/>
            <a:ext cx="62755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. ПОЖЕЛАНИЙ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7"/>
          <p:cNvSpPr/>
          <p:nvPr/>
        </p:nvSpPr>
        <p:spPr>
          <a:xfrm>
            <a:off x="6372360" y="115920"/>
            <a:ext cx="2447640" cy="1484280"/>
          </a:xfrm>
          <a:prstGeom prst="horizontalScroll">
            <a:avLst>
              <a:gd name="adj" fmla="val 1249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588000" y="33336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Поигр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0"/>
          <p:cNvSpPr/>
          <p:nvPr/>
        </p:nvSpPr>
        <p:spPr>
          <a:xfrm>
            <a:off x="2627280" y="26028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2" descr="b50"/>
          <p:cNvPicPr/>
          <p:nvPr/>
        </p:nvPicPr>
        <p:blipFill>
          <a:blip r:embed="rId5"/>
          <a:stretch/>
        </p:blipFill>
        <p:spPr>
          <a:xfrm>
            <a:off x="3276720" y="508464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3" descr="b50"/>
          <p:cNvPicPr/>
          <p:nvPr/>
        </p:nvPicPr>
        <p:blipFill>
          <a:blip r:embed="rId6"/>
          <a:stretch/>
        </p:blipFill>
        <p:spPr>
          <a:xfrm>
            <a:off x="6156360" y="494172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4" descr="b50"/>
          <p:cNvPicPr/>
          <p:nvPr/>
        </p:nvPicPr>
        <p:blipFill>
          <a:blip r:embed="rId7"/>
          <a:stretch/>
        </p:blipFill>
        <p:spPr>
          <a:xfrm>
            <a:off x="7956720" y="3716280"/>
            <a:ext cx="1079280" cy="811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5" descr="b50"/>
          <p:cNvPicPr/>
          <p:nvPr/>
        </p:nvPicPr>
        <p:blipFill>
          <a:blip r:embed="rId8"/>
          <a:stretch/>
        </p:blipFill>
        <p:spPr>
          <a:xfrm>
            <a:off x="4427640" y="2924280"/>
            <a:ext cx="1079280" cy="8110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6" descr="b50"/>
          <p:cNvPicPr/>
          <p:nvPr/>
        </p:nvPicPr>
        <p:blipFill>
          <a:blip r:embed="rId9"/>
          <a:stretch/>
        </p:blipFill>
        <p:spPr>
          <a:xfrm>
            <a:off x="179280" y="2997360"/>
            <a:ext cx="1079640" cy="8110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7" descr="b50"/>
          <p:cNvPicPr/>
          <p:nvPr/>
        </p:nvPicPr>
        <p:blipFill>
          <a:blip r:embed="rId10"/>
          <a:stretch/>
        </p:blipFill>
        <p:spPr>
          <a:xfrm>
            <a:off x="1042920" y="1341360"/>
            <a:ext cx="1079640" cy="811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8" descr="b50"/>
          <p:cNvPicPr/>
          <p:nvPr/>
        </p:nvPicPr>
        <p:blipFill>
          <a:blip r:embed="rId11"/>
          <a:stretch/>
        </p:blipFill>
        <p:spPr>
          <a:xfrm>
            <a:off x="2916360" y="836640"/>
            <a:ext cx="1079280" cy="8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i-main-pic" descr="Картинка 40 из 2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990033"/>
                </a:solidFill>
                <a:latin typeface="Times New Roman"/>
              </a:rPr>
              <a:t>Счастливого пути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b50"/>
          <p:cNvPicPr/>
          <p:nvPr/>
        </p:nvPicPr>
        <p:blipFill>
          <a:blip r:embed="rId1"/>
          <a:stretch/>
        </p:blipFill>
        <p:spPr>
          <a:xfrm>
            <a:off x="2195640" y="620640"/>
            <a:ext cx="2016000" cy="1515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b50"/>
          <p:cNvPicPr/>
          <p:nvPr/>
        </p:nvPicPr>
        <p:blipFill>
          <a:blip r:embed="rId2"/>
          <a:stretch/>
        </p:blipFill>
        <p:spPr>
          <a:xfrm>
            <a:off x="5867280" y="765000"/>
            <a:ext cx="1800360" cy="1354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b50"/>
          <p:cNvPicPr/>
          <p:nvPr/>
        </p:nvPicPr>
        <p:blipFill>
          <a:blip r:embed="rId3"/>
          <a:stretch/>
        </p:blipFill>
        <p:spPr>
          <a:xfrm>
            <a:off x="1258920" y="836640"/>
            <a:ext cx="1627200" cy="1224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" descr="j0343351"/>
          <p:cNvPicPr/>
          <p:nvPr/>
        </p:nvPicPr>
        <p:blipFill>
          <a:blip r:embed="rId4"/>
          <a:stretch/>
        </p:blipFill>
        <p:spPr>
          <a:xfrm>
            <a:off x="2556000" y="3068640"/>
            <a:ext cx="3600360" cy="3481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b50"/>
          <p:cNvPicPr/>
          <p:nvPr/>
        </p:nvPicPr>
        <p:blipFill>
          <a:blip r:embed="rId5"/>
          <a:stretch/>
        </p:blipFill>
        <p:spPr>
          <a:xfrm>
            <a:off x="4716360" y="765000"/>
            <a:ext cx="1871640" cy="1406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b50"/>
          <p:cNvPicPr/>
          <p:nvPr/>
        </p:nvPicPr>
        <p:blipFill>
          <a:blip r:embed="rId6"/>
          <a:stretch/>
        </p:blipFill>
        <p:spPr>
          <a:xfrm>
            <a:off x="108000" y="620640"/>
            <a:ext cx="1873080" cy="1408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b50"/>
          <p:cNvPicPr/>
          <p:nvPr/>
        </p:nvPicPr>
        <p:blipFill>
          <a:blip r:embed="rId7"/>
          <a:stretch/>
        </p:blipFill>
        <p:spPr>
          <a:xfrm>
            <a:off x="3419640" y="692280"/>
            <a:ext cx="1942920" cy="14605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0" descr="b50"/>
          <p:cNvPicPr/>
          <p:nvPr/>
        </p:nvPicPr>
        <p:blipFill>
          <a:blip r:embed="rId8"/>
          <a:stretch/>
        </p:blipFill>
        <p:spPr>
          <a:xfrm>
            <a:off x="7164360" y="692280"/>
            <a:ext cx="1979640" cy="1488960"/>
          </a:xfrm>
          <a:prstGeom prst="rect">
            <a:avLst/>
          </a:prstGeom>
          <a:ln w="0">
            <a:noFill/>
          </a:ln>
        </p:spPr>
      </p:pic>
      <p:sp>
        <p:nvSpPr>
          <p:cNvPr id="397" name="AutoShape 11"/>
          <p:cNvSpPr/>
          <p:nvPr/>
        </p:nvSpPr>
        <p:spPr>
          <a:xfrm>
            <a:off x="4643280" y="2492280"/>
            <a:ext cx="1584360" cy="1008000"/>
          </a:xfrm>
          <a:prstGeom prst="wedgeRoundRectCallout">
            <a:avLst>
              <a:gd name="adj1" fmla="val -48597"/>
              <a:gd name="adj2" fmla="val 614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2" descr="BD05092_"/>
          <p:cNvPicPr/>
          <p:nvPr/>
        </p:nvPicPr>
        <p:blipFill>
          <a:blip r:embed="rId9"/>
          <a:stretch/>
        </p:blipFill>
        <p:spPr>
          <a:xfrm>
            <a:off x="4932360" y="2565360"/>
            <a:ext cx="936720" cy="851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10" name="chimes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GReverence-Oblique"/>
              </a:rPr>
              <a:t>Как сегодня радуются дети –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GReverence-Oblique"/>
              </a:rPr>
              <a:t>Стало больше грамотных на свете!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GReverence-Oblique"/>
              </a:rPr>
              <a:t>Скажем Азбуке мы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GReverence-Oblique"/>
              </a:rPr>
              <a:t>«до свиданья»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GReverence-Oblique"/>
              </a:rPr>
              <a:t>И рукой помашем на прощань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18 из 23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usazb1_001_0001"/>
          <p:cNvPicPr/>
          <p:nvPr/>
        </p:nvPicPr>
        <p:blipFill>
          <a:blip r:embed="rId1"/>
          <a:stretch/>
        </p:blipFill>
        <p:spPr>
          <a:xfrm>
            <a:off x="179280" y="115920"/>
            <a:ext cx="3827520" cy="5040360"/>
          </a:xfrm>
          <a:prstGeom prst="rect">
            <a:avLst/>
          </a:prstGeom>
          <a:ln w="0">
            <a:noFill/>
          </a:ln>
        </p:spPr>
      </p:pic>
      <p:pic>
        <p:nvPicPr>
          <p:cNvPr id="51" name="i-main-pic" descr="Картинка 370 из 24041"/>
          <p:cNvPicPr/>
          <p:nvPr/>
        </p:nvPicPr>
        <p:blipFill>
          <a:blip r:embed="rId2"/>
          <a:stretch/>
        </p:blipFill>
        <p:spPr>
          <a:xfrm>
            <a:off x="4067280" y="2276640"/>
            <a:ext cx="49165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2"/>
          <p:cNvSpPr/>
          <p:nvPr/>
        </p:nvSpPr>
        <p:spPr>
          <a:xfrm>
            <a:off x="3564000" y="836640"/>
            <a:ext cx="2808360" cy="115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 flipV="1">
            <a:off x="971640" y="836640"/>
            <a:ext cx="223200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 rot="19570200">
            <a:off x="1557360" y="3889080"/>
            <a:ext cx="6502320" cy="792000"/>
          </a:xfrm>
          <a:custGeom>
            <a:avLst/>
            <a:gdLst>
              <a:gd name="textAreaLeft" fmla="*/ 0 w 6502320"/>
              <a:gd name="textAreaRight" fmla="*/ 6502680 w 6502320"/>
              <a:gd name="textAreaTop" fmla="*/ 326880 h 792000"/>
              <a:gd name="textAreaBottom" fmla="*/ 465120 h 79200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 flipV="1">
            <a:off x="3851280" y="5876640"/>
            <a:ext cx="3097080" cy="144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j0238133"/>
          <p:cNvPicPr/>
          <p:nvPr/>
        </p:nvPicPr>
        <p:blipFill>
          <a:blip r:embed="rId1"/>
          <a:stretch/>
        </p:blipFill>
        <p:spPr>
          <a:xfrm>
            <a:off x="6445080" y="0"/>
            <a:ext cx="2698920" cy="2749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j0339024"/>
          <p:cNvPicPr/>
          <p:nvPr/>
        </p:nvPicPr>
        <p:blipFill>
          <a:blip r:embed="rId2"/>
          <a:stretch/>
        </p:blipFill>
        <p:spPr>
          <a:xfrm>
            <a:off x="208080" y="4437000"/>
            <a:ext cx="2228760" cy="2232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0"/>
          <p:cNvSpPr/>
          <p:nvPr/>
        </p:nvSpPr>
        <p:spPr>
          <a:xfrm>
            <a:off x="3564000" y="595008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7812000" y="378936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84360" y="1557360"/>
            <a:ext cx="21564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5148360" y="2852640"/>
            <a:ext cx="215640" cy="2174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4"/>
          <p:cNvSpPr/>
          <p:nvPr/>
        </p:nvSpPr>
        <p:spPr>
          <a:xfrm flipV="1">
            <a:off x="2556000" y="6092640"/>
            <a:ext cx="9363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3780000" y="6237360"/>
            <a:ext cx="187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6732720" y="6021360"/>
            <a:ext cx="2233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. Согл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7020000" y="5661000"/>
            <a:ext cx="216000" cy="21600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 flipV="1">
            <a:off x="7236000" y="4149720"/>
            <a:ext cx="57600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7596360" y="3357720"/>
            <a:ext cx="143964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гад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 flipH="1" flipV="1">
            <a:off x="5435280" y="2997000"/>
            <a:ext cx="20890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 rot="19967400">
            <a:off x="4102560" y="3931920"/>
            <a:ext cx="2046240" cy="3988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. Отдыхай-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j0215751"/>
          <p:cNvPicPr/>
          <p:nvPr/>
        </p:nvPicPr>
        <p:blipFill>
          <a:blip r:embed="rId3"/>
          <a:stretch/>
        </p:blipFill>
        <p:spPr>
          <a:xfrm>
            <a:off x="1403280" y="1916280"/>
            <a:ext cx="2737080" cy="19969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23"/>
          <p:cNvSpPr/>
          <p:nvPr/>
        </p:nvSpPr>
        <p:spPr>
          <a:xfrm>
            <a:off x="1403280" y="3645000"/>
            <a:ext cx="21600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1834920" y="2997360"/>
            <a:ext cx="316836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5"/>
          <p:cNvSpPr/>
          <p:nvPr/>
        </p:nvSpPr>
        <p:spPr>
          <a:xfrm>
            <a:off x="755640" y="3933720"/>
            <a:ext cx="20160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Загадоч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 flipV="1">
            <a:off x="826560" y="1844640"/>
            <a:ext cx="576360" cy="172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179280" y="981000"/>
            <a:ext cx="151308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итал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3276720" y="692280"/>
            <a:ext cx="215640" cy="215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>
            <a:off x="1116000" y="25092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1476360" y="250920"/>
            <a:ext cx="21589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Пожел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j0283651"/>
          <p:cNvPicPr/>
          <p:nvPr/>
        </p:nvPicPr>
        <p:blipFill>
          <a:blip r:embed="rId4"/>
          <a:stretch/>
        </p:blipFill>
        <p:spPr>
          <a:xfrm>
            <a:off x="5003640" y="2060640"/>
            <a:ext cx="638280" cy="904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0" descr="d9d2edece8a80f5ca9f168f2ddb46bc6_full"/>
          <p:cNvPicPr/>
          <p:nvPr/>
        </p:nvPicPr>
        <p:blipFill>
          <a:blip r:embed="rId5"/>
          <a:stretch/>
        </p:blipFill>
        <p:spPr>
          <a:xfrm>
            <a:off x="6372360" y="1773360"/>
            <a:ext cx="1439640" cy="96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" descr="c49dbe464785b794151c0123ef077301_full"/>
          <p:cNvPicPr/>
          <p:nvPr/>
        </p:nvPicPr>
        <p:blipFill>
          <a:blip r:embed="rId6"/>
          <a:stretch/>
        </p:blipFill>
        <p:spPr>
          <a:xfrm>
            <a:off x="611280" y="5586480"/>
            <a:ext cx="143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-main-pic" descr="Картинка 40 из 2307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Times New Roman"/>
              </a:rPr>
              <a:t>Ст. ГЛ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"/>
          <p:cNvSpPr txBox="1"/>
          <p:nvPr/>
        </p:nvSpPr>
        <p:spPr>
          <a:xfrm>
            <a:off x="684360" y="2133720"/>
            <a:ext cx="79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" name="WordArt 2"/>
          <p:cNvSpPr txBox="1"/>
          <p:nvPr/>
        </p:nvSpPr>
        <p:spPr>
          <a:xfrm>
            <a:off x="2195640" y="213372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3780000" y="2205000"/>
            <a:ext cx="792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5508720" y="2205000"/>
            <a:ext cx="86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ы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WordArt 5"/>
          <p:cNvSpPr txBox="1"/>
          <p:nvPr/>
        </p:nvSpPr>
        <p:spPr>
          <a:xfrm>
            <a:off x="7308720" y="220500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э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684360" y="3860640"/>
            <a:ext cx="79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2195640" y="3645000"/>
            <a:ext cx="720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ё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3708360" y="3860640"/>
            <a:ext cx="107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ю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9"/>
          <p:cNvSpPr txBox="1"/>
          <p:nvPr/>
        </p:nvSpPr>
        <p:spPr>
          <a:xfrm>
            <a:off x="5651640" y="3860640"/>
            <a:ext cx="79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WordArt 10"/>
          <p:cNvSpPr txBox="1"/>
          <p:nvPr/>
        </p:nvSpPr>
        <p:spPr>
          <a:xfrm>
            <a:off x="7380360" y="3860640"/>
            <a:ext cx="72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3:45:20Z</dcterms:created>
  <dc:creator>1</dc:creator>
  <dc:description/>
  <dc:language>en-US</dc:language>
  <cp:lastModifiedBy>User</cp:lastModifiedBy>
  <dcterms:modified xsi:type="dcterms:W3CDTF">2015-01-30T13:41:51Z</dcterms:modified>
  <cp:revision>70</cp:revision>
  <dc:subject/>
  <dc:title>Математику, друзья, Не любить никак нельзя.  </dc:title>
</cp:coreProperties>
</file>