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DC44-D6D3-48E5-B996-42C045152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6579-8BCD-47E7-877C-5EBBE8E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2063-8725-4072-B3A1-8008979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73C3-E6C8-4242-A870-2C09233BF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EF64-E709-4957-A884-E5A5EF5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30EC-6C90-46D4-936B-0DF4539B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3715-3E5F-4C34-959A-E2AFAC9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C038-D5E3-4C10-B65A-E7B1D23D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5F06-65B2-4F0D-B0FB-1AEC9EED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BE82-7CCC-4856-B54C-B11777A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7175-9E01-4D05-8CF2-472F80D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384A-21E4-4E2D-9939-3066FF7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53DF2-A2F5-4707-AF2D-10299CF1D33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0"/>
            <a:ext cx="75009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онспект урока по развитию речи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русский язык) 1 – 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071960" y="5786280"/>
            <a:ext cx="4786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Разработа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учителем ГОУ СОШ № 19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Федотовой Галиной Гарри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1760" y="3633840"/>
            <a:ext cx="2408040" cy="590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66720" y="1590840"/>
            <a:ext cx="6870960" cy="19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6551640"/>
            <a:ext cx="8229600" cy="195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Как выглядит червяк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оски на этом экземпляре не видны.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ашен червь в коричневый цвет. Но отливает он прекрасным фиолетовым цветом. На спине у него темные и светлые полосы.) 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6280" y="853920"/>
            <a:ext cx="8331120" cy="5886720"/>
            <a:chOff x="476280" y="853920"/>
            <a:chExt cx="8331120" cy="5886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76280" y="853920"/>
              <a:ext cx="8331120" cy="58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6280" y="853920"/>
              <a:ext cx="8331120" cy="58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12880" y="1596960"/>
            <a:ext cx="2786040" cy="164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-9864720"/>
            <a:ext cx="8229600" cy="21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В чем особенности образа жизни этих животных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ут чудесные малютки целыми семья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любит червячок показывать свой наряд. Выходит он на охоту по ночам. А ранним утром это животное прячется среди камней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097920" y="1600200"/>
            <a:ext cx="4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29160" y="2000160"/>
            <a:ext cx="335772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-6788160"/>
            <a:ext cx="8229600" cy="152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праве ли данная группа предложений называтьс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кстом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Предложения на одну тему. И каждое следующее предложение продолжает предыдущее. Значит, мы читали текст.)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кие рекомендации вы можете дать одноклассникам, чтобы не нарушались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авила построения текста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(*    Перед записью предложения надо прочитать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предыдущее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**   Проверить наличие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грамматической основ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*** Не допускать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повторов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одних и тех же слов.)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Какие слова использует автор для названия этих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Червячок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– с иронией, удивлени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чудесные малютки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– в переносном знач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червь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– нейтрально, без выражения чув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особи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– научное наз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он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– слово, которое указывает на предмет, не называя его  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29280" y="5286240"/>
            <a:ext cx="200052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200" y="-82440"/>
            <a:ext cx="850104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ираясь на текст, найдите слова, право-писание которых вы можете объясн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 в корне слова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б.р.гов, в дл.ну, до п.тнадцати, м.лютки, отл.вает, на сп.не, пол.сы, ч.рв.чок, по н.чам, среди к.мней, дост.га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Парные согласны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чер.ь, све., наря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Непроизносимые согласны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гиган(?)ских, извес(?)ны, чудес(?)ные, прекрас(?)н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 в приставке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д.стигает, .крашен, .тливает, пр.красным, п.казывать, н.ряд, .хот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Двойная согласная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дли..ый, ра..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Безударные гласные, правописание которых следует запомни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.тлантики, к.ричневый, ф..летовым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32" dur="2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33" dur="2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удьте внимательны со словами, правописание которых вы не изуча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стиг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, окраш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, отлив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, не люб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, показ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ы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ать, выход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, ранн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, утр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 пряч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тся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0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-2970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ая работа поможет ясно, в правильном порядке изложить тему и идею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(Разбить текст на микротемы \части\ и составить план, озаглавив каждую часть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 u="sng">
                <a:solidFill>
                  <a:srgbClr val="4f6228"/>
                </a:solidFill>
                <a:uFillTx/>
                <a:latin typeface="Calibri"/>
              </a:rPr>
              <a:t>План</a:t>
            </a: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1. Самый длинный черв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2. Как узнать чудесного малют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3. Особенности жизни этого животног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953735"/>
                </a:solidFill>
                <a:latin typeface="Calibri"/>
              </a:rPr>
              <a:t>НЕ ЗАБУДБТЕ ПИСАТЬ КАЖДУЮ ЧАСТЬ 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953735"/>
                </a:solidFill>
                <a:latin typeface="Calibri"/>
              </a:rPr>
              <a:t>КРАСНОЙ СТРОКИ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6228"/>
                </a:solidFill>
                <a:latin typeface="Calibri"/>
              </a:rPr>
              <a:t>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29280" y="5214960"/>
            <a:ext cx="2000520" cy="13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0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 какому типу отнесём данный текс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Это повествование с элементами описани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ие части содержат повеств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Первая и треть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ая часть является описа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(Вторая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dur="indefinite" fill="hold">
                      <p:stCondLst>
                        <p:cond delay="0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-22212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читайт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текст еще несколько раз. Постарайтесь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помни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оточнее.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Изложит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его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сейча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на уроке. А </a:t>
            </a: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потом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вас будет возможность быть интересным рассказчиком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дивит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родителей и друзей рассказом об этом необычном животно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14200" y="53578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УДАЧИ!!!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200052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41960" y="5786280"/>
            <a:ext cx="5379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w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блюдение над смысловой связью между частями текста и средствами выражения этой связ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умения воссоздавать текст; редактировать тек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ершенствование умения правильно писать безударные гласные и парные согласные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потреблять в письменной речи синонимы в качестве подлежащ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09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упительная бесе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новка целей и задач уро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 с текстом. Чтение. Беседа по содерж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авление пл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ксико-орфографическая подготов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торное чтение. Переска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ись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рка, редактирование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машние зад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бщ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-223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ам предстоит написать изложение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 Что такое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изложение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71760"/>
            <a:ext cx="91440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i="1" lang="ru-RU" sz="3000" spc="-1" strike="noStrike">
                <a:solidFill>
                  <a:srgbClr val="002060"/>
                </a:solidFill>
                <a:latin typeface="Calibri"/>
              </a:rPr>
              <a:t>Письменный пересказ текста близко к авторском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втор назвал текст «Червячок». Можно ли догадаться, о чем в нем будет говорить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(Тему текста подсказывает его название. Это - червяк. И он, видимо, маленьких размеров. Или можно предположить, что это животное очень нравится автору, который, называя предмет, использует уменьшительно-ласкательный суффикс -ок-.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040" y="150840"/>
            <a:ext cx="8229600" cy="15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 вот изображение этого червячка! Соответствует ли оно заявленной т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7120" y="1714680"/>
            <a:ext cx="8499600" cy="4808520"/>
            <a:chOff x="357120" y="1714680"/>
            <a:chExt cx="8499600" cy="48085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57120" y="1714680"/>
              <a:ext cx="8499600" cy="48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57120" y="1714680"/>
              <a:ext cx="8499600" cy="48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ый длинный червь живет у берегов Атлантики. В длину он достигает гигантских размеров. Известны особи до пятнадцати метров. Живут чудесные малютки целыми семь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рашен червь в коричневый цвет. Но отливает он прекрасным фиолетовым цветом. На спине у него темные и светлые пол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любит червячок показывать свой наряд. Выходит он на охоту по ночам. А ранним утром это животное прячется среди кам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 довольно познавательный несмотря на маленький объём. Какова его идея?</a:t>
            </a:r>
            <a:br>
              <a:rPr sz="40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(Познакомить читателя с таким необычным животным, как атлантический червь. )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57120" y="3143160"/>
            <a:ext cx="822960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интересного узнали о нём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*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Каких он размеров.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* Как выглядит.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*Где и как живёт.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*Чем питается.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*В чем особенность образа жизни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-360360"/>
            <a:ext cx="82296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Где живет червячок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длинный червь живет у берегов Атлантики.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2080" y="993600"/>
            <a:ext cx="8618400" cy="8496360"/>
            <a:chOff x="262080" y="993600"/>
            <a:chExt cx="8618400" cy="84963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62080" y="993600"/>
              <a:ext cx="8618400" cy="84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62080" y="993600"/>
              <a:ext cx="8618400" cy="84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-9134640"/>
            <a:ext cx="8229600" cy="199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984807"/>
                </a:solidFill>
                <a:latin typeface="Calibri"/>
              </a:rPr>
              <a:t>Каковы размеры животного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длину он достигает гигантских размеров. Известны особи до пятнадцати метров. 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4800" y="1279440"/>
            <a:ext cx="8545680" cy="7607520"/>
            <a:chOff x="334800" y="1279440"/>
            <a:chExt cx="8545680" cy="76075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34800" y="1279440"/>
              <a:ext cx="8545680" cy="760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34800" y="1279440"/>
              <a:ext cx="8545680" cy="76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3:13:49Z</dcterms:created>
  <dc:creator>User</dc:creator>
  <dc:description/>
  <dc:language>en-US</dc:language>
  <cp:lastModifiedBy>Boris</cp:lastModifiedBy>
  <dcterms:modified xsi:type="dcterms:W3CDTF">2012-11-02T18:07:05Z</dcterms:modified>
  <cp:revision>64</cp:revision>
  <dc:subject/>
  <dc:title>Слайд 1</dc:title>
</cp:coreProperties>
</file>