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7098-E052-4F5F-9894-3DACDCD9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BF8A-3881-48A1-8FFF-82FBB6D3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79CB-0B04-4672-838E-20BDCE56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0489-C6D2-41AA-A40F-7A40B750F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23EC-758F-4FBB-8319-E658CA1E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FEB1-0A06-4D99-88D2-F2BC4B97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712A-A0E0-4D84-A2D0-B6FF1782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C6B5-BE94-44F5-829B-9AFD3C37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9A8C-3F1B-4D12-A128-03278CBA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A789-6769-4DF2-90B0-2038322B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AE2B-D3E4-438B-A232-9483D44A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303-6612-43DA-B83F-785F58CE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62FE-2D55-4128-9C33-0374296A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3923-2905-443C-905C-DB575BC3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0ECE-6109-4FEC-8B9B-3EA625C0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E2E21-1C6D-45BF-A9B0-2368FA39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BBFB-D145-4F1E-8C35-D629BBCB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5334-447C-45FC-B771-97A25084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B43-9BB6-4123-9959-1DC8FF87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DB8F-F8BF-4E4D-806B-EEBC3A5B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3166-8906-4B1D-908B-5B4AF10A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824B-F58C-409B-8C55-33BC0456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EB59-F005-4905-B04D-00A07774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19A9-91DB-4ADC-AC30-FD1C3B42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8DF2-1BBE-4E14-93E3-435A2A8FD39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4C62-5BA2-4C6E-A966-D281BC37E2F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Рождественская открытка</a:t>
            </a:r>
            <a:br>
              <a:rPr sz="5400"/>
            </a:br>
            <a:r>
              <a:rPr b="1" lang="ru-RU" sz="5400" spc="-1" strike="noStrike">
                <a:solidFill>
                  <a:srgbClr val="ccecff"/>
                </a:solidFill>
                <a:latin typeface="Arial"/>
              </a:rPr>
              <a:t>               </a:t>
            </a:r>
            <a:r>
              <a:rPr b="1" i="1" lang="ru-RU" sz="3600" spc="-1" strike="noStrike">
                <a:solidFill>
                  <a:srgbClr val="ccecff"/>
                </a:solidFill>
                <a:latin typeface="Arial"/>
              </a:rPr>
              <a:t>в лоскутной технике</a:t>
            </a: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5181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Автор: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Котомкина Л.И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учитель технологи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МБ С(К)ОШ №5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III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вид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. Чайковск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4" descr="PC270689"/>
          <p:cNvPicPr/>
          <p:nvPr/>
        </p:nvPicPr>
        <p:blipFill>
          <a:blip r:embed="rId1"/>
          <a:srcRect l="2889" t="0" r="4749" b="143"/>
          <a:stretch/>
        </p:blipFill>
        <p:spPr>
          <a:xfrm rot="20784000">
            <a:off x="533160" y="2286000"/>
            <a:ext cx="3103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Технология изготов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. Согнуть лист картона по середин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5" descr="PC270681"/>
          <p:cNvPicPr/>
          <p:nvPr/>
        </p:nvPicPr>
        <p:blipFill>
          <a:blip r:embed="rId1"/>
          <a:stretch/>
        </p:blipFill>
        <p:spPr>
          <a:xfrm>
            <a:off x="914400" y="2819520"/>
            <a:ext cx="2871720" cy="3247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PC270682"/>
          <p:cNvPicPr/>
          <p:nvPr/>
        </p:nvPicPr>
        <p:blipFill>
          <a:blip r:embed="rId2"/>
          <a:stretch/>
        </p:blipFill>
        <p:spPr>
          <a:xfrm>
            <a:off x="5334120" y="2819520"/>
            <a:ext cx="2112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Технология изготов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. Наложить шаблон на внешнюю часть открытки, обвести и вырезать. 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Размер шаблона на 7мм меньше лоскутного бло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4" descr="PC270686"/>
          <p:cNvPicPr/>
          <p:nvPr/>
        </p:nvPicPr>
        <p:blipFill>
          <a:blip r:embed="rId1"/>
          <a:stretch/>
        </p:blipFill>
        <p:spPr>
          <a:xfrm>
            <a:off x="1905120" y="3809880"/>
            <a:ext cx="1969920" cy="2895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PC270684"/>
          <p:cNvPicPr/>
          <p:nvPr/>
        </p:nvPicPr>
        <p:blipFill>
          <a:blip r:embed="rId2"/>
          <a:stretch/>
        </p:blipFill>
        <p:spPr>
          <a:xfrm>
            <a:off x="5181480" y="3657600"/>
            <a:ext cx="22701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Технология изготов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8. Вырезать по намеченной линии отверстие в открытке и вклеить лоскутный блок с обратной стороны открыт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4" descr="PC270687"/>
          <p:cNvPicPr/>
          <p:nvPr/>
        </p:nvPicPr>
        <p:blipFill>
          <a:blip r:embed="rId1"/>
          <a:stretch/>
        </p:blipFill>
        <p:spPr>
          <a:xfrm>
            <a:off x="762120" y="3200400"/>
            <a:ext cx="2711160" cy="3409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PC270688"/>
          <p:cNvPicPr/>
          <p:nvPr/>
        </p:nvPicPr>
        <p:blipFill>
          <a:blip r:embed="rId2"/>
          <a:stretch/>
        </p:blipFill>
        <p:spPr>
          <a:xfrm>
            <a:off x="5257800" y="3200400"/>
            <a:ext cx="2714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Технология изготов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.С внутренней стороны открытки наклеить лист бумаги, закрывая лоскутный блок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4" descr="PC270691"/>
          <p:cNvPicPr/>
          <p:nvPr/>
        </p:nvPicPr>
        <p:blipFill>
          <a:blip r:embed="rId1"/>
          <a:stretch/>
        </p:blipFill>
        <p:spPr>
          <a:xfrm>
            <a:off x="609480" y="3200400"/>
            <a:ext cx="3810240" cy="2460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PC270690"/>
          <p:cNvPicPr/>
          <p:nvPr/>
        </p:nvPicPr>
        <p:blipFill>
          <a:blip r:embed="rId2"/>
          <a:stretch/>
        </p:blipFill>
        <p:spPr>
          <a:xfrm>
            <a:off x="5105520" y="3200400"/>
            <a:ext cx="32763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Итоги рабо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1" name="Picture 4" descr="PC270693"/>
          <p:cNvPicPr/>
          <p:nvPr/>
        </p:nvPicPr>
        <p:blipFill>
          <a:blip r:embed="rId1"/>
          <a:stretch/>
        </p:blipFill>
        <p:spPr>
          <a:xfrm rot="20933400">
            <a:off x="914400" y="1676160"/>
            <a:ext cx="2643120" cy="4038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PC270689"/>
          <p:cNvPicPr/>
          <p:nvPr/>
        </p:nvPicPr>
        <p:blipFill>
          <a:blip r:embed="rId2"/>
          <a:stretch/>
        </p:blipFill>
        <p:spPr>
          <a:xfrm rot="716400">
            <a:off x="4876560" y="1752120"/>
            <a:ext cx="33019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писок литерату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Журнал «Пэчворк» специальный выпуск журнала «Лена - рукоделие» №4, 2002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вторские фотографии и рисунки Котомкиной Л.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Материалы и инструмен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кань двух цветов: синяя и бела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ртон цветно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лей ПВ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вейная машина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тки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ожниц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Технология изготов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.Нарисовать схему звёздочки нужного размера, и разрезать на элемент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8" descr="PC270692"/>
          <p:cNvPicPr/>
          <p:nvPr/>
        </p:nvPicPr>
        <p:blipFill>
          <a:blip r:embed="rId1"/>
          <a:stretch/>
        </p:blipFill>
        <p:spPr>
          <a:xfrm>
            <a:off x="3733920" y="2819520"/>
            <a:ext cx="35049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Технология изготов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.Подобрать ткань по цвету. Выкроить элементы звездочки с припусками на швы 5 м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5" descr="PC270670"/>
          <p:cNvPicPr/>
          <p:nvPr/>
        </p:nvPicPr>
        <p:blipFill>
          <a:blip r:embed="rId1"/>
          <a:stretch/>
        </p:blipFill>
        <p:spPr>
          <a:xfrm>
            <a:off x="3276720" y="3352680"/>
            <a:ext cx="223668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Технология изготов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Стачать детали звёздочки по рисунку: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первый ря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4" descr="PC270672"/>
          <p:cNvPicPr/>
          <p:nvPr/>
        </p:nvPicPr>
        <p:blipFill>
          <a:blip r:embed="rId1"/>
          <a:srcRect l="7149" t="7550" r="7149" b="5731"/>
          <a:stretch/>
        </p:blipFill>
        <p:spPr>
          <a:xfrm>
            <a:off x="533520" y="28954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PC270673"/>
          <p:cNvPicPr/>
          <p:nvPr/>
        </p:nvPicPr>
        <p:blipFill>
          <a:blip r:embed="rId2"/>
          <a:stretch/>
        </p:blipFill>
        <p:spPr>
          <a:xfrm>
            <a:off x="2514600" y="3276720"/>
            <a:ext cx="2981160" cy="1814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PC270674"/>
          <p:cNvPicPr/>
          <p:nvPr/>
        </p:nvPicPr>
        <p:blipFill>
          <a:blip r:embed="rId3"/>
          <a:stretch/>
        </p:blipFill>
        <p:spPr>
          <a:xfrm>
            <a:off x="5410080" y="5181480"/>
            <a:ext cx="350532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Технология изготов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Стачать детали звёздочки по рисунку: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второй ряд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5" descr="PC270676"/>
          <p:cNvPicPr/>
          <p:nvPr/>
        </p:nvPicPr>
        <p:blipFill>
          <a:blip r:embed="rId1"/>
          <a:stretch/>
        </p:blipFill>
        <p:spPr>
          <a:xfrm>
            <a:off x="1523880" y="3124080"/>
            <a:ext cx="568188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Технология изготов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.Стачать детали звёздочки по рисунку: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Verdana"/>
              </a:rPr>
              <a:t>третий ряд – как первый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4" descr="PC270675"/>
          <p:cNvPicPr/>
          <p:nvPr/>
        </p:nvPicPr>
        <p:blipFill>
          <a:blip r:embed="rId1"/>
          <a:stretch/>
        </p:blipFill>
        <p:spPr>
          <a:xfrm>
            <a:off x="1295280" y="3505320"/>
            <a:ext cx="667224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Технология изготов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. Соединить все ряды звёздочк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4" descr="PC270678"/>
          <p:cNvPicPr/>
          <p:nvPr/>
        </p:nvPicPr>
        <p:blipFill>
          <a:blip r:embed="rId1"/>
          <a:stretch/>
        </p:blipFill>
        <p:spPr>
          <a:xfrm>
            <a:off x="2590920" y="2286000"/>
            <a:ext cx="378756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Технология изготов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. Отутюжить готовый лоскутный бло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4" descr="PC270680"/>
          <p:cNvPicPr/>
          <p:nvPr/>
        </p:nvPicPr>
        <p:blipFill>
          <a:blip r:embed="rId1"/>
          <a:stretch/>
        </p:blipFill>
        <p:spPr>
          <a:xfrm>
            <a:off x="2209680" y="2286000"/>
            <a:ext cx="40323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</cp:lastModifiedBy>
  <dcterms:modified xsi:type="dcterms:W3CDTF">2013-10-29T14:49:4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