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368E-C335-4259-9ECF-EBF3993D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9E3F-3BEE-4EAE-844B-73D906DE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9E2C-EA30-4DD5-B3A2-2A912A355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530-1A91-4A31-94EA-B5F6FE9E8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B28A-7957-4E6C-B934-8CD066C4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EB23-7BEC-48B2-97AF-5079EC56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AE7-2F08-4537-8D11-37C9C1345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90CF-E06C-46B2-9449-B73C27B0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B78E-9DCB-4767-9F3B-2599CB87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A81-75C2-405D-BF74-CE569855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BE3-E40D-4F50-912A-7E6CB8A7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787B-F811-4AB0-A179-695641F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10B7-0A3B-49D8-94A2-D25AF7FDC5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643040" y="1285920"/>
            <a:ext cx="57434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826920" y="3141720"/>
            <a:ext cx="75312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Литературная математика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1128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D:\Мои документы\РИСУНКИ\школа\shkkola-56.gif"/>
          <p:cNvPicPr/>
          <p:nvPr/>
        </p:nvPicPr>
        <p:blipFill>
          <a:blip r:embed="rId1"/>
          <a:stretch/>
        </p:blipFill>
        <p:spPr>
          <a:xfrm>
            <a:off x="6500880" y="4643280"/>
            <a:ext cx="2100240" cy="19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6"/>
          <p:cNvSpPr/>
          <p:nvPr/>
        </p:nvSpPr>
        <p:spPr>
          <a:xfrm>
            <a:off x="357120" y="428760"/>
            <a:ext cx="300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Кто написал извест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сказ «Федина задача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5643720" y="1428840"/>
            <a:ext cx="107136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.Тютч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3429000" y="428760"/>
            <a:ext cx="928800" cy="571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П.Чех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5715000" y="428760"/>
            <a:ext cx="107172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.Но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6858000" y="428760"/>
            <a:ext cx="1143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.Толс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3286080" y="428760"/>
            <a:ext cx="0" cy="6119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57120" y="2143080"/>
            <a:ext cx="293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Известный русский поэт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втор строк «Вдохнове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ужно в геометри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и в поэзи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6"/>
          <p:cNvSpPr/>
          <p:nvPr/>
        </p:nvSpPr>
        <p:spPr>
          <a:xfrm>
            <a:off x="357120" y="1143000"/>
            <a:ext cx="2900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2.Кому принадлежат слова «Мы любим все - и жар холодных чисел…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357120" y="4214880"/>
            <a:ext cx="28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Автор рассказа, где институтка Наденька решает задачу про трех купц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372240" y="3286080"/>
            <a:ext cx="285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4.Какой русский писател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равнивал челове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с дроб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357120" y="5357880"/>
            <a:ext cx="2857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6.Какой поэт в своем стихотворении поклонялся «царственным числам»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7"/>
          <p:cNvSpPr/>
          <p:nvPr/>
        </p:nvSpPr>
        <p:spPr>
          <a:xfrm>
            <a:off x="6786720" y="1428840"/>
            <a:ext cx="1143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Бло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3357720" y="1428840"/>
            <a:ext cx="100008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Ф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429080" y="1428840"/>
            <a:ext cx="107172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Тве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30"/>
          <p:cNvSpPr/>
          <p:nvPr/>
        </p:nvSpPr>
        <p:spPr>
          <a:xfrm>
            <a:off x="4429080" y="428760"/>
            <a:ext cx="1143000" cy="576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1"/>
          <p:cNvSpPr/>
          <p:nvPr/>
        </p:nvSpPr>
        <p:spPr>
          <a:xfrm>
            <a:off x="4429080" y="2428920"/>
            <a:ext cx="1143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Пушк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2"/>
          <p:cNvSpPr/>
          <p:nvPr/>
        </p:nvSpPr>
        <p:spPr>
          <a:xfrm>
            <a:off x="3286080" y="2428920"/>
            <a:ext cx="107172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Н.Гого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3"/>
          <p:cNvSpPr/>
          <p:nvPr/>
        </p:nvSpPr>
        <p:spPr>
          <a:xfrm>
            <a:off x="5643720" y="2428920"/>
            <a:ext cx="1071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Марша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4"/>
          <p:cNvSpPr/>
          <p:nvPr/>
        </p:nvSpPr>
        <p:spPr>
          <a:xfrm>
            <a:off x="6786720" y="2428920"/>
            <a:ext cx="12855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Лермо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5"/>
          <p:cNvSpPr/>
          <p:nvPr/>
        </p:nvSpPr>
        <p:spPr>
          <a:xfrm>
            <a:off x="7000920" y="3429000"/>
            <a:ext cx="114300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Л.Толст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36"/>
          <p:cNvSpPr/>
          <p:nvPr/>
        </p:nvSpPr>
        <p:spPr>
          <a:xfrm>
            <a:off x="5786280" y="3429000"/>
            <a:ext cx="114300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Е.Велтис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7"/>
          <p:cNvSpPr/>
          <p:nvPr/>
        </p:nvSpPr>
        <p:spPr>
          <a:xfrm>
            <a:off x="4500720" y="3429000"/>
            <a:ext cx="121428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Пришв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8"/>
          <p:cNvSpPr/>
          <p:nvPr/>
        </p:nvSpPr>
        <p:spPr>
          <a:xfrm>
            <a:off x="3357720" y="3429000"/>
            <a:ext cx="1071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Зощенк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9"/>
          <p:cNvSpPr/>
          <p:nvPr/>
        </p:nvSpPr>
        <p:spPr>
          <a:xfrm>
            <a:off x="5715000" y="4643280"/>
            <a:ext cx="114300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Чех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40"/>
          <p:cNvSpPr/>
          <p:nvPr/>
        </p:nvSpPr>
        <p:spPr>
          <a:xfrm>
            <a:off x="3357720" y="4643280"/>
            <a:ext cx="1071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С. Го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41"/>
          <p:cNvSpPr/>
          <p:nvPr/>
        </p:nvSpPr>
        <p:spPr>
          <a:xfrm>
            <a:off x="4500720" y="4643280"/>
            <a:ext cx="107136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.Баж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2"/>
          <p:cNvSpPr/>
          <p:nvPr/>
        </p:nvSpPr>
        <p:spPr>
          <a:xfrm>
            <a:off x="6929280" y="4643280"/>
            <a:ext cx="121464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М.Пришв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43"/>
          <p:cNvSpPr/>
          <p:nvPr/>
        </p:nvSpPr>
        <p:spPr>
          <a:xfrm>
            <a:off x="6929280" y="5572080"/>
            <a:ext cx="121464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В.Брюс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44"/>
          <p:cNvSpPr/>
          <p:nvPr/>
        </p:nvSpPr>
        <p:spPr>
          <a:xfrm>
            <a:off x="4500720" y="5572080"/>
            <a:ext cx="107136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А.Май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45"/>
          <p:cNvSpPr/>
          <p:nvPr/>
        </p:nvSpPr>
        <p:spPr>
          <a:xfrm>
            <a:off x="5643720" y="5572080"/>
            <a:ext cx="1214280" cy="571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Б.Слу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46"/>
          <p:cNvSpPr/>
          <p:nvPr/>
        </p:nvSpPr>
        <p:spPr>
          <a:xfrm>
            <a:off x="3357720" y="5572080"/>
            <a:ext cx="1071360" cy="57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.Тютче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4.81481E-006 L -0.3967 -0.00324 E">
                                      <p:cBhvr>
                                        <p:cTn id="12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81481E-006 L -0.52136 -0.00254 E">
                                      <p:cBhvr>
                                        <p:cTn id="29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4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51 -0.00115 L -0.27518 -0.00092 E">
                                      <p:cBhvr>
                                        <p:cTn id="5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6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7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1.85185E-006 L -0.55643 0.00972 E">
                                      <p:cBhvr>
                                        <p:cTn id="75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1.11022E-016 L -0.40799 -0.0088 E">
                                      <p:cBhvr>
                                        <p:cTn id="9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0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16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3.33333E-006 L -0.53681 0.00277 E">
                                      <p:cBhvr>
                                        <p:cTn id="12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7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29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4T03:33:17Z</dcterms:created>
  <dc:creator>User</dc:creator>
  <dc:description/>
  <dc:language>en-US</dc:language>
  <cp:lastModifiedBy>Admin</cp:lastModifiedBy>
  <dcterms:modified xsi:type="dcterms:W3CDTF">2012-04-22T10:54:34Z</dcterms:modified>
  <cp:revision>32</cp:revision>
  <dc:subject/>
  <dc:title>Слайд 1</dc:title>
</cp:coreProperties>
</file>