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965B-74AF-48D6-968A-DF20E8F31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5209-697A-4BEA-BCAD-1121E1BB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E935-695A-4206-A686-EF41CF14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4B42-0E88-4D7D-A562-0100A606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E4C8-1F40-470A-9AD0-0147421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CF0-4E28-402D-AF54-C91912D8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1713-88F8-4F34-BB42-1FC3F414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4A98-FA9C-4880-AF54-51021DB7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CFF6-E33B-4A29-B34D-958DBBFF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C38-7970-475E-AAF8-577D3543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1CF5-DD32-403D-A5AA-01819AA8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730-18A5-49C8-BED8-A4CAA84E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d1c39f"/>
            </a:gs>
          </a:gsLst>
          <a:lin ang="2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7822B-9939-4B9A-9896-9AFAD70141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285840" y="214200"/>
            <a:ext cx="86439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этап</a:t>
            </a:r>
            <a:br>
              <a:rPr sz="3200"/>
            </a:b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ниматика»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428760" y="214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1500120" y="2214720"/>
            <a:ext cx="6096240" cy="4066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0" y="2214720"/>
            <a:ext cx="542880" cy="65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ая соединительная линия 4"/>
          <p:cNvSpPr/>
          <p:nvPr/>
        </p:nvSpPr>
        <p:spPr>
          <a:xfrm flipH="1">
            <a:off x="5072040" y="2214720"/>
            <a:ext cx="1440" cy="10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6"/>
          <p:cNvSpPr/>
          <p:nvPr/>
        </p:nvSpPr>
        <p:spPr>
          <a:xfrm>
            <a:off x="5072040" y="2857680"/>
            <a:ext cx="15001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5072040" y="285768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5433480" y="200016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3286080" y="221472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*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3286080" y="264312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5</a:t>
            </a: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4"/>
          <p:cNvSpPr/>
          <p:nvPr/>
        </p:nvSpPr>
        <p:spPr>
          <a:xfrm>
            <a:off x="3357720" y="3500280"/>
            <a:ext cx="71424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6"/>
          <p:cNvSpPr/>
          <p:nvPr/>
        </p:nvSpPr>
        <p:spPr>
          <a:xfrm>
            <a:off x="3929040" y="4071960"/>
            <a:ext cx="2142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9"/>
          <p:cNvSpPr/>
          <p:nvPr/>
        </p:nvSpPr>
        <p:spPr>
          <a:xfrm>
            <a:off x="4071960" y="342900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0"/>
          <p:cNvSpPr/>
          <p:nvPr/>
        </p:nvSpPr>
        <p:spPr>
          <a:xfrm>
            <a:off x="4071960" y="3929040"/>
            <a:ext cx="1000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**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1"/>
          <p:cNvSpPr/>
          <p:nvPr/>
        </p:nvSpPr>
        <p:spPr>
          <a:xfrm>
            <a:off x="3143160" y="2786040"/>
            <a:ext cx="21456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2"/>
          <p:cNvSpPr/>
          <p:nvPr/>
        </p:nvSpPr>
        <p:spPr>
          <a:xfrm>
            <a:off x="4143240" y="4500720"/>
            <a:ext cx="71460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4433040" y="4429080"/>
            <a:ext cx="566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  <a:ea typeface="Calibri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890280" y="22104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осстанови пропущенные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ис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C:\Documents and Settings\ADMIN\Рабочий стол\математика занятие\4089.gif"/>
          <p:cNvPicPr/>
          <p:nvPr/>
        </p:nvPicPr>
        <p:blipFill>
          <a:blip r:embed="rId1"/>
          <a:stretch/>
        </p:blipFill>
        <p:spPr>
          <a:xfrm>
            <a:off x="214200" y="3571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4:37:46Z</dcterms:created>
  <dc:creator>serega</dc:creator>
  <dc:description/>
  <dc:language>en-US</dc:language>
  <cp:lastModifiedBy>Admin</cp:lastModifiedBy>
  <dcterms:modified xsi:type="dcterms:W3CDTF">2012-06-15T10:32:05Z</dcterms:modified>
  <cp:revision>62</cp:revision>
  <dc:subject/>
  <dc:title>Презентация PowerPoint</dc:title>
</cp:coreProperties>
</file>