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66AA-A776-4987-93C9-AF679E1FE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8FC9-4F3C-4898-A80E-5CF6E626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1913-9D0E-40EF-A2BD-BA61D8445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50D3-7D0F-45D3-87AA-C31457340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8D10-5DA9-4323-A482-F4239D08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328D-CA0B-4D8F-A853-480797A7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704A-90A5-4EEB-9B61-2DD6CDA8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C7DF-D63F-48BB-81DC-7C6797BC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20C4-3381-4D6A-9486-598D2919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72D9-A343-4D15-895F-EA71FCB7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0C97-25EF-44C3-8DA0-49B9EB4E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9E13-F67B-4149-A3BE-D2BAA848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AF32-9151-4C06-BBE4-1A08074103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643040" y="1285920"/>
            <a:ext cx="57434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ст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826920" y="3141720"/>
            <a:ext cx="75312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итературная математик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611280" y="4797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D:\Мои документы\РИСУНКИ\школа\shkkola-56.gif"/>
          <p:cNvPicPr/>
          <p:nvPr/>
        </p:nvPicPr>
        <p:blipFill>
          <a:blip r:embed="rId1"/>
          <a:stretch/>
        </p:blipFill>
        <p:spPr>
          <a:xfrm>
            <a:off x="6500880" y="4643280"/>
            <a:ext cx="210024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6"/>
          <p:cNvSpPr/>
          <p:nvPr/>
        </p:nvSpPr>
        <p:spPr>
          <a:xfrm>
            <a:off x="357120" y="428760"/>
            <a:ext cx="3000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Автор рассказа, где институтка Наденька решает задачу про трех купц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2"/>
          <p:cNvSpPr/>
          <p:nvPr/>
        </p:nvSpPr>
        <p:spPr>
          <a:xfrm>
            <a:off x="3286080" y="428760"/>
            <a:ext cx="0" cy="611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357120" y="4214880"/>
            <a:ext cx="293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Известный русский поэт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втор строк «Вдохнов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ужно в геометри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 и в поэзи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357120" y="3286080"/>
            <a:ext cx="290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4.Кому принадлежат слова «Мы любим все - и жар холодных чисел…»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2"/>
          <p:cNvSpPr/>
          <p:nvPr/>
        </p:nvSpPr>
        <p:spPr>
          <a:xfrm>
            <a:off x="429480" y="5357880"/>
            <a:ext cx="2856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6.Какой русский писате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сравнивал челове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с дробью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4"/>
          <p:cNvSpPr/>
          <p:nvPr/>
        </p:nvSpPr>
        <p:spPr>
          <a:xfrm>
            <a:off x="357120" y="1428840"/>
            <a:ext cx="2857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2.Какой поэт в своем стихотворении поклонялся «царственным числам»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32"/>
          <p:cNvSpPr/>
          <p:nvPr/>
        </p:nvSpPr>
        <p:spPr>
          <a:xfrm>
            <a:off x="357120" y="2571840"/>
            <a:ext cx="292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Кто написал извест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сказ «Федина задача»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5643720" y="1428840"/>
            <a:ext cx="1071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Б.Слуц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8"/>
          <p:cNvSpPr/>
          <p:nvPr/>
        </p:nvSpPr>
        <p:spPr>
          <a:xfrm>
            <a:off x="3429000" y="428760"/>
            <a:ext cx="928800" cy="571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С. Гол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9"/>
          <p:cNvSpPr/>
          <p:nvPr/>
        </p:nvSpPr>
        <p:spPr>
          <a:xfrm>
            <a:off x="5715000" y="428760"/>
            <a:ext cx="107172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А.П.Чех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0"/>
          <p:cNvSpPr/>
          <p:nvPr/>
        </p:nvSpPr>
        <p:spPr>
          <a:xfrm>
            <a:off x="6858000" y="428760"/>
            <a:ext cx="114300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М.Пришв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27"/>
          <p:cNvSpPr/>
          <p:nvPr/>
        </p:nvSpPr>
        <p:spPr>
          <a:xfrm>
            <a:off x="6786720" y="1428840"/>
            <a:ext cx="114300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В.Брю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3357720" y="1428840"/>
            <a:ext cx="100008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Ф.Тютче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429080" y="1428840"/>
            <a:ext cx="107172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А.Май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30"/>
          <p:cNvSpPr/>
          <p:nvPr/>
        </p:nvSpPr>
        <p:spPr>
          <a:xfrm>
            <a:off x="4429080" y="428760"/>
            <a:ext cx="114300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П.Баж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1"/>
          <p:cNvSpPr/>
          <p:nvPr/>
        </p:nvSpPr>
        <p:spPr>
          <a:xfrm>
            <a:off x="4572000" y="2500200"/>
            <a:ext cx="1143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Н.Н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2"/>
          <p:cNvSpPr/>
          <p:nvPr/>
        </p:nvSpPr>
        <p:spPr>
          <a:xfrm>
            <a:off x="3357720" y="2500200"/>
            <a:ext cx="1071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А.П.Чех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3"/>
          <p:cNvSpPr/>
          <p:nvPr/>
        </p:nvSpPr>
        <p:spPr>
          <a:xfrm>
            <a:off x="5715000" y="2500200"/>
            <a:ext cx="107172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С.Марша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4"/>
          <p:cNvSpPr/>
          <p:nvPr/>
        </p:nvSpPr>
        <p:spPr>
          <a:xfrm>
            <a:off x="6858000" y="2500200"/>
            <a:ext cx="121428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Л.Толст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35"/>
          <p:cNvSpPr/>
          <p:nvPr/>
        </p:nvSpPr>
        <p:spPr>
          <a:xfrm>
            <a:off x="7000920" y="3429000"/>
            <a:ext cx="1143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А.Бл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6"/>
          <p:cNvSpPr/>
          <p:nvPr/>
        </p:nvSpPr>
        <p:spPr>
          <a:xfrm>
            <a:off x="5786280" y="3429000"/>
            <a:ext cx="1143000" cy="571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Ф.Тютче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37"/>
          <p:cNvSpPr/>
          <p:nvPr/>
        </p:nvSpPr>
        <p:spPr>
          <a:xfrm>
            <a:off x="4500720" y="3429000"/>
            <a:ext cx="121428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М.Тв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8"/>
          <p:cNvSpPr/>
          <p:nvPr/>
        </p:nvSpPr>
        <p:spPr>
          <a:xfrm>
            <a:off x="3357720" y="3429000"/>
            <a:ext cx="1071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А.Ф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9"/>
          <p:cNvSpPr/>
          <p:nvPr/>
        </p:nvSpPr>
        <p:spPr>
          <a:xfrm>
            <a:off x="5715000" y="4500720"/>
            <a:ext cx="1143000" cy="571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А.Пушк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40"/>
          <p:cNvSpPr/>
          <p:nvPr/>
        </p:nvSpPr>
        <p:spPr>
          <a:xfrm>
            <a:off x="3357720" y="4500720"/>
            <a:ext cx="1071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Н.Гого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41"/>
          <p:cNvSpPr/>
          <p:nvPr/>
        </p:nvSpPr>
        <p:spPr>
          <a:xfrm>
            <a:off x="4500720" y="4500720"/>
            <a:ext cx="1071360" cy="571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С.Марша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42"/>
          <p:cNvSpPr/>
          <p:nvPr/>
        </p:nvSpPr>
        <p:spPr>
          <a:xfrm>
            <a:off x="6929280" y="4500720"/>
            <a:ext cx="121464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М.Лермо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43"/>
          <p:cNvSpPr/>
          <p:nvPr/>
        </p:nvSpPr>
        <p:spPr>
          <a:xfrm>
            <a:off x="6929280" y="5572080"/>
            <a:ext cx="1214640" cy="571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Л.Толст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44"/>
          <p:cNvSpPr/>
          <p:nvPr/>
        </p:nvSpPr>
        <p:spPr>
          <a:xfrm>
            <a:off x="4500720" y="5572080"/>
            <a:ext cx="1071360" cy="571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М.Пришв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45"/>
          <p:cNvSpPr/>
          <p:nvPr/>
        </p:nvSpPr>
        <p:spPr>
          <a:xfrm>
            <a:off x="5643720" y="5572080"/>
            <a:ext cx="1214280" cy="571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Е.Велтис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46"/>
          <p:cNvSpPr/>
          <p:nvPr/>
        </p:nvSpPr>
        <p:spPr>
          <a:xfrm>
            <a:off x="3357720" y="5572080"/>
            <a:ext cx="1071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М.Зощенк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81481E-006 L -0.3967 -0.00324 E">
                                      <p:cBhvr>
                                        <p:cTn id="12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81481E-006 L -0.52136 -0.00254 E">
                                      <p:cBhvr>
                                        <p:cTn id="29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51 -0.00115 L -0.27518 -0.00092 E">
                                      <p:cBhvr>
                                        <p:cTn id="52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6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7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1.85185E-006 L -0.55643 0.00972 E">
                                      <p:cBhvr>
                                        <p:cTn id="75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8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8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9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1.11022E-016 L -0.40799 -0.0088 E">
                                      <p:cBhvr>
                                        <p:cTn id="98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0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1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1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33333E-006 L -0.53681 0.00277 E">
                                      <p:cBhvr>
                                        <p:cTn id="121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2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3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4T03:33:17Z</dcterms:created>
  <dc:creator>User</dc:creator>
  <dc:description/>
  <dc:language>en-US</dc:language>
  <cp:lastModifiedBy>Admin</cp:lastModifiedBy>
  <dcterms:modified xsi:type="dcterms:W3CDTF">2012-04-22T10:54:19Z</dcterms:modified>
  <cp:revision>34</cp:revision>
  <dc:subject/>
  <dc:title>Слайд 1</dc:title>
</cp:coreProperties>
</file>