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4.png" ContentType="image/png"/>
  <Override PartName="/ppt/media/image3.jpeg" ContentType="image/jpeg"/>
  <Override PartName="/ppt/media/image15.png" ContentType="image/png"/>
  <Override PartName="/ppt/media/image2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FFCF7-5DC6-41AE-A47E-5B4237C67C7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F4C8F-B76F-4E90-B609-72B6B25417EC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1837-A411-4ADA-869D-A5A9B3131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92B6-1D02-44C5-A700-389F827D3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4DD23B-28BC-435D-A6E8-3C71EDC36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8E4106-3EEE-4BD8-A5A3-030EC425A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3751F3-E80E-45EA-A731-A08F9C532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1B09B5-E1CB-4547-8707-CA25ECC2E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2A9588-1B3B-4408-9D0C-FF0451263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373BDD-BB5B-4051-B0CA-A105466A8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2FE8D3-FF6D-424D-83DB-BB7EDF6AC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23E723-2C6A-4A73-91A1-BD6F656E0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3503BA-329A-4CF5-879D-F338E11D8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FEAF9F-F5E0-4527-901C-6C6C84104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BC93-66EC-46B0-B3D1-A54CBDB5B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FAD713-4481-47AE-96DE-5D2632116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FB7E57-D608-4127-AEF5-9471F713D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39C52F-7B34-4E4B-B61A-3F5C0F515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941BB6-7017-4E82-8310-6B679B1F9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F7FCD7-E9BB-470D-B8DB-C2B71593E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B3878B-B51B-454D-9A47-623F6F79B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EC3776-9A71-4592-800A-7F0A6F45B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AE5E50-0CFA-4E28-ADF7-CDDD60856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07A68A-D132-4B35-BA88-182A24B68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BA5954-7950-4317-ADA0-FB313288C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A887-5DCB-4FB2-9525-B9FA2EFAE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200BEE-46AA-4A34-A6DF-1AFE3F885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7DA734-EFE5-4439-812D-4500672DE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1ACB32-891B-465B-A534-46FA5B542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CE12D4-9E2D-4857-B282-431C8FE2D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AB8B37-1BE7-4949-9919-CD1B25304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17FE0B-CCFC-4327-96E0-30E86489C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229BD0-47AA-47BE-AFDC-DA2B5EECB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F5AD1E-8F16-4535-9C65-9B9D44990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24D339-38F0-4F49-9870-74EC09326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799238-F531-40E5-90F1-797837401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C9CC0-0921-4B16-96DC-3C258A3A5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B783C8-9812-42C3-B7A1-09EBAD058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8EB53B-D9E2-4CCA-A5FD-8E15FD507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7F162E-E311-4B52-A051-1CF2B50EF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AFD5C9-ADAB-4137-8973-DC7BC9C5B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9EBE4C-4C6C-4AAF-8F52-7ED7D05EF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3DF6AA-9397-4343-ADE1-4296CF8DD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33C9E7-0A24-4F73-9E8E-BD686D9DE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AD0D3A-82FE-473F-834D-B3A3FB5CC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C8291B-AF76-4604-8837-02A90B81D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E2F831-2AC5-4139-8C07-11551A83E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B1E56-36A6-4150-BB85-4EEEF8E28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01374C-46AA-4156-8798-BCFEC01CC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BEE936-7397-4585-B5A5-8F358A353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E579AB-3E14-4137-9752-E8624F4C1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7A4D11-509B-465F-A256-61AD70D55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1DAA7A-577D-4BEA-B5E9-1E593F6DD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DB65E-955F-4E6B-9C35-8E0756612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6ABF5-08B1-489C-AC82-19B5BDC10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10D31-B35D-4067-854F-78F01F4CC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31A74-7EB6-45E9-BADD-8CE460A02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DC70C-7D24-4BF5-B50D-ED1F87F2E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F5FB-F701-48C7-ACE3-8578E5A07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C454C-AF52-4DDC-83CD-2202C3B66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AC681-E420-469B-B0DF-D9F57A061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0BD9C-5DB1-4224-B80C-5E2FD5937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0FAA4-6201-4AB4-863C-4585C007D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A03C7-7E96-4779-891D-A6EA30656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A1EC2F-7BEE-4D07-90AF-3101891C8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502335-A963-4733-8D5C-AC689A9CB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B42145-5E5D-4948-A9A6-0AD5C54D8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954E5C-52B7-4DA0-BFA3-96E5106AD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01B09B-30DF-4E65-AA7C-F3875A7E0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9E91-ABD4-4DC8-8FA8-E7593BDEC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219E62-5C50-4DF1-8D5D-789355C73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300B4A-E09F-4294-A043-BFE806BC6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3CC02F-8AC2-4AD1-A1F3-B88351F38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17D18C-38E0-49A3-86DC-1FBF97055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B583F1-07D9-47CB-B480-FD7F9F09D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2C8BF1-F577-47D0-BCDF-F8CE4C26A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FB7688-CF6D-4BC4-8970-677E8BBD0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485B1D-13D0-4341-AE93-F43C104AB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FD779F-7FA9-4D99-8D1A-F85828FB6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DF9860-B7A4-40AD-9E07-A76248B5E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A6CF-E0B3-46AC-AB85-CAE23E48D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7112C5-645B-4E53-8DE8-2DB4CD766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0214EC-9963-4A8F-8832-7518C6008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30F563-FBDE-42F0-8FB5-CB4FB6C29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2B5C29-88AF-4D02-84D7-0BBE0811C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C141EF-F38C-4C54-966E-30778C518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F6AF3E-509A-4C22-8AC6-91736CCFE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35C02B-D8F6-4A3B-93C1-BFE3624AE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B1514B-391C-471C-8DA9-0547209D4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215671-59DA-49FA-9307-15B725628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510B46-73DB-4550-8D1C-D92F8F7F4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40F2-E8F8-4F88-9B55-7C4DDFFB4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98E25B-1424-4E7B-B128-C409C72ED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C9623C-4F24-4DB3-8420-2229C43C7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7BDB5E-21F4-41D8-9E58-77FBB789F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256654-5648-415C-A224-7FA427CCE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F33179-CD9A-4442-82B5-189283EB1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6521D2-7B83-4336-A932-3E8E0713D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F5C44E-F04C-4C58-8E88-4F09196FF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744671-07F5-40BD-A9C2-59BC74903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833066-33C1-4C16-ADE6-DC317FACC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0B0462-4349-4343-8AC6-120AABEF9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D9CF-F64A-4840-9F1F-19EF52B21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B90086-5BBF-4D62-8F3E-E9AF83664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94A4C7-07C9-4CF3-8994-1891F8661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F01C48-838E-4434-9743-DB33E86D8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91C8D3-A837-4A34-BC53-6319805B8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7CA167-6CC9-4CEE-9F77-B655AC6BD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CC0C22-0EF2-48CF-902D-7D68AF726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F6F024-C695-4281-B261-D82418E04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0F3199-4FD4-41C7-8DA0-B20484C29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BBEF84-3664-4312-A0E6-DDF8C9B7D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754606-01F1-4FA6-8888-13A43439C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194C-7726-4548-BC91-FB656285E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6D3AFA-858A-4CAC-B9B3-6A2DCF246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C1FF2B-89FE-445F-A0E2-07EE927E0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93A1C3-4F0B-4A6E-868A-2544F9B05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CD56D4-BEB0-44F0-B6DF-126F7CD8C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162F57-A656-461E-A216-DA9269908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581CDC-2967-469A-93C2-86EA846CC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989749-4B5D-40F9-BAE8-35BB372CD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549574-95D3-4625-BC77-2C74E7784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652C55-4333-4F83-B4FC-F30B17FD4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5A3083-2B60-4FCD-98BE-2F41BB5DC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140D-35A1-416C-9024-DEA78F138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045567-539D-448F-AE7C-1EB59B01E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D57157-0DF5-4BE6-9831-AFDB8B8CD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7BA21A-2378-4C46-B344-750F727BC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80B778-D1A1-4AED-A662-5AB7BFFC4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60F412-4D8A-41CD-A9BC-3AD88D979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3704C4-39B5-4FCD-84E8-95B81BA61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8695AF-5205-4C36-8ABD-8CF7ED6B6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620BBE-13A9-479F-8C5C-7ACC46E24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AE0C3A-1DBE-4927-BF9B-878E3A9DB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F44D10-02A5-4F20-91E5-D86C1648C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5335-3D97-473B-BBB1-3108555D8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F22F7B-5E6F-4DA3-ADFA-79FC4EFF1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676044-3A84-4BB7-8F87-3149A57FB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21DE2E-A0DD-4160-ACDE-56031FAA1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E8D5C8-EE72-4A3F-852E-CE4EEBEBF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38409F-4679-4E01-8E93-8B12F5A69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E3C5F8-9DC1-4528-8A91-3D29A5516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0169DC-7AC8-479F-882B-FB1DAF5D4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EBCC46-0CC7-41E9-AF96-017447C44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690FB4-0032-47D5-96C8-83FE96395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8C668A-6C29-4379-AA54-403D94B4C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3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5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AA4E1-82BD-4019-AFD0-B25C83312E6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28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29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30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C75D2-B3B6-4831-AE58-BDBD2AC2AAE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dt" idx="3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ftr" idx="3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 type="sldNum" idx="3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F6420-BC87-4965-A036-B6F0ED20277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Полилиния 10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Полилиния 15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05" name="Прямоугольный треугольник 15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506" name="Прямоугольный треугольник 15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508" name="Прямая соединительная линия 16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509" name="Нашивка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Нашивка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 type="dt" idx="3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 type="ftr" idx="3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 type="sldNum" idx="3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5A4D8-A140-4F8B-A0DD-B34DA12BC23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олилиния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Полилиния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9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50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52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69459-3122-4D64-8A6E-DF362D4A040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5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5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96" name="Полилиния 15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" name="Полилиния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98" name="Полилиния 18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99" name="Полилиния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pic>
          <p:nvPicPr>
            <p:cNvPr id="101" name="Прямая соединительная линия 19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A498C-8153-4DE0-8AA8-A3C02A670E3F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5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Полилиния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Полилиния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6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48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49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Нашивка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34998-8C62-446C-AEA7-46718253342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5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4098A-23A4-4336-A579-DABCCFAD1E2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5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8C846-DBA3-4F51-93EC-6F1ED27B38D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5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Полилиния 10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Полилиния 15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76" name="Прямоугольный треугольник 15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77" name="Прямоугольный треугольник 15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79" name="Прямая соединительная линия 16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80" name="Нашивка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Нашивка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7EEA7-78D0-4BB3-A807-6678B82B1EC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24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325" name="Полилиния 15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6" name="Полилиния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327" name="Полилиния 18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328" name="Полилиния 18" descr=""/>
              <p:cNvPicPr/>
              <p:nvPr/>
            </p:nvPicPr>
            <p:blipFill>
              <a:blip r:embed="rId3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9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pic>
          <p:nvPicPr>
            <p:cNvPr id="330" name="Прямая соединительная линия 19" descr=""/>
            <p:cNvPicPr/>
            <p:nvPr/>
          </p:nvPicPr>
          <p:blipFill>
            <a:blip r:embed="rId4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5EDEB-CED6-488E-A006-49B7E30AEB7E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Полилиния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Полилиния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74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75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77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78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Нашивка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dt" idx="2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 type="ftr" idx="2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 type="sldNum" idx="2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AD045-33F8-47C4-B90E-0BA5E489801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8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Rectangle 2" descr=""/>
          <p:cNvPicPr/>
          <p:nvPr/>
        </p:nvPicPr>
        <p:blipFill>
          <a:blip r:embed="rId1"/>
          <a:stretch/>
        </p:blipFill>
        <p:spPr>
          <a:xfrm>
            <a:off x="536400" y="133200"/>
            <a:ext cx="7785360" cy="2129040"/>
          </a:xfrm>
          <a:prstGeom prst="rect">
            <a:avLst/>
          </a:prstGeom>
          <a:ln w="0">
            <a:noFill/>
          </a:ln>
        </p:spPr>
      </p:pic>
      <p:sp>
        <p:nvSpPr>
          <p:cNvPr id="560" name="PlaceHolder 1"/>
          <p:cNvSpPr>
            <a:spLocks noGrp="1"/>
          </p:cNvSpPr>
          <p:nvPr>
            <p:ph type="subTitle"/>
          </p:nvPr>
        </p:nvSpPr>
        <p:spPr>
          <a:xfrm>
            <a:off x="2842920" y="3284640"/>
            <a:ext cx="60195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99"/>
                </a:solidFill>
                <a:latin typeface="Monotype Corsiva"/>
              </a:rPr>
              <a:t>Преподаватель немецкого языка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Monotype Corsiva"/>
              </a:rPr>
              <a:t>I </a:t>
            </a:r>
            <a:r>
              <a:rPr b="0" lang="ru-RU" sz="2800" spc="-1" strike="noStrike">
                <a:solidFill>
                  <a:srgbClr val="003399"/>
                </a:solidFill>
                <a:latin typeface="Monotype Corsiva"/>
              </a:rPr>
              <a:t>квалификационная категория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99"/>
                </a:solidFill>
                <a:latin typeface="Monotype Corsiva"/>
              </a:rPr>
              <a:t>Ульяновский педагогический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99"/>
                </a:solidFill>
                <a:latin typeface="Monotype Corsiva"/>
              </a:rPr>
              <a:t>колледж № 4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55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0" name="Заголовок 1" descr=""/>
          <p:cNvPicPr/>
          <p:nvPr/>
        </p:nvPicPr>
        <p:blipFill>
          <a:blip r:embed="rId1"/>
          <a:stretch/>
        </p:blipFill>
        <p:spPr>
          <a:xfrm>
            <a:off x="549360" y="79200"/>
            <a:ext cx="8381880" cy="1663920"/>
          </a:xfrm>
          <a:prstGeom prst="rect">
            <a:avLst/>
          </a:prstGeom>
          <a:ln w="0">
            <a:noFill/>
          </a:ln>
        </p:spPr>
      </p:pic>
      <p:sp>
        <p:nvSpPr>
          <p:cNvPr id="601" name=""/>
          <p:cNvSpPr txBox="1"/>
          <p:nvPr/>
        </p:nvSpPr>
        <p:spPr>
          <a:xfrm>
            <a:off x="-360" y="2356920"/>
            <a:ext cx="7667640" cy="27147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77000"/>
          </a:bodyPr>
          <a:p>
            <a:pPr marL="280800" indent="-196560">
              <a:lnSpc>
                <a:spcPct val="80000"/>
              </a:lnSpc>
              <a:spcBef>
                <a:spcPts val="400"/>
              </a:spcBef>
              <a:buClr>
                <a:srgbClr val="50141b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способствует  интенсификации процесса обучения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280800" indent="-196560">
              <a:lnSpc>
                <a:spcPct val="80000"/>
              </a:lnSpc>
              <a:spcBef>
                <a:spcPts val="400"/>
              </a:spcBef>
              <a:buClr>
                <a:srgbClr val="50141b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280800" indent="-196560">
              <a:lnSpc>
                <a:spcPct val="80000"/>
              </a:lnSpc>
              <a:spcBef>
                <a:spcPts val="400"/>
              </a:spcBef>
              <a:buClr>
                <a:srgbClr val="50141b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помогает психологически комфортно чувствовать     студентам себя на уроке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280800" indent="-196560">
              <a:lnSpc>
                <a:spcPct val="80000"/>
              </a:lnSpc>
              <a:spcBef>
                <a:spcPts val="400"/>
              </a:spcBef>
              <a:buClr>
                <a:srgbClr val="50141b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280800" indent="-196560">
              <a:lnSpc>
                <a:spcPct val="80000"/>
              </a:lnSpc>
              <a:spcBef>
                <a:spcPts val="400"/>
              </a:spcBef>
              <a:buClr>
                <a:srgbClr val="50141b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модернизирует урок, мотивирует студентов и дифференцирует процесс обучения с учетом индивидуальных особенностей каждого студента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280800" indent="-196560">
              <a:lnSpc>
                <a:spcPct val="80000"/>
              </a:lnSpc>
              <a:spcBef>
                <a:spcPts val="400"/>
              </a:spcBef>
              <a:buClr>
                <a:srgbClr val="50141b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280800" indent="-196560">
              <a:lnSpc>
                <a:spcPct val="80000"/>
              </a:lnSpc>
              <a:spcBef>
                <a:spcPts val="400"/>
              </a:spcBef>
              <a:buClr>
                <a:srgbClr val="50141b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развивает речевую компетенцию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280800" indent="-1965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280800" indent="-196560">
              <a:lnSpc>
                <a:spcPct val="80000"/>
              </a:lnSpc>
              <a:spcBef>
                <a:spcPts val="400"/>
              </a:spcBef>
              <a:buClr>
                <a:srgbClr val="50141b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развивает способность и готовность к самостоятельному изучению иностранного языка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2" name="TextBox 1"/>
          <p:cNvGrpSpPr/>
          <p:nvPr/>
        </p:nvGrpSpPr>
        <p:grpSpPr>
          <a:xfrm>
            <a:off x="6480" y="92160"/>
            <a:ext cx="9058320" cy="2054160"/>
            <a:chOff x="6480" y="92160"/>
            <a:chExt cx="9058320" cy="2054160"/>
          </a:xfrm>
        </p:grpSpPr>
        <p:pic>
          <p:nvPicPr>
            <p:cNvPr id="603" name="TextBox 1" descr=""/>
            <p:cNvPicPr/>
            <p:nvPr/>
          </p:nvPicPr>
          <p:blipFill>
            <a:blip r:embed="rId1"/>
            <a:stretch/>
          </p:blipFill>
          <p:spPr>
            <a:xfrm>
              <a:off x="6480" y="92160"/>
              <a:ext cx="9058320" cy="205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4" name=""/>
            <p:cNvSpPr/>
            <p:nvPr/>
          </p:nvSpPr>
          <p:spPr>
            <a:xfrm>
              <a:off x="250920" y="333360"/>
              <a:ext cx="85690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Пакет мультимедийных презентаций, используемый на уроках иностранного языка по дисциплинам «ПРАКТИКА УСТНОЙ И ПИСЬМЕННОЙ РЕЧИ», «ИНОСТРАННЫЙ ЯЗЫК »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605" name="Picture 3" descr=""/>
          <p:cNvPicPr/>
          <p:nvPr/>
        </p:nvPicPr>
        <p:blipFill>
          <a:blip r:embed="rId2"/>
          <a:stretch/>
        </p:blipFill>
        <p:spPr>
          <a:xfrm>
            <a:off x="237960" y="1901880"/>
            <a:ext cx="2514600" cy="18860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06" name="Picture 4" descr=""/>
          <p:cNvPicPr/>
          <p:nvPr/>
        </p:nvPicPr>
        <p:blipFill>
          <a:blip r:embed="rId3"/>
          <a:stretch/>
        </p:blipFill>
        <p:spPr>
          <a:xfrm>
            <a:off x="2340000" y="2844720"/>
            <a:ext cx="2517840" cy="1889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07" name="Picture 5" descr=""/>
          <p:cNvPicPr/>
          <p:nvPr/>
        </p:nvPicPr>
        <p:blipFill>
          <a:blip r:embed="rId4"/>
          <a:stretch/>
        </p:blipFill>
        <p:spPr>
          <a:xfrm>
            <a:off x="4535640" y="3959280"/>
            <a:ext cx="2519280" cy="1888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08" name="Picture 6" descr=""/>
          <p:cNvPicPr/>
          <p:nvPr/>
        </p:nvPicPr>
        <p:blipFill>
          <a:blip r:embed="rId5"/>
          <a:stretch/>
        </p:blipFill>
        <p:spPr>
          <a:xfrm>
            <a:off x="6800760" y="5087880"/>
            <a:ext cx="2340000" cy="1754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1" name="Заголовок 1" descr=""/>
          <p:cNvPicPr/>
          <p:nvPr/>
        </p:nvPicPr>
        <p:blipFill>
          <a:blip r:embed="rId1"/>
          <a:stretch/>
        </p:blipFill>
        <p:spPr>
          <a:xfrm>
            <a:off x="1109520" y="914400"/>
            <a:ext cx="8040960" cy="3919680"/>
          </a:xfrm>
          <a:prstGeom prst="rect">
            <a:avLst/>
          </a:prstGeom>
          <a:ln w="0">
            <a:noFill/>
          </a:ln>
        </p:spPr>
      </p:pic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1332000" y="5143680"/>
            <a:ext cx="7812000" cy="78552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реподавателя немецкого языка высшей квалификационной категории Чеберовой Инги Михайловны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3" name="TextBox 3"/>
          <p:cNvSpPr/>
          <p:nvPr/>
        </p:nvSpPr>
        <p:spPr>
          <a:xfrm>
            <a:off x="395280" y="384120"/>
            <a:ext cx="903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ОГБОУ СПО Ульяновский педагогический колледж №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4" name="TextBox 4"/>
          <p:cNvSpPr/>
          <p:nvPr/>
        </p:nvSpPr>
        <p:spPr>
          <a:xfrm>
            <a:off x="3807720" y="6000840"/>
            <a:ext cx="224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Ульяновск 201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Заголовок 5"/>
          <p:cNvSpPr/>
          <p:nvPr/>
        </p:nvSpPr>
        <p:spPr>
          <a:xfrm>
            <a:off x="468360" y="1125360"/>
            <a:ext cx="81835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66" name="Text Box 3"/>
          <p:cNvGrpSpPr/>
          <p:nvPr/>
        </p:nvGrpSpPr>
        <p:grpSpPr>
          <a:xfrm>
            <a:off x="933480" y="542880"/>
            <a:ext cx="7253280" cy="1073160"/>
            <a:chOff x="933480" y="542880"/>
            <a:chExt cx="7253280" cy="1073160"/>
          </a:xfrm>
        </p:grpSpPr>
        <p:pic>
          <p:nvPicPr>
            <p:cNvPr id="567" name="Text Box 3" descr=""/>
            <p:cNvPicPr/>
            <p:nvPr/>
          </p:nvPicPr>
          <p:blipFill>
            <a:blip r:embed="rId1"/>
            <a:stretch/>
          </p:blipFill>
          <p:spPr>
            <a:xfrm>
              <a:off x="933480" y="542880"/>
              <a:ext cx="7253280" cy="10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8" name=""/>
            <p:cNvSpPr/>
            <p:nvPr/>
          </p:nvSpPr>
          <p:spPr>
            <a:xfrm>
              <a:off x="1176480" y="785880"/>
              <a:ext cx="6769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50141b"/>
                  </a:solidFill>
                  <a:latin typeface="Verdana"/>
                </a:rPr>
                <a:t>Актуальность проекта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69" name="Text Box 5"/>
          <p:cNvSpPr/>
          <p:nvPr/>
        </p:nvSpPr>
        <p:spPr>
          <a:xfrm>
            <a:off x="857160" y="1968480"/>
            <a:ext cx="73580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ыявленное противоречие между необходимостью использования новых информационно-коммуникационных технологий в процессе обучения и отсутствием достаточно профессиональной подготовки преподавателей в данной области и недостатком методической литератур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Заголовок 5"/>
          <p:cNvSpPr/>
          <p:nvPr/>
        </p:nvSpPr>
        <p:spPr>
          <a:xfrm>
            <a:off x="658800" y="260280"/>
            <a:ext cx="81835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71" name="Text Box 3"/>
          <p:cNvGrpSpPr/>
          <p:nvPr/>
        </p:nvGrpSpPr>
        <p:grpSpPr>
          <a:xfrm>
            <a:off x="1085760" y="420840"/>
            <a:ext cx="7259760" cy="1073160"/>
            <a:chOff x="1085760" y="420840"/>
            <a:chExt cx="7259760" cy="1073160"/>
          </a:xfrm>
        </p:grpSpPr>
        <p:pic>
          <p:nvPicPr>
            <p:cNvPr id="572" name="Text Box 3" descr=""/>
            <p:cNvPicPr/>
            <p:nvPr/>
          </p:nvPicPr>
          <p:blipFill>
            <a:blip r:embed="rId1"/>
            <a:stretch/>
          </p:blipFill>
          <p:spPr>
            <a:xfrm>
              <a:off x="1085760" y="420840"/>
              <a:ext cx="7259760" cy="10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3" name=""/>
            <p:cNvSpPr/>
            <p:nvPr/>
          </p:nvSpPr>
          <p:spPr>
            <a:xfrm>
              <a:off x="1332000" y="666720"/>
              <a:ext cx="6769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50141b"/>
                  </a:solidFill>
                  <a:latin typeface="Verdana"/>
                </a:rPr>
                <a:t>Цель проекта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74" name="Text Box 4"/>
          <p:cNvSpPr/>
          <p:nvPr/>
        </p:nvSpPr>
        <p:spPr>
          <a:xfrm>
            <a:off x="1332000" y="1700280"/>
            <a:ext cx="7488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5" name="Text Box 5"/>
          <p:cNvSpPr/>
          <p:nvPr/>
        </p:nvSpPr>
        <p:spPr>
          <a:xfrm>
            <a:off x="658800" y="1628640"/>
            <a:ext cx="75722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Рассмотрение возможностей использования компьютерных презентаций на занятиях по иностранному языку при работе над языковыми и речевыми аспектами иностранного язык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76" name="Picture 5" descr="00036131"/>
          <p:cNvPicPr/>
          <p:nvPr/>
        </p:nvPicPr>
        <p:blipFill>
          <a:blip r:embed="rId2"/>
          <a:stretch/>
        </p:blipFill>
        <p:spPr>
          <a:xfrm>
            <a:off x="4954680" y="4589640"/>
            <a:ext cx="3276360" cy="217008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Заголовок 5"/>
          <p:cNvSpPr/>
          <p:nvPr/>
        </p:nvSpPr>
        <p:spPr>
          <a:xfrm>
            <a:off x="468360" y="1125360"/>
            <a:ext cx="81835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78" name="Text Box 3"/>
          <p:cNvGrpSpPr/>
          <p:nvPr/>
        </p:nvGrpSpPr>
        <p:grpSpPr>
          <a:xfrm>
            <a:off x="1085760" y="450720"/>
            <a:ext cx="7259760" cy="1067040"/>
            <a:chOff x="1085760" y="450720"/>
            <a:chExt cx="7259760" cy="1067040"/>
          </a:xfrm>
        </p:grpSpPr>
        <p:pic>
          <p:nvPicPr>
            <p:cNvPr id="579" name="Text Box 3" descr=""/>
            <p:cNvPicPr/>
            <p:nvPr/>
          </p:nvPicPr>
          <p:blipFill>
            <a:blip r:embed="rId1"/>
            <a:stretch/>
          </p:blipFill>
          <p:spPr>
            <a:xfrm>
              <a:off x="1085760" y="450720"/>
              <a:ext cx="7259760" cy="106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1332000" y="692280"/>
              <a:ext cx="6769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50141b"/>
                  </a:solidFill>
                  <a:latin typeface="Verdana"/>
                </a:rPr>
                <a:t>Задачи проекта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81" name="Text Box 4"/>
          <p:cNvSpPr/>
          <p:nvPr/>
        </p:nvSpPr>
        <p:spPr>
          <a:xfrm>
            <a:off x="785880" y="1857240"/>
            <a:ext cx="7488000" cy="31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  Изучить возможности использования мультимедийных презентаций в обучении иностранному языку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-   Рассмотреть роль мультимедийных презентаций на занятиях иностранного языка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-   Раскрыть процессы формирования языковых навыков студентов с использованием мультимедийных презентаций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-   создать пакет мультимедийных презентаций и методические рекомендации для студентов колледжа по  использованию компьютерных презентайцмий в процессе обучения, а также во время прохождения педагогической практики в школ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2" name="TextBox 1"/>
          <p:cNvGrpSpPr/>
          <p:nvPr/>
        </p:nvGrpSpPr>
        <p:grpSpPr>
          <a:xfrm>
            <a:off x="-79200" y="506520"/>
            <a:ext cx="8937360" cy="1901880"/>
            <a:chOff x="-79200" y="506520"/>
            <a:chExt cx="8937360" cy="1901880"/>
          </a:xfrm>
        </p:grpSpPr>
        <p:pic>
          <p:nvPicPr>
            <p:cNvPr id="583" name="TextBox 1" descr=""/>
            <p:cNvPicPr/>
            <p:nvPr/>
          </p:nvPicPr>
          <p:blipFill>
            <a:blip r:embed="rId1"/>
            <a:stretch/>
          </p:blipFill>
          <p:spPr>
            <a:xfrm>
              <a:off x="-79200" y="506520"/>
              <a:ext cx="8937360" cy="190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4" name=""/>
            <p:cNvSpPr/>
            <p:nvPr/>
          </p:nvSpPr>
          <p:spPr>
            <a:xfrm>
              <a:off x="179280" y="765000"/>
              <a:ext cx="842508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 u="sng">
                  <a:solidFill>
                    <a:srgbClr val="000000"/>
                  </a:solidFill>
                  <a:uFillTx/>
                  <a:latin typeface="Verdana"/>
                </a:rPr>
                <a:t>Объект исследования</a:t>
              </a:r>
              <a:r>
                <a:rPr b="0" lang="ru-RU" sz="2800" spc="-1" strike="noStrike">
                  <a:solidFill>
                    <a:srgbClr val="000000"/>
                  </a:solidFill>
                  <a:latin typeface="Verdana"/>
                </a:rPr>
                <a:t>-ресурсы информационных коммуникативных технологий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85" name="TextBox 2"/>
          <p:cNvGrpSpPr/>
          <p:nvPr/>
        </p:nvGrpSpPr>
        <p:grpSpPr>
          <a:xfrm>
            <a:off x="152280" y="2822400"/>
            <a:ext cx="8332920" cy="3170520"/>
            <a:chOff x="152280" y="2822400"/>
            <a:chExt cx="8332920" cy="3170520"/>
          </a:xfrm>
        </p:grpSpPr>
        <p:pic>
          <p:nvPicPr>
            <p:cNvPr id="586" name="TextBox 2" descr=""/>
            <p:cNvPicPr/>
            <p:nvPr/>
          </p:nvPicPr>
          <p:blipFill>
            <a:blip r:embed="rId2"/>
            <a:stretch/>
          </p:blipFill>
          <p:spPr>
            <a:xfrm>
              <a:off x="152280" y="2822400"/>
              <a:ext cx="8332920" cy="317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395280" y="3068640"/>
              <a:ext cx="7848720" cy="26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 u="sng">
                  <a:solidFill>
                    <a:srgbClr val="000000"/>
                  </a:solidFill>
                  <a:uFillTx/>
                  <a:latin typeface="Verdana"/>
                </a:rPr>
                <a:t>Предмет исследования</a:t>
              </a:r>
              <a:r>
                <a:rPr b="0" lang="ru-RU" sz="2800" spc="-1" strike="noStrike">
                  <a:solidFill>
                    <a:srgbClr val="000000"/>
                  </a:solidFill>
                  <a:latin typeface="Verdana"/>
                </a:rPr>
                <a:t>-формы и приемы работы с мультимедийными презентациями, способствующие повышению уровня сформированности лексико-грамматических навыков и речевых умений студентов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8" name="Picture 2" descr=""/>
          <p:cNvPicPr/>
          <p:nvPr/>
        </p:nvPicPr>
        <p:blipFill>
          <a:blip r:embed="rId1"/>
          <a:stretch/>
        </p:blipFill>
        <p:spPr>
          <a:xfrm>
            <a:off x="1328760" y="396720"/>
            <a:ext cx="6065640" cy="1170000"/>
          </a:xfrm>
          <a:prstGeom prst="rect">
            <a:avLst/>
          </a:prstGeom>
          <a:ln w="0">
            <a:noFill/>
          </a:ln>
        </p:spPr>
      </p:pic>
      <p:cxnSp>
        <p:nvCxnSpPr>
          <p:cNvPr id="589" name="Прямая со стрелкой 3"/>
          <p:cNvCxnSpPr/>
          <p:nvPr/>
        </p:nvCxnSpPr>
        <p:spPr>
          <a:xfrm flipH="1">
            <a:off x="2206440" y="1566360"/>
            <a:ext cx="637200" cy="1613880"/>
          </a:xfrm>
          <a:prstGeom prst="straightConnector1">
            <a:avLst/>
          </a:prstGeom>
          <a:ln w="76320">
            <a:solidFill>
              <a:srgbClr val="0d0d0d"/>
            </a:solidFill>
            <a:miter/>
            <a:tailEnd len="med" type="arrow" w="med"/>
          </a:ln>
        </p:spPr>
      </p:cxnSp>
      <p:sp>
        <p:nvSpPr>
          <p:cNvPr id="590" name="TextBox 8"/>
          <p:cNvSpPr/>
          <p:nvPr/>
        </p:nvSpPr>
        <p:spPr>
          <a:xfrm>
            <a:off x="179280" y="3213000"/>
            <a:ext cx="3384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Теоретические основы использования мультимедийных презентаций в обучении иностранному язык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591" name="Прямая со стрелкой 10"/>
          <p:cNvCxnSpPr/>
          <p:nvPr/>
        </p:nvCxnSpPr>
        <p:spPr>
          <a:xfrm>
            <a:off x="5866920" y="1566360"/>
            <a:ext cx="577080" cy="1613880"/>
          </a:xfrm>
          <a:prstGeom prst="straightConnector1">
            <a:avLst/>
          </a:prstGeom>
          <a:ln w="76320">
            <a:solidFill>
              <a:srgbClr val="0d0d0d"/>
            </a:solidFill>
            <a:miter/>
            <a:tailEnd len="med" type="arrow" w="med"/>
          </a:ln>
        </p:spPr>
      </p:cxnSp>
      <p:sp>
        <p:nvSpPr>
          <p:cNvPr id="592" name="TextBox 18"/>
          <p:cNvSpPr/>
          <p:nvPr/>
        </p:nvSpPr>
        <p:spPr>
          <a:xfrm>
            <a:off x="5003640" y="3213000"/>
            <a:ext cx="3313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актическая реализация педагогического проек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16" presetSubtype="2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" dur="75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6" presetSubtype="2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0" dur="1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" name="Заголовок 5" descr=""/>
          <p:cNvPicPr/>
          <p:nvPr/>
        </p:nvPicPr>
        <p:blipFill>
          <a:blip r:embed="rId1"/>
          <a:stretch/>
        </p:blipFill>
        <p:spPr>
          <a:xfrm>
            <a:off x="-6480" y="2139840"/>
            <a:ext cx="8266320" cy="4151520"/>
          </a:xfrm>
          <a:prstGeom prst="rect">
            <a:avLst/>
          </a:prstGeom>
          <a:ln w="0">
            <a:noFill/>
          </a:ln>
        </p:spPr>
      </p:pic>
      <p:grpSp>
        <p:nvGrpSpPr>
          <p:cNvPr id="594" name="Text Box 5"/>
          <p:cNvGrpSpPr/>
          <p:nvPr/>
        </p:nvGrpSpPr>
        <p:grpSpPr>
          <a:xfrm>
            <a:off x="755640" y="328680"/>
            <a:ext cx="7254720" cy="1073160"/>
            <a:chOff x="755640" y="328680"/>
            <a:chExt cx="7254720" cy="1073160"/>
          </a:xfrm>
        </p:grpSpPr>
        <p:pic>
          <p:nvPicPr>
            <p:cNvPr id="595" name="Text Box 5" descr=""/>
            <p:cNvPicPr/>
            <p:nvPr/>
          </p:nvPicPr>
          <p:blipFill>
            <a:blip r:embed="rId2"/>
            <a:stretch/>
          </p:blipFill>
          <p:spPr>
            <a:xfrm>
              <a:off x="755640" y="328680"/>
              <a:ext cx="7254720" cy="10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6" name=""/>
            <p:cNvSpPr/>
            <p:nvPr/>
          </p:nvSpPr>
          <p:spPr>
            <a:xfrm>
              <a:off x="1000080" y="571680"/>
              <a:ext cx="6769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3f1e25"/>
                  </a:solidFill>
                  <a:latin typeface="Verdana"/>
                </a:rPr>
                <a:t>Словарь понятий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597" name="Рисунок 1" descr=""/>
          <p:cNvPicPr/>
          <p:nvPr/>
        </p:nvPicPr>
        <p:blipFill>
          <a:blip r:embed="rId3"/>
          <a:stretch/>
        </p:blipFill>
        <p:spPr>
          <a:xfrm>
            <a:off x="2705040" y="1341360"/>
            <a:ext cx="3359160" cy="2087640"/>
          </a:xfrm>
          <a:prstGeom prst="rect">
            <a:avLst/>
          </a:prstGeom>
          <a:ln w="38160">
            <a:solidFill>
              <a:srgbClr val="0d0d0d"/>
            </a:solidFill>
            <a:miter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"/>
          <p:cNvSpPr txBox="1"/>
          <p:nvPr/>
        </p:nvSpPr>
        <p:spPr>
          <a:xfrm>
            <a:off x="580680" y="1801440"/>
            <a:ext cx="7643880" cy="387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Мультимедийная презентация</a:t>
            </a:r>
            <a:r>
              <a:rPr b="1" i="1" lang="ru-RU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i="1" lang="ru-RU" sz="2400" spc="-1" strike="noStrike">
                <a:solidFill>
                  <a:srgbClr val="3f1e25"/>
                </a:solidFill>
                <a:latin typeface="Lucida Sans Unicode"/>
              </a:rPr>
              <a:t>– </a:t>
            </a:r>
            <a:r>
              <a:rPr b="0" lang="ru-RU" sz="2400" spc="-1" strike="noStrike">
                <a:solidFill>
                  <a:srgbClr val="3f1e25"/>
                </a:solidFill>
                <a:latin typeface="Lucida Sans Unicode"/>
              </a:rPr>
              <a:t>это сочетание компьютерной анимации, графики, видео, музыки и звукового ряда, организованных в единую среду, которое предназначено для решения конкретных задач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Lucida Sans Unicode"/>
              </a:rPr>
              <a:t>Слайд</a:t>
            </a:r>
            <a:r>
              <a:rPr b="0" lang="ru-RU" sz="2200" spc="-1" strike="noStrike">
                <a:solidFill>
                  <a:srgbClr val="3f1e25"/>
                </a:solidFill>
                <a:latin typeface="Lucida Sans Unicode"/>
              </a:rPr>
              <a:t>-это отдельный кадр презентации, который может включать в себя заголовок, текст, графику, диаграммы и т.д.</a:t>
            </a:r>
            <a:r>
              <a:rPr b="0" i="1" lang="en-US" sz="2200" spc="-1" strike="noStrike">
                <a:solidFill>
                  <a:srgbClr val="3f1e25"/>
                </a:solidFill>
                <a:latin typeface="Lucida Sans Unicode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f1e25"/>
                </a:solidFill>
                <a:latin typeface="Lucida Sans Unicode"/>
              </a:rPr>
              <a:t>Wikipedia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99" name="Rectangle 2" descr=""/>
          <p:cNvPicPr/>
          <p:nvPr/>
        </p:nvPicPr>
        <p:blipFill>
          <a:blip r:embed="rId1"/>
          <a:stretch/>
        </p:blipFill>
        <p:spPr>
          <a:xfrm>
            <a:off x="1682640" y="523800"/>
            <a:ext cx="5907240" cy="774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7T14:23:06Z</dcterms:created>
  <dc:creator>Tatty-Teddy</dc:creator>
  <dc:description/>
  <dc:language>en-US</dc:language>
  <cp:lastModifiedBy>204</cp:lastModifiedBy>
  <dcterms:modified xsi:type="dcterms:W3CDTF">2015-03-20T11:11:41Z</dcterms:modified>
  <cp:revision>118</cp:revision>
  <dc:subject/>
  <dc:title>Педагогический проект «Использование видео как эффективное средство повышения мотивации в изучении иностранного языка»</dc:title>
</cp:coreProperties>
</file>