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D2BE-9DCC-46D8-904F-257F1F2B03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8D83-D107-4221-B7BC-AA66B0309D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C14-B23C-4B8F-A7B9-40170383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76AD-FB11-4277-B2B4-A9AE993D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4D7FB-6F55-4A0C-9E05-1EE88B88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6E047-0483-466B-8C99-ECA70220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9507D-99C9-4E55-8B3A-F5625653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4BDBC-0B26-4CFF-906B-A22DB449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523D4-F453-406C-B7B5-15A48203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09705-6D0B-4868-BEE4-F266D0FB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54E4B-0CB5-4778-8603-F92CD0A6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D08E7-01FA-4DCC-985D-D07A9B7F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76E25-D11D-4888-9B21-D07321D5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6D92-7475-4CEF-8BBA-B5BF10A5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A641-D99E-4D4A-B072-FD54BF30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888C-6664-4334-A034-6068F1A5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DB78-8065-4929-8F9B-97B20A00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AA9D-46B8-44BB-B628-CCB40F43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B6FC-EA6A-4990-9F4D-8EA356C6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2AEB-ADD0-400B-A3F3-D13A799B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5159-1A29-4AE4-97BA-165117E4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7E43-6972-4616-82C4-7F58CF1A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9889-EAEB-4DB5-A71C-5BDFAD5F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AC3E-2D65-4890-A2B8-3D4FF878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9191-0FF2-4207-B4E8-FD731532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CC36-3972-4280-9F40-C4E5841D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58B3-37D7-4E3C-8EA8-975DED3C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FB15-BD89-4109-90BA-BFCBC370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39D7E-3C4D-4A7F-9343-2A4DA13B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0DB58-12F2-4E7B-9CCA-DC272EA3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E1352-F426-40B7-8F9C-F4A088B0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8799F-AEF3-4DAE-84D4-2A1DB106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C490F-679D-480B-94DE-270BC4F2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0BD-3628-4138-AEBF-16AC5139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EA7BD-C3AD-4E97-8D93-6AA938E6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43509-C247-4390-96DA-3149BDDB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BF54A-D4D8-480F-84E6-E650BE2F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A9CE2-E4A8-46CB-8CB0-02D08B07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67BE9-1B0C-4FA9-9D7B-D5250BAD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7D349-EE23-43AA-BD95-7A25AA33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6922C-ED97-4FCC-9700-29258451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3E0CB-DE3A-4105-8E9F-03BC9546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0B78E-5AAE-41DC-99BC-5EF05E0D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2CF1F-C1D8-4017-A546-4AD15E48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791A-9614-48E8-82BC-12759125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FE363-46B7-4D22-88A4-ACFE1795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83A21-77FB-45E0-A4F0-F6083E77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289EB-5210-4DFC-8619-8931073B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95D26-EF69-403A-A37B-5D6C8FFD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B3F24-A0B0-4EE9-969B-7B0D5629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D6464-5385-4971-99A8-0149CC45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4A326-5D73-48F1-9DD7-CB2FAA7F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0BA8E-FA1F-478D-8312-25BFC7CA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0354B-63EB-418C-A816-9C268616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61437-4FC4-4386-9313-9E290183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1F5-297D-4C48-87F4-680BD2AD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E02BE-B93E-4942-8176-701C4B53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CBE01-89E2-4836-A4FA-DC5F680F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D4C73-420B-4705-928C-A985038C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BD21B-F444-4430-AF37-22BA9E42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D1BC2-AAA7-4C98-AD4E-3F6848E1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BADF5-2D36-4521-B321-E83809C2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B873F-282A-46BF-ADAC-3D078DE9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013C4-F6A9-4BA9-A784-AF085080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51BE5-0F28-407E-986A-EB75A497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57642-2A97-4F6B-AEA5-E8333A49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6443-6B9B-427C-9F64-77E300B9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0188A-EDA2-4BF7-BF52-55F69000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6610E-67D7-4118-962D-605EB2FF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6E83C-F473-4D84-B9F9-97FAEE7F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CA031-2343-4458-A952-36D583B5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11E14-9EE1-4F81-97AB-C78EB1EB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622DB-10AF-4DC3-B091-A26415BA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6C01F-FA99-478C-BF8C-52B6A794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4AAA9-05F6-4F4C-B8C9-9CE16EB6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38DBD-FDE3-4A06-8EB3-339D1B40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F1388-41C2-48AE-BF1B-2DB6C851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4F5-4764-4BB5-B669-572E39C7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28214-1647-46FF-93A3-84BCE263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04F66-D432-4E61-9B5C-17B746C4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B192E-82BC-4C69-A2DE-54828FFD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020BC-EAB4-4704-BBF4-7CB97065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C4ADE-7332-41BB-9015-3AD10554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96C7A-4970-4642-9519-26B48C4E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3327A-447D-4E85-A168-1B90E08F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60789-5580-430D-A2AD-0C590D18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C2BB4-FC51-44D1-8B1D-B2F47CCA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5ADB3-7284-42CB-9A21-3F733D12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185-3406-47A4-AE82-C43D3E46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147A1-F06F-424E-A7D8-2B09175B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ED570-A018-4C34-A865-A55BD8BA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7BBC0-91DA-4060-8C25-937B64DE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DD67A-04E1-44F0-A6AE-8101951A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878BC-198D-4BE9-8E5F-295A80DA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175BE-387F-44CE-90ED-DA0AFA2A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77F26-760C-408D-9681-739C4DF9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48A87-52DB-407D-8140-C22AFE9E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D1EEB-41CC-49C2-870A-F10AD486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579FA-1825-4D51-B08D-C3430448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B6B-D44F-4397-83E9-9229C07F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4CF8B-4761-4149-9FCA-FC4588DD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B8405-2408-41EF-9C67-1E7B3553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C5C7D-8AB5-4D3B-813B-063654AA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24C6B-DDD9-48A8-BD69-E21F104D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02EA6-8FE0-4760-ABD1-0AA0AFA4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205CB-B3A7-48AF-969D-C6E9FBF9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4F5CC-77E7-415F-AEDE-EF272A23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58577-D7A2-48DD-A5F9-80715731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820F1-2585-4383-B520-8F443176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F9CD2-597B-4E45-A5A2-511564D4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AB8D-1884-4C23-901A-2884E1A2980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E3D5-9487-4365-BE7E-3CB6AFD711C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E544-3536-45B5-A066-954EA0B20F9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C4B7-42B2-4A52-B352-443753D96E0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244E-F2D8-4AA8-8972-78849699D8D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89A5-A5F8-488E-AD36-6E7FD29C9C4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D6A3-2FCA-4CD1-B10B-EDD6D4284B6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81D3-770C-48C1-9BCE-4C2279627DD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6A4F-15DA-4528-8DAD-D8EA202CBE1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2"/>
          <a:stretch/>
        </p:blipFill>
        <p:spPr>
          <a:xfrm>
            <a:off x="2273400" y="219240"/>
            <a:ext cx="6784920" cy="42004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250560" y="3789360"/>
            <a:ext cx="8458200" cy="264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Vladimir Script"/>
              </a:rPr>
              <a:t>Задумайся о своих поступках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Vladimir Script"/>
              </a:rPr>
              <a:t>Зачем ты это делаешь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Vladimir Script"/>
              </a:rPr>
              <a:t>Иди по правильному пути и жизнь откроется  тебе с другой стороны!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рямоугольник 1"/>
          <p:cNvSpPr/>
          <p:nvPr/>
        </p:nvSpPr>
        <p:spPr>
          <a:xfrm>
            <a:off x="324000" y="333360"/>
            <a:ext cx="8496000" cy="66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В кабинете как раз заканчивалась утренняя «летучка» учителей, пепельницы были полны окурков. Рядом на красивой подставке дымилась трубка директора.</a:t>
            </a:r>
            <a:endParaRPr b="0" lang="en-US" sz="25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- Можно? – робко поинтересовался папа Вовы.</a:t>
            </a:r>
            <a:endParaRPr b="0" lang="en-US" sz="25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- Ааа! Вот они, голубчики!</a:t>
            </a:r>
            <a:endParaRPr b="0" lang="en-US" sz="25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- Позор школы!</a:t>
            </a:r>
            <a:endParaRPr b="0" lang="en-US" sz="25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Куда только общественность смотрит, соседи? Ведь видят, что ребенок без сигарет из дома выходит, на улице не курит. Всем наплевать – не свои дети!</a:t>
            </a:r>
            <a:endParaRPr b="0" lang="en-US" sz="25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Все эти фразы, вызванные законным возмущением учителей, так и неслись со всех сторон. А  старейший педагог школы, заслуженный учитель с полувековым стажем, уважаемый человек Эмилия Алексеевна от возмущения так закашлялась, что ее пришлось вести на урок под руки.</a:t>
            </a:r>
            <a:endParaRPr b="0" lang="en-US" sz="25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1"/>
          <p:cNvSpPr/>
          <p:nvPr/>
        </p:nvSpPr>
        <p:spPr>
          <a:xfrm>
            <a:off x="0" y="189000"/>
            <a:ext cx="6480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- Садитесь. Курить не предлагаю, - ядовито прищурилась Татьяна Викторовна. – Вы, Владислав Вадимович, видимо, сами не курите, но это Ваше личное дело, Вы не ученик, а взрослый человек, сами за себя отвечаете. Но ведь перед нами – ребенок!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овин папа покраснел и через силу выдавил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- Да, понимаете, у нас и дедушка, и прадедушка тоже…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- Налицо дурная наследственность! Знаете, что ждет Владимира? Мальчику двадцать – а он на шестой этаж без лифта. Двадцать пять – а ни одна девушка за него не выйдет, да и не поцелует даже – зубы-то белые, куревом не пропах – бррр! Тридцать – а легкие чистые, давление в норме, сердце – как часы. Сорок – а ни намека на рак. Пятьдесят – а…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- Хватит, - взмолился папа. Вовка же рыдал в голос. – Мы все поняли, Татьяна Викторовна, спасибо Вам огромное! Завтра же начинаем…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- Никаких «завтра»! Сегодня, сейчас же. Прямо на моих глазах!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6480000" y="2205000"/>
            <a:ext cx="248472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Прямоугольник 1"/>
          <p:cNvSpPr/>
          <p:nvPr/>
        </p:nvSpPr>
        <p:spPr>
          <a:xfrm>
            <a:off x="395280" y="404640"/>
            <a:ext cx="4572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з директорского кабинета Вова выходил, неумело попыхивая сигаретой, кашляя с непривычки и борясь с приступами тошноты. Зато первая красавица класса, Дашенька Лихачева, подбежала к нему и шепнула, слегка смущаясь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- Ты клевый, давно мне нравишься! Хочешь после уроков понести мой портфель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90996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26920" y="189000"/>
            <a:ext cx="684072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4e3b30"/>
                </a:solidFill>
                <a:latin typeface="Franklin Gothic Book"/>
              </a:rPr>
              <a:t>!?...</a:t>
            </a:r>
            <a:endParaRPr b="0" lang="en-US" sz="15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Горизонтальный свиток 1"/>
          <p:cNvSpPr/>
          <p:nvPr/>
        </p:nvSpPr>
        <p:spPr>
          <a:xfrm>
            <a:off x="108000" y="2492280"/>
            <a:ext cx="8785080" cy="403236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Подумайте о том, что вы сейчас услышали. Если ты считаешь, что вред, наносимый курением твоему здоровью, маячит где-то далеко, а может быть, и вообще минует тебя, — ты ошибаешься. Посмотри внимательно на курящих людей, на цвет их лица, кожу, пальцы, зубы, обрати внимание на их голос. Ты можешь заметить внешние признаки табачной интоксикации. Подумайте обо всем этом! Будьте разумны и воздержитесь от сигареты!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Прямоугольник 1"/>
          <p:cNvSpPr/>
          <p:nvPr/>
        </p:nvSpPr>
        <p:spPr>
          <a:xfrm>
            <a:off x="324000" y="1628640"/>
            <a:ext cx="8351640" cy="129564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Следует ли бороться с курением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Багетная рамка 2"/>
          <p:cNvSpPr/>
          <p:nvPr/>
        </p:nvSpPr>
        <p:spPr>
          <a:xfrm>
            <a:off x="971640" y="260280"/>
            <a:ext cx="7416720" cy="936720"/>
          </a:xfrm>
          <a:prstGeom prst="beve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Franklin Gothic Book"/>
              </a:rPr>
              <a:t>Как вы думаете?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Прямоугольник 3"/>
          <p:cNvSpPr/>
          <p:nvPr/>
        </p:nvSpPr>
        <p:spPr>
          <a:xfrm>
            <a:off x="324000" y="3429000"/>
            <a:ext cx="8351640" cy="12952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Какие меры борьбы вы предлагаете и считаете наиболее эффективными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Скругленный прямоугольник 4"/>
          <p:cNvSpPr/>
          <p:nvPr/>
        </p:nvSpPr>
        <p:spPr>
          <a:xfrm>
            <a:off x="324000" y="5300640"/>
            <a:ext cx="8496000" cy="1224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Какое лучшее средство борьбы с курением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x_82ee617e"/>
          <p:cNvPicPr/>
          <p:nvPr/>
        </p:nvPicPr>
        <p:blipFill>
          <a:blip r:embed="rId2"/>
          <a:stretch/>
        </p:blipFill>
        <p:spPr>
          <a:xfrm>
            <a:off x="277920" y="1557360"/>
            <a:ext cx="8496360" cy="5111640"/>
          </a:xfrm>
          <a:prstGeom prst="rect">
            <a:avLst/>
          </a:prstGeom>
          <a:ln w="0">
            <a:noFill/>
          </a:ln>
        </p:spPr>
      </p:pic>
      <p:sp>
        <p:nvSpPr>
          <p:cNvPr id="438" name="Багетная рамка 1"/>
          <p:cNvSpPr/>
          <p:nvPr/>
        </p:nvSpPr>
        <p:spPr>
          <a:xfrm>
            <a:off x="277920" y="225360"/>
            <a:ext cx="8496360" cy="1150920"/>
          </a:xfrm>
          <a:prstGeom prst="beve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Franklin Gothic Book"/>
              </a:rPr>
              <a:t>Гордись этими словами!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оугольник 1"/>
          <p:cNvSpPr/>
          <p:nvPr/>
        </p:nvSpPr>
        <p:spPr>
          <a:xfrm>
            <a:off x="468360" y="26028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О вреде курения сказано немало. Однако беспокойство ученых и врачей, вызванное распространением этой пагубной привычки, растет, так как пока еще значительное число людей не считает курение вредным для здоровья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Курение - не безобидное занятие, которое можно бросить без усилий. Это настоящая наркомания, и тем более опасная, что многие не принимают всерьез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9" name="Picture 6" descr="x_27f228c0"/>
          <p:cNvPicPr/>
          <p:nvPr/>
        </p:nvPicPr>
        <p:blipFill>
          <a:blip r:embed="rId2"/>
          <a:stretch/>
        </p:blipFill>
        <p:spPr>
          <a:xfrm>
            <a:off x="5156280" y="2637000"/>
            <a:ext cx="3736800" cy="28335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3"/>
          <a:stretch/>
        </p:blipFill>
        <p:spPr>
          <a:xfrm>
            <a:off x="25560" y="2938320"/>
            <a:ext cx="49068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Скругленный прямоугольник 1"/>
          <p:cNvSpPr/>
          <p:nvPr/>
        </p:nvSpPr>
        <p:spPr>
          <a:xfrm>
            <a:off x="1547640" y="676440"/>
            <a:ext cx="6409080" cy="2016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Страшная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Franklin Gothic Book"/>
              </a:rPr>
              <a:t>Сказка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Овал 2"/>
          <p:cNvSpPr/>
          <p:nvPr/>
        </p:nvSpPr>
        <p:spPr>
          <a:xfrm>
            <a:off x="1208160" y="3716280"/>
            <a:ext cx="7056360" cy="25923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4e3b30"/>
                </a:solidFill>
                <a:latin typeface="Franklin Gothic Book"/>
              </a:rPr>
              <a:t>У нас курят</a:t>
            </a:r>
            <a:endParaRPr b="0" lang="en-US" sz="6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2"/>
          <a:stretch/>
        </p:blipFill>
        <p:spPr>
          <a:xfrm>
            <a:off x="324000" y="622440"/>
            <a:ext cx="869760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Улыбающееся лицо 1"/>
          <p:cNvSpPr/>
          <p:nvPr/>
        </p:nvSpPr>
        <p:spPr>
          <a:xfrm>
            <a:off x="971640" y="765000"/>
            <a:ext cx="7345440" cy="5256360"/>
          </a:xfrm>
          <a:prstGeom prst="smileyFace">
            <a:avLst>
              <a:gd name="adj" fmla="val 928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О вреде никотина сказано немало. Поэтому мы хотим внести свой посильный вклад в дело борьбы с курением с помощью юмора. Иногда это лучшее оружие против зла.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ятиугольник 1"/>
          <p:cNvSpPr/>
          <p:nvPr/>
        </p:nvSpPr>
        <p:spPr>
          <a:xfrm>
            <a:off x="1008000" y="404640"/>
            <a:ext cx="7128000" cy="3095640"/>
          </a:xfrm>
          <a:custGeom>
            <a:avLst/>
            <a:gdLst>
              <a:gd name="textAreaLeft" fmla="*/ 0 w 7128000"/>
              <a:gd name="textAreaRight" fmla="*/ 7128360 w 712800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10" y="0"/>
                </a:lnTo>
                <a:lnTo>
                  <a:pt x="21600" y="10800"/>
                </a:lnTo>
                <a:lnTo>
                  <a:pt x="169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Franklin Gothic Book"/>
              </a:rPr>
              <a:t>Представьте себе некую вымышленную школу, где сигарета – норма, а отказ от нее – преступление…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6140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58200" cy="33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43329"/>
                </a:solidFill>
                <a:latin typeface="Franklin Gothic Book"/>
              </a:rPr>
              <a:t>- </a:t>
            </a:r>
            <a:r>
              <a:rPr b="1" lang="en-US" sz="2200" spc="-1" strike="noStrike">
                <a:solidFill>
                  <a:srgbClr val="443329"/>
                </a:solidFill>
                <a:latin typeface="Segoe UI Light"/>
              </a:rPr>
              <a:t>Я, Вовка, давно за тобой слежу. Мы уже второй день в первом классе учимся, а ты еще ни разу не курил, - догнав товарища после уроков, прошипела ябеда Леночк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43329"/>
                </a:solidFill>
                <a:latin typeface="Segoe UI Light"/>
              </a:rPr>
              <a:t>- Ну, я… это…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43329"/>
                </a:solidFill>
                <a:latin typeface="Segoe UI Light"/>
              </a:rPr>
              <a:t>- А я расскажу!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43329"/>
                </a:solidFill>
                <a:latin typeface="Segoe UI Light"/>
              </a:rPr>
              <a:t>- Я больше не буду… Я…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43329"/>
                </a:solidFill>
                <a:latin typeface="Segoe UI Light"/>
              </a:rPr>
              <a:t>- Себя позоришь, класс позоришь, родителей. Что ты за человек?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3600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1"/>
          <p:cNvSpPr/>
          <p:nvPr/>
        </p:nvSpPr>
        <p:spPr>
          <a:xfrm>
            <a:off x="179280" y="187200"/>
            <a:ext cx="8713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Леночка достала из мятой пачки «беломорину» и нервно затянулась. Проходивший мимо их классный руководитель Павел Алексеевич одобрительно бросил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- Вот умничка! Второй день в школе, а уже третья пачка пошла. Наверное, еще в детском садике научилась, к школе готовилась. Сразу видно – семья благополучная, ей небезразлично будущее ребенка! Кстати, Вова, а ты что, уже докурил?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- А он, Павел Алексеевич, вообще не курит! – злорадно выпалила Леночка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У учителя от возмущения даже сигарета изо рта выпала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- Чтооо? Завтра же с родителями к директору!!!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387360" y="3716280"/>
            <a:ext cx="3176640" cy="26654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3"/>
          <a:stretch/>
        </p:blipFill>
        <p:spPr>
          <a:xfrm>
            <a:off x="6372360" y="3379680"/>
            <a:ext cx="2369880" cy="19656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"/>
          <p:cNvPicPr/>
          <p:nvPr/>
        </p:nvPicPr>
        <p:blipFill>
          <a:blip r:embed="rId4"/>
          <a:stretch/>
        </p:blipFill>
        <p:spPr>
          <a:xfrm>
            <a:off x="4140360" y="4013280"/>
            <a:ext cx="19875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1"/>
          <p:cNvSpPr/>
          <p:nvPr/>
        </p:nvSpPr>
        <p:spPr>
          <a:xfrm>
            <a:off x="468360" y="404640"/>
            <a:ext cx="813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На другой день мимо примерно курящих в коридорах школы детей в кабинет Татьяны Викторовны зашли Вова и его папа. Учителя, которые уже были в курсе случившегося, с презрением косились на их цветущий вид и бодрую походку. А уборщица, по совместительству охранник, Анна Николаевна даже расчувствовалась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2"/>
          <a:stretch/>
        </p:blipFill>
        <p:spPr>
          <a:xfrm>
            <a:off x="5796000" y="2712960"/>
            <a:ext cx="3168720" cy="4006800"/>
          </a:xfrm>
          <a:prstGeom prst="rect">
            <a:avLst/>
          </a:prstGeom>
          <a:ln w="0">
            <a:noFill/>
          </a:ln>
        </p:spPr>
      </p:pic>
      <p:sp>
        <p:nvSpPr>
          <p:cNvPr id="425" name="Стрелка вправо 2"/>
          <p:cNvSpPr/>
          <p:nvPr/>
        </p:nvSpPr>
        <p:spPr>
          <a:xfrm>
            <a:off x="87480" y="2712960"/>
            <a:ext cx="5708520" cy="402444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Franklin Gothic Book"/>
              </a:rPr>
              <a:t>- </a:t>
            </a:r>
            <a:r>
              <a:rPr b="1" i="1" lang="ru-RU" sz="2000" spc="-1" strike="noStrike">
                <a:solidFill>
                  <a:srgbClr val="7030a0"/>
                </a:solidFill>
                <a:latin typeface="Franklin Gothic Book"/>
              </a:rPr>
              <a:t>Что за люди? Сами не курят, да и дитенка туда же тянут. Поди, еще и спортом заниматься заставят. Ни стыда, ни совести… Ну, ничего, директор мозги быстренько вправит. Не таких обламывали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05:31:26Z</dcterms:created>
  <dc:creator>A215</dc:creator>
  <dc:description/>
  <dc:language>en-US</dc:language>
  <cp:lastModifiedBy>A21</cp:lastModifiedBy>
  <dcterms:modified xsi:type="dcterms:W3CDTF">2013-11-14T06:22:45Z</dcterms:modified>
  <cp:revision>28</cp:revision>
  <dc:subject/>
  <dc:title>Делай правильный выбор</dc:title>
</cp:coreProperties>
</file>