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FC8-24F6-4643-B9A4-889B945B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F2C-29C3-464E-BECE-56E836F7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F4C-E01B-4370-A75D-067C5458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EF1-EC8C-4736-AA67-8EE8C347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139-6544-43C1-AF0F-EA869903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5C4-EC33-484A-9E91-52A62A4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F0B-0E8A-47A6-9665-3B9A52E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001-3A08-4ACC-89C1-AE34CE1E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DD5-FB03-4135-92B3-C7B0B467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BB4-80DD-4B55-996D-7C517ADE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DD7-6EA7-4C19-AFFF-A07868F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B79-72F4-4860-BDA4-26F9C2D4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92A-B316-4E60-81B4-1852F5BC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rgali.narod.ru/olimp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hportal.ru/load/35-1-0-10403" TargetMode="External"/><Relationship Id="rId2" Type="http://schemas.openxmlformats.org/officeDocument/2006/relationships/hyperlink" Target="http://www.uchportal.ru/load/35-1-0-10403" TargetMode="External"/><Relationship Id="rId3" Type="http://schemas.openxmlformats.org/officeDocument/2006/relationships/hyperlink" Target="http://www.uchportal.ru/load/35-1-0-10403" TargetMode="External"/><Relationship Id="rId4" Type="http://schemas.openxmlformats.org/officeDocument/2006/relationships/hyperlink" Target="http://www.uchportal.ru/load/35-1-0-10403" TargetMode="External"/><Relationship Id="rId5" Type="http://schemas.openxmlformats.org/officeDocument/2006/relationships/hyperlink" Target="http://www.uchportal.ru/load/35-1-0-10403" TargetMode="External"/><Relationship Id="rId6" Type="http://schemas.openxmlformats.org/officeDocument/2006/relationships/hyperlink" Target="http://www.uchportal.ru/load/35-1-0-10403" TargetMode="External"/><Relationship Id="rId7" Type="http://schemas.openxmlformats.org/officeDocument/2006/relationships/hyperlink" Target="http://www.openclass.ru/my_page" TargetMode="External"/><Relationship Id="rId8" Type="http://schemas.openxmlformats.org/officeDocument/2006/relationships/hyperlink" Target="http://www.openclass.ru/my_page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4851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«Путешествие в Грамотеев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хся 9-11 классов МОУ СОШ села Ключи Лысогорск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333360"/>
            <a:ext cx="5472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В оргкомитет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Межрегионального конкур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социально-значимых проектов «Если не мы, то кто ?..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Исследовательская работа учащихся 10 класса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«Слово – не воробей, вылетит – не поймаешь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ельские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группа подбирает высказывания известных людей о язы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группа проводит лингвистическую экспедицию по селу «Нужно ли говорить прави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группа проводит акцию «Говори правиль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группа проводит акцию «Грамотное покол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ем материал обрабатыв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товится презент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0233" t="0" r="10287" b="13571"/>
          <a:stretch/>
        </p:blipFill>
        <p:spPr>
          <a:xfrm>
            <a:off x="6156360" y="465300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5877000"/>
            <a:ext cx="4392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о время защиты исследовательск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Конкурс «Самый умный» по языкознанию </a:t>
            </a:r>
            <a:br>
              <a:rPr sz="2800"/>
            </a:b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для учащихся 5-8 класс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Номин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А как это по-русск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м правильно (орфоэпические норм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истории язы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Язык до Киева доведет»(история фразеологизм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лология в задач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Определение ресур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Интернет -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mma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http://www.gramma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ый сайт «Филология в задачах»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http://www.philologia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лимп»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irgali.narod.ru/olimp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блоны презентаций с сайта «Сеть творческих учителей» - Сообщество «Триггеры в работе учителей русского язы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http://www.itn.ru/communities.aspx?cat_no=130742&amp;tmpl=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Определение ресур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геенко Ф. Л., Зарва М. В. Словарь ударений для работников радио и телеви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 ред. Д. Э. Розенталя. - М.,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таньян Э.Д. «Из жизни слов» М.: «Детская литература» 19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интеллектуальный марафон: 5-8 кл. М.: Вербум-М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нский Л. «Слово о словах» Л.: Детская литература,198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цов В.В.«Лингвистические парадоксы», М.: Просвещение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жегов С. И. и Шведова Н. Ю. Толковый словарь русского язык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Российская академия наук. Институт русского языка им. В. В. Виноградова.- М.: «А ТЕМП»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 А.О. Русский язык после уроков. М.: Просвещение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ожение к журналу «РЯШ» -  «Русский язык в школе и дома» за 2007-2010 г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нички-рубрики из различных газет и журналов: «Почему  мы так говорим», «Словарик», «А как это по-русски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циклопедия для детей. Т. 10. Языкознание. Русский язык. – М.: Аванта+, 200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409051"/>
          <p:cNvPicPr/>
          <p:nvPr/>
        </p:nvPicPr>
        <p:blipFill>
          <a:blip r:embed="rId1"/>
          <a:stretch/>
        </p:blipFill>
        <p:spPr>
          <a:xfrm>
            <a:off x="250920" y="18900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Конференция «Я русский бы выучил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47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нференции приняли участие учащиеся старших классов, педагоги школы,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Для конференции использованы материалы с сайта Перовой И.Н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essa2009.narod2.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14213" r="17032" b="9055"/>
          <a:stretch/>
        </p:blipFill>
        <p:spPr>
          <a:xfrm>
            <a:off x="5435640" y="4581360"/>
            <a:ext cx="30970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исследовательской работы был собран интересный материал по  проблеме засорения русского языка, была проведена акция «Грамотное поколение», в которой приняли участие старшеклассники и педагоги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сочинений-рассуждений на тему «Заговори, чтоб я тебя увидел», в которых поднимались проблемы сквернословия, отсутствия речевой культуры, вызвал неподдельный интерес, лучшие работы опубликованы  в школьном альманахе «Песчи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а  коллекция ЦОР для подготовки к олимпиаде по русскому языку силами учащихся,  в результате создания участники проекта овладели определенными знаниями в выбранной области язык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ы вызвали интерес у учащихся 5-8 классов, в результате даже шестиклассники принимали участие в конкурсе презентаций «Язык мой – друг мо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оящим событием в школьной жизни стала игра по языкознанию « Самый умный», в которой боролись за победу 6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нференции не только были подведены итоги проведенной работы, но и состоялся интересный разговор о  проблемах культуры речи, о таких реалиях, как  американизация, жаргонизация  речи. Стоит отметить и тот факт, что все педагоги школы и родительская общественность  приняли в ней участие, отмечая, что и их речь, к сожалению, далека от ид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м проекта можно считать и тот факт, что в этом году в школьном этапе олимпиады по русскому языку приняли участие на 23% больше учащихся 5-7 классов,  а  учащиеся 8-11 классов показали хорошее качество знаний повышенного уровня сложности: процент выполнения победителей школьного этапа составлял в среднем 9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есто в муниципальном этапе всероссийской олимпиады по русскому языку в 10 классе, 3 место – в 11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 выражен  также в развитии познавательных способностей участников проекта и всех тех, кто был в нем задействован, развитии  самостоятельности в учебно-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Руководит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173320"/>
            <a:ext cx="77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2532240"/>
            <a:ext cx="6624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84560" y="1957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7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76640"/>
            <a:ext cx="7643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х Надежда Геннадь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СОШ села Ключи Лысогорск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«Маленькое «путешествие» – путь в большое будущее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год мы отправляемся в  плавание по морям школьных знаний. Непростое плавание. Но оно может стать очень интересным, удачным и полезным. И станет таким, если мы будем терпеливыми, если каждый сразу определит, как важна для него цель путешествия – стать более умным, умелым, достойным человеком, не подвести свою школу и свои семьи, которые так верят в своих юных капит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ак важны здесь стремление к открытиям и, конечно, дружба. Каждый день мы идем в школу, чтобы дружить, узнавать что-то новое, научиться интересному делу. Каждый день нас ждут нераскрытые секреты, маленькие открытия. А какой, оказывается,  интересный предмет «Русский язык»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ажем это самим себе и другим учащимся нашей школ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Цели и 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познавательных способностей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держка и развитие учащихся с хорошей мотивацией к изучению русского язы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нняя профессиональная ориентация в области изучения гуманитарных предм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действие развитию  творческих способ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План-график подготовки и реализации проект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тябрь – определение направлений работы, подготовка этапов проекта творчески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тябрь – реализация проекта «Путешествие в Грамотеевку»: мероприятия для учащихся 5-6, 7-8, 9-11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ябрь – заключительная конференция, проведение школьного и районного этапа всероссийской олимпиады по русскому языку, оформление материала в виде презента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План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обсуждение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овать цель проек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овать за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ть, какой результат должны получить в ходе работы над проект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одробный план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содержания презентаций «Своя игра»  и распределение областей филологии для их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ование компетентностно-ориентированных за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самостоятельной работы учащихся в данном проек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ние адресов сайтов и поисковых систем в Интернете для поиска информации (рекомендательно). Возможен и даже желателен самостоятельный пои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езентаций . Корректировка презент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отборочных игр в 5-8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е конкурсов сочинений «Заговори, чтоб я тебя увидел» и презентаций «Язык мой – друг м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Слайды из презентации победителя конкурса ученицы 7 класса Солоницыной Т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683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началось мое увлечение тайной под названием «родной язы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год я посещаю кружки «Юный журналист» и «Живое слово», которые ведет Н.Г.Гор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т такие интересные задачки решаем м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628640"/>
            <a:ext cx="4248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читать этимолог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ственными сло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век – веко – увечье - вече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3573360"/>
            <a:ext cx="396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азывается, этимологически родственные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век и увечь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Век – первоначальное значение – сила,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вечье – приставка У – отрицательное значение придаё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имологически родственные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веко и вече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Веко – буквально «покрыш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чер – буквально «закрывающий день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1509200">
            <a:off x="4067280" y="2708280"/>
            <a:ext cx="947520" cy="1224000"/>
          </a:xfrm>
          <a:custGeom>
            <a:avLst/>
            <a:gdLst>
              <a:gd name="textAreaLeft" fmla="*/ 126720 w 947520"/>
              <a:gd name="textAreaRight" fmla="*/ 820800 w 9475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4261200">
            <a:off x="3611160" y="4184280"/>
            <a:ext cx="1647720" cy="733320"/>
          </a:xfrm>
          <a:custGeom>
            <a:avLst/>
            <a:gdLst>
              <a:gd name="textAreaLeft" fmla="*/ 288360 w 1647720"/>
              <a:gd name="textAreaRight" fmla="*/ 1194840 w 16477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801800">
            <a:off x="538200" y="5589360"/>
            <a:ext cx="432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АМ-ШЕСТ – вшестером; САМ-СЁМ – все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У ЧАЮ. Чай в трактирах подавался в двух фарфоровых чайниках: большой – с кипятком и малый – с завар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149720"/>
            <a:ext cx="3960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писывая трактир,  Н. В. Гоголь пиш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Купцы по торговым дням приходили сю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АМ-ШЕСТ и САМ-СЁМ испивать сво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звестную ПАРУ ЧАЮ».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Объясните значение выделенных словосочет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350028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Разбудим маленького принца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396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анятиях мы пишем сказки, стихи, синквейны, составляем кеннинги, фотографируем, создаем компьютерные презентации, готовим творческие про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творцы! В каждом из нас живет Маленький принц, нужно только его разбуд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95640" y="1341360"/>
            <a:ext cx="1368360" cy="129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0" y="1674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700280"/>
            <a:ext cx="408312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Жадный, прожорливый, беспощад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ъедает, сжигает, уничтож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Не выпускай джина из буты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Чудо-юдо огнедыша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573360"/>
            <a:ext cx="39610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Очищающий, верный, послуш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Греет, светит, корм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еликий мастер на вс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Друг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2156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25092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140360" y="1413000"/>
            <a:ext cx="250560" cy="64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64000" y="5589720"/>
            <a:ext cx="2880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"/>
              </a:rPr>
              <a:t>Мои синквейны на конкур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"/>
              </a:rPr>
              <a:t>по противопожарной темат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950080"/>
            <a:ext cx="35290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99"/>
                </a:solidFill>
                <a:latin typeface="Arial"/>
              </a:rPr>
              <a:t>(Солоницына Та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«На кончике пер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и работы в прошлом году принимали участие в районных творческих конкурсах, печатались в школьной газете «Я и МЫ», альманахе «Живая земля», тематических сборниках. Некоторые из них  можно найти 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www.uchportal.ru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load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/35-1-0-104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www.openclass.ru/my_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35640" y="2349360"/>
            <a:ext cx="2916360" cy="251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5950080"/>
            <a:ext cx="35290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99"/>
                </a:solidFill>
                <a:latin typeface="Arial"/>
              </a:rPr>
              <a:t>(Солоницына Та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Arial"/>
              </a:rPr>
              <a:t>К пику Знаний через книжный пере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ниги – замечательная вещь, и я не понимаю тех, кто меняет их на телевизор или компьютер. Хорошей книгой можно просто ж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люблю разные книжки! Читать про приключения, во-первых, интересно, а во-вторых, весело. Ещё люблю читать страшилки, потому что это очень захватывающе. Сказки и стихи люблю, потому что это забавно и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бщем, я много что любл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59696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592360" cy="2614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093000"/>
            <a:ext cx="352908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99"/>
                </a:solidFill>
                <a:latin typeface="Arial"/>
              </a:rPr>
              <a:t>(Солоницына Та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2:34:25Z</dcterms:created>
  <dc:creator>Evgeniy</dc:creator>
  <dc:description/>
  <dc:language>en-US</dc:language>
  <cp:lastModifiedBy>Admin</cp:lastModifiedBy>
  <dcterms:modified xsi:type="dcterms:W3CDTF">2013-02-16T15:24:13Z</dcterms:modified>
  <cp:revision>62</cp:revision>
  <dc:subject/>
  <dc:title>Слайд 1</dc:title>
</cp:coreProperties>
</file>